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8F3-DAD9-4BB8-B8E1-050F2A9C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056-2C8B-4C69-AAB0-1772FAB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764-862E-4335-9C00-6F781B0B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552-9C63-447B-B214-DD4A4A82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A08E-B95B-4446-94E7-C892653E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1DDA-5CB5-439A-88B6-B025CCF1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79D2-F8FD-4F46-B678-F450BCC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3460-C3BF-41EB-BE34-9A783728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E001-0AB5-47B2-8C2F-A5E74718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92E-9FB2-4DDB-85B9-CC53A0C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C162-D77C-47BE-B81F-DC651B8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2E6-CC35-4074-8889-B693881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2AF-9D27-406D-A206-B1A9F66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E361-82CA-4D75-A541-25A4B6B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F6E-DF3C-4DBE-ACC3-3454518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17F5-E557-40B8-A5A4-7D6E3D1F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32F3-EC0F-4FC6-8048-A6AC8A41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598-B6DC-42D6-A4BF-B1397548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AE8-3A18-4F7F-9093-CEEE641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54D-4A65-4C09-BC13-807FCE43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591-0764-4460-8378-88D92DB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1BE-583A-41E8-A86F-03E66E2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DF1-1D45-4D51-B299-A73D1B2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62C-6367-44CD-9639-530464F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167-4B07-4732-83B6-24EE92B4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8B6B-B7DE-4A61-A742-D34F6F4BC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8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Lists Plus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on – Order of Pointer Chang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0840" y="2273400"/>
          <a:ext cx="8226360" cy="30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0840" y="2273400"/>
                    <a:ext cx="822636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on Cod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9360" y="1727280"/>
            <a:ext cx="848376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_Space := new Node_Type'(Info  =&gt; It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&gt; Location,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&gt; Location.all.Back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.all.Back.all.Next := New_Spac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.all.Back              := New_Spac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Lists with Dummy Nod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Dummy nod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node in a linked list that does not contain list data.  Dummy nodes simply act as placeholder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ummy nodes simplify linked list operations by eliminating </a:t>
            </a:r>
            <a:r>
              <a:rPr b="0" i="1" lang="en-US" sz="2400" spc="-1" strike="noStrike">
                <a:solidFill>
                  <a:srgbClr val="073c1e"/>
                </a:solidFill>
                <a:latin typeface="Arial"/>
              </a:rPr>
              <a:t>special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cases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Header Nod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Placeholder node at the beginning of a list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Eliminates logic to change external list pointer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railer Nod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Placeholder node at the end of a list; used to simplify list processing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key of a trailer node must be greater than any valid key for the list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Simplifies search logic by eliminating check for </a:t>
            </a:r>
            <a:r>
              <a:rPr b="0" i="1" lang="en-US" sz="2400" spc="-1" strike="noStrike">
                <a:solidFill>
                  <a:srgbClr val="073c1e"/>
                </a:solidFill>
                <a:latin typeface="Arial"/>
              </a:rPr>
              <a:t>end of list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sts with Header and Trailer Nod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1925640"/>
          <a:ext cx="8226720" cy="36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25640"/>
                    <a:ext cx="822672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clarations for a List with Header and Trailer Nod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650960"/>
            <a:ext cx="882648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ode_Ty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: Element_Type;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On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: access Node_Type;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Link to next node i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ode_Ptr is access Node_Typ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- Access to a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ist_Type is new Ada.Finalization.Limited_Controll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: Node_P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Initialize (List : in out List_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Finalize  (List : in out List_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Dumm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itialization Creates the Dummy Nod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00" y="1841400"/>
            <a:ext cx="8750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_Type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Create the Header node with logical garbage in the Info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Hea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_Type'(Inf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_Elem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Create the Trailer node with maximum key in the Info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Head.all.N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_Type'(Inf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_El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nalize Removes All Nodes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Clear does not remove the dummie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6000" y="1803240"/>
            <a:ext cx="872496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_Type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_Ptr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signates a node for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Hea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When all nodes are 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Head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Unlink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Hea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.Head.all.Nex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the firs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_Recycle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cycle th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oubly Linked List with Dummy Nod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34880" y="2884320"/>
          <a:ext cx="822636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880" y="2884320"/>
                    <a:ext cx="8226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Doubly Circular Linked List Needs Just One Dummy Node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2120" y="1496880"/>
            <a:ext cx="8226720" cy="2183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47680" y="4210200"/>
            <a:ext cx="4387680" cy="2171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93000" y="4010040"/>
            <a:ext cx="18288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 Ordered List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ored in an Arra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1560" y="1552680"/>
            <a:ext cx="6399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ircular Linked Lis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linked list in which every node has a successor; the "last" element is succeeded by the "first" elemen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oubly Linked Lis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linked list in which each node is linked to both its successor and its predecessor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 Array with List and Free Spac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41560" y="1552680"/>
            <a:ext cx="6399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 Array with 3 Lists</a:t>
            </a:r>
            <a:br>
              <a:rPr sz="36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including the free list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41560" y="1552680"/>
            <a:ext cx="6399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rray Memory Managemen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3203640"/>
          <a:ext cx="8229600" cy="13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3640"/>
                    <a:ext cx="82296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New_Node Oper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6800" y="1736640"/>
            <a:ext cx="7427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Free_Node Oper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960" y="1511280"/>
            <a:ext cx="7429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mparison of Insert and Delete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0600" y="1523880"/>
          <a:ext cx="8516880" cy="5029200"/>
        </p:xfrm>
        <a:graphic>
          <a:graphicData uri="http://schemas.openxmlformats.org/drawingml/2006/table">
            <a:tbl>
              <a:tblPr/>
              <a:tblGrid>
                <a:gridCol w="1428840"/>
                <a:gridCol w="1417680"/>
                <a:gridCol w="1417680"/>
                <a:gridCol w="1417680"/>
                <a:gridCol w="1417320"/>
                <a:gridCol w="1417680"/>
              </a:tblGrid>
              <a:tr h="161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ed List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Chapter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r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ed with Header and Trailer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o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ubly Circular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-Based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ime for Insert and Delete Operations (Milliseconds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9840" y="1523880"/>
          <a:ext cx="8516880" cy="5029200"/>
        </p:xfrm>
        <a:graphic>
          <a:graphicData uri="http://schemas.openxmlformats.org/drawingml/2006/table">
            <a:tbl>
              <a:tblPr/>
              <a:tblGrid>
                <a:gridCol w="1428840"/>
                <a:gridCol w="1417680"/>
                <a:gridCol w="1417680"/>
                <a:gridCol w="1417320"/>
                <a:gridCol w="1417680"/>
                <a:gridCol w="1417680"/>
              </a:tblGrid>
              <a:tr h="161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ed List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Chapter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r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ed with Header and Trailer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o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ubly Circular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-Based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9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9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4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5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6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0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9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8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3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5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2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ary Fil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Binary Fil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file data type whose components are stored using the internal binary representation of the machine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Direct File (Random Access File)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binary file whose components can be accessed sequentially or randomly (in any order)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Sequential Fil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binary file whose components can be accessed sequentially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Direct File Containing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0 Elemen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33520" y="1562040"/>
          <a:ext cx="261936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3520" y="1562040"/>
                    <a:ext cx="261936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606840" y="2832120"/>
            <a:ext cx="50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ic used for storing a linked list in an array can easily be modified for storage in a direc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btaining a New Nod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560" y="193032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ist of free nodes is empty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he Size of the list plu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he location of the first node on the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ircular Link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65040" y="2284560"/>
          <a:ext cx="8226360" cy="117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040" y="2284560"/>
                    <a:ext cx="8226360" cy="11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ith External Pointer Designating Last Nod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74840" y="1817640"/>
          <a:ext cx="8226360" cy="404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840" y="1817640"/>
                    <a:ext cx="822636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itializing the Search of a Circular Link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2760" y="2133720"/>
          <a:ext cx="822636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760" y="2133720"/>
                    <a:ext cx="82263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oubly Link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9960" y="2781360"/>
          <a:ext cx="822636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2781360"/>
                    <a:ext cx="82263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ircular Doubly Link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06440" y="2500200"/>
          <a:ext cx="8226360" cy="168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2500200"/>
                    <a:ext cx="822636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ircular Doubly Linked List Decla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1689120"/>
            <a:ext cx="87883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_Type;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Incomplete type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_Pt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c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_Type;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ccess to a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_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Complete type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   : Element_Typ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On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 : Node_Ptr;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Link to next node in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: Node_Ptr;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Link to previous node in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_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.Finalization.Limited_Contro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 : Node_Ptr;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ointer to the last node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circular doubly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riding proced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(Lis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_Typ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9520" y="1503360"/>
          <a:ext cx="822636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20" y="1503360"/>
                    <a:ext cx="822636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9-04T15:12:28Z</dcterms:modified>
  <cp:revision>183</cp:revision>
  <dc:subject/>
  <dc:title>Chapter 1</dc:title>
</cp:coreProperties>
</file>