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4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2239-9C68-4E7D-AFC2-E772F1D1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84C9-4EB8-47FF-9858-77D45AEE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89E0-FC09-4559-9983-61EE9A4F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3EDD-1B34-4F57-8CF7-22C3F520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03E3-35BB-431C-8F56-05FE5D43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26BA-BF59-4A41-9304-4FD8D90D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FBF2-D0F7-4614-A178-F2589859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B166-598B-409A-8041-2909C8B6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D92A-4643-4356-B14F-D25B95BE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55308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DC02-63AD-4CA8-986A-8FA48DD7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FF20-4FA3-4346-A84D-B0402F26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3D7E-2B5C-414E-9966-EC61ED10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D994-BC38-41AF-859F-AA251285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5798-D592-4FA3-9EC4-CE0D57FE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0E18-C4C6-46B6-84EF-069EA065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03F9-5A49-400C-94AC-05087C7F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55D2-3D56-4F41-A8A8-F6DDB50E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EAC0-8FE9-4845-93A6-9445C284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7107-955F-40AB-9F13-D271EBC4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95BF-5DE4-46CC-A549-0DE0BE98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55308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725D-EC3E-4F6D-BA46-F578EFB4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B11E-E239-46A9-8414-0F5DB227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D37A-5B57-4258-9350-985DDD9A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E462-5AC1-4407-BF0D-3EBFB9CA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3c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429D-3112-4736-A7D8-31CEB65D3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73c1e"/>
                </a:solidFill>
                <a:latin typeface="Arial Black"/>
              </a:rPr>
              <a:t>Click to edit the title text format</a:t>
            </a:r>
            <a:endParaRPr b="1" i="1" lang="en-US" sz="60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3E24-7E33-4752-8D4E-DFB0589E3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c1e"/>
                </a:solidFill>
                <a:latin typeface="Arial Black"/>
              </a:rPr>
              <a:t>Click to edit the outline text format</a:t>
            </a: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73c1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73c1e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73c1e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73c1e"/>
                </a:solidFill>
                <a:latin typeface="Arial Black"/>
              </a:rPr>
              <a:t>Chapter 7</a:t>
            </a:r>
            <a:endParaRPr b="1" i="1" lang="en-US" sz="60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c1e"/>
                </a:solidFill>
                <a:latin typeface="Arial Black"/>
              </a:rPr>
              <a:t>Key-Ordered Lists</a:t>
            </a: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List of Integer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4160" y="1778040"/>
            <a:ext cx="8661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A function to return the “key” of an integer (which is the integ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Identity (Element : in Integer) return Integer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El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Identity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Instantiate a sorted list of Inte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 Integer_List is new Key_Ordered_L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lement_Type =&gt; Integ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_Type       =&gt; Integ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_Of            =&gt; Identit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="                  =&gt; Standard."="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&lt;"                  =&gt; Standard."&lt;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ddress Book ADO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15840" y="1481040"/>
          <a:ext cx="7147080" cy="521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5840" y="1481040"/>
                    <a:ext cx="7147080" cy="52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equential Implementa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17480" y="1530360"/>
            <a:ext cx="74358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Linked Implementa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11360" y="1535040"/>
            <a:ext cx="6649920" cy="5302440"/>
            <a:chOff x="711360" y="1535040"/>
            <a:chExt cx="6649920" cy="530244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711360" y="1535040"/>
              <a:ext cx="6649920" cy="530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186520" y="6638760"/>
              <a:ext cx="228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Key-Ordered List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equential Implementation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6760" y="1714680"/>
            <a:ext cx="8648640" cy="29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Element_Array is array (Positive range &lt;&gt;) of Element_Typ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List_Type (Max_Size : Positive) is tagged lim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 : Natural :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s   : Element_Array (1..Max_Siz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recor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Key_Ordered_Li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Sequential Lis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43160" y="1463760"/>
            <a:ext cx="52736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rray Search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1803240"/>
            <a:ext cx="8699400" cy="41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 Search_Array (The_Arr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n  Element_Array;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n  Key_Typ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out 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out Positive)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Purpose             Searches for the location of a Value in the The_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Preconditions    The_Array is sorted in ascending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Postconditions  If Key is in The_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                                Found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                                Location is the index of the element with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                        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                                Found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                                Location is the index of where Key should be inse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Unsuccessful Search of an Array (a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30040" y="1806480"/>
            <a:ext cx="862020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Unsuccessful Search of an Array (b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85840" y="2008080"/>
            <a:ext cx="885816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Unsuccessful Search of an Array (c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54160" y="1936800"/>
            <a:ext cx="86659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List Defini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Unsorted List   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A list in which the elements are in no particular order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Sorted List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 A list in which the elements are ordered by their value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Key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 Field in a record whose values are used to determine the logical order of records in a list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Key-Ordered List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 A list in which the elements are records and are ordered according to the value of a key field of each element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Retriev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912960" y="1827360"/>
            <a:ext cx="7304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Modify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12960" y="1827360"/>
            <a:ext cx="7304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nsert Algorithm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location in the array where the new element belongs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space for the new element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 new element into the list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reate Space for the New Elemen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3040" y="1778040"/>
            <a:ext cx="877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Use array slices to move elements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.Items (Location + 1 .. List.Length + 1) :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.Items (Location .. List.Length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Increment th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.Length := List.Length +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nser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1827360"/>
            <a:ext cx="9121680" cy="4117680"/>
            <a:chOff x="0" y="1827360"/>
            <a:chExt cx="9121680" cy="41176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0" y="1827360"/>
              <a:ext cx="4772160" cy="41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3"/>
            <a:stretch/>
          </p:blipFill>
          <p:spPr>
            <a:xfrm>
              <a:off x="4386240" y="1827360"/>
              <a:ext cx="4735440" cy="4109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elete Algorithm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Find the element in the list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Remove the element from the list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Remove the Element from the Lis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440" y="177804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Use array slices to move elements 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.Items (Location .. List.Length - 1) :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.Items (Location + 1 .. List.Length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Decrement th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.Length := List.Length -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elete</a:t>
            </a:r>
            <a:br>
              <a:rPr sz="3600"/>
            </a:b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(last element)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72880" y="1827360"/>
            <a:ext cx="8647200" cy="4117680"/>
            <a:chOff x="272880" y="1827360"/>
            <a:chExt cx="8647200" cy="411768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4660920" y="1827360"/>
              <a:ext cx="4259160" cy="41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3"/>
            <a:stretch/>
          </p:blipFill>
          <p:spPr>
            <a:xfrm>
              <a:off x="272880" y="1827360"/>
              <a:ext cx="4405320" cy="411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elete</a:t>
            </a:r>
            <a:br>
              <a:rPr sz="3600"/>
            </a:b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(first element)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82520" y="1827360"/>
            <a:ext cx="8793360" cy="4116240"/>
            <a:chOff x="182520" y="1827360"/>
            <a:chExt cx="8793360" cy="4116240"/>
          </a:xfrm>
        </p:grpSpPr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182520" y="1827360"/>
              <a:ext cx="4451400" cy="41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4570560" y="1827360"/>
              <a:ext cx="4405320" cy="4116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Linked Lis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52280" y="2994120"/>
            <a:ext cx="883944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More Defini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Container class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A class that consists of a collection of components organized by a data structure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Data structure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 A collection of data elements whose logical organization reflects a structural relationship among the elements. 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A data structure is characterized by accessing operations that are used to store and retrieve the individual data elements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Key-Ordered List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Linked Implementation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6760" y="1714680"/>
            <a:ext cx="8648640" cy="46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Node_Type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  : Element_Type;         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 - One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: access Node_Type; 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 - Link to next node in th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recor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Node_Ptr is access Node_Typ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List_Type is new Ada.Finalization.Limited_Controlled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 : Node_Ptr;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 - Designates first node in the linked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recor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riding procedure Finalize (List : in out List_Type) renames Cle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Unbounded_Li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ravers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3040" y="1714680"/>
            <a:ext cx="877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 := List.Head;   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Location designates 1st node of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t when Location is null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(Location.all.Inf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 := Location.all.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Length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440" y="1714680"/>
            <a:ext cx="871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 := List.Head; 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Location designates 1st node of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t when Location = null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:= Count +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 := Location.all.Nex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Linked List Search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5240" y="1676520"/>
            <a:ext cx="869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31640"/>
                <a:tab algn="l" pos="863640"/>
                <a:tab algn="l" pos="1295280"/>
                <a:tab algn="l" pos="1727280"/>
                <a:tab algn="l" pos="2158920"/>
                <a:tab algn="l" pos="25909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_Linked_Lis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is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_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640"/>
                <a:tab algn="l" pos="863640"/>
                <a:tab algn="l" pos="1295280"/>
                <a:tab algn="l" pos="1727280"/>
                <a:tab algn="l" pos="2158920"/>
                <a:tab algn="l" pos="25909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 in  Key_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640"/>
                <a:tab algn="l" pos="863640"/>
                <a:tab algn="l" pos="1295280"/>
                <a:tab algn="l" pos="1727280"/>
                <a:tab algn="l" pos="2158920"/>
                <a:tab algn="l" pos="25909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ut Bool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640"/>
                <a:tab algn="l" pos="863640"/>
                <a:tab algn="l" pos="1295280"/>
                <a:tab algn="l" pos="1727280"/>
                <a:tab algn="l" pos="2158920"/>
                <a:tab algn="l" pos="25909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_L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ut Node_Pt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640"/>
                <a:tab algn="l" pos="863640"/>
                <a:tab algn="l" pos="1295280"/>
                <a:tab algn="l" pos="1727280"/>
                <a:tab algn="l" pos="2158920"/>
                <a:tab algn="l" pos="25909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ut Node_Ptr)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640"/>
                <a:tab algn="l" pos="863640"/>
                <a:tab algn="l" pos="1295280"/>
                <a:tab algn="l" pos="1727280"/>
                <a:tab algn="l" pos="2158920"/>
                <a:tab algn="l" pos="25909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Purpose           : Searches for the location of Key in th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640"/>
                <a:tab algn="l" pos="863640"/>
                <a:tab algn="l" pos="1295280"/>
                <a:tab algn="l" pos="1727280"/>
                <a:tab algn="l" pos="2158920"/>
                <a:tab algn="l" pos="25909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640"/>
                <a:tab algn="l" pos="863640"/>
                <a:tab algn="l" pos="1295280"/>
                <a:tab algn="l" pos="1727280"/>
                <a:tab algn="l" pos="2158920"/>
                <a:tab algn="l" pos="25909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Preconditions  : The nodes in List are in ascend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640"/>
                <a:tab algn="l" pos="863640"/>
                <a:tab algn="l" pos="1295280"/>
                <a:tab algn="l" pos="1727280"/>
                <a:tab algn="l" pos="2158920"/>
                <a:tab algn="l" pos="25909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Linked List Search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5240" y="1676520"/>
            <a:ext cx="869940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31640"/>
                <a:tab algn="l" pos="863640"/>
                <a:tab algn="l" pos="1295280"/>
                <a:tab algn="l" pos="1727280"/>
                <a:tab algn="l" pos="2158920"/>
                <a:tab algn="l" pos="25909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Postconditions : If Key is in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431640"/>
                <a:tab algn="l" pos="863640"/>
                <a:tab algn="l" pos="1295280"/>
                <a:tab algn="l" pos="1727280"/>
                <a:tab algn="l" pos="2158920"/>
                <a:tab algn="l" pos="25909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                    Found i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640"/>
                <a:tab algn="l" pos="863640"/>
                <a:tab algn="l" pos="1295280"/>
                <a:tab algn="l" pos="1727280"/>
                <a:tab algn="l" pos="2158920"/>
                <a:tab algn="l" pos="25909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                    Location designates the element with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640"/>
                <a:tab algn="l" pos="863640"/>
                <a:tab algn="l" pos="1295280"/>
                <a:tab algn="l" pos="1727280"/>
                <a:tab algn="l" pos="2158920"/>
                <a:tab algn="l" pos="25909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                    Pred_Loc designates the predecessor of the n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640"/>
                <a:tab algn="l" pos="863640"/>
                <a:tab algn="l" pos="1295280"/>
                <a:tab algn="l" pos="1727280"/>
                <a:tab algn="l" pos="2158920"/>
                <a:tab algn="l" pos="25909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                             designated by Location.  If Loca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640"/>
                <a:tab algn="l" pos="863640"/>
                <a:tab algn="l" pos="1295280"/>
                <a:tab algn="l" pos="1727280"/>
                <a:tab algn="l" pos="2158920"/>
                <a:tab algn="l" pos="25909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                             designates the first node in the lis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640"/>
                <a:tab algn="l" pos="863640"/>
                <a:tab algn="l" pos="1295280"/>
                <a:tab algn="l" pos="1727280"/>
                <a:tab algn="l" pos="2158920"/>
                <a:tab algn="l" pos="25909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                             Pred_Loc is nu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431640"/>
                <a:tab algn="l" pos="863640"/>
                <a:tab algn="l" pos="1295280"/>
                <a:tab algn="l" pos="1727280"/>
                <a:tab algn="l" pos="2158920"/>
                <a:tab algn="l" pos="25909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                 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431640"/>
                <a:tab algn="l" pos="863640"/>
                <a:tab algn="l" pos="1295280"/>
                <a:tab algn="l" pos="1727280"/>
                <a:tab algn="l" pos="2158920"/>
                <a:tab algn="l" pos="25909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                    Found is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640"/>
                <a:tab algn="l" pos="863640"/>
                <a:tab algn="l" pos="1295280"/>
                <a:tab algn="l" pos="1727280"/>
                <a:tab algn="l" pos="2158920"/>
                <a:tab algn="l" pos="25909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                    Location designates the node that would follow a n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640"/>
                <a:tab algn="l" pos="863640"/>
                <a:tab algn="l" pos="1295280"/>
                <a:tab algn="l" pos="1727280"/>
                <a:tab algn="l" pos="2158920"/>
                <a:tab algn="l" pos="25909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                             containing Key.  If Key's node would fol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640"/>
                <a:tab algn="l" pos="863640"/>
                <a:tab algn="l" pos="1295280"/>
                <a:tab algn="l" pos="1727280"/>
                <a:tab algn="l" pos="2158920"/>
                <a:tab algn="l" pos="25909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                             the last node in the list, Location is nu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640"/>
                <a:tab algn="l" pos="863640"/>
                <a:tab algn="l" pos="1295280"/>
                <a:tab algn="l" pos="1727280"/>
                <a:tab algn="l" pos="2158920"/>
                <a:tab algn="l" pos="25909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                    Pred_Loc designates the predecessor of the n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640"/>
                <a:tab algn="l" pos="863640"/>
                <a:tab algn="l" pos="1295280"/>
                <a:tab algn="l" pos="1727280"/>
                <a:tab algn="l" pos="2158920"/>
                <a:tab algn="l" pos="25909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                             designated by Location.  If Lo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640"/>
                <a:tab algn="l" pos="863640"/>
                <a:tab algn="l" pos="1295280"/>
                <a:tab algn="l" pos="1727280"/>
                <a:tab algn="l" pos="2158920"/>
                <a:tab algn="l" pos="25909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                             designates the first node in the li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640"/>
                <a:tab algn="l" pos="863640"/>
                <a:tab algn="l" pos="1295280"/>
                <a:tab algn="l" pos="1727280"/>
                <a:tab algn="l" pos="2158920"/>
                <a:tab algn="l" pos="25909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                             Pred_Loc is nu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earching a Linked List (1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0360" y="1552680"/>
            <a:ext cx="8921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earching a Linked List (2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27160" y="1552680"/>
            <a:ext cx="87930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earching a Linked List (3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72880" y="1552680"/>
            <a:ext cx="852012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he Inchworm Effec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004760" y="1461960"/>
            <a:ext cx="690084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Retriev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0440" y="1714680"/>
            <a:ext cx="871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Link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Found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:= Location.all.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KEY_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Kinds of Opera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Constructor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An operation used to initialize the structure of an instance of a container class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Destructor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An operation used to destroy the structure of an instance of a container class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Transformer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 An operation that changes the structure of an instance of a collection class.  Also called </a:t>
            </a:r>
            <a:r>
              <a:rPr b="0" i="1" lang="en-US" sz="2800" spc="-1" strike="noStrike">
                <a:solidFill>
                  <a:srgbClr val="073c1e"/>
                </a:solidFill>
                <a:latin typeface="Arial"/>
              </a:rPr>
              <a:t>mutator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Observer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 An operation that returns an observation on the state of an instance of a collection class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Iterator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 An operation that allows us to process all of the components of a data structure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Modify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0440" y="1714680"/>
            <a:ext cx="871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Link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Found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.all.Info :=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KEY_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nserting into the Middle of a List (a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65040" y="2284560"/>
            <a:ext cx="822636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nserting into the Middle of a List (b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65040" y="2284560"/>
            <a:ext cx="822636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nserting into the Middle of a List (c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65040" y="2284560"/>
            <a:ext cx="822636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nserting into an Empty Lis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65040" y="2284560"/>
            <a:ext cx="822636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nserting at the Beginning of a Lis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65040" y="2284560"/>
            <a:ext cx="8226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nserting at the End of a Lis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65040" y="2284560"/>
            <a:ext cx="822636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nsert Algorithm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or all Cas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0440" y="1714680"/>
            <a:ext cx="871236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_Linked_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ed_Loc = nu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Inserting at the beginning (empty or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:= new Node_Type'(Info =&gt; Element, Next =&gt; H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Inserting at middle or at 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_Loc.all.Next := new Node_Type‘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fo =&gt; Element, Next =&gt; Lo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eleting the Only Node in a Lis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65040" y="2284560"/>
            <a:ext cx="8226360" cy="25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eleting the First Node in a Lis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65040" y="2284560"/>
            <a:ext cx="82263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Key-Ordered List Opera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8229600" cy="53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Transformers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c1e"/>
                </a:solidFill>
                <a:latin typeface="Arial"/>
              </a:rPr>
              <a:t>Insert</a:t>
            </a: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 adds an element to the list 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c1e"/>
                </a:solidFill>
                <a:latin typeface="Arial"/>
              </a:rPr>
              <a:t>Delete</a:t>
            </a: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 removes an element from the list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c1e"/>
                </a:solidFill>
                <a:latin typeface="Arial"/>
              </a:rPr>
              <a:t>Modify</a:t>
            </a: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 replaces an existing list element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Destructor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c1e"/>
                </a:solidFill>
                <a:latin typeface="Arial"/>
              </a:rPr>
              <a:t>Clear</a:t>
            </a: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 makes the list empty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Observers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c1e"/>
                </a:solidFill>
                <a:latin typeface="Arial"/>
              </a:rPr>
              <a:t>Retrieve </a:t>
            </a: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returns a copy of an element from the list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c1e"/>
                </a:solidFill>
                <a:latin typeface="Arial"/>
              </a:rPr>
              <a:t>Length</a:t>
            </a: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 returns the number of elements in the list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c1e"/>
                </a:solidFill>
                <a:latin typeface="Arial"/>
              </a:rPr>
              <a:t>Empty</a:t>
            </a: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 returns True when there are no elements in the list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c1e"/>
                </a:solidFill>
                <a:latin typeface="Arial"/>
              </a:rPr>
              <a:t>Full</a:t>
            </a: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 returns True when there is no room to add another element to the list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Iterator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c1e"/>
                </a:solidFill>
                <a:latin typeface="Arial"/>
              </a:rPr>
              <a:t>Traverse</a:t>
            </a: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 processes all of the elements in the list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eleting a Middle Node in a Lis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65040" y="2284560"/>
            <a:ext cx="822636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eleting the Last Node in a Lis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65040" y="2284560"/>
            <a:ext cx="82263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elete Algorithm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or all Cas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0440" y="1714680"/>
            <a:ext cx="871236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Link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ed_Loc = 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Deleting the first node (and possibly only node) in th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:= Location.all.Nex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Deleting a middle or last node in th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_Loc.all.Next := Location.all.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ycle memory designated by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ode Complexity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1600200"/>
          <a:ext cx="8229600" cy="4746600"/>
        </p:xfrm>
        <a:graphic>
          <a:graphicData uri="http://schemas.openxmlformats.org/drawingml/2006/table">
            <a:tbl>
              <a:tblPr/>
              <a:tblGrid>
                <a:gridCol w="3147840"/>
                <a:gridCol w="2475000"/>
                <a:gridCol w="2606760"/>
              </a:tblGrid>
              <a:tr h="426960">
                <a:tc gridSpan="3"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ison of Lines of C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rray Implem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Linked Implem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larations (Private Pa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e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if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rie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verse                             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Big-O Comparison of List Opera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52280" y="1600200"/>
          <a:ext cx="8826480" cy="4327560"/>
        </p:xfrm>
        <a:graphic>
          <a:graphicData uri="http://schemas.openxmlformats.org/drawingml/2006/table">
            <a:tbl>
              <a:tblPr/>
              <a:tblGrid>
                <a:gridCol w="3162600"/>
                <a:gridCol w="2844720"/>
                <a:gridCol w="2819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rray Implem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Linked Implem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log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49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er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[Search + Place in List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39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[O(log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+ O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 [O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+ O(1)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49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ete [Search + Remove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39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[O(log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+ O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 [O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+ O(1)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49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ify [Search + Assignment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39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log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O(log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+ O(1)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 [O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+ O(1)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49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rieve [Search + Assignment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39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log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O(log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+ O(1)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 [O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+ O(1)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ve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ime for List Operations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(Milliseconds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1600200"/>
          <a:ext cx="8229600" cy="4622760"/>
        </p:xfrm>
        <a:graphic>
          <a:graphicData uri="http://schemas.openxmlformats.org/drawingml/2006/table">
            <a:tbl>
              <a:tblPr/>
              <a:tblGrid>
                <a:gridCol w="1549440"/>
                <a:gridCol w="3213000"/>
                <a:gridCol w="3467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rray Imple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Linked Imple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do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er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5.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9.3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e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4.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1.8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st E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er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6.8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e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8.4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st Fro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er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4.8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e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17.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dec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Key-Ordered List Excep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7600" y="209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DUPLICATE_KEY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is raised on an attempt to insert an element with a key that is already in the list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KEY_ERROR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is raised when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attempting to retrieve an element that is not in the list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attempting to delete an element that is not in the list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attempting to modify an element that is not in the list 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OVERFLOW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is raised on an attempt to enqueue an element into a full list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Key-Ordered List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Generic Formal Parameter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6760" y="1714680"/>
            <a:ext cx="8648640" cy="47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Element_Type is private;           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The type of element in th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Key_Type        is limited private;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The type of ke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The user must supply a function that returns the Key of an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function Key_Of (Element : in Element_Type) return Key_Typ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The user must supply functions for comparing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function "=" (Left : in Key_Type; Right : in Key_Type) return 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function "&lt;" (Left : in Key_Type; Right : in Key_Type) return 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 Key_Ordered_Lis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List_Type (Max_Size : Positive) is tagged limited priva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nventory Record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7840" y="1765440"/>
            <a:ext cx="8763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Instantiate a bounded-length string class for par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 Part_Names is 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.Strings.Bounded.Generic_Bounded_Length(4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Declare a synonym for c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ype Name_String is Part_Names.Bounded_Str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A simple inventory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_Rec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                   : Name_Str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_In_Stock : Natural :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recor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List of Inventory Record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6000" y="1765440"/>
            <a:ext cx="8724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A function to return the “key” of a part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Name_Of (Part : in Part_Rec) return Name_String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Part.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Name_O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Instantiate an ADT for an ordered list of inventory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 Part_List is new Key_Ordered_L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lement_Type =&gt; Part_Rec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_Type        =&gt; Name_Str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_Of            =&gt; Name_O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="                   =&gt; Part_Names."="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&lt;"                   =&gt; Part_Names."&lt;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9:53:55Z</dcterms:created>
  <dc:creator>John McCormick</dc:creator>
  <dc:description/>
  <dc:language>en-US</dc:language>
  <cp:lastModifiedBy>John McCormick</cp:lastModifiedBy>
  <dcterms:modified xsi:type="dcterms:W3CDTF">2006-09-04T15:02:25Z</dcterms:modified>
  <cp:revision>171</cp:revision>
  <dc:subject/>
  <dc:title>Chapter 1</dc:title>
</cp:coreProperties>
</file>