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move the slide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63E1-C9F4-4483-A102-D69DC0CED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0C1-7A2F-4D59-BFA6-AC8623A62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5361-47EA-44CA-A340-647482547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59CF-070E-40A2-A727-2DB2F8A9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6EBF-B6EF-4A95-A6C4-1AAAC04E5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E9A-54C4-41F3-90AD-2060F823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A94-D7C5-46DF-9FD4-F9041638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8D8-3718-434F-8F46-C5048814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2A3-18BD-411A-9116-9E5BEC35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99E4-B88B-435D-8B53-FA71760F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0610-F919-44F9-BE5F-20754629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4D72-2B76-42E9-8E40-80CB7E7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AB94-70FD-4F99-978B-CDA40AC4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CF9E-4779-47C7-AE0F-1F3D32B7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2E32-77B5-48C1-95DC-17B46670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417F-979A-41C0-A280-6D264B1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3A0-D627-4532-A750-6D1EA0D1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B845-E8EF-4231-8B55-7D5D0019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9E31-A46A-4D32-BE96-32D9A24E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D24F-30B6-48E6-B499-6F2C2B18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E162-FE57-4495-941F-A6097F9F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B09C-8260-480F-BD06-DA32CE7B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F08-492E-4FC0-8275-9A85E511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2D2-F95C-4941-934E-1632DDAF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537-AB48-4039-B94B-00140B3A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89E-1307-4B39-96E5-C084E3D9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66C-2317-4A9E-AA97-217830A9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A41-B0AE-4726-849B-00C3AA0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7B8-8E33-4D46-A28D-9C500EBA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3c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AC65-A957-41DE-B6B7-8E9E4C3D8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edit the title text format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A347-EB9F-463B-A7DE-E519AF59B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Click to edit the outline text format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3c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hapter 9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Programming with Recursion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cursive Solu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8400" y="1841400"/>
            <a:ext cx="772164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Factorial (N : in Natural) return Positiv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: Natur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= 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: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:= N * Factorial (N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actori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race of Factorial(4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82520" y="1531800"/>
            <a:ext cx="88041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ree-Question Method of Verifying Recursive Subprogram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ase-Case Question: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 Is there a nonrecursive way out of the subprogram?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maller-Caller Question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Does each recursive subprogram call involve a smaller case of the original problem leading to the base case?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General-Case Question: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 Assuming each recursive call works correctly, does the whole subprogram work correctly?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mparison of Recursive and Iterative Solu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1663560"/>
          <a:ext cx="8229240" cy="317952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31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 Factorial (N : in Natu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Positive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: Natur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N = 0 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:=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:= N * Factorial (N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 if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Resu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 Factori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 Factorial (N : in Natu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Positive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: Positiv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:=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Count in 2..N 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:= Count * Resu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 loo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Resu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141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 Factori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04920" y="5041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e solutions tend to employ loops, whereas recursive solutions tend to have selection statements—either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.  Recursive subprograms rarely contain loo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other Example: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earch an Arra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80" y="1816200"/>
            <a:ext cx="839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An unconstrained array of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Array_Type is array (Integer range &lt;&gt;)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Value_In_Array (List    : in Array_Ty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: in Integer)    return Boole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Purpose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: Searches List fo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Preconditions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: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Postconditions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: returns (Value exists in 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52452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functions usually require two base case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at returns True and another that returns Fa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Base Cas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siest array to search is one with no element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siest array for a successful search is one in which the first element is the one we desir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343400"/>
            <a:ext cx="872496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ist'Length = 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:= False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Base Case, empty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 Value = List(List'First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:= True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Base Case, first element contains </a:t>
            </a:r>
            <a:br>
              <a:rPr sz="2400"/>
            </a:b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desir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General Cas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all the function recursively to search the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rest of the array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new search problem is one element smaller than the original search problem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360" y="4292640"/>
            <a:ext cx="8958240" cy="1717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General Case: search rest of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:= Value_In_Array (List    =&gt; List (List'First+1 .. List'Last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&gt;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race of Search Arra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05040" y="1224000"/>
            <a:ext cx="480204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bonacci Numb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5347800"/>
            <a:ext cx="91440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born rabbits become adults (are able to breed) one month after birth.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qual number of male and female rabbits.  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ir of adult rabbits produce one pair of newborn rabbits each month.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abbits die.  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2640" y="1731960"/>
            <a:ext cx="7048800" cy="1690920"/>
            <a:chOff x="512640" y="1731960"/>
            <a:chExt cx="7048800" cy="1690920"/>
          </a:xfrm>
        </p:grpSpPr>
        <p:sp>
          <p:nvSpPr>
            <p:cNvPr id="132" name=""/>
            <p:cNvSpPr/>
            <p:nvPr/>
          </p:nvSpPr>
          <p:spPr>
            <a:xfrm>
              <a:off x="512640" y="1731960"/>
              <a:ext cx="7048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17680"/>
                  <a:tab algn="l" pos="1371600"/>
                  <a:tab algn="l" pos="41148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f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1 o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17680"/>
                  <a:tab algn="l" pos="1371600"/>
                  <a:tab algn="l" pos="41148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17680"/>
                  <a:tab algn="l" pos="1371600"/>
                  <a:tab algn="l" pos="41148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-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f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&gt;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76440" y="1755720"/>
              <a:ext cx="228600" cy="1519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519200"/>
                <a:gd name="textAreaBottom" fmla="*/ 1479600 h 15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28520" y="3627360"/>
            <a:ext cx="887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used by Leonardo Fibonacci of Pisa, a medieval mathematician, to determine the number of rabbits that would be produced in a hutch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nths starting with a single pair of newborn rabbits.  Leonardo made the following assumptions in this probl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bonacci Numbers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65293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Recursive Call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subprogram call in which the subprogram being called is the same as the one making the call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irect Recursion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Recursion in which a subprogram directly calls itself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Indirect Recursion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Recursion in which a chain of two or more subprograms returns to the subprogram that originated the chain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Base Cas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includes two base case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520" y="3656160"/>
            <a:ext cx="87249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lt;= 2 then   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Two ba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: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General Cas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all the function recursively to calculate the two terms of the functio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5760" y="3656160"/>
            <a:ext cx="8958240" cy="13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:= Fibonacci (N-1) + Fibonacci (N-2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Two recursi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Why use recursion?”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960" y="1955880"/>
            <a:ext cx="83059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our examples could have been written without recursion, using iteration instead.  The iterative solution uses a loop, and the recursive solution uses an if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for many problems the recursive solution is the most natural solution.  This often occurs when pointer variables ar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raversing a Linked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Easy to do from first element to last elemen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We did it in Chapter 7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Not so easy to do in reverse order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ers are “one way”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Base Cas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siest array to traverse in reverse order is one with no element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 nothing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General Cas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0520" y="1727280"/>
            <a:ext cx="75549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ast element of List in revers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of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2280" y="3693960"/>
            <a:ext cx="8790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mplementation</a:t>
            </a:r>
            <a:br>
              <a:rPr sz="36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(types for a simple linked list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" y="1841400"/>
            <a:ext cx="843264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Node_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Node_Ptr is access Node_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Node_Ty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  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: Node_Pt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ype List_Type is Node_Ptr;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a synonym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_List: List_Type;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external pointer to first node of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mplementation</a:t>
            </a:r>
            <a:br>
              <a:rPr sz="36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(recursive procedure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574640"/>
            <a:ext cx="8813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Reverse_Traverse (List : in List_Type)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Traverses List in revers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ist = null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;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list is empty (do nothing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_Traverse (List =&gt; List.all.Next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(Element =&gt; List.all.Info);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Reverse_Trave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7840" y="59691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an you rewrite this procedure without using a null stat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owers of Hanoi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gur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24120" y="1606680"/>
            <a:ext cx="2998800" cy="1371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2120" y="3821040"/>
            <a:ext cx="72943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owers of Hanoi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gur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3800" y="1685880"/>
            <a:ext cx="733104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33400" y="3375000"/>
            <a:ext cx="721188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843120" y="5094360"/>
            <a:ext cx="7331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Nesting Doll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84080" y="1582560"/>
            <a:ext cx="7304400" cy="2587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68280" y="4495680"/>
            <a:ext cx="838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ecursive algorithm is like a set of Russian dolls. It reproduces itself with smaller and smaller versions of itself until a version is reached that can no longer be subdivided—that is, until the smallest doll is reach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cursive Binary Search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8520" y="1450800"/>
            <a:ext cx="881712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nothing in the array to ex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searching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base case, value not i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middle element in th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middle element contains the desired key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searching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base case, value i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 the middle element is larger than the desired key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the first half of the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gene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(middle element is smaller than the k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the second half of the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gene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How Recursion Work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ransfer of control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 occurs from the calling block to the code of the subprogram.  It is necessary that there be a return to the correct place in the calling block after the function code is executed.  This correct place is called 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eturn addre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When any subprogram is called, 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un-time stack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 is used.  On this stack is placed a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tivation record (stack frame)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 for the subprogram call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How Recursion Work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ctivation record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 stores the return address for this subprogram call, and also the parameters, local variables, and if it is a function, its return value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The activation record for a particular subprogram call is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opped off the run-time stack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 when the end statement is reached in the procedure code, or when a return statement is reached in the function code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At this time the any out parameters or function return value are brought back to the calling block return address for use there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actorial (4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4560" y="4843440"/>
            <a:ext cx="39304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actorial (4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84560" y="4021200"/>
            <a:ext cx="393048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actorial (4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4560" y="1461960"/>
            <a:ext cx="39304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moving Recurs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ail recursio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case where a recursive subprogram contains a single recursive call that is the last statement executed in the subprogram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Is easily replaced by iteration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tacking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Requires that we provide our own stack to maintain the information that a recursive subprogram keeps on the run-time stack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moving Recursion from Reverse Travers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5880" y="1630440"/>
            <a:ext cx="8508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Construct a stack of pointers (one pointer to each node in the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r := pointer to first node i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Ptr i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 Ptr onto St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 Ptr to next node in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rocess the nodes in reverse order (last node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Stack is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 Stack to get Ptr (to previous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(Ptr.all.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se a Recursive Solution When: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depth of recursive calls is relatively “shallow” compared to the size of the problem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recursive version does </a:t>
            </a:r>
            <a:r>
              <a:rPr b="0" i="1" lang="en-US" sz="2800" spc="-1" strike="noStrike">
                <a:solidFill>
                  <a:srgbClr val="073c1e"/>
                </a:solidFill>
                <a:latin typeface="Arial"/>
              </a:rPr>
              <a:t>about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the same amount of work as the nonrecursive version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recursive version is shorter and simpler than the nonrecursive solution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66640" y="5284800"/>
            <a:ext cx="7759800" cy="901800"/>
            <a:chOff x="566640" y="5284800"/>
            <a:chExt cx="7759800" cy="901800"/>
          </a:xfrm>
        </p:grpSpPr>
        <p:sp>
          <p:nvSpPr>
            <p:cNvPr id="183" name=""/>
            <p:cNvSpPr/>
            <p:nvPr/>
          </p:nvSpPr>
          <p:spPr>
            <a:xfrm>
              <a:off x="566640" y="5284800"/>
              <a:ext cx="2416320" cy="9018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allow De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38560" y="5284800"/>
              <a:ext cx="2415960" cy="9018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10120" y="5284800"/>
              <a:ext cx="2416320" cy="9018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a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ime in Millisecond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898640"/>
          <a:ext cx="8229600" cy="2689200"/>
        </p:xfrm>
        <a:graphic>
          <a:graphicData uri="http://schemas.openxmlformats.org/drawingml/2006/table">
            <a:tbl>
              <a:tblPr/>
              <a:tblGrid>
                <a:gridCol w="2251080"/>
                <a:gridCol w="2989080"/>
                <a:gridCol w="2989440"/>
              </a:tblGrid>
              <a:tr h="119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ver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nary 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ore Defini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Base cas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The case for which the solution can be stated nonrecursively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General (recursive) cas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The case for which the solution is expressed in terms of a smaller version of itself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Recursive algorithm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A solution that is expressed in terms of (a) smaller instances of itself and (b) a base cas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026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ecursive call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is a subprogram call in which the called subprogram is the same as the one making the call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n other words, recursion occurs when a subprogram calls itself!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We must avoid making an infinite sequence of subprogram calls (infinite recursion)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cursive Subprogram Call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5400" y="15984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Each successive recursive call should bring you closer to a situation in which the answer is know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case for which the answer is known (and can be expressed without recursion) is called a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ase case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Each recursive algorithm must have at least one base case, as well as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eneral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(recursive) cas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nding a Recursive Solu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General format for many recursive algorithm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24320" y="5394240"/>
            <a:ext cx="33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" y="194328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some condition for which the answer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Stat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Subprogram C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Gene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riting a recursive function to find n factorial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955880"/>
            <a:ext cx="7950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call Factorial(4) should have value 24, because that is 4 × 3 × 2 × 1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ituation in which the answer is known, the value of 0! is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our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ase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along the lin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N = 0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riting a recursive function to find n factorial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5240" y="1523880"/>
            <a:ext cx="82296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Now for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general case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value of  Factorial(n)  can be writt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the product of the numbers from (n - 1) to 1, that is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(n - 1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(n - 2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.  . 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Factorial(n -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nd notice that the recursive call  Factorial(n - 1) gets us “closer” to the base case of  Factorial(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9:53:55Z</dcterms:created>
  <dc:creator>John McCormick</dc:creator>
  <dc:description/>
  <dc:language>en-US</dc:language>
  <cp:lastModifiedBy>John McCormick</cp:lastModifiedBy>
  <dcterms:modified xsi:type="dcterms:W3CDTF">2006-09-04T23:21:45Z</dcterms:modified>
  <cp:revision>202</cp:revision>
  <dc:subject/>
  <dc:title>Chapter 1</dc:title>
</cp:coreProperties>
</file>