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ED8-17E9-43C9-9074-053DC4F0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50C-6E7E-4AC3-BB1B-545AD44F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820-49CC-402D-8C37-EC5820DA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E24-056D-496F-AC8B-565E692A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0CCA-0993-4551-9213-FED798B9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619-A042-4C0A-9BC9-E5BF892E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743D-1A6A-48FB-A237-F4BD41B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9E7E-CD79-4897-809B-34611FEA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E9C-9AD5-4B4D-A2A1-07078F98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0805-296C-436B-A914-72F47A8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8CC8-115F-49C7-BB69-6464241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6CB-8B8F-4947-90F0-EC5A7C5C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E896-A5A6-4926-842A-B6B0899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0386-BC30-49C1-9061-1BD7ABC8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589-D527-434A-BC80-63FBAA25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6F38-FB61-4424-8AA1-B39A8548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B3B5-665F-4B0D-ADF8-DC96073E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0F9-251D-4E8F-B20E-1BD7A37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FAD-7CB1-48E8-A40A-3B4E4851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067-B881-458E-BC06-D086F89A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EC4-9D51-42A3-8CB7-FFF384D5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A79-59FC-4CB0-970A-AFB4268B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8AE-0A04-49F2-AE03-1088C0D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162-D9A7-4C78-A5D1-3139F41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908-2907-435D-A739-98F2FD1F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7F77-A899-4BCE-853A-AE39225B9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6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Queues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ull, Empty, and Clea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164448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Full (Queue : in Queue_Type) return Boole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Queue.Count = Queue.Max_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F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Empty (Queue : in Queue_Type) return Boole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Queue.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Emp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Clear (Queue : in out Queue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Count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Front  :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Rear   := Queue.Max_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Cl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n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2463840"/>
          <a:ext cx="8928000" cy="3560760"/>
        </p:xfrm>
        <a:graphic>
          <a:graphicData uri="http://schemas.openxmlformats.org/drawingml/2006/table">
            <a:tbl>
              <a:tblPr/>
              <a:tblGrid>
                <a:gridCol w="1737000"/>
                <a:gridCol w="768960"/>
                <a:gridCol w="442080"/>
                <a:gridCol w="283680"/>
                <a:gridCol w="754560"/>
                <a:gridCol w="743760"/>
                <a:gridCol w="695520"/>
                <a:gridCol w="216000"/>
                <a:gridCol w="683280"/>
                <a:gridCol w="540360"/>
                <a:gridCol w="190800"/>
                <a:gridCol w="648000"/>
                <a:gridCol w="632520"/>
                <a:gridCol w="591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Max_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Fr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R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181160" y="1574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.Enqueu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25680" y="5931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n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644480"/>
            <a:ext cx="840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Enqueue (Queue : in out Queue_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   : in     Element_Type)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ueue.Count = Queue.Max_Size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OVERFL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.Rear := Queue.Rear rem Queue.Max_Size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.Items(Queue.Rear) := I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.Count := Queue.Count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Enque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2133720"/>
          <a:ext cx="8928000" cy="3560760"/>
        </p:xfrm>
        <a:graphic>
          <a:graphicData uri="http://schemas.openxmlformats.org/drawingml/2006/table">
            <a:tbl>
              <a:tblPr/>
              <a:tblGrid>
                <a:gridCol w="1737000"/>
                <a:gridCol w="768960"/>
                <a:gridCol w="442080"/>
                <a:gridCol w="283680"/>
                <a:gridCol w="754560"/>
                <a:gridCol w="743760"/>
                <a:gridCol w="695520"/>
                <a:gridCol w="216000"/>
                <a:gridCol w="683280"/>
                <a:gridCol w="540360"/>
                <a:gridCol w="190800"/>
                <a:gridCol w="648000"/>
                <a:gridCol w="632520"/>
                <a:gridCol w="591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Max_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Fr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R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181160" y="1574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.Dequeu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47840" y="5524560"/>
            <a:ext cx="64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fter  (Value is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520" y="1644480"/>
            <a:ext cx="840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Dequeue (Queue : in out Queue_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    :     out Element_Type)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ueue.Count = 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UNDERFL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:= Queue.Items(Queue.Fro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.Front := Queue.Front rem Queue.Max_Size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.Count := Queue.Count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Deque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blem with Array Implement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You must specify an upper bound on the size of each queu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f your estimate is too low, the queue will overflow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f your estimate is too high, you waste memory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Our second implementation solves this problem by using access types to obtain memory for queue elements as needed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-List Based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FO 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1000" y="2357280"/>
            <a:ext cx="83912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-List Based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FO 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60520"/>
            <a:ext cx="8985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ode_Ty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: Element_Typ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On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: access Node_Typ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signates nex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Queue_Type is new Ada.Finalization.Limited_Controll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: access Node_Typ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signates first item in th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  : access Node_Type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signates last item in th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Finalize (Object : in out Queue_Type) renames Cl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nbounded_Que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 Empty FIFO 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68480" y="2509920"/>
            <a:ext cx="3113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FIFO Queue with One Elemen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8480" y="1595520"/>
            <a:ext cx="5008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FO 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62320" y="3068640"/>
            <a:ext cx="5769000" cy="348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52600" y="1754280"/>
            <a:ext cx="82105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Times New Roman"/>
              </a:rPr>
              <a:t>A structure in which elements are added to the rear and removed from the front; a "first in, first out" (FIFO)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619280"/>
            <a:ext cx="8809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Dequeue (Queue : in out Queue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   :    out Element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 : Node_Ptr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For recycling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:= Queue.Front.Info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Get the value from the fron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  := Queue.Fron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Save access to old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Front := Queue.Front.Nex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Change the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(To_Recycle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cycle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Queue.Front = null 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s the queue now emp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Rear := null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Set Rear to null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Deque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1000" y="1698480"/>
            <a:ext cx="83944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n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0680" y="1722600"/>
            <a:ext cx="8135640" cy="2817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57560" y="458316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.Enqueue (‘Z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nqueue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ding to the Rea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0680" y="2327400"/>
            <a:ext cx="82976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n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1619280"/>
            <a:ext cx="880920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Enqueue (Queue : in out Queue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    : in       Element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Queue.Front = null then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s the queue emp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Yes, Front and Back should both designate the new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Front := new Node_Type'(Info =&gt; Item,  Next =&gt;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Rear  := Queue.Fro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No, link a new node to the rear of the exist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Rear.all.Next := new Node_Type'(Info =&gt; Item,  Next =&gt;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.Rear := Queue.Rear.all.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Enque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Bad FIFO Queue Desig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3280" y="1693800"/>
            <a:ext cx="8327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Circular-Linked-List Based FIFO 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2019240"/>
            <a:ext cx="8543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Complexit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87280" y="1668600"/>
          <a:ext cx="8487000" cy="4697280"/>
        </p:xfrm>
        <a:graphic>
          <a:graphicData uri="http://schemas.openxmlformats.org/drawingml/2006/table">
            <a:tbl>
              <a:tblPr/>
              <a:tblGrid>
                <a:gridCol w="4097520"/>
                <a:gridCol w="2195280"/>
                <a:gridCol w="21942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ison of Lines of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ed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ons (Private Pa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p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1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2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Space Requiremen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98560"/>
            <a:ext cx="90504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Based Queue Storage = 2 × (storage needed for one integer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_Size × (storage needed for one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ed Queue Storag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×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needed for one pointer)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queue size × (storage needed for one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Storage  = storage needed for one element  +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storage needed for one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Space Requirements Exampl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9120" y="1689120"/>
            <a:ext cx="25765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 is fixed length string of 64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Size is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 per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bytes per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000240" y="2022480"/>
            <a:ext cx="59914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ransform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Enqueue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adds an element to the rear of the queue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Dequeue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removes and returns the element at the front of the queu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Clear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makes the queue empty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bserv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returns True when there are no objects in the queu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Full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returns True when there is no room to add another object to the queu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g-O Comparison of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2046240"/>
          <a:ext cx="8229600" cy="4037040"/>
        </p:xfrm>
        <a:graphic>
          <a:graphicData uri="http://schemas.openxmlformats.org/drawingml/2006/table">
            <a:tbl>
              <a:tblPr/>
              <a:tblGrid>
                <a:gridCol w="1562040"/>
                <a:gridCol w="3247920"/>
                <a:gridCol w="3419640"/>
              </a:tblGrid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i="1" lang="en-US" sz="28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Linked </a:t>
                      </a:r>
                      <a:r>
                        <a:rPr b="1" i="1" lang="en-US" sz="28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Emp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Enque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Deque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Timing Experimen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040" y="1590840"/>
            <a:ext cx="83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ata:  100,000 fixed-length strings containing 64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54080" y="2401920"/>
          <a:ext cx="6184800" cy="3301920"/>
        </p:xfrm>
        <a:graphic>
          <a:graphicData uri="http://schemas.openxmlformats.org/drawingml/2006/table">
            <a:tbl>
              <a:tblPr/>
              <a:tblGrid>
                <a:gridCol w="1422360"/>
                <a:gridCol w="2222640"/>
                <a:gridCol w="2539800"/>
              </a:tblGrid>
              <a:tr h="94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Time for Queue Operations (Millisecond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Linked </a:t>
                      </a:r>
                      <a:r>
                        <a:rPr b="1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En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7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53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Deque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6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4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en-US" sz="1800" spc="-1" strike="noStrike" u="sng" baseline="6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[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932200" y="40809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720" y="627624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 baseline="20000">
                <a:solidFill>
                  <a:srgbClr val="009999"/>
                </a:solidFill>
                <a:uFillTx/>
                <a:latin typeface="Arial"/>
                <a:ea typeface="Times New Roman"/>
                <a:hlinkClick r:id="rId3" action="ppaction://hlinksldjump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73c1e"/>
                </a:solidFill>
                <a:latin typeface="Arial"/>
                <a:ea typeface="Times New Roman"/>
              </a:rPr>
              <a:t>Too small to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re About Access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Pool-specific access type  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Access types whose values can designate only the elements of their associated storage pool. 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This is what we have been using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General access typ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ccess types whose values can designate the elements of any storage pool, as well as aliased objects created by declarations (named objects)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rganization Of Memory Used by a Running Program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4960" y="1860480"/>
            <a:ext cx="80247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ample Program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200" y="1714680"/>
            <a:ext cx="868680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da.Text_IO; use Ada.Text_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Demo_General_Acces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tring_Ptr  is acces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ng;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General acces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tring_Ptr_Array is array (1..5) of String_P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Named variables are allocated space in "stack" memo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    :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i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ng := "George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    :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i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ng := "Washingto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 :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i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ing := "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: String_Ptr_Array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n array of general access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ample Program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714680"/>
            <a:ext cx="91440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: String_Ptr_Array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n array of general access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ssign values (locations) to the 5 arra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(1) := First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'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(2) := Space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'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(3) := Last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'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(4) := Names(2)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2nd and 4th component both designat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(5) := new String'("slept here.");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llocate "heap"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isplay all 5 strings on on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dex in Names'rang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(Item =&gt; Names(Index).all);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Note the pointer dere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_Line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Demo_General_Ac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ample Progra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emory Layou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52280" y="1731960"/>
            <a:ext cx="8826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ass-Wide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73988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lass-wide type  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a type consisting of the set of all types in an inheritance hierarchy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Indefinite type  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a type for which we cannot declare an object without an initial value or explicit constraint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Example: type Str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Name : String;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Illegal declaration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Every class-wide type is an indefinite typ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ocomotive Class Diagram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16080" y="1704960"/>
            <a:ext cx="6775200" cy="4565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84800" y="2133720"/>
            <a:ext cx="27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omotive is an abstrac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ocomotive Class-Wide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2031840"/>
            <a:ext cx="759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90640"/>
            <a:ext cx="886464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_Name : String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llegal attempts to declare 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_Loco    : Locomotive_Type'Class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variables with indefinite sub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Examples of </a:t>
            </a:r>
            <a:r>
              <a:rPr b="0" i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legal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uses of indefinite types in object decla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In each case we supply an initial val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_Name : String := "Mildred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_Loco : Locomotive_Type'Class :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.Construct_Loco (Weight  =&gt; 233.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  =&gt; 75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Excep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7600" y="209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UNDERFLOW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is raised on an attempt to dequeue an item from an empty queu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OVERFLOW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is raised on an attempt to enqueue an item into a full queu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wo Common Uses for Indefinite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970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eclaration of access typ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eclaration of formal parameter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claration of Access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040" y="1701720"/>
            <a:ext cx="815364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A type to designate any fixed-length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Unbounded_String is access St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A type to designate any locomotive in the class hierarchy </a:t>
            </a:r>
            <a:br>
              <a:rPr sz="2400"/>
            </a:b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rooted at Locomotive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oco_Ptr is access Locomotive_Type’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An array of pointers to objects in the class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oco_Array is array (1..8) of Loco_P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ives : Loco_Arr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 Array of Pointers to Different Locomotive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98400" y="1600200"/>
          <a:ext cx="5042160" cy="507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0" y="1600200"/>
                    <a:ext cx="50421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ormal Paramet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74640"/>
            <a:ext cx="8140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Num_Js (Item : in String) return Natur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Works for any fixed-length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: Natural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dex in Item’Rang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(Index)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' or Item(Index) = 'j'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:= Result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Num_J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Stop (Loco : in out Locomotive_Type'Class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Works for any locomotive in the class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o.Set_Throttle(Value =&gt;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o.Brakes_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hich Versions of Set_Throttle and Brakes_On?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Each locomotive type has its own procedures for setting its throttle and brake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How do the calls to these procedures on the previous slide know which of the five different Set_Throttle and Brakes_On procedures to execute?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ynamic Dispatching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ynamic Dispatch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The automatic selection at execution time of the appropriate operation in a class hierarchy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327480"/>
            <a:ext cx="659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Stop (Loco : in out Locomotive_Type'Class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Works for any locomotive in the class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o.Set_Throttle(Value =&g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o.Brakes_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120" y="5554800"/>
            <a:ext cx="85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The versions of Set_Throttle and Brakes_On appropriate for parameter Loco are automatically se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imitive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A primitive operation for a type is one that is declared in the same package specification of the type and has a parameter or return value of the typ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Enqueue, dequeue, empty, full, and clear are primitive operations for our queue typ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ynamic Dispatching applies only to </a:t>
            </a:r>
            <a:r>
              <a:rPr b="1" i="1" lang="en-US" sz="3200" spc="-1" strike="noStrike">
                <a:solidFill>
                  <a:srgbClr val="073c1e"/>
                </a:solidFill>
                <a:latin typeface="Arial"/>
              </a:rPr>
              <a:t>primitive operations</a:t>
            </a: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Diagram for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FO Queu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525760"/>
            <a:ext cx="87775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FO Queue Specific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" y="1481040"/>
            <a:ext cx="818028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lement_Type is private;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The queue elem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Queu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Queue_Type (Max_Size : Positive) is tagged limited priv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 :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FLOW :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Clear (Queue : in out Queue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Enqueue (Queue : in out Queue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    : in     Element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Dequeue (Queue : in out Queue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    :    out Element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Full (Queue : in Queue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Empty (Queue : in Queue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We'll fill this in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Que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otes on Queue_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Queue_Type does has a discriminant that is used to set the maximum size of each stack objec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Queue_Type is a tagged typ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an extend Queue_Typ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an use object.operation syntax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Queue Decla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0600" y="1490760"/>
            <a:ext cx="84405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Car_Class_Type   is (Box, Flat, Hopper, Ta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Destination_Type  is (Austin, Waterloo, Plattsburg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ype Car_ID_Type   is Integer range 10000..999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Car_Rec is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Record type for railroad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              : Car_ID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          : Car_Class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tination : Destination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 railroad car queu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ckage Car_Queue is new Queue (Element_Type =&gt; Car_Re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 queue of railroad cars (maximum of 50 cars per que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_Size : constant := 50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type Track_Section is Car_Queue.Queue_Type (Max_Size =&gt; Section_Siz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n array of railroad car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Yard_Array is array (Destination_Type) of Track_Section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ard : Yard_Array;      -- The hump 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rray Implement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60520"/>
            <a:ext cx="873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Queue_Array is array (Positive range &lt;&gt;) of Elemen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Queue_Type (Max_Size : Positive) is tagged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: Natural  := 0;                  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Number of items i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: Positive := 1;                   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ointer to first item i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 : Positive := Max_Size;     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ointer to last item i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: Queue_Array (1..Max_Size)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The element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Que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89360" y="3892680"/>
            <a:ext cx="3692520" cy="296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03840" y="4683240"/>
            <a:ext cx="2368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 contains (from rear to fr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  V  Z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6160" y="4514760"/>
            <a:ext cx="2268360" cy="161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field values are for an empty queue.  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just beh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8-15T13:17:45Z</dcterms:modified>
  <cp:revision>145</cp:revision>
  <dc:subject/>
  <dc:title>Chapter 1</dc:title>
</cp:coreProperties>
</file>