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png" ContentType="image/png"/>
  <Override PartName="/ppt/media/image3.wmf" ContentType="image/x-wmf"/>
  <Override PartName="/ppt/media/image27.jpeg" ContentType="image/jpe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30.png" ContentType="image/png"/>
  <Override PartName="/ppt/media/image31.jpeg" ContentType="image/jpeg"/>
  <Override PartName="/ppt/media/image25.png" ContentType="image/png"/>
  <Override PartName="/ppt/media/image4.wmf" ContentType="image/x-wmf"/>
  <Override PartName="/ppt/media/image10.png" ContentType="image/png"/>
  <Override PartName="/ppt/media/image1.jpeg" ContentType="image/jpe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3D13-1201-44DB-9199-A3535F781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D931-2AA2-487C-9AE7-18861588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B199-292E-4F11-B0AD-446AFC2C4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4F81-677C-45B9-B405-DC914552A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8735-542C-47F6-AC9B-7F8FF5FAE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73c1e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16C5B-165B-4B15-84AA-86DD71A6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434D-52D5-4555-9E56-BBCDAEC9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7D97-3775-4373-B95B-951C8E72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4992C-5A65-49B0-9272-44CCE9BC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55308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73c1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7770-F252-4FD2-AFBF-C59E0B02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5603-1391-4470-A1C0-2B21FCA8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73c1e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3BC4-3B92-425A-A4F1-1A03FD81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D334E-6ED6-4CAF-9485-7391E3D4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BBC1-A765-4470-88CA-EA872707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5E46-CCB7-40CB-847D-5EB83F3F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B550-3BBC-4D83-A1E8-7139F18A8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07DA6-50DC-48E1-80FD-000E148AA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631F-5F21-43AD-86C4-C01BB561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236A-5BC2-4704-B5F6-779C4162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FD02-97AE-431D-8A8D-1B81CA93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55308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73c1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D662-27DA-446D-A1FE-2D583E66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0E33-1458-4D90-A94C-7DCA70B3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1C01-9AF5-4C3F-95A1-45B9C318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0106-BA54-40E1-BDBA-B4FCD91D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3c1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95B5-53FC-471E-A02D-2432BFFBD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438280"/>
            <a:ext cx="8001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73c1e"/>
                </a:solidFill>
                <a:latin typeface="Arial Black"/>
              </a:rPr>
              <a:t>Click to edit the title text format</a:t>
            </a:r>
            <a:endParaRPr b="1" i="1" lang="en-US" sz="6000" spc="-1" strike="noStrike">
              <a:solidFill>
                <a:srgbClr val="073c1e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3D89-7BEA-4C70-873B-537E9EB3F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3c1e"/>
                </a:solidFill>
                <a:latin typeface="Arial Black"/>
              </a:rPr>
              <a:t>Click to edit the outline text format</a:t>
            </a:r>
            <a:endParaRPr b="0" lang="en-US" sz="4800" spc="-1" strike="noStrike">
              <a:solidFill>
                <a:srgbClr val="073c1e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73c1e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73c1e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c1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73c1e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73c1e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c1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73c1e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c1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73c1e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c1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9.wmf"/><Relationship Id="rId16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438280"/>
            <a:ext cx="8001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73c1e"/>
                </a:solidFill>
                <a:latin typeface="Arial Black"/>
              </a:rPr>
              <a:t>Chapter 5</a:t>
            </a:r>
            <a:endParaRPr b="1" i="1" lang="en-US" sz="6000" spc="-1" strike="noStrike">
              <a:solidFill>
                <a:srgbClr val="073c1e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3c1e"/>
                </a:solidFill>
                <a:latin typeface="Arial Black"/>
              </a:rPr>
              <a:t>Stacks</a:t>
            </a:r>
            <a:endParaRPr b="0" lang="en-US" sz="4800" spc="-1" strike="noStrike">
              <a:solidFill>
                <a:srgbClr val="073c1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Stack Specification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8000" y="1481040"/>
            <a:ext cx="8180280" cy="52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Element_Type is private;  </a:t>
            </a: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- The stack elemen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age Stack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Stack_Type (Max_Size : Natural) is tagged limited privat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FLOW : excep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FLOW    : excep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 Clear (Stack : in out Stack_Typ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Empty (Stack : in Stack_Type) return Boolea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Full     (Stack : in Stack_Type) return Boolea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 Push (Stack               : in out Stack_Typ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_Element : in     Element_Typ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 Pop (Stack                    : in out Stack_Typ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ped_Element :     out Element_Typ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- We'll fill this in 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Stac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Notes on Stack_Type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Stack_Type does has a discriminant that is used to set the maximum size of each stack object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Stack_Type is a tagged type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Can extend Stack_Type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Can use object.operation syntax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Stack Declaration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7840" y="1739880"/>
            <a:ext cx="649908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- A stack of characters (holds a maximum of 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_Stack is new Stack (Element_Type =&gt; Characte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 : Character_Stack.Stack_Type (Max_Size =&gt; 1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- A stack of part records (holds a maximum of 2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Part_Rec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_Number : Positiv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ity         : Natur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recor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_Stack is new Stack (Element_Type =&gt; Part_Rec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e : Part_Stack.Stack_Type (Max_Size =&gt; 237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Stack Application</a:t>
            </a:r>
            <a:br>
              <a:rPr sz="3200"/>
            </a:b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Evaluating Postfix Expressions</a:t>
            </a: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012680" y="1600200"/>
          <a:ext cx="6471720" cy="4525200"/>
        </p:xfrm>
        <a:graphic>
          <a:graphicData uri="http://schemas.openxmlformats.org/drawingml/2006/table">
            <a:tbl>
              <a:tblPr/>
              <a:tblGrid>
                <a:gridCol w="4364640"/>
                <a:gridCol w="2107080"/>
              </a:tblGrid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 u="sng">
                          <a:solidFill>
                            <a:srgbClr val="073c1e"/>
                          </a:solidFill>
                          <a:uFillTx/>
                          <a:latin typeface="Times New Roman"/>
                          <a:ea typeface="Times New Roman"/>
                        </a:rPr>
                        <a:t>Postfix Express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 u="sng">
                          <a:solidFill>
                            <a:srgbClr val="073c1e"/>
                          </a:solidFill>
                          <a:uFillTx/>
                          <a:latin typeface="Times New Roman"/>
                          <a:ea typeface="Times New Roman"/>
                        </a:rPr>
                        <a:t>Resul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4  5  7  2  +  −  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-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3  4  +  2  *  7  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5  7  +  6  2  −  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4  2  3  5  1  −  *  +  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4  2  +  3  5  1  −  *  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Postfix Evaluation Algorithm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8520" y="1660680"/>
            <a:ext cx="5208480" cy="33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 when no more Items left in the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Item from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tem is a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 last two values from the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the operation with the two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 the result onto the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 Item onto the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 the stack to obtain the final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483160" y="1736640"/>
            <a:ext cx="35560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Postfix Evaluation Algorithm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fter 1 loop iteration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8520" y="1660680"/>
            <a:ext cx="5208480" cy="33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 when no more Items left in the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Item from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tem is a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 last two values from the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the operation with the two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 the result onto the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 Item onto the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 the stack to obtain the final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857920" y="1736640"/>
            <a:ext cx="3190680" cy="20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Postfix Evaluation Algorithm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fter 2 loop iteration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8520" y="1660680"/>
            <a:ext cx="5208480" cy="33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 when no more Items left in the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Item from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tem is a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 last two values from the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the operation with the two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 the result onto the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 Item onto the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 the stack to obtain the final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242040" y="1736640"/>
            <a:ext cx="28065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Postfix Evaluation Algorithm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fter 3 loop iteration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8520" y="1660680"/>
            <a:ext cx="5208480" cy="33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 when no more Items left in the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Item from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tem is a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 last two values from the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the operation with the two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 the result onto the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 Item onto the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 the stack to obtain the final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645240" y="1736640"/>
            <a:ext cx="240336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Postfix Evaluation Algorithm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fter 5 loop iteration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8520" y="1660680"/>
            <a:ext cx="5208480" cy="33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 when no more Items left in the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Item from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tem is a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 last two values from the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the operation with the two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 the result onto the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 Item onto the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 the stack to obtain the final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7431120" y="1736640"/>
            <a:ext cx="161748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Postfix Evaluation Algorithm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fter 6 loop iteration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8520" y="1660680"/>
            <a:ext cx="5208480" cy="33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 when no more Items left in the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Item from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tem is a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 last two values from the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the operation with the two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 the result onto the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 Item onto the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 the stack to obtain the final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805880" y="1736640"/>
            <a:ext cx="12380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Stacks of Coins and Bill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148360" y="2887560"/>
          <a:ext cx="2408040" cy="228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48360" y="2887560"/>
                    <a:ext cx="2408040" cy="22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"/>
          <p:cNvGrpSpPr/>
          <p:nvPr/>
        </p:nvGrpSpPr>
        <p:grpSpPr>
          <a:xfrm>
            <a:off x="1698480" y="2395440"/>
            <a:ext cx="3287880" cy="2695680"/>
            <a:chOff x="1698480" y="2395440"/>
            <a:chExt cx="3287880" cy="2695680"/>
          </a:xfrm>
        </p:grpSpPr>
        <p:graphicFrame>
          <p:nvGraphicFramePr>
            <p:cNvPr id="88" name=""/>
            <p:cNvGraphicFramePr/>
            <p:nvPr/>
          </p:nvGraphicFramePr>
          <p:xfrm>
            <a:off x="2978280" y="2395440"/>
            <a:ext cx="2008080" cy="19195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978280" y="2395440"/>
                      <a:ext cx="2008080" cy="191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0" name=""/>
            <p:cNvGraphicFramePr/>
            <p:nvPr/>
          </p:nvGraphicFramePr>
          <p:xfrm>
            <a:off x="1698480" y="3483000"/>
            <a:ext cx="2008440" cy="1608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698480" y="3483000"/>
                      <a:ext cx="2008440" cy="160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Postfix Evaluation Algorithm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fter 7 loop iteration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28520" y="1660680"/>
            <a:ext cx="5208480" cy="33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 when no more Items left in the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Item from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tem is a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 last two values from the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the operation with the two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 the result onto the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 Item onto the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 the stack to obtain the final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8381880" y="1736640"/>
            <a:ext cx="665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Postfix Evaluation Algorithm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fter exiting the loop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8520" y="1660680"/>
            <a:ext cx="5208480" cy="33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 when no more Items left in the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Item from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tem is a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 last two values from the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the operation with the two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 the result onto the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 Item onto the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 the stack to obtain the final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630840" y="1736640"/>
            <a:ext cx="1865520" cy="20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rray Implementation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460520"/>
            <a:ext cx="677880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Stack_Array is array (Positive range &lt;&gt;) of Element_Typ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Stack_Type (Max_Size : Natural) is tagged limi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     : Natural :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s : Stack_Array (1..Max_Siz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recor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Stac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940360" y="2457360"/>
            <a:ext cx="3108240" cy="43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Push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82520" y="1644480"/>
            <a:ext cx="8597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 Push (Stack               : in out Stack_Typ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_Element : in     Element_Type)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Full (Stack)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ck.Top := Stack.Top +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ck.Elements (Stack.Top) := New_Eleme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se OVERFLOW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Pus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The Effect of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Stack.Push(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  <a:ea typeface="Arial"/>
              </a:rPr>
              <a:t>'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L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  <a:ea typeface="Arial"/>
              </a:rPr>
              <a:t>'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);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6440" y="1552680"/>
            <a:ext cx="3943440" cy="47718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4295880" y="1552680"/>
            <a:ext cx="386712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Pop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2520" y="1644480"/>
            <a:ext cx="8597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 Pop (Stack                    : in out Stack_Typ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ped_Element :    out Element_Type)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Empty (Stack)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ped_Element := Stack.Elements (Stack.To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ck.Top := Stack.Top -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se UNDERFLOW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P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The Effect of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Stack.Pop(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  <a:ea typeface="Arial"/>
              </a:rPr>
              <a:t>Result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);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36440" y="1552680"/>
            <a:ext cx="3971880" cy="4762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295880" y="1552680"/>
            <a:ext cx="3943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Clear, Empty, and Full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520" y="16444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 Clear (Stack : in out Stack_Type)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ck.Top :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Clea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Empty (Stack : in Stack_Type) return Boolean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Stack.Top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Empt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Full (Stack : in Stack_Type) return Boolean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Stack.Top = Stack.Max_Siz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ul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Problem with Array Implementation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You must specify an upper bound on the size of each stack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If your estimate is too low, the stack will overflow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If your estimate is too high, you waste memory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Our second implementation solves this problem by using access types to obtain memory for stack elements as needed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Node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Node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   A record containing data and an access value that designates another node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87320" y="3400560"/>
            <a:ext cx="3198960" cy="21920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791240" y="3718080"/>
            <a:ext cx="369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Recall that access variables are frequently called </a:t>
            </a:r>
            <a:r>
              <a:rPr b="0" i="1" lang="en-US" sz="2400" spc="-1" strike="noStrike">
                <a:solidFill>
                  <a:srgbClr val="073c1e"/>
                </a:solidFill>
                <a:latin typeface="Arial"/>
              </a:rPr>
              <a:t>pointers</a:t>
            </a: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What is a Stack?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Stack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   A structure in which elements are added and removed from only one end; a "last in, first out" (LIFO) structure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The removal of existing elements and the addition of new elements can take place only at the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top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of the stack. 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Declaring a Node Type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1670040"/>
            <a:ext cx="8259840" cy="22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Node_Type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- Incomplete type decl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Node_Ptr is access Node_Type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- Refers to the incomplete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Node_Type 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- Full type decl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 : Element_Typ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: Node_Pt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recor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335480" y="3798720"/>
            <a:ext cx="319896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Linked Lists (1)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Linked List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  A collection of data where each item in the collection includes an access value that designates the next item in the collection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2346480" y="3828960"/>
            <a:ext cx="433368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Linked Lists (2)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External Pointer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   A pointer outside of a linked list that designates a node in that list.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Internal Pointer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  A pointer within a node that designates the next node in the linked list. 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38120" y="3848040"/>
            <a:ext cx="4334040" cy="23828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197320" y="4441680"/>
            <a:ext cx="317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3c1e"/>
                </a:solidFill>
                <a:latin typeface="Arial"/>
              </a:rPr>
              <a:t>Top</a:t>
            </a:r>
            <a:r>
              <a:rPr b="0" lang="en-US" sz="2000" spc="-1" strike="noStrike">
                <a:solidFill>
                  <a:srgbClr val="073c1e"/>
                </a:solidFill>
                <a:latin typeface="Arial"/>
              </a:rPr>
              <a:t> is an external</a:t>
            </a:r>
            <a:r>
              <a:rPr b="0" i="1" lang="en-US" sz="2000" spc="-1" strike="noStrike">
                <a:solidFill>
                  <a:srgbClr val="073c1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73c1e"/>
                </a:solidFill>
                <a:latin typeface="Arial"/>
              </a:rPr>
              <a:t>pointer, the other two arrows are internal poin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ccess to Record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7440" y="4378320"/>
          <a:ext cx="8697960" cy="2341440"/>
        </p:xfrm>
        <a:graphic>
          <a:graphicData uri="http://schemas.openxmlformats.org/drawingml/2006/table">
            <a:tbl>
              <a:tblPr/>
              <a:tblGrid>
                <a:gridCol w="2679840"/>
                <a:gridCol w="2695320"/>
                <a:gridCol w="3322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Expres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Dereferen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Value from picture abo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p.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ire reco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rst (top) node in the st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p.all.Inf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Info fie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'A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p.all.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Next fie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inter to second n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p.all.Next.all.Inf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Info field of the second n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'L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293760" y="1461960"/>
            <a:ext cx="51656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Unbounded Stack Specification (1)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0320" y="1531800"/>
            <a:ext cx="885636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Ada.Finalization;  </a:t>
            </a: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- Our stack class is a subclass of a controlled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Element_Type is private;  </a:t>
            </a: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- The stack elemen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age Unbounded_Stack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Stack_Type is new Ada.Finalization.Limited_Controlled with priva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FLOW : excep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FLOW    : excep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 Clear (Stack : in out Stack_Typ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Empty   (Stack : in Stack_Type) return Boolea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Full       (Stack : in Stack_Type) return Boolea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 Push (Stack               : in out Stack_Typ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_Element : in       Element_Typ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 Pop (Stack                      : in out Stack_Typ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ped_Element   :     out Element_Typ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- on next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Unbounded_Stac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Unbounded Stack Specification (2)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8760" y="1670040"/>
            <a:ext cx="885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Node_Type;           </a:t>
            </a: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- Incomplete type decl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Node_Ptr is access Node_Typ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Node_Type is        </a:t>
            </a: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- Complete type decl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 : Element_Typ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: Node_Pt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recor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Stack_Type is new Ada.Finalization.Limited_Controlled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: Node_Ptr;   </a:t>
            </a: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- Designates first node in the link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recor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riding procedure Finalize (Object : in out Stack_Type) renames Clea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Unbounded_Stac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Notes on Stack_Type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Stack_Type does not have a discriminant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No need to specify a maximum size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Stack_Type is a tagged type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Can extend Stack_Type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Can use object.operation syntax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Stack_Type is a subclass of Limited_Controlled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We make use of the Finalize operation to ensure that there are no memory leaks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We make Finalize a synonym of our Clear operation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Clear is called when a stack goes out of existence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Push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17520" y="1620720"/>
            <a:ext cx="8577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 Push (Stack               : in out Stack_Typ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_Element : in       Element_Type)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.Top := new Node_Type'(Info  =&gt; New_Eleme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=&gt; Stack.Top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STORAGE_ERROR =&gt;         </a:t>
            </a: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- Stack is full if no memory i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se OVERFLO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Pus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182520" y="4295880"/>
            <a:ext cx="4334040" cy="2382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4660920" y="4295880"/>
            <a:ext cx="4333680" cy="2382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20" name=""/>
          <p:cNvSpPr/>
          <p:nvPr/>
        </p:nvSpPr>
        <p:spPr>
          <a:xfrm>
            <a:off x="169920" y="4282920"/>
            <a:ext cx="84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56240" y="4286160"/>
            <a:ext cx="84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Pop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9680" y="1530360"/>
            <a:ext cx="8836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96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 Pop (Stack                    : in out Stack_Typ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96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ped_Element :     out Element_Type)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96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_Recycle : Node_Ptr;      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Designates a node for recyc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96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96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t Empty (Stack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96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ped_Element := Stack.Top.all.Info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Return the top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96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_Recycle     := Stack.Top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Unlink the to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96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.Top      := Stack.Top.all.Nex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     node of the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96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(To_Recycle)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Recycle the 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96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96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ise UNDERFLO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96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96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Po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Pop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90360" y="1598760"/>
            <a:ext cx="4388040" cy="3979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4660920" y="1598760"/>
            <a:ext cx="4387680" cy="3965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Stacks of Boxes and Book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023840" y="2722680"/>
            <a:ext cx="3044880" cy="2832120"/>
            <a:chOff x="1023840" y="2722680"/>
            <a:chExt cx="3044880" cy="2832120"/>
          </a:xfrm>
        </p:grpSpPr>
        <p:graphicFrame>
          <p:nvGraphicFramePr>
            <p:cNvPr id="96" name=""/>
            <p:cNvGraphicFramePr/>
            <p:nvPr/>
          </p:nvGraphicFramePr>
          <p:xfrm>
            <a:off x="1031760" y="4532400"/>
            <a:ext cx="3036960" cy="1022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031760" y="4532400"/>
                      <a:ext cx="3036960" cy="102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8" name=""/>
            <p:cNvGraphicFramePr/>
            <p:nvPr/>
          </p:nvGraphicFramePr>
          <p:xfrm>
            <a:off x="1023840" y="4038480"/>
            <a:ext cx="3022560" cy="9270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023840" y="4038480"/>
                      <a:ext cx="3022560" cy="92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" name=""/>
            <p:cNvGraphicFramePr/>
            <p:nvPr/>
          </p:nvGraphicFramePr>
          <p:xfrm>
            <a:off x="1341360" y="3206880"/>
            <a:ext cx="2182680" cy="11444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341360" y="3206880"/>
                      <a:ext cx="2182680" cy="1144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"/>
            <p:cNvSpPr/>
            <p:nvPr/>
          </p:nvSpPr>
          <p:spPr>
            <a:xfrm>
              <a:off x="1458720" y="3390840"/>
              <a:ext cx="1760760" cy="163440"/>
            </a:xfrm>
            <a:prstGeom prst="ellipse">
              <a:avLst/>
            </a:prstGeom>
            <a:solidFill>
              <a:srgbClr val="0000e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87440" y="2994120"/>
              <a:ext cx="1908000" cy="496800"/>
            </a:xfrm>
            <a:custGeom>
              <a:avLst/>
              <a:gdLst/>
              <a:ahLst/>
              <a:rect l="l" t="t" r="r" b="b"/>
              <a:pathLst>
                <a:path w="1202" h="313">
                  <a:moveTo>
                    <a:pt x="0" y="0"/>
                  </a:moveTo>
                  <a:lnTo>
                    <a:pt x="49" y="312"/>
                  </a:lnTo>
                  <a:lnTo>
                    <a:pt x="1147" y="312"/>
                  </a:lnTo>
                  <a:lnTo>
                    <a:pt x="1201" y="0"/>
                  </a:lnTo>
                  <a:lnTo>
                    <a:pt x="0" y="0"/>
                  </a:lnTo>
                </a:path>
              </a:pathLst>
            </a:custGeom>
            <a:solidFill>
              <a:srgbClr val="000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33440" y="2878200"/>
              <a:ext cx="1998720" cy="1411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1334880" y="2890800"/>
              <a:ext cx="93960" cy="57240"/>
              <a:chOff x="1334880" y="2890800"/>
              <a:chExt cx="93960" cy="57240"/>
            </a:xfrm>
          </p:grpSpPr>
          <p:sp>
            <p:nvSpPr>
              <p:cNvPr id="106" name=""/>
              <p:cNvSpPr/>
              <p:nvPr/>
            </p:nvSpPr>
            <p:spPr>
              <a:xfrm>
                <a:off x="1334880" y="2900160"/>
                <a:ext cx="93960" cy="47880"/>
              </a:xfrm>
              <a:custGeom>
                <a:avLst/>
                <a:gdLst/>
                <a:ahLst/>
                <a:rect l="l" t="t" r="r" b="b"/>
                <a:pathLst>
                  <a:path w="59" h="30">
                    <a:moveTo>
                      <a:pt x="58" y="29"/>
                    </a:moveTo>
                    <a:lnTo>
                      <a:pt x="58" y="0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58" y="29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38120" y="2890800"/>
                <a:ext cx="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3243240" y="2894040"/>
              <a:ext cx="90360" cy="58680"/>
              <a:chOff x="3243240" y="2894040"/>
              <a:chExt cx="90360" cy="58680"/>
            </a:xfrm>
          </p:grpSpPr>
          <p:sp>
            <p:nvSpPr>
              <p:cNvPr id="109" name=""/>
              <p:cNvSpPr/>
              <p:nvPr/>
            </p:nvSpPr>
            <p:spPr>
              <a:xfrm>
                <a:off x="3243240" y="2903400"/>
                <a:ext cx="90360" cy="49320"/>
              </a:xfrm>
              <a:custGeom>
                <a:avLst/>
                <a:gdLst/>
                <a:ahLst/>
                <a:rect l="l" t="t" r="r" b="b"/>
                <a:pathLst>
                  <a:path w="57" h="31">
                    <a:moveTo>
                      <a:pt x="0" y="30"/>
                    </a:moveTo>
                    <a:lnTo>
                      <a:pt x="0" y="0"/>
                    </a:lnTo>
                    <a:lnTo>
                      <a:pt x="56" y="0"/>
                    </a:lnTo>
                    <a:lnTo>
                      <a:pt x="56" y="3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333600" y="2894040"/>
                <a:ext cx="0" cy="5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1338120" y="2817720"/>
              <a:ext cx="2000520" cy="1414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46240" y="3022560"/>
              <a:ext cx="123840" cy="531720"/>
            </a:xfrm>
            <a:custGeom>
              <a:avLst/>
              <a:gdLst/>
              <a:ahLst/>
              <a:rect l="l" t="t" r="r" b="b"/>
              <a:pathLst>
                <a:path w="78" h="335">
                  <a:moveTo>
                    <a:pt x="0" y="0"/>
                  </a:moveTo>
                  <a:lnTo>
                    <a:pt x="0" y="331"/>
                  </a:lnTo>
                  <a:lnTo>
                    <a:pt x="76" y="334"/>
                  </a:lnTo>
                  <a:lnTo>
                    <a:pt x="77" y="1"/>
                  </a:lnTo>
                  <a:lnTo>
                    <a:pt x="0" y="0"/>
                  </a:lnTo>
                </a:path>
              </a:pathLst>
            </a:custGeom>
            <a:solidFill>
              <a:srgbClr val="e0e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22480" y="2954160"/>
              <a:ext cx="122040" cy="66960"/>
            </a:xfrm>
            <a:custGeom>
              <a:avLst/>
              <a:gdLst/>
              <a:ahLst/>
              <a:rect l="l" t="t" r="r" b="b"/>
              <a:pathLst>
                <a:path w="77" h="42">
                  <a:moveTo>
                    <a:pt x="76" y="3"/>
                  </a:moveTo>
                  <a:lnTo>
                    <a:pt x="76" y="4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76" y="3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20680" y="2820960"/>
              <a:ext cx="657360" cy="136440"/>
            </a:xfrm>
            <a:custGeom>
              <a:avLst/>
              <a:gdLst/>
              <a:ahLst/>
              <a:rect l="l" t="t" r="r" b="b"/>
              <a:pathLst>
                <a:path w="414" h="86">
                  <a:moveTo>
                    <a:pt x="81" y="85"/>
                  </a:moveTo>
                  <a:lnTo>
                    <a:pt x="413" y="1"/>
                  </a:lnTo>
                  <a:lnTo>
                    <a:pt x="356" y="0"/>
                  </a:lnTo>
                  <a:lnTo>
                    <a:pt x="0" y="85"/>
                  </a:lnTo>
                  <a:lnTo>
                    <a:pt x="81" y="8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1873080" y="2722680"/>
              <a:ext cx="973440" cy="172800"/>
              <a:chOff x="1873080" y="2722680"/>
              <a:chExt cx="973440" cy="172800"/>
            </a:xfrm>
          </p:grpSpPr>
          <p:sp>
            <p:nvSpPr>
              <p:cNvPr id="116" name=""/>
              <p:cNvSpPr/>
              <p:nvPr/>
            </p:nvSpPr>
            <p:spPr>
              <a:xfrm>
                <a:off x="2460600" y="2805120"/>
                <a:ext cx="385920" cy="90360"/>
              </a:xfrm>
              <a:custGeom>
                <a:avLst/>
                <a:gdLst/>
                <a:ahLst/>
                <a:rect l="l" t="t" r="r" b="b"/>
                <a:pathLst>
                  <a:path w="243" h="57">
                    <a:moveTo>
                      <a:pt x="37" y="1"/>
                    </a:moveTo>
                    <a:lnTo>
                      <a:pt x="15" y="10"/>
                    </a:lnTo>
                    <a:lnTo>
                      <a:pt x="7" y="23"/>
                    </a:lnTo>
                    <a:lnTo>
                      <a:pt x="0" y="31"/>
                    </a:lnTo>
                    <a:lnTo>
                      <a:pt x="0" y="40"/>
                    </a:lnTo>
                    <a:lnTo>
                      <a:pt x="93" y="52"/>
                    </a:lnTo>
                    <a:lnTo>
                      <a:pt x="131" y="56"/>
                    </a:lnTo>
                    <a:lnTo>
                      <a:pt x="174" y="56"/>
                    </a:lnTo>
                    <a:lnTo>
                      <a:pt x="211" y="51"/>
                    </a:lnTo>
                    <a:lnTo>
                      <a:pt x="232" y="39"/>
                    </a:lnTo>
                    <a:lnTo>
                      <a:pt x="242" y="29"/>
                    </a:lnTo>
                    <a:lnTo>
                      <a:pt x="236" y="0"/>
                    </a:lnTo>
                    <a:lnTo>
                      <a:pt x="37" y="1"/>
                    </a:lnTo>
                  </a:path>
                </a:pathLst>
              </a:custGeom>
              <a:solidFill>
                <a:srgbClr val="e0e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523960" y="2784600"/>
                <a:ext cx="303480" cy="45720"/>
              </a:xfrm>
              <a:custGeom>
                <a:avLst/>
                <a:gdLst/>
                <a:ahLst/>
                <a:rect l="l" t="t" r="r" b="b"/>
                <a:pathLst>
                  <a:path w="191" h="29">
                    <a:moveTo>
                      <a:pt x="0" y="16"/>
                    </a:moveTo>
                    <a:lnTo>
                      <a:pt x="61" y="24"/>
                    </a:lnTo>
                    <a:lnTo>
                      <a:pt x="111" y="28"/>
                    </a:lnTo>
                    <a:lnTo>
                      <a:pt x="175" y="24"/>
                    </a:lnTo>
                    <a:lnTo>
                      <a:pt x="190" y="16"/>
                    </a:lnTo>
                    <a:lnTo>
                      <a:pt x="189" y="6"/>
                    </a:lnTo>
                    <a:lnTo>
                      <a:pt x="158" y="1"/>
                    </a:lnTo>
                    <a:lnTo>
                      <a:pt x="116" y="0"/>
                    </a:lnTo>
                    <a:lnTo>
                      <a:pt x="56" y="3"/>
                    </a:lnTo>
                    <a:lnTo>
                      <a:pt x="7" y="7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73080" y="2722680"/>
                <a:ext cx="492120" cy="118800"/>
              </a:xfrm>
              <a:custGeom>
                <a:avLst/>
                <a:gdLst/>
                <a:ahLst/>
                <a:rect l="l" t="t" r="r" b="b"/>
                <a:pathLst>
                  <a:path w="310" h="75">
                    <a:moveTo>
                      <a:pt x="235" y="74"/>
                    </a:moveTo>
                    <a:lnTo>
                      <a:pt x="0" y="31"/>
                    </a:lnTo>
                    <a:lnTo>
                      <a:pt x="16" y="15"/>
                    </a:lnTo>
                    <a:lnTo>
                      <a:pt x="40" y="5"/>
                    </a:lnTo>
                    <a:lnTo>
                      <a:pt x="72" y="0"/>
                    </a:lnTo>
                    <a:lnTo>
                      <a:pt x="103" y="0"/>
                    </a:lnTo>
                    <a:lnTo>
                      <a:pt x="137" y="0"/>
                    </a:lnTo>
                    <a:lnTo>
                      <a:pt x="166" y="4"/>
                    </a:lnTo>
                    <a:lnTo>
                      <a:pt x="195" y="12"/>
                    </a:lnTo>
                    <a:lnTo>
                      <a:pt x="238" y="24"/>
                    </a:lnTo>
                    <a:lnTo>
                      <a:pt x="309" y="53"/>
                    </a:lnTo>
                    <a:lnTo>
                      <a:pt x="235" y="74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65480" y="2793960"/>
                <a:ext cx="274320" cy="90360"/>
              </a:xfrm>
              <a:custGeom>
                <a:avLst/>
                <a:gdLst/>
                <a:ahLst/>
                <a:rect l="l" t="t" r="r" b="b"/>
                <a:pathLst>
                  <a:path w="173" h="57">
                    <a:moveTo>
                      <a:pt x="43" y="53"/>
                    </a:moveTo>
                    <a:lnTo>
                      <a:pt x="0" y="33"/>
                    </a:lnTo>
                    <a:lnTo>
                      <a:pt x="0" y="24"/>
                    </a:lnTo>
                    <a:lnTo>
                      <a:pt x="10" y="8"/>
                    </a:lnTo>
                    <a:lnTo>
                      <a:pt x="35" y="0"/>
                    </a:lnTo>
                    <a:lnTo>
                      <a:pt x="172" y="1"/>
                    </a:lnTo>
                    <a:lnTo>
                      <a:pt x="143" y="17"/>
                    </a:lnTo>
                    <a:lnTo>
                      <a:pt x="123" y="33"/>
                    </a:lnTo>
                    <a:lnTo>
                      <a:pt x="130" y="48"/>
                    </a:lnTo>
                    <a:lnTo>
                      <a:pt x="107" y="56"/>
                    </a:lnTo>
                    <a:lnTo>
                      <a:pt x="43" y="53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876320" y="2752560"/>
                <a:ext cx="384120" cy="95400"/>
              </a:xfrm>
              <a:custGeom>
                <a:avLst/>
                <a:gdLst/>
                <a:ahLst/>
                <a:rect l="l" t="t" r="r" b="b"/>
                <a:pathLst>
                  <a:path w="242" h="60">
                    <a:moveTo>
                      <a:pt x="241" y="59"/>
                    </a:moveTo>
                    <a:lnTo>
                      <a:pt x="189" y="28"/>
                    </a:lnTo>
                    <a:lnTo>
                      <a:pt x="152" y="15"/>
                    </a:lnTo>
                    <a:lnTo>
                      <a:pt x="113" y="7"/>
                    </a:lnTo>
                    <a:lnTo>
                      <a:pt x="77" y="3"/>
                    </a:lnTo>
                    <a:lnTo>
                      <a:pt x="45" y="0"/>
                    </a:lnTo>
                    <a:lnTo>
                      <a:pt x="14" y="3"/>
                    </a:lnTo>
                    <a:lnTo>
                      <a:pt x="0" y="9"/>
                    </a:lnTo>
                    <a:lnTo>
                      <a:pt x="0" y="17"/>
                    </a:lnTo>
                    <a:lnTo>
                      <a:pt x="5" y="28"/>
                    </a:lnTo>
                    <a:lnTo>
                      <a:pt x="23" y="40"/>
                    </a:lnTo>
                    <a:lnTo>
                      <a:pt x="61" y="48"/>
                    </a:lnTo>
                    <a:lnTo>
                      <a:pt x="93" y="53"/>
                    </a:lnTo>
                    <a:lnTo>
                      <a:pt x="126" y="52"/>
                    </a:lnTo>
                    <a:lnTo>
                      <a:pt x="162" y="51"/>
                    </a:lnTo>
                    <a:lnTo>
                      <a:pt x="199" y="55"/>
                    </a:lnTo>
                    <a:lnTo>
                      <a:pt x="241" y="59"/>
                    </a:lnTo>
                  </a:path>
                </a:pathLst>
              </a:custGeom>
              <a:solidFill>
                <a:srgbClr val="a0a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395440" y="2793960"/>
                <a:ext cx="52560" cy="85680"/>
              </a:xfrm>
              <a:custGeom>
                <a:avLst/>
                <a:gdLst/>
                <a:ahLst/>
                <a:rect l="l" t="t" r="r" b="b"/>
                <a:pathLst>
                  <a:path w="33" h="54">
                    <a:moveTo>
                      <a:pt x="32" y="0"/>
                    </a:moveTo>
                    <a:lnTo>
                      <a:pt x="4" y="9"/>
                    </a:lnTo>
                    <a:lnTo>
                      <a:pt x="0" y="20"/>
                    </a:lnTo>
                    <a:lnTo>
                      <a:pt x="0" y="29"/>
                    </a:lnTo>
                    <a:lnTo>
                      <a:pt x="8" y="37"/>
                    </a:lnTo>
                    <a:lnTo>
                      <a:pt x="27" y="5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" name=""/>
          <p:cNvGrpSpPr/>
          <p:nvPr/>
        </p:nvGrpSpPr>
        <p:grpSpPr>
          <a:xfrm>
            <a:off x="5162400" y="2741760"/>
            <a:ext cx="3051360" cy="3009240"/>
            <a:chOff x="5162400" y="2741760"/>
            <a:chExt cx="3051360" cy="3009240"/>
          </a:xfrm>
        </p:grpSpPr>
        <p:graphicFrame>
          <p:nvGraphicFramePr>
            <p:cNvPr id="123" name=""/>
            <p:cNvGraphicFramePr/>
            <p:nvPr/>
          </p:nvGraphicFramePr>
          <p:xfrm>
            <a:off x="5162400" y="3903480"/>
            <a:ext cx="3051360" cy="18475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62400" y="3903480"/>
                      <a:ext cx="3051360" cy="184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5" name=""/>
            <p:cNvGraphicFramePr/>
            <p:nvPr/>
          </p:nvGraphicFramePr>
          <p:xfrm>
            <a:off x="5294160" y="3492360"/>
            <a:ext cx="2845080" cy="17190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26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294160" y="3492360"/>
                      <a:ext cx="2845080" cy="171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" name=""/>
            <p:cNvGraphicFramePr/>
            <p:nvPr/>
          </p:nvGraphicFramePr>
          <p:xfrm>
            <a:off x="5476680" y="3100320"/>
            <a:ext cx="2509920" cy="152064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28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476680" y="3100320"/>
                      <a:ext cx="2509920" cy="152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9" name=""/>
            <p:cNvGraphicFramePr/>
            <p:nvPr/>
          </p:nvGraphicFramePr>
          <p:xfrm>
            <a:off x="5603760" y="2741760"/>
            <a:ext cx="2225880" cy="134748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5603760" y="2741760"/>
                      <a:ext cx="2225880" cy="13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1" name=""/>
          <p:cNvSpPr/>
          <p:nvPr/>
        </p:nvSpPr>
        <p:spPr>
          <a:xfrm>
            <a:off x="986760" y="1976400"/>
            <a:ext cx="314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OP OF TH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292000" y="1976400"/>
            <a:ext cx="314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OP OF TH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Clear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7280" y="1928880"/>
            <a:ext cx="85075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1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 Clear (Stack : in out Stack_Type)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1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_Recycle : Node_Ptr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Designates a node for recyc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1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1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1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when Stack.Top = null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Exit when stack is 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1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_Recycle := Stack.Top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Unlink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1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.Top  := Stack.Top.all.Nex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   top 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1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(To_Recycle)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Recycle the 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1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1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Clea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Empty and Full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37960" y="1579680"/>
            <a:ext cx="8717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87280" y="1569960"/>
            <a:ext cx="83901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Empty (Stack : in Stack_Type) return Boolean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Stack.Top =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Empt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Full (Stack : in Stack_Type) return Boolean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Fals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F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44640" y="4640400"/>
            <a:ext cx="5783400" cy="1313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3c1e"/>
                </a:solidFill>
                <a:latin typeface="Arial"/>
              </a:rPr>
              <a:t>Full always returns False in this unbounded implementation.  Push still raises OVERFLOW should there not be enough unused memory available to create a new n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Extending the Stack Clas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8680" y="1758960"/>
            <a:ext cx="861696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2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2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e Stack.Extended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222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Extended_Stack_Type is new Stack_Type with null recor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222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Top (Stack : in Extended_Stack_Type) return Element_Typ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222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Purpose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: Return a copy of the top item on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22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Preconditions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: 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22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Postconditions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: Value returned is a copy of the top item on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22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Exceptions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: UNDERFLOW  Raised if the stack is emp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2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  Stack remains emp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2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2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Stack.Extende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Notes on the 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Extended Stack Clas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The extension of a generic class must also be a generic class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We have added one new operation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No new data (attributes) are needed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with null record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is used to indicate that there are no additional fields for the record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No private section is needed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Body of Extended Stack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68200" y="1779480"/>
            <a:ext cx="8547120" cy="33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e body Stack.Extended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Top (Stack : in Extended_Stack_Type) return Element_Type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tack.Top &gt; 0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(Stack.Elements(Stack.Top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ise UNDERFLO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To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Stack.Extende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Using the Extended Stack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8080" y="1630440"/>
            <a:ext cx="8667720" cy="48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Stack.Extend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 Stack_Extended_Tes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age My_Stack                  is new Stack (Element_Type =&gt; Intege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age My_Extended_Stack is new My_Stack.Extend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_Stack : My_Extended_Stack.Extended_Stack_Type (Max_Size =&gt; 8)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 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Count in 1..Short_Stack.Max_Size 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_Stack.Push(Coun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 when Short_Stack.Empt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= Short_Stack.To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_Stack.Pop(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Stack_Extended_Te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Which Implementation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is Best?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It depends!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What are the requirements of the application?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Some factors to consider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Memory needs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Programmer time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Execution time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Stack Space Requirement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7160" y="1798560"/>
            <a:ext cx="8823240" cy="32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ray Based Stack Storage = 2 × (storage needed for one integer)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_Size × (storage needed for one el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ed Stack Storage = storage needed for one pointer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ck size × (storage needed for one n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e Storage  = storage needed for one element  +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storage needed for one po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Stack Space Requirements Example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49120" y="1689120"/>
            <a:ext cx="31608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 is Charac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 Size is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byte per charac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bytes per po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3070080" y="2251080"/>
            <a:ext cx="569916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Programmer Time (complexity)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More complicated programs take more programmer time to create and maintain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There are many ways to measure the complexity of a program module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Halstead’s</a:t>
            </a: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 measures are based on the number of operands and operators in an algorithm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cCabe’s</a:t>
            </a: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 measures are based on the number of possible paths through an algorithm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Number of lines of code</a:t>
            </a: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 is a very simple approach to estimating complexity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Stack Operation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Transformers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c1e"/>
                </a:solidFill>
                <a:latin typeface="Arial"/>
              </a:rPr>
              <a:t>Push</a:t>
            </a: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 adds an element to the top of the stack 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c1e"/>
                </a:solidFill>
                <a:latin typeface="Arial"/>
              </a:rPr>
              <a:t>POP</a:t>
            </a: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 removes and returns the element on the top of the stack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c1e"/>
                </a:solidFill>
                <a:latin typeface="Arial"/>
              </a:rPr>
              <a:t>Clear</a:t>
            </a: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 makes the stack empty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Observers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c1e"/>
                </a:solidFill>
                <a:latin typeface="Arial"/>
              </a:rPr>
              <a:t>Empty</a:t>
            </a: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 returns True when there are no objects in the stack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c1e"/>
                </a:solidFill>
                <a:latin typeface="Arial"/>
              </a:rPr>
              <a:t>Full</a:t>
            </a: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 returns True when there is no room to push another object onto the stack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Stack Complexity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287280" y="1668600"/>
          <a:ext cx="8487000" cy="4697280"/>
        </p:xfrm>
        <a:graphic>
          <a:graphicData uri="http://schemas.openxmlformats.org/drawingml/2006/table">
            <a:tbl>
              <a:tblPr/>
              <a:tblGrid>
                <a:gridCol w="4097520"/>
                <a:gridCol w="2195280"/>
                <a:gridCol w="2194200"/>
              </a:tblGrid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ison of Lines of C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ray </a:t>
                      </a:r>
                      <a:r>
                        <a:rPr b="1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Implemen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nked </a:t>
                      </a:r>
                      <a:r>
                        <a:rPr b="1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Implemen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larations (Private Par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Pop           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0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3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Time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It is difficult to determine the amount of time an algorithm will take to execute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Some factors that affect the time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The computer hardware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The compiler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The characteristics of the data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Any experiments we run to compare different stack implementations depend on these factors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The results are only reliable when the same compiler is used and the programs are run on the same computer with the same data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Experiments do not tell us how the algorithms will compare on different computers or with different data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Stack Timing Experiment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38040" y="1590840"/>
            <a:ext cx="833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Data:  100,000 fixed-length strings containing 64 charac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359000" y="2401920"/>
          <a:ext cx="5879880" cy="3301920"/>
        </p:xfrm>
        <a:graphic>
          <a:graphicData uri="http://schemas.openxmlformats.org/drawingml/2006/table">
            <a:tbl>
              <a:tblPr/>
              <a:tblGrid>
                <a:gridCol w="1106280"/>
                <a:gridCol w="2274840"/>
                <a:gridCol w="2498760"/>
              </a:tblGrid>
              <a:tr h="9471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Time for Stack Operations (Millisecond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Array </a:t>
                      </a:r>
                      <a:r>
                        <a:rPr b="1" i="1" lang="en-US" sz="2400" spc="-1" strike="noStrike" u="sng">
                          <a:solidFill>
                            <a:srgbClr val="073c1e"/>
                          </a:solidFill>
                          <a:uFillTx/>
                          <a:latin typeface="Times New Roman"/>
                          <a:ea typeface="Times New Roman"/>
                        </a:rPr>
                        <a:t>Implemen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Linked </a:t>
                      </a:r>
                      <a:r>
                        <a:rPr b="1" i="1" lang="en-US" sz="2400" spc="-1" strike="noStrike" u="sng">
                          <a:solidFill>
                            <a:srgbClr val="073c1e"/>
                          </a:solidFill>
                          <a:uFillTx/>
                          <a:latin typeface="Times New Roman"/>
                          <a:ea typeface="Times New Roman"/>
                        </a:rPr>
                        <a:t>Implemen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Pu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5.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54.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P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4.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44.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Cl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0.00 </a:t>
                      </a:r>
                      <a:r>
                        <a:rPr b="0" lang="en-US" sz="2400" spc="-1" strike="noStrike" u="sng" baseline="60000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" action="ppaction://hlinksldjump"/>
                        </a:rPr>
                        <a:t>[1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43.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"/>
          <p:cNvSpPr/>
          <p:nvPr/>
        </p:nvSpPr>
        <p:spPr>
          <a:xfrm>
            <a:off x="2932200" y="408096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74720" y="6276240"/>
            <a:ext cx="31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 baseline="20000">
                <a:solidFill>
                  <a:srgbClr val="009999"/>
                </a:solidFill>
                <a:uFillTx/>
                <a:latin typeface="Arial"/>
                <a:ea typeface="Times New Roman"/>
                <a:hlinkClick r:id="rId3" action="ppaction://hlinksldjump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73c1e"/>
                </a:solidFill>
                <a:latin typeface="Arial"/>
                <a:ea typeface="Times New Roman"/>
              </a:rPr>
              <a:t>Too small to mea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Order of Magnitude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Big-O Notation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   A notation that expresses computing time as a term in a function that increases most rapidly relative to the size of a problem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A hardware independent measurement useful in comparing algorithms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Common Orders of Magnitude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784080" y="1709640"/>
          <a:ext cx="7562880" cy="4525920"/>
        </p:xfrm>
        <a:graphic>
          <a:graphicData uri="http://schemas.openxmlformats.org/drawingml/2006/table">
            <a:tbl>
              <a:tblPr/>
              <a:tblGrid>
                <a:gridCol w="2347200"/>
                <a:gridCol w="5215680"/>
              </a:tblGrid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Arial"/>
                        </a:rPr>
                        <a:t>O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Arial"/>
                        </a:rPr>
                        <a:t>Bounded (by a constant) 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Arial"/>
                        </a:rPr>
                        <a:t>O(log</a:t>
                      </a:r>
                      <a:r>
                        <a:rPr b="1" lang="en-US" sz="2800" spc="-1" strike="noStrike" baseline="-25000">
                          <a:solidFill>
                            <a:srgbClr val="073c1e"/>
                          </a:solidFill>
                          <a:latin typeface="Arial"/>
                        </a:rPr>
                        <a:t>2</a:t>
                      </a:r>
                      <a:r>
                        <a:rPr b="1" i="1" lang="en-US" sz="2800" spc="-1" strike="noStrike">
                          <a:solidFill>
                            <a:srgbClr val="073c1e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Arial"/>
                        </a:rPr>
                        <a:t>Logarithmic 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Arial"/>
                        </a:rPr>
                        <a:t>O(</a:t>
                      </a:r>
                      <a:r>
                        <a:rPr b="1" i="1" lang="en-US" sz="2800" spc="-1" strike="noStrike">
                          <a:solidFill>
                            <a:srgbClr val="073c1e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Arial"/>
                        </a:rPr>
                        <a:t>Linear 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73c1e"/>
                          </a:solidFill>
                          <a:latin typeface="Arial"/>
                        </a:rPr>
                        <a:t>O(N</a:t>
                      </a: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Arial"/>
                        </a:rPr>
                        <a:t> log</a:t>
                      </a:r>
                      <a:r>
                        <a:rPr b="1" lang="en-US" sz="2800" spc="-1" strike="noStrike" baseline="-25000">
                          <a:solidFill>
                            <a:srgbClr val="073c1e"/>
                          </a:solidFill>
                          <a:latin typeface="Arial"/>
                        </a:rPr>
                        <a:t>2</a:t>
                      </a:r>
                      <a:r>
                        <a:rPr b="1" i="1" lang="en-US" sz="2800" spc="-1" strike="noStrike">
                          <a:solidFill>
                            <a:srgbClr val="073c1e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73c1e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Arial"/>
                        </a:rPr>
                        <a:t> log</a:t>
                      </a:r>
                      <a:r>
                        <a:rPr b="1" lang="en-US" sz="2800" spc="-1" strike="noStrike" baseline="-25000">
                          <a:solidFill>
                            <a:srgbClr val="073c1e"/>
                          </a:solidFill>
                          <a:latin typeface="Arial"/>
                        </a:rPr>
                        <a:t>2</a:t>
                      </a:r>
                      <a:r>
                        <a:rPr b="1" i="1" lang="en-US" sz="2800" spc="-1" strike="noStrike">
                          <a:solidFill>
                            <a:srgbClr val="073c1e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Arial"/>
                        </a:rPr>
                        <a:t> 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Arial"/>
                        </a:rPr>
                        <a:t>O(</a:t>
                      </a:r>
                      <a:r>
                        <a:rPr b="1" i="1" lang="en-US" sz="2800" spc="-1" strike="noStrike">
                          <a:solidFill>
                            <a:srgbClr val="073c1e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2800" spc="-1" strike="noStrike" baseline="30000">
                          <a:solidFill>
                            <a:srgbClr val="073c1e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Arial"/>
                        </a:rPr>
                        <a:t>Quadratic 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Arial"/>
                        </a:rPr>
                        <a:t>O(2</a:t>
                      </a:r>
                      <a:r>
                        <a:rPr b="1" i="1" lang="en-US" sz="2800" spc="-1" strike="noStrike" baseline="30000">
                          <a:solidFill>
                            <a:srgbClr val="073c1e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Arial"/>
                        </a:rPr>
                        <a:t>Exponential 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Comparison of Growth Rate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0" y="1600200"/>
          <a:ext cx="9144000" cy="4309920"/>
        </p:xfrm>
        <a:graphic>
          <a:graphicData uri="http://schemas.openxmlformats.org/drawingml/2006/table">
            <a:tbl>
              <a:tblPr/>
              <a:tblGrid>
                <a:gridCol w="685800"/>
                <a:gridCol w="934920"/>
                <a:gridCol w="249480"/>
                <a:gridCol w="1052280"/>
                <a:gridCol w="344520"/>
                <a:gridCol w="1235160"/>
                <a:gridCol w="464184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log</a:t>
                      </a:r>
                      <a:r>
                        <a:rPr b="1" lang="en-US" sz="2800" spc="-1" strike="noStrike" baseline="-30000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 log</a:t>
                      </a:r>
                      <a:r>
                        <a:rPr b="1" lang="en-US" sz="2800" spc="-1" strike="noStrike" baseline="-30000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800" spc="-1" strike="noStrike" baseline="30000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en-US" sz="2800" spc="-1" strike="noStrike" baseline="30000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73c1e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73c1e"/>
                          </a:solidFill>
                          <a:latin typeface="Courier New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73c1e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73c1e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73c1e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73c1e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73c1e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73c1e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73c1e"/>
                          </a:solidFill>
                          <a:latin typeface="Courier Ne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73c1e"/>
                          </a:solidFill>
                          <a:latin typeface="Courier Ne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73c1e"/>
                          </a:solidFill>
                          <a:latin typeface="Courier Ne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73c1e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73c1e"/>
                          </a:solidFill>
                          <a:latin typeface="Courier Ne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73c1e"/>
                          </a:solidFill>
                          <a:latin typeface="Courier New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73c1e"/>
                          </a:solidFill>
                          <a:latin typeface="Courier New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73c1e"/>
                          </a:solidFill>
                          <a:latin typeface="Courier Ne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73c1e"/>
                          </a:solidFill>
                          <a:latin typeface="Courier Ne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73c1e"/>
                          </a:solidFill>
                          <a:latin typeface="Courier New"/>
                          <a:ea typeface="Times New Roman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73c1e"/>
                          </a:solidFill>
                          <a:latin typeface="Courier New"/>
                          <a:ea typeface="Times New Roman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73c1e"/>
                          </a:solidFill>
                          <a:latin typeface="Courier New"/>
                          <a:ea typeface="Times New Roman"/>
                        </a:rPr>
                        <a:t>2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73c1e"/>
                          </a:solidFill>
                          <a:latin typeface="Courier New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73c1e"/>
                          </a:solidFill>
                          <a:latin typeface="Courier Ne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73c1e"/>
                          </a:solidFill>
                          <a:latin typeface="Courier New"/>
                          <a:ea typeface="Times New Roman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73c1e"/>
                          </a:solidFill>
                          <a:latin typeface="Courier New"/>
                          <a:ea typeface="Times New Roman"/>
                        </a:rPr>
                        <a:t>2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73c1e"/>
                          </a:solidFill>
                          <a:latin typeface="Courier New"/>
                          <a:ea typeface="Times New Roman"/>
                        </a:rPr>
                        <a:t>65,5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73c1e"/>
                          </a:solidFill>
                          <a:latin typeface="Courier New"/>
                          <a:ea typeface="Times New Roman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73c1e"/>
                          </a:solidFill>
                          <a:latin typeface="Courier Ne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73c1e"/>
                          </a:solidFill>
                          <a:latin typeface="Courier New"/>
                          <a:ea typeface="Times New Roman"/>
                        </a:rPr>
                        <a:t>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73c1e"/>
                          </a:solidFill>
                          <a:latin typeface="Courier New"/>
                          <a:ea typeface="Times New Roman"/>
                        </a:rPr>
                        <a:t>1,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73c1e"/>
                          </a:solidFill>
                          <a:latin typeface="Courier New"/>
                          <a:ea typeface="Times New Roman"/>
                        </a:rPr>
                        <a:t>4,294,697,2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73c1e"/>
                          </a:solidFill>
                          <a:latin typeface="Courier New"/>
                          <a:ea typeface="Times New Roman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73c1e"/>
                          </a:solidFill>
                          <a:latin typeface="Courier Ne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73c1e"/>
                          </a:solidFill>
                          <a:latin typeface="Courier New"/>
                          <a:ea typeface="Times New Roman"/>
                        </a:rPr>
                        <a:t>3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73c1e"/>
                          </a:solidFill>
                          <a:latin typeface="Courier New"/>
                          <a:ea typeface="Times New Roman"/>
                        </a:rPr>
                        <a:t>4,0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8120" indent="-1681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73c1e"/>
                          </a:solidFill>
                          <a:latin typeface="Courier New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073c1e"/>
                          </a:solidFill>
                          <a:latin typeface="Courier New"/>
                          <a:ea typeface="Times New Roman"/>
                        </a:rPr>
                        <a:t>18,446,744,073,709,551,6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73c1e"/>
                          </a:solidFill>
                          <a:latin typeface="Courier New"/>
                          <a:ea typeface="Times New Roman"/>
                        </a:rPr>
                        <a:t>1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73c1e"/>
                          </a:solidFill>
                          <a:latin typeface="Courier Ne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73c1e"/>
                          </a:solidFill>
                          <a:latin typeface="Courier New"/>
                          <a:ea typeface="Times New Roman"/>
                        </a:rPr>
                        <a:t>8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73c1e"/>
                          </a:solidFill>
                          <a:latin typeface="Courier New"/>
                          <a:ea typeface="Times New Roman"/>
                        </a:rPr>
                        <a:t>16,3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8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73c1e"/>
                          </a:solidFill>
                          <a:latin typeface="Courier New"/>
                          <a:ea typeface="Times New Roman"/>
                        </a:rPr>
                        <a:t>340,282,366,920,938,463,463,374,607,431,768,211,4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Big-O Comparison of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Stack Operation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457200" y="2046240"/>
          <a:ext cx="8229600" cy="4037040"/>
        </p:xfrm>
        <a:graphic>
          <a:graphicData uri="http://schemas.openxmlformats.org/drawingml/2006/table">
            <a:tbl>
              <a:tblPr/>
              <a:tblGrid>
                <a:gridCol w="1511280"/>
                <a:gridCol w="3298680"/>
                <a:gridCol w="3419640"/>
              </a:tblGrid>
              <a:tr h="12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Array </a:t>
                      </a:r>
                      <a:r>
                        <a:rPr b="1" i="1" lang="en-US" sz="2800" spc="-1" strike="noStrike" u="sng">
                          <a:solidFill>
                            <a:srgbClr val="073c1e"/>
                          </a:solidFill>
                          <a:uFillTx/>
                          <a:latin typeface="Times New Roman"/>
                          <a:ea typeface="Times New Roman"/>
                        </a:rPr>
                        <a:t>Implemen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Linked </a:t>
                      </a:r>
                      <a:r>
                        <a:rPr b="1" i="1" lang="en-US" sz="2800" spc="-1" strike="noStrike" u="sng">
                          <a:solidFill>
                            <a:srgbClr val="073c1e"/>
                          </a:solidFill>
                          <a:uFillTx/>
                          <a:latin typeface="Times New Roman"/>
                          <a:ea typeface="Times New Roman"/>
                        </a:rPr>
                        <a:t>Implemen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0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Cl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O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O(</a:t>
                      </a:r>
                      <a:r>
                        <a:rPr b="1" i="1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Emp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O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O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9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Fu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O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O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Pu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O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O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P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O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3c1e"/>
                          </a:solidFill>
                          <a:latin typeface="Times New Roman"/>
                          <a:ea typeface="Times New Roman"/>
                        </a:rPr>
                        <a:t>O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Effects of Push and Pop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355760" y="1469880"/>
            <a:ext cx="395928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Stack Exception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17600" y="209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UNDERFLOW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  is raised on an attempt to pop an item from an empty stack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OVERFLOW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   is raised on an attempt to push an item onto a full stack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UML Class Diagram for Stack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44440" y="2602080"/>
            <a:ext cx="851868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UML Class Diagram for Stack (alternate style)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52600" y="1914480"/>
            <a:ext cx="4968720" cy="33116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952960" y="3139920"/>
            <a:ext cx="254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Does not show which operations raise a particular 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9:53:55Z</dcterms:created>
  <dc:creator>John McCormick</dc:creator>
  <dc:description/>
  <dc:language>en-US</dc:language>
  <cp:lastModifiedBy>John McCormick</cp:lastModifiedBy>
  <dcterms:modified xsi:type="dcterms:W3CDTF">2006-08-13T17:40:33Z</dcterms:modified>
  <cp:revision>127</cp:revision>
  <dc:subject/>
  <dc:title>Chapter 1</dc:title>
</cp:coreProperties>
</file>