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207-34D7-4730-9744-4D7159EE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645-F91B-420E-A9A0-C8EE363A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837-DF1D-42EB-8ADA-BCF2A071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A43-E784-488C-8134-7506DB5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594-16FA-4567-8B14-61E7A48D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269C-DB0A-40DC-93B6-48FFCDB3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C46-651B-4716-8185-DF9FD637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79D-9E8E-463B-A247-062A88C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F3F-B542-4874-B6BD-A3DFA9B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9195-19FE-4A03-A58F-D21983A1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9AA7-2B45-4EC3-AE39-E2A2390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72C-534F-48EF-A575-45C9D00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A1A0-7A07-43BD-AEB6-0F3C56A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AAFD-5949-4A40-A1A0-F072A74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B1B-5446-4F25-A339-61197F0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769F-635E-44F3-93D0-2F5407DB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8A73-DB3A-4E19-952C-A579CAFC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6C8-6E07-4A52-BA13-12815D6D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A31-D600-4D1E-937F-5E80246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FED-6979-4147-B058-7A63E221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5530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C98-A600-48AC-BE0B-310E57A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474-34AE-47D3-86EC-3BCD96E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4A9-C210-42F6-B7AB-295BC68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718-DA68-4197-91A8-7D33763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3c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A52-0165-4619-ACC2-6FE18E62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lick to edit the title text format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FDC-41E1-4D0A-953F-AE5579E9C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Click to edit the outline text format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3c1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3c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c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73c1e"/>
                </a:solidFill>
                <a:latin typeface="Arial Black"/>
              </a:rPr>
              <a:t>Chapter 4</a:t>
            </a:r>
            <a:endParaRPr b="1" i="1" lang="en-US" sz="6000" spc="-1" strike="noStrike">
              <a:solidFill>
                <a:srgbClr val="073c1e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c1e"/>
                </a:solidFill>
                <a:latin typeface="Arial Black"/>
              </a:rPr>
              <a:t>Strings</a:t>
            </a:r>
            <a:endParaRPr b="0" lang="en-US" sz="4800" spc="-1" strike="noStrike">
              <a:solidFill>
                <a:srgbClr val="073c1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.Strings.Unbounde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7480" y="1487520"/>
            <a:ext cx="8251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Length is limited by memory constraint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Operations equivalent to those in Ada.Strings.Bound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7600" y="3730680"/>
            <a:ext cx="851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a.Strings.Unbounded.Unbounded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_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a.Strings.Unbounded.Unbounded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_Name := To_Unbounded_String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Mo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perations in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.Strings.Unbounde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4960" y="1600200"/>
            <a:ext cx="86918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version, Concatenation, and Selec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o_String, To_Bounded_String, Append, &amp;, Slice, Bounded_Slice, Replace_Element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=, &lt;,  &gt;, &lt;=, &gt;=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dex, Index_Non_Blank, Count, Find_Token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sert, Replace_Slice, Overwrite, Delet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le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rim, Head, Tai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stru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*, Replicat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put and Output of String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Fixed-Length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Use operations in package Ada.Text_IO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Bounded-Length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vert to/from fixed length and use the operations in package Ada.Text_IO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nbounded-Length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Use operations in package Ada.Text_IO.Unbounded_IO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ing Bounded-Length String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se a record to stor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urrent length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haract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760" y="3456000"/>
            <a:ext cx="87343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ing Bounded-Length String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680" y="1434960"/>
            <a:ext cx="881532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: Positive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Maximum length of a Bounded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Generic_Bounded_Length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_Length : constant Positive := M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Length_Range is Natural range 0..Max_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ounded_String    is priv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_Bounded_String : constant Bounded_String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All of the bounded-length string operation declarations g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Index_Range  is Length_Range range 1..Max_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ype String_Array is String (Index_Ran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Bounded_Str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: Length_Range := 0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The number of characte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  : String_Array;            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 - The characters in th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_Bounded_String : constant Bounded_String := (0, (others =&gt; ' '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Generic_Bounded_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ing Bounded-Length Strings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680" y="1446120"/>
            <a:ext cx="85676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Length (Source : in Bounded_String) return Natur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ource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_String (Source : in Bounded_String) return Str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ource.Data(1..Source.Lengt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"&lt;" (Left   : in Bounded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Bounded_String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 Left.Data(1..Left.Length) &lt; Right.Data(1..Right.Lengt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"&l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tails of Comparing Bounded-Length String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30200" y="1938240"/>
            <a:ext cx="82123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75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Elaboration   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run-time processing of a declaration.  Allocation of memory space for variables and initialization of variables are two common elaboration activities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ynamic Allocation    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Creation of storage space in memory for a variable during run tim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ccess Type Variabl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   A variable that provides access to an object of a designated type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Dereferencing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   The process of accessing the data in an object designated by an access variable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Null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   An access value literal that designates no object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ccess Typ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0360" y="2181240"/>
            <a:ext cx="8282160" cy="2597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1800" y="4954680"/>
            <a:ext cx="844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n access type variable and its referenc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ccess variables are frequently call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inters 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ecause they “point”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Examples of an Access Typ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080" y="1828800"/>
            <a:ext cx="86137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teger_Ptr is access Integer;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n acces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 Integer_Ptr;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The value of each of these variables provid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: Integer_Ptr;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ccess to a memory location containing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Integer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- -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 An ordinary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2520" y="3552840"/>
            <a:ext cx="1287360" cy="190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76680" y="417672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initial value of all access variables is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ring Definition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Length    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The number of characters in a string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Fixed-Length Str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string that contains a fixed (constant) number of charact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Varying-Length Str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string in which the number of characters can change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emory Alloc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llocator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n operation that creates space for an object during the execution of a program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1800" y="2709720"/>
            <a:ext cx="783432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type_ind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lified_ex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_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_mark'(express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_mark'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new Integer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llocate space for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73280"/>
                <a:tab algn="l" pos="2968560"/>
                <a:tab algn="l" pos="5950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:= new Integer'(17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llocate space and assign a value of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90800" y="5167440"/>
            <a:ext cx="432252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referencing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670040"/>
            <a:ext cx="87487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(Item =&gt; B.a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(Item =&gt; A.a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= A.all + B.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22280" y="3440160"/>
            <a:ext cx="4587840" cy="231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6400" y="348768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user entere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ereferencing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2960" y="4788000"/>
            <a:ext cx="4844880" cy="1552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12960" y="1627200"/>
            <a:ext cx="4989240" cy="1609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25560" y="37465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all := B.a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97560" y="2131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97560" y="5194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ssignment of Access Value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5560" y="37465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: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97560" y="2131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97560" y="5194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12960" y="4572000"/>
            <a:ext cx="4698720" cy="155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12960" y="1706400"/>
            <a:ext cx="4844880" cy="1552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02480" y="4210200"/>
            <a:ext cx="270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object is no longer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checked Deallocation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generic procedure used to recycle the dynamically allocated memory of objects that are no longer need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6160" y="3228840"/>
            <a:ext cx="899784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- - Declaration from the Ada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bject(&lt;&gt;) is limited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ame       is access  Ob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Ada.Unchecked_Deallocation (X : in out 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Example of instantiation (using types from previous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ree is new Ada.Unchecked_Deallocation (Object =&gt; Inte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 =&gt; Integer_P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Examples of use (using variables from previous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X =&gt; A)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Call using named parameter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B);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Call using positional parameter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Results of a Call to Fre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12960" y="1627200"/>
            <a:ext cx="4989240" cy="1609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25560" y="37465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7560" y="2131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97560" y="5194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c1e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12960" y="4560840"/>
            <a:ext cx="4914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ccess to Constrained Array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2240" y="1671480"/>
            <a:ext cx="875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ype Name_String is String (1..20)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 constrained array sub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Name_Ptr is access Name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   : Name_Ptr;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These thre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: Name_Ptr;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designate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    : Name_Ptr;   --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of characters (str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3320" y="3782880"/>
            <a:ext cx="18828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ccess to Constrained Array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240" y="1671480"/>
            <a:ext cx="875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Name_String;                              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No initi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Name_String'(1..20 =&gt; 'A');                 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n array 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Name_String'("This string has 20 c");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A string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9800" y="3216240"/>
            <a:ext cx="840132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ccess to Constrained Arrays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8640" y="1579680"/>
            <a:ext cx="8401320" cy="2558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4390920"/>
            <a:ext cx="84772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Text_IO.Put (Item =&gt; Last.all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entire 20 characte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Text_IO.Put (Item =&gt; Last.all(1..4)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 four character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Text_IO.Put (Item =&gt; Last.all(1)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The first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.all(1..5) := "Hello"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place the first 5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84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.all(6)    := 'B'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Replace the 6th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Simpl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bounded-Length String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Based on access types that designate unconstrained arrays of character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105000"/>
            <a:ext cx="8319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Unbounded_String_Type is access Str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tring Definition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Bounded-Length Str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varying-length string with a fixed maximum number of characters.  A bounded-length string has a current length and a maximum length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Unbounded-Length String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varying-length string with no bound on the number of characters.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 Simpl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Unbounded-Length String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4200" y="1693800"/>
            <a:ext cx="866952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String(1..20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tring of 20 characters, no initi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String'("Hello"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tring of 5 characters with initi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String'(1..10 =&gt; 'J'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tring of 10 J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new String'(X.all &amp; ' ' &amp; "Mildred");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String containing "Hello Mildre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63400" y="3416400"/>
            <a:ext cx="77281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Operation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1603440"/>
            <a:ext cx="89852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Length (Source : in Unbounded_String_Type) return Natura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ource.all'Length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Return length of designated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o_String (Source : in Unbounded_String_Type) return Str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ource.all; 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Return designated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_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"&amp;" (Left  : in Unbounded_String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: in String)                               return Unbounded_String_Typ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Catenate an unbounded-length and a fixed-length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: Unbounded_String_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:= new String'(Left.all &amp; R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"&amp;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Assignment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7760" y="1762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:= 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Attempt to assign a COPY of string X to string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             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results in creating an alias rather than a copy </a:t>
            </a:r>
            <a:br>
              <a:rPr sz="2400"/>
            </a:b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                -- and a memory l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6440" y="3330720"/>
            <a:ext cx="7950240" cy="1493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54600" y="4991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One of several access variables that designate the sam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Assignment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1798560"/>
            <a:ext cx="866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(W);            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--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Correct technique for assigning a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:= new String’(X.all)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- copy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string X to string W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4440" y="3578400"/>
            <a:ext cx="8253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Catenation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6880" y="17384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:= X &amp; " Horace";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 - Using only a call to function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- - results in memory l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9280" y="3473280"/>
            <a:ext cx="8034480" cy="2683440"/>
            <a:chOff x="449280" y="3473280"/>
            <a:chExt cx="8034480" cy="2683440"/>
          </a:xfrm>
        </p:grpSpPr>
        <p:grpSp>
          <p:nvGrpSpPr>
            <p:cNvPr id="184" name=""/>
            <p:cNvGrpSpPr/>
            <p:nvPr/>
          </p:nvGrpSpPr>
          <p:grpSpPr>
            <a:xfrm>
              <a:off x="449280" y="3473280"/>
              <a:ext cx="2952720" cy="581040"/>
              <a:chOff x="449280" y="3473280"/>
              <a:chExt cx="2952720" cy="58104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473280"/>
                <a:ext cx="959040" cy="5810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280" y="3579840"/>
                <a:ext cx="3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46360" y="3473280"/>
                <a:ext cx="755640" cy="5810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3716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Hel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74760" y="3759120"/>
                <a:ext cx="134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oval" w="med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570560" y="3473280"/>
              <a:ext cx="3913200" cy="1678320"/>
              <a:chOff x="4570560" y="3473280"/>
              <a:chExt cx="3913200" cy="1678320"/>
            </a:xfrm>
          </p:grpSpPr>
          <p:sp>
            <p:nvSpPr>
              <p:cNvPr id="190" name=""/>
              <p:cNvSpPr/>
              <p:nvPr/>
            </p:nvSpPr>
            <p:spPr>
              <a:xfrm>
                <a:off x="4948560" y="3473280"/>
                <a:ext cx="958680" cy="5810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70560" y="3579840"/>
                <a:ext cx="35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67640" y="3473280"/>
                <a:ext cx="755640" cy="5810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3716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Hel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96040" y="3759120"/>
                <a:ext cx="1319400" cy="1049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oval" w="med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67640" y="4570560"/>
                <a:ext cx="1716120" cy="5810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3716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Hello Hor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644480" y="5757840"/>
              <a:ext cx="11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73c1e"/>
                  </a:solidFill>
                  <a:latin typeface="Arial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50000" y="5757840"/>
              <a:ext cx="11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c1e"/>
                  </a:solidFill>
                  <a:latin typeface="Arial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Catenation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3680" y="4813200"/>
            <a:ext cx="5170320" cy="202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ly appending “ Horace” to X using the intermediate string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Free (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W :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 X := X &amp; " Horace";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-- call function 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"</a:t>
            </a:r>
            <a:r>
              <a:rPr b="0" i="1" lang="en-US" sz="1800" spc="-1" strike="noStrike">
                <a:solidFill>
                  <a:srgbClr val="00cc00"/>
                </a:solidFill>
                <a:latin typeface="Arial"/>
              </a:rPr>
              <a:t>&amp;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 Free (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8760" y="1519200"/>
            <a:ext cx="64706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imple Unbounded-Length String Problem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431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s we have shown, this simple implementation provides two major opportunities for an application programmer to make mistakes that are difficult to debug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liases rather than copie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Memory leak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da’s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trolled types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provide a mechanism to eliminate these problems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ntrolled Type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440" y="2039400"/>
            <a:ext cx="779004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c1e"/>
                </a:solidFill>
                <a:latin typeface="Arial"/>
              </a:rPr>
              <a:t>Controlled Type</a:t>
            </a: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    A tagged type that provides the programmer with explicit control over initialization, assignment, and finalization of objects. 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ntrolled Type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040" y="1828800"/>
            <a:ext cx="852192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Ada.Finaliza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Controlled is abstract tagged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Initialize  (Object : in out Controlled) is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Adjust     (Object : in out Controlled) is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inalize   (Object : in out Controlled) is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Limited_Controlled is abstract tagged limited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Initialize (Object : in out Limited_Controlled) is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inalize  (Object : in out Limited_Controlled) is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not specified by the language (left to the compiler ven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Ada.Finaliz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erminolog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Abstract class    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 class that may have no direct instances.  You cannot create an object of an abstract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Tagged typ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type that may be extended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Private typ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type used to encapsulate the attributes (data) of a class.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Limited typ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A type for which the assignment operation is not allowed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c1e"/>
                </a:solidFill>
                <a:latin typeface="Arial"/>
              </a:rPr>
              <a:t>Null procedure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    A procedure that has no effect. 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Generally we override null procedures with ones that are meaningful in a more specialized class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 String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upport is in library packages rooted at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a.String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haracter Sets and Character Map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a.Strings.Map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Fixed-Length Strings (35 operation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a.Strings.Fix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ounded-Length Strings (75 operation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a.Strings.Bound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Unbounded-Length Strings (68 operations)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da.Strings.Unbounded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ontrolled Types (3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By overriding the controlled procedures, the implementation programmer has complete control of each controlled object 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519120" indent="-23652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usual use of procedur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itializ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is to ensure that each object is properly initialized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519120" indent="-23652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usual use of procedur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nalize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is to ensure that any memory that was dynamically allocated to an object is reclaimed before that object ceases to exist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lvl="1" marL="519120" indent="-236520">
              <a:spcBef>
                <a:spcPts val="601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he usual use of procedur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djust</a:t>
            </a: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 is ensure that when one object is assigned to another object, a copy is made rather than an alias.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nitialize is called …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pon the elaboration of a declaration of a controlled object, if the declaration does not specify an initial valu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pon the evaluation of an allocator (new) creating a controlled object, if the allocator does not specify an initial value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Finalize is called …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hen a controlled object is a target variable of an assignment statement.  Finalize is called just before the new value is copied into that variable. 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hen a controlled object declared in a subprogram body ceases to exist.  The object ceases to exist when the subprogram returns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hen a controlled object declared in a block statement ceases to exist.  The object ceases to exist when the execution of the block is finished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When a dynamically allocated controlled object ceases.  The object ceases to exist when an instance of Ada.Unchecked.Deallocation is called.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just is called …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When a controlled object is a target variable of an assignment statement.  Adjust is called just after the new value is copied into that variable. 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a Safe Unbounded-Length String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500120"/>
            <a:ext cx="9144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da.Finaliz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Unbounded_Strings i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Unbounded_String_Type is priv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_Unbounded_String : constant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We’ll only define a few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_Unbounded (Source : in String) retur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_String          (Source : in Unbounded_String_Type) return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Length (Source : in Unbounded_String_Type) return Natural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"=" (Left  : i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Unbounded_String_Type) return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"&amp;" (Left  : i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String)                         retur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See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nbounded_Str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pecification of a Safe Unbounded-Length String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8760" y="1658880"/>
            <a:ext cx="89852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tring_Ptr is access 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Unbounded_String_Type is new Ada.Finalization.Controll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: String_Pt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rec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Initialize  (Object : in out Unbounded_String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Finalize   (Object : in out Unbounded_String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procedure Adjust     (Object : in out Unbounded_String_Typ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_String_Ptr               : constant String_Ptr := new String'("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_Unbounded_String : constant Unbounded_String_Type :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a.Finalization.Controlled with Reference =&gt; Null_String_P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nbounded_Str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ample Declaration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682640"/>
            <a:ext cx="56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_Name : Unbounded_String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5200" y="3637080"/>
            <a:ext cx="15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795320" y="3251160"/>
            <a:ext cx="3978360" cy="770040"/>
            <a:chOff x="1795320" y="3251160"/>
            <a:chExt cx="3978360" cy="770040"/>
          </a:xfrm>
        </p:grpSpPr>
        <p:sp>
          <p:nvSpPr>
            <p:cNvPr id="224" name=""/>
            <p:cNvSpPr/>
            <p:nvPr/>
          </p:nvSpPr>
          <p:spPr>
            <a:xfrm>
              <a:off x="1906560" y="3564000"/>
              <a:ext cx="914400" cy="457200"/>
            </a:xfrm>
            <a:prstGeom prst="rect">
              <a:avLst/>
            </a:prstGeom>
            <a:solidFill>
              <a:srgbClr val="dddddd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95320" y="3251160"/>
              <a:ext cx="116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_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24240" y="3564000"/>
              <a:ext cx="1549440" cy="457200"/>
            </a:xfrm>
            <a:prstGeom prst="rect">
              <a:avLst/>
            </a:prstGeom>
            <a:solidFill>
              <a:srgbClr val="dddddd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8244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obbin C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47920" y="3803760"/>
              <a:ext cx="1784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060560" y="458460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art_Name is a record with one field named Reference that designates an array of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ation of Operations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" y="1636560"/>
            <a:ext cx="8759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_String (Source : in Unbounded_String_Type) return Str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ource.Reference.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_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Length (Source : in Unbounded_String_Type) return Natur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ource.Reference.all'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"=" (Left  : i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Unbounded_String_Type) return Boole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Left.Reference.all = Right.Reference.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"=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mplementation of Operations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1636560"/>
            <a:ext cx="8759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To_Unbounded (Source : in String) return Unbounded_String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.Reference := new String'(Sour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_Unboun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"&amp;" (Left  : in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: in String)             return Unbounded_String_Ty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: Unbounded_String_Typ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.Reference := new String'(Left.Reference.all &amp; R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"&amp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cedure Initializ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3760" y="1954080"/>
            <a:ext cx="869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Initialize (Object : in out Unbounded_String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.Reference := Null_Unbounded_String.Refer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nitial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440" y="3544920"/>
            <a:ext cx="76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itializes an unbounded-length string to the null string by setting it to designate the one null string objec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ackage Ada.String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2880" y="1762200"/>
            <a:ext cx="786924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Ada.String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stant 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'  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_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stant Wide_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'  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_Wide_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stant Wide_Wide_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'  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_ERROR, PATTERN_ERROR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NDEX_ERROR, TRANSLATION_ERROR   :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l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(Left, Right, Cent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run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(Left, Right, Err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embers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(Inside, Outsi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Dir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(Forward, Backwa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rim_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(Left, Right, Bot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Ada.Str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cedure Finalize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1673280"/>
            <a:ext cx="8691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inalize (Object : in out Unbounded_String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Do not recycle memory for the null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bject.Reference /= Null_Unbounded_String.Referenc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(Object.Referen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.Reference := Null_Unbounded_String.Refer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Final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344840"/>
            <a:ext cx="76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cycles the memory used by a string.  Does not recycle the memory used by the null str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rocedure Adjust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4200" y="1673280"/>
            <a:ext cx="8691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Adjust (Object : in out Unbounded_String_Typ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 - Do not copy the null string, leave it as an a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bject.Reference /= Null_Unbounded_String.Referenc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.Reference := new String'(Object.Reference.a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Adju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34484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urns an aliased string into a copied st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ssignment (1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1080" y="1523880"/>
            <a:ext cx="852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 Unbounded_String_Type := To_Unbounded ("Horac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: Unbounded_String_Type := To_Unbounded ("Mildre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B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A becomes a copy of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600" y="3397320"/>
            <a:ext cx="8342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ignment statement is carried out in three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nal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ts para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record containing an access value) is copied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rmal ass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At this point A.Reference i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B.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dj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ts para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ssignment (2)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0360" y="1552680"/>
            <a:ext cx="89982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Trace of function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"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&amp;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"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71400" y="1500120"/>
            <a:ext cx="72946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rganization of Memory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2760" y="1917720"/>
            <a:ext cx="82566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Model for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’s Fixed-Length Strings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Uses predefined type String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All array operations are available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A fixed length string consists of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ignificant charact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Padding characte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0280" y="4357800"/>
            <a:ext cx="74278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ype Name_String is String (1..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 Name_String;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--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A fixed-length string of 10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"Mildred   "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adding on righ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"   Mildred"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adding on lef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" Mildred  "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Padding on both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perations in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.Strings.Fixe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960" y="1599840"/>
            <a:ext cx="86918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py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Move (manages padding)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dex, Index_Non_Blank, Count, Find_Token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sert, Replace_Slice, Overwrite, Delet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le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rim, Head, Tai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stru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.Strings.Bounde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0040" y="1487520"/>
            <a:ext cx="8469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c1e"/>
                </a:solidFill>
                <a:latin typeface="Arial"/>
              </a:rPr>
              <a:t>Contains a generic package that we use to create a bounded-length string class with a given upper bound</a:t>
            </a:r>
            <a:endParaRPr b="0" lang="en-US" sz="3200" spc="-1" strike="noStrike">
              <a:solidFill>
                <a:srgbClr val="073c1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1800" y="2976480"/>
            <a:ext cx="851220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reate a bounded-length string class with an upper bound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Name_Strings is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Strings.Bounded.Generic_Bounded_Length (Max =&gt; 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me_Str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 Name_Strings.Bounded_String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Holds 0 to 10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Create a bounded-length string class with an upper bound of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Postal_Code_Strings is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.Strings.Bounded.Generic_Bounded_Length (Max =&gt; 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tal_Code_Strin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 : Postal_Code.Bounded_String;  </a:t>
            </a: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-- Holds 0 to 8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1417680"/>
          </a:xfrm>
          <a:prstGeom prst="rect">
            <a:avLst/>
          </a:prstGeom>
          <a:solidFill>
            <a:srgbClr val="073c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Operations in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da.Strings.Bounded</a:t>
            </a:r>
            <a:endParaRPr b="1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4960" y="1600200"/>
            <a:ext cx="86918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version, Concatenation, and Selecti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o_String, To_Bounded_String, Append, &amp;, Slice, Bounded_Slice, Replace_Element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=, &lt;,  &gt;, &lt;=, &gt;= 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dex, Index_Non_Blank, Count, Find_Token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Insert, Replace_Slice, Overwrite, Delet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Sele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Trim, Head, Tail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3c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c1e"/>
                </a:solidFill>
                <a:latin typeface="Arial"/>
              </a:rPr>
              <a:t>Constructors</a:t>
            </a:r>
            <a:endParaRPr b="0" lang="en-US" sz="2800" spc="-1" strike="noStrike">
              <a:solidFill>
                <a:srgbClr val="073c1e"/>
              </a:solidFill>
              <a:latin typeface="Arial"/>
            </a:endParaRPr>
          </a:p>
          <a:p>
            <a:pPr lvl="1"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c1e"/>
                </a:solidFill>
                <a:latin typeface="Arial"/>
              </a:rPr>
              <a:t>*, Replicate</a:t>
            </a:r>
            <a:endParaRPr b="0" lang="en-US" sz="2400" spc="-1" strike="noStrike">
              <a:solidFill>
                <a:srgbClr val="073c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9:53:55Z</dcterms:created>
  <dc:creator>John McCormick</dc:creator>
  <dc:description/>
  <dc:language>en-US</dc:language>
  <cp:lastModifiedBy>John McCormick</cp:lastModifiedBy>
  <dcterms:modified xsi:type="dcterms:W3CDTF">2006-08-02T21:34:02Z</dcterms:modified>
  <cp:revision>98</cp:revision>
  <dc:subject/>
  <dc:title>Chapter 1</dc:title>
</cp:coreProperties>
</file>