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8FA8-8E13-4E01-8813-0E41B332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DFD2-23ED-477D-AC9C-F101E416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8C1D-E905-474B-B10B-F2494115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85B7-66EC-4DBE-B5E5-C7A30561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B70C-748C-47D9-8AB9-87864B05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0624-A863-4ED7-BBCB-D91E8303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AB63-2F7C-4B59-BBF6-AEF824F2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A0F5-0D55-466F-B323-B1B2BC6F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65E5-9067-4717-A592-494A7803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5530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E79D-260E-43D4-A9C5-960525F7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F9A6-D3B0-4777-83D3-C0C28C61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803-83A5-453C-8454-120336BF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EFA1-001B-4B84-98E9-34BC5EAE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ACE5-9B6E-48F7-9544-BE8DD51E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6CDC-7344-4BFB-ACD5-1331EB91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D683-9740-4AB2-9373-8FAA4A54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8701-93E2-401A-B1E8-B431982F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4D9D-747C-4C33-B2BF-300CE649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2B37-CE5E-496A-BC27-AAC43225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7F4D-F589-4E3C-A804-66846642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5530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E42-DDF6-47AF-BBA1-64EBDB18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B08A-D56F-4826-8EA6-118B1BB9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41C1-086E-4FD9-AE2A-51A2C529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7731-2695-4561-8B41-48E77483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3c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FFF5-695F-4DD2-B299-F53551BA2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73c1e"/>
                </a:solidFill>
                <a:latin typeface="Arial Black"/>
              </a:rPr>
              <a:t>Click to edit the title text format</a:t>
            </a:r>
            <a:endParaRPr b="1" i="1" lang="en-US" sz="60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915F-56AD-4E61-BA74-ACCDB35BC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c1e"/>
                </a:solidFill>
                <a:latin typeface="Arial Black"/>
              </a:rPr>
              <a:t>Click to edit the outline text format</a:t>
            </a: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73c1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73c1e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73c1e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73c1e"/>
                </a:solidFill>
                <a:latin typeface="Arial Black"/>
              </a:rPr>
              <a:t>Chapter 2</a:t>
            </a:r>
            <a:endParaRPr b="1" i="1" lang="en-US" sz="60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c1e"/>
                </a:solidFill>
                <a:latin typeface="Arial Black"/>
              </a:rPr>
              <a:t>Data Design and Implementation</a:t>
            </a: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ata Structur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 collection of data elements whose logical organization reflects a structural relationship among the elements. 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 data structure is characterized by accessing operations that are used to store and retrieve the individual data elements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eatures of Data Structur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hey can be “decomposed” into their component elements.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he organization of the elements is a feature of the structure that affects how each element is accessed.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Both the arrangement of the elements and the way they are accessed can be encapsulated.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892160" y="1892160"/>
          <a:ext cx="7093080" cy="452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92160" y="1892160"/>
                    <a:ext cx="7093080" cy="45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Relationships Between </a:t>
            </a:r>
            <a:br>
              <a:rPr sz="3200"/>
            </a:b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Data Type, Data Structure, and Abstract Data Type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440" y="2417760"/>
            <a:ext cx="205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An abstr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data 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s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data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46560" y="2260440"/>
            <a:ext cx="292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An abstr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data 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encapsul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data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8120" y="4981680"/>
            <a:ext cx="292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A data structure is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mpo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ree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lassification of Data Structure Opera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Constructor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An operation used to create new values of a clas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Observer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An operation that returns an observation on the state of an object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Transformer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73c1e"/>
                </a:solidFill>
                <a:latin typeface="Arial"/>
              </a:rPr>
              <a:t>mutator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) An operation that changes the state of one or more of the data values 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Iterator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An operation that allows us to process all the components in a data structure in some sequence. 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ata From 3 Different Level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73c1e"/>
                </a:solidFill>
                <a:latin typeface="Arial"/>
              </a:rPr>
              <a:t>Application (or user) level:</a:t>
            </a: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 modeling real-life data in a specific con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73c1e"/>
                </a:solidFill>
                <a:latin typeface="Arial"/>
              </a:rPr>
              <a:t>Logical (or ADT) level:</a:t>
            </a: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 abstract view of the domain and oper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73c1e"/>
                </a:solidFill>
                <a:latin typeface="Arial"/>
              </a:rPr>
              <a:t>Implementation level:</a:t>
            </a: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 specific representation of the structure to hold the data items, and the coding for 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12000" y="3421080"/>
            <a:ext cx="1282680" cy="52056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6040" y="5445000"/>
            <a:ext cx="1282680" cy="5209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Viewing A Library From 3 Different Level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Application (or user) level: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Library of Congress, or Baltimore County Public Library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Logical (or ADT) level: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domain is a collection of books; operations include: check book out, check book in, pay fine, reserve a book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Implementation level: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representation of the structure to hold the “books”, and the coding for operations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ommunication between the Application Level and Implementation Level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02000" y="1600200"/>
            <a:ext cx="3719520" cy="5100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da’s Built-In Typ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41200" y="1563840"/>
          <a:ext cx="8543880" cy="469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200" y="1563840"/>
                    <a:ext cx="8543880" cy="46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calar Typ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One research study on the nature of </a:t>
            </a:r>
            <a:r>
              <a:rPr b="0" lang="en-US" sz="2800" spc="-1" strike="noStrike" u="sng">
                <a:solidFill>
                  <a:srgbClr val="073c1e"/>
                </a:solidFill>
                <a:uFillTx/>
                <a:latin typeface="Arial"/>
              </a:rPr>
              <a:t>costly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software faults indicates that poor models of scalar quantities were responsible for nearly 90% of the errors in the cases studied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My Hairiest Bug War Stories,” M. Eisenstadt, </a:t>
            </a:r>
            <a:r>
              <a:rPr b="0" i="1" lang="en-US" sz="2400" spc="-1" strike="noStrike">
                <a:solidFill>
                  <a:srgbClr val="073c1e"/>
                </a:solidFill>
                <a:latin typeface="Arial"/>
              </a:rPr>
              <a:t>Communications of the ACM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, vol 40, no 4, 30-37, 1997.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Forum Letter, J. McCormick, </a:t>
            </a:r>
            <a:r>
              <a:rPr b="0" i="1" lang="en-US" sz="2400" spc="-1" strike="noStrike">
                <a:solidFill>
                  <a:srgbClr val="073c1e"/>
                </a:solidFill>
                <a:latin typeface="Arial"/>
              </a:rPr>
              <a:t>Communications of the ACM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, vol 40, no 8, 30,1997. 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igned Integer Typ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Provides a range for modeling real-world whole signed numbers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73160" y="3238560"/>
            <a:ext cx="65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_Door_Type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nge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..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ors : Car_Door_Ty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he representation of information in a manner suitable for communication or analysis by humans or machines.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Data are the nouns of the programming world: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he objects that are manipulated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he information that is processed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Modular (Unsigned)  Integer Typ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Provides a range for modeling real-world whole unsigned numbers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Uses modular arithmetic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Can use logical operators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1160" y="4108320"/>
            <a:ext cx="865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ype Clock is mod 12;  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-- Domain is 0 to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ype Byte  is mod 256; 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-- Domain is 0 to 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     : Cloc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gister : By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Enumeration Typ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Domain is an ordered set of identifiers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8760" y="3238560"/>
            <a:ext cx="882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ype Month_Type is (January, February, Marc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pril, May, June, Ju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ugust, September, Octob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vember, Decembe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nth : Month_Ty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Real Typ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Not all real numbers can be stored exactly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hose real numbers that can be stored exactly are called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Model Numbers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here are very few model numbers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ny real number that is not a model number is stored as the closest model number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Errors in Storing Real Number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he error in storing a real number may be expressed in two different ways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Absolute error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 The difference between the real number and the model number used to represent it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Relative error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 The absolute error divided by the true value of the real number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Real Types in Ada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da provides two types for storing real numbers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Floating point type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Fixed point type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Choose the type based on the kind of error (absolute or relative) that is most relevant to your application. 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loating Point Typ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 floating point type uses a fixed number of digits (mantissa) and a base raised to a power (exponent) to </a:t>
            </a:r>
            <a:r>
              <a:rPr b="0" lang="en-US" sz="2800" spc="-1" strike="noStrike" u="sng">
                <a:solidFill>
                  <a:srgbClr val="073c1e"/>
                </a:solidFill>
                <a:uFillTx/>
                <a:latin typeface="Arial"/>
              </a:rPr>
              <a:t>approximate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a real number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he base is usually 2, but we illustrate with a base of 10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200320" y="3960720"/>
            <a:ext cx="4933800" cy="2466720"/>
            <a:chOff x="2200320" y="3960720"/>
            <a:chExt cx="4933800" cy="2466720"/>
          </a:xfrm>
        </p:grpSpPr>
        <p:sp>
          <p:nvSpPr>
            <p:cNvPr id="154" name=""/>
            <p:cNvSpPr/>
            <p:nvPr/>
          </p:nvSpPr>
          <p:spPr>
            <a:xfrm>
              <a:off x="2200320" y="3960720"/>
              <a:ext cx="4933800" cy="2466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.71358 x 10+3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ff6600"/>
                  </a:solidFill>
                  <a:latin typeface="Arial"/>
                </a:rPr>
                <a:t>Expon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ff6600"/>
                  </a:solidFill>
                  <a:latin typeface="Arial"/>
                </a:rPr>
                <a:t>B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ff6600"/>
                  </a:solidFill>
                  <a:latin typeface="Arial"/>
                </a:rPr>
                <a:t>Mantis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903040" y="4408200"/>
              <a:ext cx="2075400" cy="1760760"/>
              <a:chOff x="2903040" y="4408200"/>
              <a:chExt cx="2075400" cy="1760760"/>
            </a:xfrm>
          </p:grpSpPr>
          <p:sp>
            <p:nvSpPr>
              <p:cNvPr id="156" name=""/>
              <p:cNvSpPr/>
              <p:nvPr/>
            </p:nvSpPr>
            <p:spPr>
              <a:xfrm flipH="1">
                <a:off x="4584600" y="4875120"/>
                <a:ext cx="3938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4583160" y="4408200"/>
                <a:ext cx="0" cy="484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3960360" y="5519520"/>
                <a:ext cx="1270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2903040" y="6153120"/>
                <a:ext cx="2365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963600" y="4408200"/>
                <a:ext cx="4680" cy="11221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2903400" y="4408560"/>
                <a:ext cx="0" cy="1760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loating Point Types (cont.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32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he following </a:t>
            </a:r>
            <a:r>
              <a:rPr b="0" lang="en-US" sz="3200" spc="-1" strike="noStrike" u="sng">
                <a:solidFill>
                  <a:srgbClr val="073c1e"/>
                </a:solidFill>
                <a:uFillTx/>
                <a:latin typeface="Arial"/>
              </a:rPr>
              <a:t>equivalent numbers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illustrate the origin of the term floating point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.0512</a:t>
            </a:r>
            <a:r>
              <a:rPr b="0" lang="en-US" sz="1200" spc="-1" strike="noStrike">
                <a:solidFill>
                  <a:srgbClr val="073c1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73c1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73c1e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.512</a:t>
            </a:r>
            <a:r>
              <a:rPr b="0" lang="en-US" sz="1200" spc="-1" strike="noStrike">
                <a:solidFill>
                  <a:srgbClr val="073c1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73c1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73c1e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5.12</a:t>
            </a:r>
            <a:r>
              <a:rPr b="0" lang="en-US" sz="1200" spc="-1" strike="noStrike">
                <a:solidFill>
                  <a:srgbClr val="073c1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73c1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73c1e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51.2</a:t>
            </a:r>
            <a:r>
              <a:rPr b="0" lang="en-US" sz="1200" spc="-1" strike="noStrike">
                <a:solidFill>
                  <a:srgbClr val="073c1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73c1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73c1e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eclaration of Floating Point Typ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wo examples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ype Inches is digits 4 range 0.00..100.00;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ype Feet    </a:t>
            </a:r>
            <a:r>
              <a:rPr b="0" lang="en-US" sz="1200" spc="-1" strike="noStrike">
                <a:solidFill>
                  <a:srgbClr val="073c1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is digits 6 range 0.00..1000.00;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Digits specifies the minimum number of decimal digits in the numbers’ mantissa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ixed Point Typ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 fixed point number is stored as a single number with a fixed radix point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da provides two kinds of fixed point types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Binary (ordinary) fixed point type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Decimal fixed point type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Binary (Ordinary) Fixed Point Type Declara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n ordinary fixed point number is stored as a single number with a fixed binary point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wo examples of binary fixed point type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type Meters   </a:t>
            </a:r>
            <a:r>
              <a:rPr b="0" lang="en-US" sz="1400" spc="-1" strike="noStrike">
                <a:solidFill>
                  <a:srgbClr val="073c1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is delta 0.001 range -1000.0..1000.0;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type Degrees is delta 0.25  range 0.0..100.0;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Delta specifies the </a:t>
            </a:r>
            <a:r>
              <a:rPr b="0" lang="en-US" sz="2800" spc="-1" strike="noStrike" u="sng">
                <a:solidFill>
                  <a:srgbClr val="073c1e"/>
                </a:solidFill>
                <a:uFillTx/>
                <a:latin typeface="Arial"/>
              </a:rPr>
              <a:t>maximum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distance between model numbers.  The Ada compiler may use a smaller delta.  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ata Typ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Used to characterize and manipulate a certain variety of data.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Formally defined by describing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73c1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he collection of elements that it can represent (the domain) and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73c1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he operations that may be performed on those elements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ecimal Fixed Point Type Declara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 decimal fixed point number is stored as a single number with a fixed decimal point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wo examples of decimal fixed point type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type Euro  is delta 0.01 digits 8 range 0.0 .. 100_000.0;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type Peso is delta 0.1   digits 9 range 0.0 ..10_000_000.0; 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Delta specifies the distance between model numbers.  It must be a power of 10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Digits specifies the number of decimal digits in the number (to the left and right of the decimal point)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loating Point Error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he distance between model floating point numbers depends on the value of the exponent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he absolute error depends on the distance between model numbers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When the exponent is small, the distance between model numbers is small and when the exponent is large, the distance between model numbers is large. 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While absolute error changes with exponent, the relative error for a floating point number does not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ixed Point Error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he distance between model floating point numbers is constant throughout the range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herefore the absolute error is constant throughout the range.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While absolute error is constant throughout the range, the relative error for a fixed point number increases as the number gets smaller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ixed or Floating Point?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Choose floating point when relative error is more important than absolute error for the real numbers in your application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Choose fixed point when absolute error is more important than relative error for the real numbers in your application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omposite Typ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da provides two kinds of composite types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rray types  (homogeneous components)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3c1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Components are accessed by their position in the collection.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Record types  (heterogeneous components)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3c1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Components are accessed by their name.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agged records provide the mechanism for inheritance in Ada. 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ackag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Packages are Ada’s main mechanism for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Information Hiding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Encapsulation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Packages are written in two parts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Package Specification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Package Body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3805200"/>
            <a:ext cx="1282680" cy="52056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44800" y="4351320"/>
            <a:ext cx="1282680" cy="52056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Kinds of Packages</a:t>
            </a:r>
            <a:br>
              <a:rPr sz="3600"/>
            </a:b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(a simple taxonomy)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Definition packages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group together related constants and types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Service packages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group together the constants, types, subtypes, and subprograms necessary to provide some particular service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Data Abstraction Packages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are used to construct abstract data types (ADTs)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rivate Typ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9948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re used to encapsulate the data of an abstract data type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344680" y="2558880"/>
          <a:ext cx="3706920" cy="369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4680" y="2558880"/>
                    <a:ext cx="370692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las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61800" y="1714680"/>
          <a:ext cx="5080320" cy="489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1800" y="1714680"/>
                    <a:ext cx="508032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160200" y="1477800"/>
            <a:ext cx="294660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A 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s a 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specialized abstract data type (it has Inheri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1880" y="2889360"/>
            <a:ext cx="331956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In Ada, a class is implemented with a package (specification and body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91240" y="5478480"/>
            <a:ext cx="421164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In Ada, a class is declared in the package specification as a tagged, private typ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heritanc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he tagged (record) type is the basis of inheritance in Ada.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 tagged type may be extended with additional data fields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he primitive operations defined for a tagged type are inherited. 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Primitive operations may be overridden. 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dditional operations may be provided. 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ata Type Example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teger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47640" y="1500120"/>
          <a:ext cx="5348520" cy="518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500120"/>
                    <a:ext cx="534852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rimitive Opera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Operations for a type that are declared in the same package specification as the type and has a parameter or a return value of the type.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Only primitive operations for a class may be inherited by a subclass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Operation Terminology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Parameter profile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 The distinguishing features of a subprogram—whether the subprogram is a procedure or function, the number of parameters, the type of each parameter, and , if it is a function, the type of the result.  Sometimes called the subprogram's </a:t>
            </a: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signature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Overloading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 The repeated use of a subprogram name with different parameter profiles. 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Overriding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The replacement of a superclass's operation with one defined for the subclass. 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UML Class Diagram 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llustrating 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nheritanc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67080" y="2021040"/>
            <a:ext cx="4595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 tank car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s a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specialized railroad car.  The tank car class overrides the railroad car’s </a:t>
            </a:r>
            <a:r>
              <a:rPr b="0" i="1" lang="en-US" sz="2800" spc="-1" strike="noStrike">
                <a:solidFill>
                  <a:srgbClr val="073c1e"/>
                </a:solidFill>
                <a:latin typeface="Arial"/>
              </a:rPr>
              <a:t>Construct_Car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73c1e"/>
                </a:solidFill>
                <a:latin typeface="Arial"/>
              </a:rPr>
              <a:t>Put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operations and uses the other three railroad car operations.  The tank car class has three additional 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04920" y="1530360"/>
          <a:ext cx="3549600" cy="513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30360"/>
                    <a:ext cx="3549600" cy="51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ingleton Class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 class for which there is only one object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lso called an abstract data object (ADO)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s with all classes in Ada, a singleton class is implemented with a package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he package specification contains operations for the class but no tagged record that defines the class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he package body contains the declarations for the class and one variable holding the data for the one object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bstract Class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Instance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 An individual entity with its own identity.  An object is an </a:t>
            </a:r>
            <a:r>
              <a:rPr b="0" i="1" lang="en-US" sz="3200" spc="-1" strike="noStrike">
                <a:solidFill>
                  <a:srgbClr val="073c1e"/>
                </a:solidFill>
                <a:latin typeface="Arial"/>
              </a:rPr>
              <a:t>instance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of a class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Abstract class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 A class that may have no direct instances.  You cannot create an object of an abstract class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Concrete class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 A class that may have instances.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UML Class Hierarchy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Rooted at an Abstract Clas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46160" y="1765440"/>
          <a:ext cx="5286240" cy="356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160" y="1765440"/>
                    <a:ext cx="528624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5734080" y="1762200"/>
            <a:ext cx="3013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73c1e"/>
                </a:solidFill>
                <a:latin typeface="Arial"/>
              </a:rPr>
              <a:t>Locomotive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is an abstract class.  This distinction is indicated by the use of italics.  The other five subclasses are concrete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Bingo Number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84320" y="1803240"/>
            <a:ext cx="4224240" cy="4472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786200" y="1941480"/>
            <a:ext cx="357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611600" y="1987560"/>
          <a:ext cx="4075200" cy="4164120"/>
        </p:xfrm>
        <a:graphic>
          <a:graphicData uri="http://schemas.openxmlformats.org/drawingml/2006/table">
            <a:tbl>
              <a:tblPr/>
              <a:tblGrid>
                <a:gridCol w="1465200"/>
                <a:gridCol w="2610000"/>
              </a:tblGrid>
              <a:tr h="65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Col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Number 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1 to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16 to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31 to 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46 to 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61 to 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pecification of Bingo Number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6160" y="1547640"/>
            <a:ext cx="884052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e Bingo_Number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 This package defines Bingo numbers and their associated 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 - The range of numbers on a Bingo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Bingo_Number is range 0..7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- 0 can't be called, it is only for the Free Play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ype Callable_Number is Bingo_Number range 1..7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 - Associations between Bingo numbers and 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ype B_Range is Bingo_Number range  1..1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ype I_Range  is Bingo_Number range 16..3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ype N_Range is Bingo_Number range 31..4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ype G_Range is Bingo_Number range 46..6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ype O_Range is Bingo_Number range 61..7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 - The 5 Bingo 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Bingo_Letter is (B, I, N, G, 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Bingo_Numb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itial Class Diagram for Bingo Simulatio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65040" y="2284560"/>
            <a:ext cx="839484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Revised Class Diagram for Bingo Simulatio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65040" y="2284560"/>
            <a:ext cx="51148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tomic Data Typ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Scalar data type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 A data type in which the values are </a:t>
            </a:r>
            <a:r>
              <a:rPr b="0" i="1" lang="en-US" sz="3200" spc="-1" strike="noStrike" u="sng">
                <a:solidFill>
                  <a:srgbClr val="073c1e"/>
                </a:solidFill>
                <a:uFillTx/>
                <a:latin typeface="Arial"/>
              </a:rPr>
              <a:t>ordered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and each value is </a:t>
            </a:r>
            <a:r>
              <a:rPr b="0" i="1" lang="en-US" sz="3200" spc="-1" strike="noStrike" u="sng">
                <a:solidFill>
                  <a:srgbClr val="073c1e"/>
                </a:solidFill>
                <a:uFillTx/>
                <a:latin typeface="Arial"/>
              </a:rPr>
              <a:t>atomic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Discrete (ordinal) data type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 A scalar data type in which each value (except the first) has a </a:t>
            </a:r>
            <a:r>
              <a:rPr b="0" i="1" lang="en-US" sz="3200" spc="-1" strike="noStrike" u="sng">
                <a:solidFill>
                  <a:srgbClr val="073c1e"/>
                </a:solidFill>
                <a:uFillTx/>
                <a:latin typeface="Arial"/>
              </a:rPr>
              <a:t>unique predecessor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and each value (except the last) has a </a:t>
            </a:r>
            <a:r>
              <a:rPr b="0" i="1" lang="en-US" sz="3200" spc="-1" strike="noStrike" u="sng">
                <a:solidFill>
                  <a:srgbClr val="073c1e"/>
                </a:solidFill>
                <a:uFillTx/>
                <a:latin typeface="Arial"/>
              </a:rPr>
              <a:t>unique successor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RC Card for the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Bingo Baske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39720" y="1827360"/>
            <a:ext cx="783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RC Card for a 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Bingo Card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39720" y="1827360"/>
            <a:ext cx="7696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RC Card for a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Bingo Caller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39720" y="1827360"/>
            <a:ext cx="76788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omposite Data Typ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8440" y="2026800"/>
            <a:ext cx="834084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 data type whose elements are composed of multiple data items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For example, a calendar date is composed of a month value, a day value, and a year value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3800" y="4776840"/>
            <a:ext cx="32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UML Class Diagram showing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87360" y="4152960"/>
          <a:ext cx="4684680" cy="214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7360" y="4152960"/>
                    <a:ext cx="468468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ata Abstractio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1120" y="1509480"/>
            <a:ext cx="850896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The separation of a data type’s logical properties from its implementation. 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8760" y="2743200"/>
            <a:ext cx="4341960" cy="1828800"/>
          </a:xfrm>
          <a:prstGeom prst="rect">
            <a:avLst/>
          </a:prstGeom>
          <a:noFill/>
          <a:ln w="19080">
            <a:solidFill>
              <a:srgbClr val="073c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Log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Possibl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Available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19520" y="2744640"/>
            <a:ext cx="4341960" cy="1828800"/>
          </a:xfrm>
          <a:prstGeom prst="rect">
            <a:avLst/>
          </a:prstGeom>
          <a:noFill/>
          <a:ln w="19080">
            <a:solidFill>
              <a:srgbClr val="073c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A collection of bits interpreted in a particular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124000" y="4694400"/>
          <a:ext cx="6872400" cy="216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4694400"/>
                    <a:ext cx="6872400" cy="21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ata Encapsulatio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8760" y="1636560"/>
            <a:ext cx="3251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ding of the representation of data from the applications that use the data at a logical level; a programming language feature that enforces information hid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43400" y="6107040"/>
            <a:ext cx="55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capsulation of Ada’s Integer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97080" y="1531800"/>
          <a:ext cx="5859720" cy="452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7080" y="1531800"/>
                    <a:ext cx="5859720" cy="45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bstract Data Typ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 data type whose properties (domain and operations) are specified independently of any particular implementation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9:53:55Z</dcterms:created>
  <dc:creator>John McCormick</dc:creator>
  <dc:description/>
  <dc:language>en-US</dc:language>
  <cp:lastModifiedBy>John McCormick</cp:lastModifiedBy>
  <dcterms:modified xsi:type="dcterms:W3CDTF">2006-08-01T18:23:06Z</dcterms:modified>
  <cp:revision>48</cp:revision>
  <dc:subject/>
  <dc:title>Chapter 1</dc:title>
</cp:coreProperties>
</file>