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E54-F2F5-4B2E-B7AA-FFA23631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7B0-662F-40AC-A4E4-58BB647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777-C577-4AC0-AA9A-BE39F11A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755-9152-4605-996F-7651B90B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425-8C31-47B0-81DF-FEC92963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0D9-A34C-4378-A76B-1720037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C5F-F35F-4CF7-B1C7-E14E047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7D44-C115-4DDE-A998-7067FE5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C3C-0CAF-4AD4-B9F0-7DE5405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C0C-3313-40CA-AE02-CE54130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AE0F-9566-4840-84DB-9B028C9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05F-87AB-4153-95A1-8DC51C1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750C-A7D7-43FF-B269-528B278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237F-B1BB-4A2E-ACDE-441ECF6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1965-80E8-4236-BF70-99C85585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89B3-4E75-4537-AF6A-E73A061A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77BF-F71F-4150-BA65-32F6645B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C0E-3042-4CE8-B47F-F29416E1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266-ED9E-4EA7-AC55-FB8CD19B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6C9-8012-4A1C-994D-03D53B29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367-C3EC-4B53-BA77-176C8FB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85A-A51C-406F-BB9B-CC9774B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9A3-7B12-4EA2-9B78-1EE80B9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365-62F6-43B3-97D9-EE72150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8B2-BFB4-4592-8646-0F665D1E0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AEB-A927-4B80-BD26-E590FBCA4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3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Set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Diagram of Se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08280" y="2008080"/>
          <a:ext cx="5643360" cy="37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8280" y="2008080"/>
                    <a:ext cx="564336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ngo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4320" y="1803240"/>
            <a:ext cx="4224240" cy="4472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6200" y="1941480"/>
            <a:ext cx="357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11600" y="1987560"/>
          <a:ext cx="4075200" cy="4164120"/>
        </p:xfrm>
        <a:graphic>
          <a:graphicData uri="http://schemas.openxmlformats.org/drawingml/2006/table">
            <a:tbl>
              <a:tblPr/>
              <a:tblGrid>
                <a:gridCol w="1465200"/>
                <a:gridCol w="2610000"/>
              </a:tblGrid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umber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 to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16 to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31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46 to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61 to 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Bingo Nu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6160" y="1547640"/>
            <a:ext cx="88405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Bingo_Number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This package defines Bingo numbers and their associated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The range of numbers on a Bingo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ingo_Number is range 0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0 can't be called, it is only for the Free Play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Callable_Number is Bingo_Number range 1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Associations between Bingo numbers and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B_Range is Bingo_Number range  1..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I_Range  is Bingo_Number range 16..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N_Range is Bingo_Number range 31..4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G_Range is Bingo_Number range 46..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O_Range is Bingo_Number range 61..7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The 5 Bingo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ingo_Letter is (B, I, N, G, 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Bingo_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a Set of Bingo Number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6160" y="1547640"/>
            <a:ext cx="884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ingo_Numbers;  use Bingo_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Bingo_Number_Se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Element_Type is Bingo_Numbers.Callable_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et_Type is priv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_Set      : constant Set_Typ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_Set : constant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Is_Member (Set        : i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: in Elemen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+" (Left : in Set_Type; Right : in Se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turns the union of the two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+" (Left : in Set_Type; Right : in Elemen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Adds an element to 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a Set of Bingo Number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000" y="1987560"/>
            <a:ext cx="8840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+" (Left : in Element_Type; Right : in Se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Adds an element to 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*" (Left : in Set_Type; Right : in Se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 Returns the intersection of the two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-"  (Left : in Set_Type; Right : in Se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turns the difference of the two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-" (Left : in Set_Type; Right : in Element_Type) return Se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moves an element from th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a Set of Bingo Numbers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6160" y="1547640"/>
            <a:ext cx="884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lt;=" (Left : in Set_Type; Right : in Se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turns True if Left is a subset of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lt;" (Left : in Set_Type; Right : in Se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turns True if Left is a proper subset of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gt;=" (Left : in Set_Type; Right : in Se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Returns True if Right is a subset of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gt;" (Left : in Set_Type; Right : in Se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 Returns True if Right is a proper subset of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- We look at this part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Bingo_Number_S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 Set of Bingo Numbers Stored as an Array of Boolean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65280" y="1523880"/>
            <a:ext cx="1681200" cy="517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11440" y="2595600"/>
            <a:ext cx="48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75 Bingo Numbers is either in My_Set or not in My_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amples of Set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2200" y="1488960"/>
            <a:ext cx="54338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ivate Part of Bingo Number Specifi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6160" y="1547640"/>
            <a:ext cx="884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et_Type is array (Element_Type) of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Completion of deferred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_Set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stant Set_Type := (Element_Type =&gt; 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_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stant Set_Type := (Element_Type =&gt;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Bingo_Number_S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gramming for Reuse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eneric Uni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4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Generic Uni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template for a package or subprogram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nstanc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package or subprogram created from a generic uni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Generic Formal Paramet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parameter defined in a generic unit declaration.  Used to customize a generic unit for a specific problem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nstantiation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declaration that creates an instance of a generic uni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et 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abstract (logical) view of sets comes from discrete mathematics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a is an </a:t>
            </a:r>
            <a:r>
              <a:rPr b="0" i="1" lang="en-US" sz="2800" spc="-1" strike="noStrike">
                <a:solidFill>
                  <a:srgbClr val="073c1e"/>
                </a:solidFill>
                <a:latin typeface="Arial"/>
              </a:rPr>
              <a:t>unordered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collection of items called se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embers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 item is either in the set (is a member) or not in the set (is not a member)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set often is written by enclosing the group of items enclosed in braces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Apple  Pear  Cherry} 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Orange  Cherry  Pear  Apple  Banana}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Generic Set Class and Three Instanc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440" y="1573200"/>
            <a:ext cx="8097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BNF for Generic Unit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66720"/>
            <a:ext cx="91440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subprogram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package_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subprogram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form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program_specific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package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form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_specific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formal_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generic_formal_parameter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_claus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_formal_parameter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object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subprogram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package_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ing_identifier [discriminant_part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fini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BNF for Generic Unit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693800"/>
            <a:ext cx="91440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ing_identifier [discriminant_part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fini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discrete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signed_integer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modular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floating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ordinary_fixed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decimal_fixed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array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private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access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3487680"/>
                <a:tab algn="l" pos="3882960"/>
                <a:tab algn="l" pos="4121280"/>
                <a:tab algn="l" pos="4459320"/>
                <a:tab algn="l" pos="8116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interface_type_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BNF for Generic Units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84520"/>
            <a:ext cx="856764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discrete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&lt;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signed_integer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modular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floating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ordinary_fixed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decimal_fixed_point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 &l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array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_type_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private_type_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imited]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subprogram_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program_specific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_package_declaration   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ing_identifi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ic_package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formal_package_actu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eneric Selection Sor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0280" y="1760400"/>
            <a:ext cx="79246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Element_Type is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rray_Type   is array (Positive range &lt;&gt;) of Element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unction "&lt;" (Left  : in Element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Element_Type) return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Selection_Sort (The_Array : in out Array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urpose  :  Sort an array of elements into a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stantiation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Generic Selection Sor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438200"/>
            <a:ext cx="842184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Part_Rec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_Number : Positi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   : Nat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The array type that we will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Part_Array is array (Positive range &lt;&gt;) of Part_Re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 function to compare two inventory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lt;" (Left  : in Part_Re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: in Part_Rec) return Boolea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Left.Part_Number &lt; Right.Part_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"&lt;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The inventory part sort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art_Sort is new Selection_Sort (Element_Type =&gt; Part_Re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_Type      =&gt; Part_Arr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lt;"                    =&gt; "&l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Generic Binary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00" y="1704960"/>
            <a:ext cx="8793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dex_Type  is (&lt;&gt;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lement_Type is limited priv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rray_Type  is array (Index_Type range &lt;&gt;) of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unction "&lt;" (Left  : in Element_Typ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: in Elemen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unction "=" (Left  : in Element_Typ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: in Element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Binary_Search (List        : in  Array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    : in 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   : out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: out Index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urpose          :  Search List f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reconditions  :  List is in a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Postconditions :  Value is in List and Found and List(Location) =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   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                           Value is not in List and not Found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wo Instantiations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Generic Binary Searc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000" y="1568520"/>
            <a:ext cx="87818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Month_Type is (January, February, March, April, May, June, Ju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, September, October, November, Decemb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at_Array is array (Month_Type range &lt;&gt;) of Nat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t_Array is array (Positive range &lt;&gt;)  of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Nat_Search is new Binary_Search (Element_Type =&gt; Natur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_Type     =&gt; Month_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_Type     =&gt; Nat_Arr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lt;"                   =&gt; "&lt;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="                   =&gt; "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Int_Search is new Binary_Search (Element_Type =&gt; Integ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_Type      =&gt; Posit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_Type      =&gt; Int_Arr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lt;"                    =&gt; Standard."&lt;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="                   =&gt; Standard."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al Se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Empty se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The set with no memb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ritten a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{ }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Universal se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The set containing all the values of a component typ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universal set of fruits would contain all possible fruit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embership Oper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3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Membership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- Is an item a member of a set?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7040" y="2967120"/>
          <a:ext cx="8458200" cy="2414520"/>
        </p:xfrm>
        <a:graphic>
          <a:graphicData uri="http://schemas.openxmlformats.org/drawingml/2006/table">
            <a:tbl>
              <a:tblPr/>
              <a:tblGrid>
                <a:gridCol w="6369120"/>
                <a:gridCol w="2089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Arial"/>
                          <a:ea typeface="Times New Roman"/>
                        </a:rPr>
                        <a:t>Membership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Arial"/>
                          <a:ea typeface="Times New Roman"/>
                        </a:rPr>
                        <a:t>Ans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Apple in the set { Apple  Pear  Cherry 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Kumquat in the set { Apple  Banana  Lemon 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Arial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ion, Intersection,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and Differenc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22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re three operations that form a new set from two existing sets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5080" y="2913120"/>
          <a:ext cx="8259480" cy="3602160"/>
        </p:xfrm>
        <a:graphic>
          <a:graphicData uri="http://schemas.openxmlformats.org/drawingml/2006/table">
            <a:tbl>
              <a:tblPr/>
              <a:tblGrid>
                <a:gridCol w="1650960"/>
                <a:gridCol w="6608520"/>
              </a:tblGrid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Un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The union of two sets is a set consisting of those components that are in the first set </a:t>
                      </a:r>
                      <a:r>
                        <a:rPr b="0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in the second set.  The or used here is the inclusive 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Inters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The intersection of two sets is a set consisting of those components occurring in the first set </a:t>
                      </a:r>
                      <a:r>
                        <a:rPr b="0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in the second s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The difference between two sets is the set of components in the first set that are not in the sec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xamples 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nion, Intersection, and Difference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6440" y="1870200"/>
          <a:ext cx="8872560" cy="4552920"/>
        </p:xfrm>
        <a:graphic>
          <a:graphicData uri="http://schemas.openxmlformats.org/drawingml/2006/table">
            <a:tbl>
              <a:tblPr/>
              <a:tblGrid>
                <a:gridCol w="1708200"/>
                <a:gridCol w="2206800"/>
                <a:gridCol w="1807920"/>
                <a:gridCol w="1579680"/>
                <a:gridCol w="156996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1st S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2nd S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Un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nters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Differ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P Q R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S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P Q R S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P Q R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S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P Q R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P Q R S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S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B C D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B D F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B C D F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B D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C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L N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L M N O P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L M N O P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L N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ubse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bse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a set contained within another set.  A set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a subset of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f each element of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an element of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f at least one element of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not in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, then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is called a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per subse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73c1e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ubset Exampl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1440" y="2693880"/>
          <a:ext cx="8550360" cy="2643120"/>
        </p:xfrm>
        <a:graphic>
          <a:graphicData uri="http://schemas.openxmlformats.org/drawingml/2006/table">
            <a:tbl>
              <a:tblPr/>
              <a:tblGrid>
                <a:gridCol w="1919160"/>
                <a:gridCol w="2355840"/>
                <a:gridCol w="2057400"/>
                <a:gridCol w="2217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irst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cond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is subset</a:t>
                      </a:r>
                      <a:br>
                        <a:rPr sz="2400"/>
                      </a:b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f 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is proper </a:t>
                      </a:r>
                      <a:br>
                        <a:rPr sz="2400"/>
                      </a:b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ubset of 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 E I O U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 B C D E F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 B C D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A B C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X Y Z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W X Y Z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ding and Removing Member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31840" y="2819520"/>
          <a:ext cx="8748720" cy="2301840"/>
        </p:xfrm>
        <a:graphic>
          <a:graphicData uri="http://schemas.openxmlformats.org/drawingml/2006/table">
            <a:tbl>
              <a:tblPr/>
              <a:tblGrid>
                <a:gridCol w="1792080"/>
                <a:gridCol w="1589400"/>
                <a:gridCol w="2730240"/>
                <a:gridCol w="263700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Addition of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Removal of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E I O U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B E I O U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E I O U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B C D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B C D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{A C D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01T18:23:12Z</dcterms:modified>
  <cp:revision>61</cp:revision>
  <dc:subject/>
  <dc:title>Chapter 1</dc:title>
</cp:coreProperties>
</file>