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7019-D200-4FA9-97B6-2D448B660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9C27-AA1D-4452-98A5-7F7DD5F63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54C9-7BB0-4644-B5DB-3AD7424E2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9FA6-D301-4CA9-B972-D820AEDAF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6BAD-9A4C-4443-ABEE-D302FCB5D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3CA1-4FD8-4A9B-B8F0-8FEBF4504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806D-5C80-49C2-9922-9500205C1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EEA9-1190-44A2-9648-B2BEE3AC1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1875-9EEB-49C3-B7DE-9807C5138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3CBF-6516-4F61-A5DB-EEE2878BC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E569-DE66-4903-ADEC-D268279E5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B192-17B7-43AF-A5C6-289B4100A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720" y="0"/>
            <a:ext cx="9140760" cy="213372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C086950D-DD55-42CF-8113-3F4A137C6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HTML/BasicWebPage2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HTML/BasicWebPage3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HTML/BasicWebPage4.htm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addisbooks.com/" TargetMode="External"/><Relationship Id="rId2" Type="http://schemas.openxmlformats.org/officeDocument/2006/relationships/hyperlink" Target="http://www.gaddisbooks.com/" TargetMode="External"/><Relationship Id="rId3" Type="http://schemas.openxmlformats.org/officeDocument/2006/relationships/hyperlink" Target="http://www.gaddisbooks.com/" TargetMode="External"/><Relationship Id="rId4" Type="http://schemas.openxmlformats.org/officeDocument/2006/relationships/hyperlink" Target="file:///SimpleApplet/SimpleApplet.java" TargetMode="External"/><Relationship Id="rId5" Type="http://schemas.openxmlformats.org/officeDocument/2006/relationships/hyperlink" Target="file:///SimpleApplet/SimpleApplet.java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SimpleApplet/SimpleApplet.html" TargetMode="External"/><Relationship Id="rId2" Type="http://schemas.openxmlformats.org/officeDocument/2006/relationships/hyperlink" Target="file:///SimpleApplet/SimpleApplet.html" TargetMode="External"/><Relationship Id="rId3" Type="http://schemas.openxmlformats.org/officeDocument/2006/relationships/hyperlink" Target="file:///TempConverter/TempConverter.java" TargetMode="External"/><Relationship Id="rId4" Type="http://schemas.openxmlformats.org/officeDocument/2006/relationships/hyperlink" Target="file:///TempConverter/TempConverter.java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empConverter/TempConverter.html" TargetMode="External"/><Relationship Id="rId2" Type="http://schemas.openxmlformats.org/officeDocument/2006/relationships/hyperlink" Target="file:///TempConverter/TempConverter.html" TargetMode="External"/><Relationship Id="rId3" Type="http://schemas.openxmlformats.org/officeDocument/2006/relationships/hyperlink" Target="file:///AWTTempConverter/AWTTempConverter.java" TargetMode="External"/><Relationship Id="rId4" Type="http://schemas.openxmlformats.org/officeDocument/2006/relationships/hyperlink" Target="file:///AWTTempConverter/AWTTempConverter.java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AWTTempConverter/TempConverter.html" TargetMode="External"/><Relationship Id="rId2" Type="http://schemas.openxmlformats.org/officeDocument/2006/relationships/hyperlink" Target="file:///AWTTempConverter/TempConverter.html" TargetMode="External"/><Relationship Id="rId3" Type="http://schemas.openxmlformats.org/officeDocument/2006/relationships/hyperlink" Target="file:///LineDemo/LineDemo.java" TargetMode="External"/><Relationship Id="rId4" Type="http://schemas.openxmlformats.org/officeDocument/2006/relationships/hyperlink" Target="file:///LineDemo/LineDemo.java" TargetMode="Externa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LineDemo/LineDemo.html" TargetMode="External"/><Relationship Id="rId2" Type="http://schemas.openxmlformats.org/officeDocument/2006/relationships/hyperlink" Target="file:///LineDemo/LineDemo.html" TargetMode="External"/><Relationship Id="rId3" Type="http://schemas.openxmlformats.org/officeDocument/2006/relationships/hyperlink" Target="file:///RectangleDemo/RectangleDemo.java" TargetMode="External"/><Relationship Id="rId4" Type="http://schemas.openxmlformats.org/officeDocument/2006/relationships/hyperlink" Target="file:///RectangleDemo/RectangleDemo.java" TargetMode="External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RectangleDemo/RectangleDemo.html" TargetMode="External"/><Relationship Id="rId2" Type="http://schemas.openxmlformats.org/officeDocument/2006/relationships/hyperlink" Target="file:///RectangleDemo/RectangleDemo.html" TargetMode="External"/><Relationship Id="rId3" Type="http://schemas.openxmlformats.org/officeDocument/2006/relationships/hyperlink" Target="file:///OvalDemo/OvalDemo.java" TargetMode="External"/><Relationship Id="rId4" Type="http://schemas.openxmlformats.org/officeDocument/2006/relationships/hyperlink" Target="file:///OvalDemo/OvalDemo.java" TargetMode="Externa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OvalDemo/OvalDemo.html" TargetMode="External"/><Relationship Id="rId2" Type="http://schemas.openxmlformats.org/officeDocument/2006/relationships/hyperlink" Target="file:///OvalDemo/OvalDemo.html" TargetMode="External"/><Relationship Id="rId3" Type="http://schemas.openxmlformats.org/officeDocument/2006/relationships/hyperlink" Target="file:///ArcDemo/ArcDemo.java" TargetMode="External"/><Relationship Id="rId4" Type="http://schemas.openxmlformats.org/officeDocument/2006/relationships/hyperlink" Target="file:///ArcDemo/ArcDemo.java" TargetMode="External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HTML/BasicWebPage1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4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ets and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 Structure T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document head come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BODY&gt;&lt;/BODY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cument bod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all of the tags and text that produce output in the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asicWebPage2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E812-9FA7-4313-A4A5-C54EB92C15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Formatting T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HTML tags that you can use to change the appearance of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there are six different header ta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H1&gt;&lt;/H1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H6&gt;&lt;/H6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vel one header appears in boldface, and is much larger than regular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vel two header also appears in boldface, but is smaller than a level one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attern continues with the other header ta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A79E-BF70-4865-8167-035C0636CB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Formatting T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ags allow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 to be used to modify where the text shows on the web p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1 align="center"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1 align="left"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1 align="right"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ld way of centering text is to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center&gt;&lt;/center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g to center a line of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isplay tex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ld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B&gt;&lt;/B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italic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I&gt;&lt;/I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asicWebPage3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CE20-61D7-45B8-9D83-19358F4CA6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s in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BR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g causes a line break to appear at the point in the text where it is inse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XHTML compliant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b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g, and other single element tags, should be written lik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sers usually ignore the newline characters that are created when you press the Enter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P&gt;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Paragraph Tex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g causes a paragraph br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not required, the closing tag should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agraph break typically inserts more space into the text than a line br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F3D3-1BEB-40C0-B6FA-65BA1C8C91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s in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HR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g causes a horizontal rule to appear at the point in the text where it is inse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rizontal rule is a thin, horizontal line that is drawn across the web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asicWebPage4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049E-6479-4C70-A276-065112FC48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ML L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k is some element in a Web page that can be clicked on by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g that is used to insert a link has the following general 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A HREF="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ddress"&gt;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x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appears between the opening and closing tags is the text that will be displayed in the web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b resource that is locat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displayed in the brow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40AD-26ED-4F35-A27B-F4F0CF7F1B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ML L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ddress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form resource locat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dress is enclosed in quotation ma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 HREF="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gaddisbook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&gt;Click here to go tothe textbook's web site.&lt;/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Link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10F7-72E9-4FDB-9C50-0EBEDDC943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pplets With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 are very similar to the GUI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displaying its own window, an applet appears in the browser’s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s between GUI application code and applet code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UI application class is derived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let class is derived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is part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x.sw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UI application class has a constructor that creates other components and sets up the G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let class does not normally have a constr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, it has a method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performs the same operations as a constr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2C74-A57B-4C2C-85E8-F5EA1B4372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pplets With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s are (continued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ethods are not called in an appl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DefaultClose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 needed to creat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rowser creates an instance of the class automat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impleApplet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SimpleApplet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D520-719C-4AB4-9469-D834AD507E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 an App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523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of running an applet is different from that of running an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un an applet, create an HTML document with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g, which has the following general form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PPL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=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ilename.class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WIDTH=“width_valu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HEIGHT=“height_value”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&g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ini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nion-Regular"/>
              </a:rPr>
              <a:t>Don’t forget the closing angle br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ini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nion-Regular"/>
              </a:rPr>
              <a:t>Attributes should be enclosed in quo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343400"/>
            <a:ext cx="2806920" cy="685800"/>
          </a:xfrm>
          <a:custGeom>
            <a:avLst/>
            <a:gdLst/>
            <a:ahLst/>
            <a:rect l="l" t="t" r="r" b="b"/>
            <a:pathLst>
              <a:path w="3072" h="584">
                <a:moveTo>
                  <a:pt x="2696" y="584"/>
                </a:moveTo>
                <a:cubicBezTo>
                  <a:pt x="2884" y="440"/>
                  <a:pt x="3072" y="296"/>
                  <a:pt x="2696" y="200"/>
                </a:cubicBezTo>
                <a:cubicBezTo>
                  <a:pt x="2320" y="104"/>
                  <a:pt x="880" y="16"/>
                  <a:pt x="440" y="8"/>
                </a:cubicBezTo>
                <a:cubicBezTo>
                  <a:pt x="0" y="0"/>
                  <a:pt x="28" y="76"/>
                  <a:pt x="56" y="15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581280"/>
            <a:ext cx="4267440" cy="1905120"/>
          </a:xfrm>
          <a:custGeom>
            <a:avLst/>
            <a:gdLst/>
            <a:ahLst/>
            <a:rect l="l" t="t" r="r" b="b"/>
            <a:pathLst>
              <a:path w="2648" h="1504">
                <a:moveTo>
                  <a:pt x="1728" y="1504"/>
                </a:moveTo>
                <a:cubicBezTo>
                  <a:pt x="2188" y="1240"/>
                  <a:pt x="2648" y="976"/>
                  <a:pt x="2496" y="736"/>
                </a:cubicBezTo>
                <a:cubicBezTo>
                  <a:pt x="2344" y="496"/>
                  <a:pt x="1232" y="128"/>
                  <a:pt x="816" y="64"/>
                </a:cubicBezTo>
                <a:cubicBezTo>
                  <a:pt x="400" y="0"/>
                  <a:pt x="136" y="304"/>
                  <a:pt x="0" y="35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8FEC-36B9-4E5A-8688-61723576BF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4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rief Introduction to 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pplets with S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WT for Por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 Sh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Mouse a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ing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0B78-30D2-45B8-9DE2-A219EC634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 an App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lename.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compiled bytecode of the applet, no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optionally specify a path along with the file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specify only the file name, it is assumed that the file is in the same directory as the 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ow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 specified byte cod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it in an area that is the size specified by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dth_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ight_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6240-2722-4381-9C1E-4F7DDC1491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ppletvie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letviewer</a:t>
            </a: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loads and executes an applet without the need for a Web brow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unning the program, specify the name of an HTML document as a command line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etviewer SimpleApplet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mmand executes any applet referenced by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g in the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pleApplet.ht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document has more than on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g, it will execute each applet in a separat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CD18-7E22-4F1A-A429-20AD3A708A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t Event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in applets are handled with event listeners exactly as they are in GUI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empConverter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TempConverter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A4E9-AD07-405A-855E-09B7EDE9F6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WT  for Por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is the original library that has been part of Java since its earliest ver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is an improved library that was introduced with Java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browsers do not directly support the Swing classes in appl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browsers requir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ug-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un swing apple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lug-in is automatically installed on a computer when the Java SDK is insta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343C-C014-4134-8C24-ABC699CAD8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WT  for Por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eople running applets might not have the required plug-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WT classes can be used instead of the Swing classes for the components in the appl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WT component cla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corresponding AWT class for each of the Swing classes covered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s of the AWT classes names do not start with the letter 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WTTempConvert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TempConvert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htm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E6F1-3E4B-44CA-BEB5-0A75611BBD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have an associat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that may be used to draw lines and sha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llows drawing of lines and graphical shapes such as rectangles, ovals, and ar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or panels can become a canvas for your draw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E52C-79F8-4884-835E-2F827D353C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 Coordin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cation of each pixel in a component is identified with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 an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ordinates are usually written in the 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Cartesian coordinates, the upper-left corner of a drawing area (0,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s increase from left to right, a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s increase from top to bot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rawing a line or shape on a component, you must indicate its position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5262-1D43-40D4-BB5D-2BAF9E7F79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has an internal object that is derived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, which is part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object has numerous methods for drawing graphical shapes on the surface of th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9E8A-8C7D-49F6-A2C8-0350887D8E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Color(Color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Sets the drawing color for this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lor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eturns the current drawing color for this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Line(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y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y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raws a line on the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Rect(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raws the outline of a rectangle on the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lOval(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raws a filled o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String(String str, int x, int 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raws the string passed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current f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8453-96BF-49CD-B034-BA87BDF9E1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call these methods, you must get a reference to a component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ay to do this is to overrid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overrid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n any class that is derived fro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AW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responsible for displaying, or “painting,” a component on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E2DF-88E2-4ACE-8BCD-EBA839EC4B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App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types of programs you can create with Ja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stand-alone program that runs on your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e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Java programs that are usually part of a Web s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user opens the Web site with a Java-enabled browser, the applet is executed inside the browser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F89D-834F-40CF-BE0D-471A3ADAE9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 automatically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component is first displaye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time the component needs to be redispl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ader for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(Graphics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’s argu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, which is automatically passed by the calling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rid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, allows drawing of graphics 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argume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ine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Line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A6A7-0993-4115-8CAB-8F7E652AB2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argument is responsible for drawing the entire applet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dvisable to call the base class paint method pas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s an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(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Line(20, 20, 280, 28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red diagonal line drawn from the top-left area of the applet window to the bottom-right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87F4-4EC4-40D0-8A5E-E8DF1D7CE9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tangles can be drawn or fil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10, 10, 50, 5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10, 10, 50, 5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lR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rawR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 four integers as 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Rect(int x, int y, int width, int 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ectangle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Rectangle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513B-EFD0-4A61-BC76-846CD2FB2C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als and Bounding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ls are created by drawing the oval inside of a “bounding rectangl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ctangle is invisible to the viewer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Oval(x, y, width, he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820600" y="3505320"/>
            <a:ext cx="5756760" cy="2590200"/>
            <a:chOff x="2820600" y="3505320"/>
            <a:chExt cx="5756760" cy="2590200"/>
          </a:xfrm>
        </p:grpSpPr>
        <p:sp>
          <p:nvSpPr>
            <p:cNvPr id="152" name=""/>
            <p:cNvSpPr/>
            <p:nvPr/>
          </p:nvSpPr>
          <p:spPr>
            <a:xfrm>
              <a:off x="3962520" y="4038480"/>
              <a:ext cx="3581280" cy="205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038480"/>
              <a:ext cx="3581280" cy="205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0600" y="419076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x,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581280" y="4038120"/>
              <a:ext cx="381240" cy="456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62520" y="3885840"/>
              <a:ext cx="358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800" y="350532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d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696080" y="4038480"/>
              <a:ext cx="0" cy="205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73480" y="480024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7200" y="3962520"/>
            <a:ext cx="26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OvalDemo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OvalDemo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D37F-5C6D-47AD-A7B6-4C355F60BC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812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cs are drawn from the 90 degree position counterclockwise and can be filled or unfill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Arc(0, 20, 120, 120, 0, 9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Arc(0, 20, 120, 120, 0, 9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illAr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drawAr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ke six integers as paramete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Arc(int x, int y, int width, int height, int start, int e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cDemo.ja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cDemo.ht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81480" y="4343400"/>
            <a:ext cx="3035520" cy="20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D3DC-784A-49BD-8072-072F24044C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g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gons are drawn using arrays of integers representing x, y co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xCoords={60,100,140,140,100,60,20,20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yCoords={20,20,60,100,140,140,100,60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6400800" cy="29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E3EC-E343-45CF-AA98-D79FD461F72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g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lPolyg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rawPolyg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 the arrays as 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gonDem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gonDemo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12CA-B2AA-48D1-A386-1C0744DEE4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pai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call a component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utomatically called when the component must be redispla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force the application or applet to call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pa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pa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clears the surface of the component and then call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5012-F2CA-44B8-86F9-1581608936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 on Pa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on a panel, get a reference to the panel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and use that object’s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graphics are drawn only on the p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a reference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is similar to previous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overrid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, override i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rue for all Swing components excep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5488-61AA-4E62-9588-E1A1FA766F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 on Pa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serves the same purpose a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 is called, the component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is passed as an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verriding this method, first call the base class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8517-D956-4036-8FD3-1E39DD2FD20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App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ppears to the user that the applet is part of the Web s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 are stored on a Web server along with the site’s Web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 associated with a viewed web page are transmitted to the user’s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the applets are transmitted, the user’s system executes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 can be used to extend the capabilities of a Web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E9BF-5AC3-4BB3-8B83-81FABDF235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 on Pa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is you can call any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’s methods to draw on th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sWindow.jav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Panel.jav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sWindow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5443-0F33-43C9-BF0A-44B373F5ADF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Mou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use generates two types of ev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se events and mouse motion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omponent derived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an handle events generated by the m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andle mouse events you cre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use listen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and/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use motion listen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415C-A429-491B-9F60-ACDBD1B1701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Mou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use listener class can respond to any of the follow ev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use button is pr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use button is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use button is clicked on (pressed, then released without moving the mou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use cursor enters a component’s scree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use cursor exits a component’s scree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use listener class must implement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16ED-6900-40B3-9B74-675FC1871F9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se Listener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ousePressed(MouseEvent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if the mouse button is pressed over the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ouseClicked(MouseEvent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if the mouse is pressed and released over the component without moving the mo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ouseReleased(MouseEvent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when the mouse button is rele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ouseEntered(MouseEvent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when the mouse cursor enters the screen area of the component.</a:t>
            </a:r>
            <a:r>
              <a:rPr b="0" lang="en-US" sz="2000" spc="-1" strike="noStrike">
                <a:solidFill>
                  <a:srgbClr val="000000"/>
                </a:solidFill>
                <a:latin typeface="OfficinaSerif-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ouseExited(MouseEvent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thod is called when the mouse cursor leaves the screen area of the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39CA-336F-4657-800A-1BD6E7151D1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ontains data about the mouse ev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wo common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retur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s of the mouse cursor when the event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mouse listener class is created, it can be registered with a component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3EE9-3379-492B-9184-77CF431FAC9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se Moti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ropriate methods in the mouse listener class are automatically called when their corresponding mouse events occ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use motion listener class can respond to the following ev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use is drag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use m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use motion listener class must implemen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 and it’s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70DD-5BA6-4C5B-B1DE-907B1E270CD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se Motion Listener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void mouseDragged(MouseEvent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when a dragging operation begins over the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is always called just before this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ouseMoved(MouseEvent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when the mouse cursor is over the component and it is m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seEvents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seEv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2BFF-5A16-4892-AF8D-62E3968999A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dapt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use listener class must implemen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methods required by the interfaces they i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y of the methods are omitted, a compiler error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es provide empty implementations of the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serve as base classes for mouse listener and mouse motion listen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DrawBoxes.java, DrawBoxes.html, DrawBoxes2.java, DrawBoxes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652C-48A9-47E7-B013-8D7AA608B49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automatically generate action events at regular time interv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useful when you want a program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an operation at certain time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n amount of time has pa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are creat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neral forma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constru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r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dela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liste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7FE9-57D2-4AC1-96FC-262192EC312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del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is the amount of time between action events in milli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listen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is a reference to an action listener to be register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cause no action listener to be regist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can register an action listener after the object’s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F335-AAC4-4339-AB33-117669616CB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App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s are normally written in Hypertext Markup Language (HTM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is static content; whereas, applets are dynam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et does not have to be on a web server in order to be exec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be stored on the local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97CA-3751-4807-9C1B-3962FEE425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addActionListener (ActionListener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sters the object referenced by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listene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n action liste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getDela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the current time delay in milliseco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isRunning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true if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 is run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Delay(int de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s the time delay in milliseco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tar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t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10ED-5A62-41B2-81BD-585EB4EC25F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ication can us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to automatically execute code at regular time interv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cingBall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cingBall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F3B3-DDF1-4A2F-9594-D1A30007160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ing A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grams can play audio that is stored in a variety sound file form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if or .aiff (Macintosh Audio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u (Sun Audio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id or .rmi (MIDI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wav (Windows Wav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ay to play an audio file is to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version of this method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lay(URL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baseLocation, String file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1D61-4B50-4CE3-BF49-95C03942B48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ing A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gument passed to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baseLoca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that specifies the location of th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gument passed to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d name of th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nd that is recorded in the file is played on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Document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Code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can get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for the first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FF47-76E8-4495-B34A-74BAE70821D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ing A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Document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ontaining the location of the HTML file that invoked the appl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lay(getDocumentBase(), "mysound.wav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Code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ontaining the location of the applet’s .class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lay(getCodeBase(), "mysound.wav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ound file specified by the arguments to the play method cannot be found, no sound will be pla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369E-D593-4319-AE4B-C0761072D22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’s play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s a sound fil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s it one time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s it for garbage col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need to load a sound file to be played multiple times, use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is an object that implement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uidoCli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661E-BEEB-4621-8056-A8C2EF7BBC4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 specifies the following three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lays a sound one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epeatedly plays a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 causes a sound to stop pla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AudioCl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can be used to creat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dioClip getAudioClip(URL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baseLoc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ring file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return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that can be used to play the sound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AudioDemo2.java, AudioDemo2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CEBB-DFBF-414B-A88E-44A3D5ADC0E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ing Audio in an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944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ing audio in from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lightly different than playing audio from an app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209680"/>
            <a:ext cx="8077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reate a file object for the step.wav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 file = new File("step.wav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t a URI object for the audio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I uri = file.toURI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t a URL for the audio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url = uri.toUR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t an AudioClip object for the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file using the Applet class's st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newAudioClip meth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nd = Applet.newAudioClip(ur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581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udioDemo3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38F9-0AE9-479A-AA0E-108C984A9B9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t 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 run on the user’s system, not the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ecurity purposes, applets can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he local computer file syst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any other program on the user’s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operating system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information about the user or their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network connections with any system except the server from which the applet was transmit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anonymou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applet displays a window, it will automatically have a message such as “Warning: Applet Window” displayed in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4121-FF9F-4F63-A38A-AEFA855B64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ext Markup Language (HTML) is the language that Web pages are written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ypertex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tain a link to other content on the web page, or another web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up Langu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“mark up” a text file by inserting special instr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instructions tell the browser how to format the text and create any hypertext lin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a web page, create a text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ontains HTML instruction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g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t that should be displayed on the Web pag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has a .html file ext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0A91-07EA-4232-86E9-A4A8ED9A29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ocument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ML docu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gs instruct the brow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at the tex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o place imag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o do when the user clicks on a link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HTML tags have an opening tag and a closing tag.</a:t>
            </a: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AG_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xt&lt;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AG_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gs are enclosed in angle brackets (&lt; &gt;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osing tag is preceded by a forward slash (/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267080"/>
            <a:ext cx="3810240" cy="1219320"/>
          </a:xfrm>
          <a:custGeom>
            <a:avLst/>
            <a:gdLst/>
            <a:ahLst/>
            <a:rect l="l" t="t" r="r" b="b"/>
            <a:pathLst>
              <a:path w="2632" h="736">
                <a:moveTo>
                  <a:pt x="2544" y="736"/>
                </a:moveTo>
                <a:cubicBezTo>
                  <a:pt x="2588" y="480"/>
                  <a:pt x="2632" y="224"/>
                  <a:pt x="2208" y="112"/>
                </a:cubicBezTo>
                <a:cubicBezTo>
                  <a:pt x="1784" y="0"/>
                  <a:pt x="892" y="32"/>
                  <a:pt x="0" y="6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EE00-6063-4E3C-BEBA-95B445D0A1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 Structure T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HTML&gt;&lt;/HTML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g marks the beginning and ending of an HTML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HEAD&gt;&lt;/HEAD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cument h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section containing information about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cument head contain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TITLE&gt; &lt;/TITLE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g, which is contains the title of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asicWebPage1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F45F-BB34-458B-A4BE-645E269D18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4:42:30Z</dcterms:created>
  <dc:creator>mlong</dc:creator>
  <dc:description/>
  <dc:language>en-US</dc:language>
  <cp:lastModifiedBy>test</cp:lastModifiedBy>
  <cp:lastPrinted>2009-04-22T19:24:48Z</cp:lastPrinted>
  <dcterms:modified xsi:type="dcterms:W3CDTF">2007-02-20T16:57:39Z</dcterms:modified>
  <cp:revision>45</cp:revision>
  <dc:subject/>
  <dc:title>Starting Out With Java Chapter </dc:title>
</cp:coreProperties>
</file>