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E835-6810-4250-9CF7-2C50F37EB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6386-9AEF-4F67-A9F8-6655CBDCD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DAE7-CD69-4AEF-B498-FD90B9CE9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4E28-D59A-443C-93DC-DEEAE09D7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7F0E-46B7-437F-85A5-668B8E5DA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0B90-4C1F-406F-9E15-82CBF322A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57DA-E552-4BC3-8C02-3AA4906C8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2FB9-F7B5-4058-A3CE-9D968F743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1A6D-D9EC-408C-B213-EE91F710C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C370-257F-4356-AD34-BA68BDFFA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CDA2-93C7-4F1F-B411-4C7EF137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0C08-636F-4288-8250-81401947A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0ACAB1A-FF39-435E-8713-84ED2D55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nvalidSubscript.java" TargetMode="External"/><Relationship Id="rId2" Type="http://schemas.openxmlformats.org/officeDocument/2006/relationships/hyperlink" Target="file:///InvalidSubscript.java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rrayInitialization.java" TargetMode="External"/><Relationship Id="rId2" Type="http://schemas.openxmlformats.org/officeDocument/2006/relationships/hyperlink" Target="file:///ArrayInitialization.java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ayArray.java" TargetMode="External"/><Relationship Id="rId2" Type="http://schemas.openxmlformats.org/officeDocument/2006/relationships/hyperlink" Target="file:///PayArray.java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DisplayTestScores.java" TargetMode="External"/><Relationship Id="rId2" Type="http://schemas.openxmlformats.org/officeDocument/2006/relationships/hyperlink" Target="file:///DisplayTestScores.java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SameArray.java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PassElements.java" TargetMode="External"/><Relationship Id="rId2" Type="http://schemas.openxmlformats.org/officeDocument/2006/relationships/hyperlink" Target="file:///PassElements.java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PassArray.jav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SalesData.java" TargetMode="External"/><Relationship Id="rId2" Type="http://schemas.openxmlformats.org/officeDocument/2006/relationships/hyperlink" Target="file:///SalesData.java" TargetMode="External"/><Relationship Id="rId3" Type="http://schemas.openxmlformats.org/officeDocument/2006/relationships/hyperlink" Target="file:///Sales.jav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ReturnArray.java" TargetMode="External"/><Relationship Id="rId2" Type="http://schemas.openxmlformats.org/officeDocument/2006/relationships/hyperlink" Target="file:///ReturnArray.java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MonthDays.java" TargetMode="External"/><Relationship Id="rId2" Type="http://schemas.openxmlformats.org/officeDocument/2006/relationships/hyperlink" Target="file:///MonthDays.java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ObjectArray.java" TargetMode="External"/><Relationship Id="rId2" Type="http://schemas.openxmlformats.org/officeDocument/2006/relationships/hyperlink" Target="file:///ObjectArray.java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SearchArray.java" TargetMode="External"/><Relationship Id="rId2" Type="http://schemas.openxmlformats.org/officeDocument/2006/relationships/hyperlink" Target="file:///SearchArray.java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CorpSales.java" TargetMode="External"/><Relationship Id="rId2" Type="http://schemas.openxmlformats.org/officeDocument/2006/relationships/hyperlink" Target="file:///CorpSales.java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Lengths.java" TargetMode="Externa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Pass2Darray.java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SelectionSortDemo.java" TargetMode="External"/><Relationship Id="rId2" Type="http://schemas.openxmlformats.org/officeDocument/2006/relationships/hyperlink" Target="file:///SelectionSortDemo.java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BinarySearchDemo.java" TargetMode="External"/><Relationship Id="rId2" Type="http://schemas.openxmlformats.org/officeDocument/2006/relationships/hyperlink" Target="file:///BinarySearchDemo.java" TargetMode="Externa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CommandLine.java" TargetMode="External"/><Relationship Id="rId2" Type="http://schemas.openxmlformats.org/officeDocument/2006/relationships/hyperlink" Target="file:///CommandLine.java" TargetMode="Externa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ArrayListDemo1.java" TargetMode="Externa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ArrayListDemo3.java" TargetMode="Externa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ArrayListDemo4.java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ArrayListDemo6.java" TargetMode="External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GenericArrayListDemo1.java" TargetMode="External"/><Relationship Id="rId2" Type="http://schemas.openxmlformats.org/officeDocument/2006/relationships/hyperlink" Target="file:///GenericArrayListDemo2.jav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ArrayDemo1.java" TargetMode="External"/><Relationship Id="rId2" Type="http://schemas.openxmlformats.org/officeDocument/2006/relationships/hyperlink" Target="file:///ArrayDemo2.java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ays and the ArrayLis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indexes always start at zero and continue to (array length -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ues = new int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rray would have indexes 0 through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validSubscrip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s, it is typical to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, j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counting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ight help to think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representing the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5176-7997-4D6E-8381-5CC612651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-by-One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very easy to be off-by-one when accessing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his code has an off-by-one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1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&lt;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s[i] = 9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, the equal sign allows the loop to continue on to index 100, where 99 is the last index in the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would throw an </a:t>
            </a:r>
            <a:r>
              <a:rPr b="0" lang="en-US" sz="3200" spc="-1" strike="noStrike">
                <a:solidFill>
                  <a:srgbClr val="ff3300"/>
                </a:solidFill>
                <a:latin typeface="Courier New"/>
              </a:rPr>
              <a:t>ArrayIndexOutOfBounds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1166-E067-40D8-A651-E07DDB9A5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latively few items need to be initialized, an initialization list can be used to initialize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days = {31, 28, 31, 30, 31, 30, 31, 31, 30, 31, 30, 31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s in the list are stored in the array in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ys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signed 3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ys[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signed 2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ys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signed 3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ys[3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signed 3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rayInitializat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0CC-9564-4D94-B0E3-701A77B9E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Array Decl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we showed arrays being decla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brackets can also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umbers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equivalent but the first style is typ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arrays can be declared on the sam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, codes, sco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alternate notation each variable must have bra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umbers[], codes[], sco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in this instance is sim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FFCC-6CF3-4982-AD3D-BC5941A9F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ing Arra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data in an array is the same as any othe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ssPay = hours[3] * payR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and post increment works the s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score = {7, 8, 9, 10, 1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score[2]; // Pre-increment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ore[4]++; // Post-increment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yArra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C834-A6EB-4A73-B701-9D35FA553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ing Arra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elements can be used in relation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cost[20] &lt; cost[0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be used as loop con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value[count] !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E168-6849-4E0A-AD79-0B1290284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objects and provide a public fiel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 a constant that can be t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[] temperatures = new double[2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this array is 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n array can be obtained via i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ize = temperatures.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ontain 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C94D-EA82-4FF1-AB65-200FFE180E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hance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array processing (read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goes through al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data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lementVari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bers = {3, 6, 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val :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next value is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36F3-5869-4956-A496-3D34A1632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ant can be used in a loop to provide automatic bou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emperature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emperature " + i ":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temperature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666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dex subscripts  start at 0 and end at one 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the array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42840" y="3124080"/>
            <a:ext cx="609480" cy="9144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81280" y="3048120"/>
            <a:ext cx="1905120" cy="99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DD64-0810-4C96-AA68-CAB68EDCD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let the user specify the size of an arr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T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How many tests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do you have?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Tests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s = new int[numTes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isplayTestScores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2139-2923-4F01-A7D9-FAA130D36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ing Array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s as Arguments to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ful Array Algorithms an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Arrays from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72CD-114F-4410-B0F4-69BBE9CB0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reference can be assigned to another array of the sam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reate an array referenced by the numbers vari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eassign numbers to a new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 = new int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first (10 element) array no longer has a reference to it, it will be garbage col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0DCE-BE2A-4DB8-AE67-226C4B3827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95680" y="1905120"/>
            <a:ext cx="3809880" cy="380880"/>
            <a:chOff x="4495680" y="1905120"/>
            <a:chExt cx="3809880" cy="380880"/>
          </a:xfrm>
        </p:grpSpPr>
        <p:sp>
          <p:nvSpPr>
            <p:cNvPr id="155" name=""/>
            <p:cNvSpPr/>
            <p:nvPr/>
          </p:nvSpPr>
          <p:spPr>
            <a:xfrm>
              <a:off x="4495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8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2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3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43200" y="32004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200" y="2987640"/>
            <a:ext cx="23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5" idx="3"/>
            <a:endCxn id="155" idx="1"/>
          </p:cNvCxnSpPr>
          <p:nvPr/>
        </p:nvCxnSpPr>
        <p:spPr>
          <a:xfrm flipV="1">
            <a:off x="3733920" y="2095200"/>
            <a:ext cx="762480" cy="12960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661280" y="2666880"/>
            <a:ext cx="3594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23FD-37B8-4DC9-AD21-190921115D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495680" y="1905120"/>
            <a:ext cx="3809880" cy="380880"/>
            <a:chOff x="4495680" y="1905120"/>
            <a:chExt cx="3809880" cy="380880"/>
          </a:xfrm>
        </p:grpSpPr>
        <p:sp>
          <p:nvSpPr>
            <p:cNvPr id="171" name=""/>
            <p:cNvSpPr/>
            <p:nvPr/>
          </p:nvSpPr>
          <p:spPr>
            <a:xfrm>
              <a:off x="4495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57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2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43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4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4648320"/>
            <a:ext cx="1904400" cy="380880"/>
            <a:chOff x="4648320" y="4648320"/>
            <a:chExt cx="1904400" cy="380880"/>
          </a:xfrm>
        </p:grpSpPr>
        <p:sp>
          <p:nvSpPr>
            <p:cNvPr id="182" name=""/>
            <p:cNvSpPr/>
            <p:nvPr/>
          </p:nvSpPr>
          <p:spPr>
            <a:xfrm>
              <a:off x="464832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8840" y="46483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096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71840" y="46483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743200" y="32004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200" y="2987640"/>
            <a:ext cx="23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7" idx="3"/>
            <a:endCxn id="182" idx="1"/>
          </p:cNvCxnSpPr>
          <p:nvPr/>
        </p:nvCxnSpPr>
        <p:spPr>
          <a:xfrm>
            <a:off x="3733920" y="3390840"/>
            <a:ext cx="915120" cy="144864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040720" y="3962520"/>
            <a:ext cx="2741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 = new int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2666880"/>
            <a:ext cx="38862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array gets mark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1828800"/>
            <a:ext cx="60948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1" idx="0"/>
            <a:endCxn id="192" idx="4"/>
          </p:cNvCxnSpPr>
          <p:nvPr/>
        </p:nvCxnSpPr>
        <p:spPr>
          <a:xfrm flipH="1" flipV="1">
            <a:off x="6324120" y="2437560"/>
            <a:ext cx="191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BEA5-371A-4825-8592-36A0F2A99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ay to copy a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1 = { 2, 4, 6, 8, 10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2 = array1; // This does not copy array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038480"/>
            <a:ext cx="9903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39020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old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to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502920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160" y="489276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old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to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7" idx="3"/>
            <a:endCxn id="196" idx="1"/>
          </p:cNvCxnSpPr>
          <p:nvPr/>
        </p:nvCxnSpPr>
        <p:spPr>
          <a:xfrm flipV="1">
            <a:off x="3580920" y="3390120"/>
            <a:ext cx="83916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9" idx="3"/>
            <a:endCxn id="196" idx="1"/>
          </p:cNvCxnSpPr>
          <p:nvPr/>
        </p:nvCxnSpPr>
        <p:spPr>
          <a:xfrm flipV="1">
            <a:off x="3580920" y="3390480"/>
            <a:ext cx="839160" cy="1829520"/>
          </a:xfrm>
          <a:prstGeom prst="bentConnector3">
            <a:avLst>
              <a:gd name="adj1" fmla="val 738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480060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3200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45200" y="4181400"/>
            <a:ext cx="293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ameArra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5FF3-2E6B-4D6E-B2E5-FA6FFC5B34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copy an array by merely assigning one reference variabl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copy the individual elements of one array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firstArray = {5, 10, 15, 20, 25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secondArray = new int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firstArray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Array[i] = firstArray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copies each element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rstArr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corresponding element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condArr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BD4B-DD95-4978-802D-0EE9C44B6B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rray Elements to a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ingle element of an array is passed to a method it is handled like any othe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ssElement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ften you will want to write methods to process array data by passing the entire array, not just one element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90F7-E1FA-41F2-9255-1E16E4D4C7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rray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references can be passed to methods like any other object referenc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0240" y="3276720"/>
            <a:ext cx="6855840" cy="3065760"/>
            <a:chOff x="840240" y="3276720"/>
            <a:chExt cx="6855840" cy="3065760"/>
          </a:xfrm>
        </p:grpSpPr>
        <p:sp>
          <p:nvSpPr>
            <p:cNvPr id="215" name=""/>
            <p:cNvSpPr/>
            <p:nvPr/>
          </p:nvSpPr>
          <p:spPr>
            <a:xfrm>
              <a:off x="4648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0080" y="3352680"/>
              <a:ext cx="3812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2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09680" y="4038480"/>
              <a:ext cx="9907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0240" y="327672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howArray(number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0" idx="3"/>
              <a:endCxn id="215" idx="1"/>
            </p:cNvCxnSpPr>
            <p:nvPr/>
          </p:nvCxnSpPr>
          <p:spPr>
            <a:xfrm flipV="1">
              <a:off x="3200400" y="3542760"/>
              <a:ext cx="1448640" cy="68652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6553080" y="3352680"/>
              <a:ext cx="3812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4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8840" y="4876920"/>
              <a:ext cx="5804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blic static void showArray(int[] arra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nt i = 0; i &lt; array.length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ystem.out.print(array[i] + " 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66688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4419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47242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647600" y="4038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ssArra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CFF5-9A67-43A0-804A-B6D6C0B51E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determines only whether array references point to the same array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are the cont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5520" y="2590920"/>
            <a:ext cx="58957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firstArray = { 2, 4, 6, 8, 10 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secondArray = { 2, 4, 6, 8, 10 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arraysEqual = tru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firstArray.length != secondArray.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raysEqual = fals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ile (arraysEqual &amp;&amp; i &lt; firstArray.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firstArray[i] != secondArray[i]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raysEqual = fals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arraysEq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ystem.out.println("The arrays are equal.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ystem.out.println("The arrays are not equal.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939-5E45-454E-AC45-05C7A388D0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Array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Highes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[] numbers = new int[5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ighest = numbers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i = 1; i &lt; numbers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umbers[i] &gt; high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ghest = numbers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Lowes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owest = numbers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i = 1; i &lt; numbers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umbers[i] &lt; low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west = numbers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87F5-9F85-4A52-BC19-CC6C9E1A75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Array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ing Array Elem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 = 0; // Initialize accu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unit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units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ing Array Elem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total = 0; // Initialize accu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average; // Will hold the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score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scores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erage = total / score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alesData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ales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F741-53A2-4181-96B1-90F71CEC12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quential Searc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with Three or More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ion Sort and the 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-Lin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6A5A-42D1-4F70-B99B-9F524CC48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ally Filled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if the amount of data that an array must hold is unkn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the array to the largest expected number of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counting variable to keep track of how much valid data is in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 = new int[1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or -1 to quit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umber != -1 &amp;&amp; count &lt;= 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[count] =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or -1 to quit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5410080"/>
            <a:ext cx="3200400" cy="733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input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number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board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 were previously declared and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board 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references a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canner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E811-2323-4CE7-83C8-E7FACA8140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a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ving the contents of an array to a fi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bers = {10, 20, 30, 40, 5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putFil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rintWriter ("Value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println(number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D60C-7EEB-4583-8C74-5A4D9FD884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a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contents of a file into an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SIZE = 5;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// Assuming we know the size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SIZE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file = new File ("Values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File.hasNext() &amp;&amp; i &lt; numbers.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s[i] = inputFile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4AC5-83EE-4527-A848-1940D622EA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an Array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can return a reference to an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type of the method must be declared as an array of the right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uble[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Arra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uble[] 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{ 1.2, 2.3, 4.5, 6.7, 8.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eturn arr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a public static method that returns an array of doubles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turnArra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F972-52A4-4788-AD03-966089874B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not limited to primi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can be cre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[] names = { "Bill", "Susan", "Steven", "Jean"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80" y="32925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90160" y="329256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is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reference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71600" y="3962520"/>
            <a:ext cx="4114800" cy="2133360"/>
            <a:chOff x="1371600" y="3962520"/>
            <a:chExt cx="4114800" cy="2133360"/>
          </a:xfrm>
        </p:grpSpPr>
        <p:sp>
          <p:nvSpPr>
            <p:cNvPr id="253" name=""/>
            <p:cNvSpPr/>
            <p:nvPr/>
          </p:nvSpPr>
          <p:spPr>
            <a:xfrm>
              <a:off x="1371600" y="3962520"/>
              <a:ext cx="9907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648320" y="4572000"/>
              <a:ext cx="838080" cy="1523880"/>
              <a:chOff x="4648320" y="4572000"/>
              <a:chExt cx="838080" cy="1523880"/>
            </a:xfrm>
          </p:grpSpPr>
          <p:sp>
            <p:nvSpPr>
              <p:cNvPr id="255" name=""/>
              <p:cNvSpPr/>
              <p:nvPr/>
            </p:nvSpPr>
            <p:spPr>
              <a:xfrm>
                <a:off x="4648320" y="457200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ll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48320" y="4952880"/>
                <a:ext cx="8380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sa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48320" y="533412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eve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48320" y="571500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ea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3048120" y="457200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4952880"/>
              <a:ext cx="76176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8120" y="533412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8120" y="571500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5120" y="495288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5120" y="457200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5120" y="571500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5120" y="533412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59" idx="3"/>
              <a:endCxn id="255" idx="1"/>
            </p:cNvCxnSpPr>
            <p:nvPr/>
          </p:nvCxnSpPr>
          <p:spPr>
            <a:xfrm>
              <a:off x="3809520" y="476208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0" idx="3"/>
              <a:endCxn id="256" idx="1"/>
            </p:cNvCxnSpPr>
            <p:nvPr/>
          </p:nvCxnSpPr>
          <p:spPr>
            <a:xfrm>
              <a:off x="3809520" y="514332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1" idx="3"/>
              <a:endCxn id="257" idx="1"/>
            </p:cNvCxnSpPr>
            <p:nvPr/>
          </p:nvCxnSpPr>
          <p:spPr>
            <a:xfrm>
              <a:off x="3809520" y="55242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2" idx="3"/>
              <a:endCxn id="258" idx="1"/>
            </p:cNvCxnSpPr>
            <p:nvPr/>
          </p:nvCxnSpPr>
          <p:spPr>
            <a:xfrm>
              <a:off x="3809520" y="590508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3" idx="3"/>
              <a:endCxn id="259" idx="0"/>
            </p:cNvCxnSpPr>
            <p:nvPr/>
          </p:nvCxnSpPr>
          <p:spPr>
            <a:xfrm>
              <a:off x="2361960" y="4152960"/>
              <a:ext cx="1067400" cy="41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2" name=""/>
          <p:cNvSpPr/>
          <p:nvPr/>
        </p:nvSpPr>
        <p:spPr>
          <a:xfrm>
            <a:off x="5851440" y="4460760"/>
            <a:ext cx="26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nthDay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5B47-655E-4AAA-A5AB-0C6BBA60FB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itialization list is not provided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word must be used to create the arra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new String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240" y="30639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419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8006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51814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5562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800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5562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51814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6" idx="3"/>
            <a:endCxn id="277" idx="0"/>
          </p:cNvCxnSpPr>
          <p:nvPr/>
        </p:nvCxnSpPr>
        <p:spPr>
          <a:xfrm>
            <a:off x="2285640" y="4000680"/>
            <a:ext cx="10674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4800600" y="4800600"/>
            <a:ext cx="4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DBD6-EEEF-4570-A469-45B3AB6456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array is created in this manner, each element of the array must be initi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6240" y="30639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48006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51814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562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0" idx="3"/>
            <a:endCxn id="291" idx="0"/>
          </p:cNvCxnSpPr>
          <p:nvPr/>
        </p:nvCxnSpPr>
        <p:spPr>
          <a:xfrm>
            <a:off x="2285640" y="4000680"/>
            <a:ext cx="10674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3733560" y="2743200"/>
            <a:ext cx="3611520" cy="3200400"/>
            <a:chOff x="3733560" y="2743200"/>
            <a:chExt cx="3611520" cy="3200400"/>
          </a:xfrm>
        </p:grpSpPr>
        <p:sp>
          <p:nvSpPr>
            <p:cNvPr id="297" name=""/>
            <p:cNvSpPr/>
            <p:nvPr/>
          </p:nvSpPr>
          <p:spPr>
            <a:xfrm>
              <a:off x="4421160" y="274320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0] = "Bill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1] = "Susa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2] = "Steve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3] = "Jea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733560" y="4419720"/>
              <a:ext cx="1371600" cy="1523880"/>
              <a:chOff x="3733560" y="4419720"/>
              <a:chExt cx="1371600" cy="15238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267080" y="4419720"/>
                <a:ext cx="838080" cy="1523880"/>
                <a:chOff x="4267080" y="4419720"/>
                <a:chExt cx="838080" cy="1523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267080" y="441972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ll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67080" y="4800600"/>
                  <a:ext cx="838080" cy="381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usa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67080" y="518184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eve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67080" y="556272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Jea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4" name=""/>
              <p:cNvCxnSpPr>
                <a:stCxn id="291" idx="3"/>
                <a:endCxn id="300" idx="1"/>
              </p:cNvCxnSpPr>
              <p:nvPr/>
            </p:nvCxnSpPr>
            <p:spPr>
              <a:xfrm>
                <a:off x="3733560" y="460980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5" name=""/>
              <p:cNvCxnSpPr>
                <a:stCxn id="292" idx="3"/>
                <a:endCxn id="301" idx="1"/>
              </p:cNvCxnSpPr>
              <p:nvPr/>
            </p:nvCxnSpPr>
            <p:spPr>
              <a:xfrm>
                <a:off x="3733560" y="499068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6" name=""/>
              <p:cNvCxnSpPr>
                <a:stCxn id="293" idx="3"/>
                <a:endCxn id="302" idx="1"/>
              </p:cNvCxnSpPr>
              <p:nvPr/>
            </p:nvCxnSpPr>
            <p:spPr>
              <a:xfrm>
                <a:off x="3733560" y="537192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"/>
              <p:cNvCxnSpPr>
                <a:stCxn id="294" idx="3"/>
                <a:endCxn id="303" idx="1"/>
              </p:cNvCxnSpPr>
              <p:nvPr/>
            </p:nvCxnSpPr>
            <p:spPr>
              <a:xfrm>
                <a:off x="3733560" y="575280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08" name=""/>
          <p:cNvSpPr/>
          <p:nvPr/>
        </p:nvSpPr>
        <p:spPr>
          <a:xfrm>
            <a:off x="1600200" y="4800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5562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51814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4605-D169-4896-8BA9-7344D5FBBA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 On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have several methods,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can be used by using the array name and index 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ames[0].toUpperCas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names[3].charA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0F6C-5A04-46EB-A7FF-277EE5BBA1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 &amp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have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d </a:t>
            </a:r>
            <a:r>
              <a:rPr b="0" lang="en-US" sz="2800" spc="-1" strike="noStrike">
                <a:solidFill>
                  <a:srgbClr val="00ff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bjects hav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the length of each string hel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names.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ames[i].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length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e a set of parentheses after its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e the parentheses after the nam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9CD1-3DE6-4A33-9DBB-40A2F5E0ED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re objects, we know that arrays can contain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[] accounts = new BankAccount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800" y="3063960"/>
            <a:ext cx="41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419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4800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51814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5562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48006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4197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55627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1814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19" idx="3"/>
            <a:endCxn id="320" idx="0"/>
          </p:cNvCxnSpPr>
          <p:nvPr/>
        </p:nvCxnSpPr>
        <p:spPr>
          <a:xfrm>
            <a:off x="2819160" y="4000680"/>
            <a:ext cx="6102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2971800" y="5943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5943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3505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ray is an array of referenc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785-EDCB-4C79-B219-DF734FE182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are designed to hold only one value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llow us to create a collection of like values that are inde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can store any type of data but only one type of data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is a list of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DA0E-0070-41A0-A5AA-B6B317F6C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needs to be init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accounts.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i]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ObjectArray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4280" y="304812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n BankAccount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419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4800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1814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5562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5" idx="3"/>
            <a:endCxn id="336" idx="0"/>
          </p:cNvCxnSpPr>
          <p:nvPr/>
        </p:nvCxnSpPr>
        <p:spPr>
          <a:xfrm>
            <a:off x="2819160" y="4000680"/>
            <a:ext cx="6102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971800" y="5943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1" idx="3"/>
          </p:cNvCxnSpPr>
          <p:nvPr/>
        </p:nvCxnSpPr>
        <p:spPr>
          <a:xfrm flipV="1">
            <a:off x="3886200" y="5858640"/>
            <a:ext cx="1829520" cy="2754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9" idx="3"/>
          </p:cNvCxnSpPr>
          <p:nvPr/>
        </p:nvCxnSpPr>
        <p:spPr>
          <a:xfrm flipV="1">
            <a:off x="3886200" y="5196960"/>
            <a:ext cx="1829520" cy="556560"/>
          </a:xfrm>
          <a:prstGeom prst="curvedConnector5">
            <a:avLst>
              <a:gd name="adj1" fmla="val 49990"/>
              <a:gd name="adj2" fmla="val 49967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8" idx="3"/>
          </p:cNvCxnSpPr>
          <p:nvPr/>
        </p:nvCxnSpPr>
        <p:spPr>
          <a:xfrm flipV="1">
            <a:off x="3886200" y="4533120"/>
            <a:ext cx="1829520" cy="8391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7" idx="3"/>
          </p:cNvCxnSpPr>
          <p:nvPr/>
        </p:nvCxnSpPr>
        <p:spPr>
          <a:xfrm flipV="1">
            <a:off x="3886200" y="3871080"/>
            <a:ext cx="1829520" cy="11199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36" idx="3"/>
          </p:cNvCxnSpPr>
          <p:nvPr/>
        </p:nvCxnSpPr>
        <p:spPr>
          <a:xfrm flipV="1">
            <a:off x="3886200" y="3209760"/>
            <a:ext cx="1829520" cy="14007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5715000" y="312408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320040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373392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434340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495288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556272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81680" y="380988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81680" y="441972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502920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563868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48006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44197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5562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518148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94360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1AF1-96F4-4AD5-B262-EF9030A983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tial Search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rch algorithm is a method of locating a specific item in a larger collection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quential search algorith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loop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ly step through an arr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each element with the search value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s found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 of the array is encoun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earchArra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6A3F-1BB8-40FC-97F9-21F68E4BA0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wo-dimensional array is an array of array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thought of as having rows and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296720" y="3505320"/>
            <a:ext cx="6170760" cy="2450880"/>
            <a:chOff x="1296720" y="3505320"/>
            <a:chExt cx="6170760" cy="2450880"/>
          </a:xfrm>
        </p:grpSpPr>
        <p:sp>
          <p:nvSpPr>
            <p:cNvPr id="367" name=""/>
            <p:cNvSpPr/>
            <p:nvPr/>
          </p:nvSpPr>
          <p:spPr>
            <a:xfrm>
              <a:off x="611496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6244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5740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1496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6244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740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1496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6244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0992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1496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6244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0992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740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57400" y="3886200"/>
              <a:ext cx="5410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57400" y="440352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7400" y="492120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57400" y="543852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57400" y="5956200"/>
              <a:ext cx="5410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57400" y="3886200"/>
              <a:ext cx="0" cy="2069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0992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244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496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67480" y="3886200"/>
              <a:ext cx="0" cy="2069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6720" y="39621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16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532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8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00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96720" y="44956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6720" y="502920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96720" y="548640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B01C-41ED-4498-9E2F-537B43E867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laring a two-dimensional array requires two sets of brackets and two size decla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one is for the number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one is for the number of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[][] scores = new double[3]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wo sets of brackets in the data type indicate that the scores variable will reference a two-dimensional arra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ice that each size declarator is enclosed in its own set of bracke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328840" y="342900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93040" y="3832200"/>
            <a:ext cx="24606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wo 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12000" y="3886200"/>
            <a:ext cx="6775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49720" y="3886200"/>
            <a:ext cx="1044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86400" y="3580920"/>
            <a:ext cx="763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6019920" y="3580920"/>
            <a:ext cx="30456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B44A-222F-49DB-97F2-19D614C2EC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rocessing the data in a two-dimensional array, each element has two subscri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its row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for its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FBA6-A067-430E-A578-ACE496AE23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532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900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-153720" y="244152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532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532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48FE-599B-419E-ABFD-B639757C14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71800" y="17524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-Regular"/>
              </a:rPr>
              <a:t>Accessing one of the elements in a two-dimensional array requires the use of both subscrip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cores[2][1] = 9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532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7900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532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532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53720" y="244152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1F57-92DB-4FB5-AEB3-F12061CED1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that process two-dimensional arrays can do so with nested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ll the scores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row = 0; row &lt; 3; row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col = 0; col &lt; 4; co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Enter a scor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ores[row][col] = keyboard.nextDou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2209680"/>
            <a:ext cx="259092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Number of rows, not the largest sub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4800240" y="2590920"/>
            <a:ext cx="60948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9400" y="3124080"/>
            <a:ext cx="1981080" cy="916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Number of columns, not the largest sub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181480" y="3276720"/>
            <a:ext cx="144792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5334120"/>
            <a:ext cx="251460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keyboard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 references a 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410080" y="5028840"/>
            <a:ext cx="6098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8B1B-9769-4289-8CCF-FE3C6B9C89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int out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row = 0; row &lt; 3; row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col = 0; col &lt; 4; co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cores[row][col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rpSale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1172-BE56-407C-95A5-D0A1F8BE54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 two-dimensional array requires enclosing each row’s initialization list in its own set of br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, 2, 3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, 5, 6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, 8, 9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utomatically creates the array and fills its elements with the initialization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 0    {1, 2,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 1    {4, 5, 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 2    {7, 8,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s an array with three rows and three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4A40-7516-41E6-A3E4-58B41BED20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is an object so it needs an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clare a reference to an array that will hold integer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tep creates the array and assigns its addres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a new array that will hold 6 integ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 = new int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5960" y="5257800"/>
            <a:ext cx="43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rray element values are initialized to 0.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rray indexes always start at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1120" y="457200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5168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2880" y="4572000"/>
            <a:ext cx="103212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8344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45000" y="457200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1556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76760" y="457200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4876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08520" y="4572000"/>
            <a:ext cx="103212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8088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40640" y="457200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2640" y="492120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46D6-3660-43A7-BDA7-4F894DBB5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7520" y="244476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5880" y="1523880"/>
            <a:ext cx="38383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[] numbers = {{1, 2, 3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4, 5, 6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7, 8, 9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9" idx="2"/>
            <a:endCxn id="475" idx="0"/>
          </p:cNvCxnSpPr>
          <p:nvPr/>
        </p:nvCxnSpPr>
        <p:spPr>
          <a:xfrm flipH="1" rot="16200000">
            <a:off x="4813200" y="3007800"/>
            <a:ext cx="471960" cy="8640"/>
          </a:xfrm>
          <a:prstGeom prst="bentConnector3">
            <a:avLst>
              <a:gd name="adj1" fmla="val 4977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FD7A-3EE9-4672-BFF3-71E9C5317D4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dimensional arrays are arrays of one-dimensional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field of the array gives the number of rows in the arr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has a length constant tells how many columns is in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can have a different number of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91FC-CA61-4518-B61D-BD6813E1D5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es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s of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[] numbers = { { 1, 2, 3, 4 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5, 6, 7 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9, 10, 11, 12 }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row = 0; row &lt;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numbers.leng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col = 0; col &lt;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numbers[row].leng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col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umbers[row][col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ength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restigeElit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restigeElit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80520" y="2761920"/>
            <a:ext cx="7828560" cy="2270160"/>
            <a:chOff x="380520" y="2761920"/>
            <a:chExt cx="7828560" cy="2270160"/>
          </a:xfrm>
        </p:grpSpPr>
        <p:grpSp>
          <p:nvGrpSpPr>
            <p:cNvPr id="496" name=""/>
            <p:cNvGrpSpPr/>
            <p:nvPr/>
          </p:nvGrpSpPr>
          <p:grpSpPr>
            <a:xfrm>
              <a:off x="380520" y="2761920"/>
              <a:ext cx="5023440" cy="2111760"/>
              <a:chOff x="380520" y="2761920"/>
              <a:chExt cx="5023440" cy="211176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380880" y="4873680"/>
                <a:ext cx="5493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80880" y="2761920"/>
                <a:ext cx="0" cy="211140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80520" y="2762280"/>
                <a:ext cx="502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03960" y="2762280"/>
                <a:ext cx="0" cy="2008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424200" y="3666960"/>
              <a:ext cx="549360" cy="904320"/>
              <a:chOff x="6424200" y="3666960"/>
              <a:chExt cx="549360" cy="90432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6973560" y="3968280"/>
                <a:ext cx="0" cy="6030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424200" y="3968640"/>
                <a:ext cx="549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424560" y="3666960"/>
                <a:ext cx="0" cy="301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763560" y="4572360"/>
              <a:ext cx="74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PrestigeElite"/>
                </a:rPr>
                <a:t>Number of rows</a:t>
              </a:r>
              <a:r>
                <a:rPr b="0" lang="en-US" sz="2400" spc="-1" strike="noStrike">
                  <a:solidFill>
                    <a:srgbClr val="000000"/>
                  </a:solidFill>
                  <a:latin typeface="PrestigeElite"/>
                </a:rPr>
                <a:t>	</a:t>
              </a:r>
              <a:r>
                <a:rPr b="0" lang="en-US" sz="2400" spc="-1" strike="noStrike">
                  <a:solidFill>
                    <a:srgbClr val="333399"/>
                  </a:solidFill>
                  <a:latin typeface="PrestigeElite"/>
                </a:rPr>
                <a:t>Number of columns in this r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376280" y="2209320"/>
            <a:ext cx="7386840" cy="3686400"/>
            <a:chOff x="1376280" y="2209320"/>
            <a:chExt cx="7386840" cy="3686400"/>
          </a:xfrm>
        </p:grpSpPr>
        <p:grpSp>
          <p:nvGrpSpPr>
            <p:cNvPr id="507" name=""/>
            <p:cNvGrpSpPr/>
            <p:nvPr/>
          </p:nvGrpSpPr>
          <p:grpSpPr>
            <a:xfrm>
              <a:off x="5105520" y="2209320"/>
              <a:ext cx="3657600" cy="3505680"/>
              <a:chOff x="5105520" y="2209320"/>
              <a:chExt cx="3657600" cy="3505680"/>
            </a:xfrm>
          </p:grpSpPr>
          <p:sp>
            <p:nvSpPr>
              <p:cNvPr id="508" name=""/>
              <p:cNvSpPr/>
              <p:nvPr/>
            </p:nvSpPr>
            <p:spPr>
              <a:xfrm>
                <a:off x="7467480" y="5715000"/>
                <a:ext cx="129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8763120" y="2209320"/>
                <a:ext cx="0" cy="3505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105520" y="2209680"/>
                <a:ext cx="3657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376280" y="5375160"/>
              <a:ext cx="59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array can have variable length r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9246-218B-42DB-990D-7B3B6E89FF7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Element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 { 1, 2, 3, 4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9, 10, 11, 12}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row = 0; row &lt; numbers.length; row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col = 0; col &lt; numbers[row].length; col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total is " + 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8C3B-844F-4476-B437-9A71BCBFC5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Row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{ 1, 2, 3, 4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9, 10, 11, 12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0;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 numbers.length;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 numbers[row].length;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otal of row 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row + " is " + 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895C-3C2D-4A63-8BB9-0A84F9369F3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Column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numbers = {{1, 2, 3, 4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9, 10, 11, 12}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numbers[0].length;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numbers.length;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otal of column 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col + " is " +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0ECA-ED2B-43AF-A38C-F82CC0E791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nd Returning Two-Dimensional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difference between passing a single or two-dimensional array as an argument to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must accept a two-dimensional array as a para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ss2Darray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CEFB-C9C8-4052-B97C-6B7D49132D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gged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rows of a two-dimensional array are of different lengths, the array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g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a ragged array by creating a two-dimensional array with a specific number of rows, but no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[] ragged = new int [4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reate the individual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0] = new int 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1] = new int 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2] = new int 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3] = new int 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AA10-2823-4838-91BB-FEA1917D6D0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Than Two Dim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oes not limit the number of dimensions that an array may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three dimensions is hard to visualize, but can be useful in some programming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rcRect l="0" t="1181" r="0" b="0"/>
          <a:stretch/>
        </p:blipFill>
        <p:spPr>
          <a:xfrm>
            <a:off x="1600200" y="3614760"/>
            <a:ext cx="5486400" cy="27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DE0-CBBA-4B70-934A-28254A0764D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election s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value in the array is located and moved to element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next smallest value is located and moved to elemen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continues until all of the elements have been placed in their prope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electionSort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292E-0935-498D-9B70-5A0A195B573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declare an array reference and create it in the sa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6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may be of any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[] temperatures = new float[1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[] letters = new char[4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[] units = new long[5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[] sizes = new double[12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7E39-DB35-4033-8BB2-8A55F3F39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array sorted in ascend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with the element in the middle of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at element is the desired value, the search is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the value in the middle element is either greater or less than the desir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greater than the desired value, search in the first half of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search the last half of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as needed while adjusting start and end points of the 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inarySearch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1B90-CE58-464F-9C2A-5EEB58B4838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va program can receive arguments from the operating system command-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has a header that looks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method receiv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as a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ray that is passed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 comes from the operating system command-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7F11-99E1-4F8C-842B-01DAE8F8699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the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 CommandLin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How does this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[0] is assigned "Ho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[0] is assigned "doe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[0] is assigned "thi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[0] is assigned "work?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mmandLin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required that the nam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parameter array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E10C-23B0-42C9-B486-AA33A0D3F4B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-Length Argument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type parameter – varar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arg parameters are actually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arArgsDemo1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arargsDemo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sum(int... nu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otal = 0; // Accu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dd all the values in the numbers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val : nu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+=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eturn the to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F51D-AC4A-49C8-8100-E8DC354120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an array,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object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n array,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expands when a new item is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shrinks when items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Array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50CF-D901-4C8F-A18D-985A47FC266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d Us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with no-args constr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 nameList =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opulat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List.add("Jam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List.add("Catherin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current size,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List.size();  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// retur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FC0A-A373-435B-BD4E-B06486918EE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d Us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cess item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get(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statement 1 is the index of the item to ge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rrayListDemo1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B98B-F453-4E38-9943-8EEF5D1E22F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urns a string representing all item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List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yiel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 James, Catherine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moves designated item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remove(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removes the second i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rayListDemo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A09E-2F47-4B99-ADB8-2AF940A9A49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th one argument adds new items to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items at a location of choice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th two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add(1, "Mary"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insert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"Mary" at index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place an existing item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set(1, "Becky"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replaces “Mary” with “Beck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rayListDemo4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CF71-3C07-42CD-8E9F-E2755E13A75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List has a capacity, which is the number of items it can hold without increasing its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capacity of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10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signate a different capacity, use a parameterized 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 list = new ArrayList(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108A-3328-4085-9C4B-5CC13A699D9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ray size must be a non-nega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a literal value, a constant, o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RRAY_SIZE = 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RRAY_SIZ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created, an array size is fixed and cannot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55AE-3774-44AD-86CC-B238BD8D4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Cast Operator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not ty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trieve items from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ou must cast the item to the appropriat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 nameList = new Array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add("Mary"); // Inserts an ite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tr = (String)nameList.ge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out the cast to see the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rayListDemo6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C4F5-DEB5-49DE-9C67-E56E7951792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Generic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673280"/>
            <a:ext cx="8294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a type-saf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by using gener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List&lt;String&gt; nameList = new ArrayList&lt;String&gt;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no longer requires casts to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enericArrayListDemo1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enericArrayListDemo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D335-B8E1-47BD-B208-4D871A6153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he Elements of an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92716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is acces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erenc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cript that identifies which element in the array to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10200" y="4952880"/>
            <a:ext cx="67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umbers[0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0;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//pronounced "numbers sub zer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3000" y="1676520"/>
            <a:ext cx="6862680" cy="718200"/>
            <a:chOff x="1143000" y="1676520"/>
            <a:chExt cx="6862680" cy="718200"/>
          </a:xfrm>
        </p:grpSpPr>
        <p:sp>
          <p:nvSpPr>
            <p:cNvPr id="113" name=""/>
            <p:cNvSpPr/>
            <p:nvPr/>
          </p:nvSpPr>
          <p:spPr>
            <a:xfrm>
              <a:off x="1143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9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5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920" y="1676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42F7-3CF6-4191-910B-7F2E6CE2A5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ting and Output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elements can be treated as any other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imply accessed by the same name and a subscri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rayDemo1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subscripts can be accessed using variables (such as for loop count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rrayDemo2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D6F5-995D-4749-986D-CE5188A5E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53:18Z</dcterms:created>
  <dc:creator>Tony Gaddis</dc:creator>
  <dc:description/>
  <dc:language>en-US</dc:language>
  <cp:lastModifiedBy>test</cp:lastModifiedBy>
  <cp:lastPrinted>2009-04-22T19:24:48Z</cp:lastPrinted>
  <dcterms:modified xsi:type="dcterms:W3CDTF">2007-03-12T19:04:54Z</dcterms:modified>
  <cp:revision>86</cp:revision>
  <dc:subject>Arrays and the ArrayList Class </dc:subject>
  <dc:title>Chapter 8</dc:title>
</cp:coreProperties>
</file>