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1EA5-73E8-4693-989A-D94B2BC0D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969B-7282-4D97-97ED-BA1A6A1B6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EAAF-DB25-45D2-AA15-EA45A3307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9932-9639-4232-8922-9C0952E3F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D948-BCCA-4EB0-A57C-335356369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977A-29FE-43A6-BA82-D7FBD9E8F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DB55-09D6-41F0-B32F-8F39EA259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AD92-CEC3-4BB1-8E22-F8FBD08F9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C09C-EF2E-4683-8F16-7499AEA8A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0A2D-F151-463E-8D18-2F843A619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6DDB-C4AC-474D-9E7F-C91A398FA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5EE3-9548-4138-B176-5E839CF05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DCE5007-F554-43DC-B38A-7E52FBF5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BankAccount.java" TargetMode="External"/><Relationship Id="rId2" Type="http://schemas.openxmlformats.org/officeDocument/2006/relationships/hyperlink" Target="file:///AccountTest.java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6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Look a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veryday Example of an Object—An Alarm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are used to change a field’s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larm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alarm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alarm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 current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 current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 curren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 al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2133720"/>
            <a:ext cx="60948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962520" y="2971800"/>
            <a:ext cx="60948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438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 methods are accessed by users outside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562720" y="4952520"/>
            <a:ext cx="380880" cy="7621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638320" y="4114800"/>
            <a:ext cx="30492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4191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ivate methods are part of the object’s internal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B8A4-D3D0-451D-A142-02110F8507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determines the fields and methods needed, and then creates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pecify the fields and methods that a particular type of object may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is a “blueprint” that objects may be created fr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is not an object, but it can be a description of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created from a class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87FC-4B94-4F96-812A-3EEE625E6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66680" y="2133720"/>
            <a:ext cx="3475080" cy="2057400"/>
            <a:chOff x="1066680" y="2133720"/>
            <a:chExt cx="3475080" cy="2057400"/>
          </a:xfrm>
        </p:grpSpPr>
        <p:sp>
          <p:nvSpPr>
            <p:cNvPr id="183" name=""/>
            <p:cNvSpPr/>
            <p:nvPr/>
          </p:nvSpPr>
          <p:spPr>
            <a:xfrm>
              <a:off x="1981080" y="3276720"/>
              <a:ext cx="1676520" cy="9144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ct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2133720"/>
              <a:ext cx="347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s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defines the fiel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methods that will exist in all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at are an instances of the Insect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657600" y="1295280"/>
            <a:ext cx="4231800" cy="2438640"/>
            <a:chOff x="3657600" y="1295280"/>
            <a:chExt cx="4231800" cy="2438640"/>
          </a:xfrm>
        </p:grpSpPr>
        <p:sp>
          <p:nvSpPr>
            <p:cNvPr id="186" name=""/>
            <p:cNvSpPr/>
            <p:nvPr/>
          </p:nvSpPr>
          <p:spPr>
            <a:xfrm>
              <a:off x="5867280" y="1295280"/>
              <a:ext cx="16765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usefly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657600" y="1752480"/>
              <a:ext cx="220968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4320" y="2286000"/>
              <a:ext cx="239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housefly object is 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ce of the Insect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657600" y="3809880"/>
            <a:ext cx="4231800" cy="1981440"/>
            <a:chOff x="3657600" y="3809880"/>
            <a:chExt cx="4231800" cy="1981440"/>
          </a:xfrm>
        </p:grpSpPr>
        <p:sp>
          <p:nvSpPr>
            <p:cNvPr id="190" name=""/>
            <p:cNvSpPr/>
            <p:nvPr/>
          </p:nvSpPr>
          <p:spPr>
            <a:xfrm>
              <a:off x="5867280" y="4876920"/>
              <a:ext cx="16765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squito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7600" y="3809880"/>
              <a:ext cx="2209680" cy="152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4320" y="4038480"/>
              <a:ext cx="239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mosquito object is 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ce of the Insect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AC85-B1D8-42B1-BBD4-C4BF98A27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chapter 2, we learned that a reference variable contains the address of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cityName =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Charleston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95680"/>
            <a:ext cx="243828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876920"/>
            <a:ext cx="2666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to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360" y="49370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ity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5105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50040" y="3657600"/>
            <a:ext cx="34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e object that contain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haracter string “Charles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4F3F-ABC9-4A19-9575-C85DC63F6A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returns and integer value that is equal to the length of the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nt stringLength = cityName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bjects normally have methods that perform useful operations on their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variables can only store data and have no metho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76AD-6BF3-4937-A2E6-179ACA0CEA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bjects can be created from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bject is independent of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person = "Jenny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pet = "Fido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favoriteColor = "Blue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3403-D500-4BB2-8A7E-B8AB86E276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19810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n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7960" y="2154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2438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3526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35053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9200" y="3525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47242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4876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5320" y="48974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avorite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AA8A-3606-43EC-AECF-7E758D0954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anc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tains differen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stances are all share the same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ance has all of the attributes and methods that were defin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are defined to represent a single concept or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DF8D-5C07-4F65-ACF0-FE04F10243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will have the following fie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length field will hold the rectangle’s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width field will hold the rectangle’s wid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1AFB-A919-4576-B2C6-BFF8837831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ll also have the following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store a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store a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return the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return the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return the area of the rectangle, which is the result of the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ltiplied by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36FB-D427-4353-800A-1310DF9BCD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6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Fields an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Methods and 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Instanc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Import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4F84-8EF0-4171-AC51-84C629B8F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 Modeling Language (UML) provides a set of standard diagrams for graphically depicting object-oriented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3505320"/>
            <a:ext cx="281916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952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 name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elds are li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51055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thods are li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46483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53341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59FB-824B-4BAC-A4D7-6526A32CF8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iagram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1828800"/>
            <a:ext cx="37339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5909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666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365760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Length() setWidth() getLength() getWidth() get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5EFC-D191-4554-B53B-7B701C419F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the Code for the Class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 class Rect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vate double lengt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606E-B3D7-4033-8281-EF44A807BE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cess specifier is a Java keyword that indicates how a field or method can be acc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 specifier is applied to a class member, the member can be accessed by code inside the class or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 specifier is applied to a class member, the member cannot be accessed by code outside the class.  The member can be accessed only by methods that are members of the sam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E5B4-0560-4FF3-809F-175C8A533A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der for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 void setLength (double 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2362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cess spec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352680"/>
            <a:ext cx="0" cy="6098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1676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tur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5105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ameter variable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22860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thod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27672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238880" y="4723920"/>
            <a:ext cx="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4648320"/>
            <a:ext cx="23623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541008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1676520"/>
            <a:ext cx="3200400" cy="2288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ice the word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oes not appear in the method header designed to work on an instance of a class (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nstance metho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60AA-1FBA-47B3-9F94-72D2B2BE25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Demonstrat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etLength method stores a value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aram len The value to store in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Length(double l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 = l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5029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ctangle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LengthDem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8FD1-6D0B-4E9E-8891-E231975E53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ctangle box = new Rectangle 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35268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3124080"/>
            <a:ext cx="6858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3733920"/>
            <a:ext cx="6858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297180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36576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66688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holds the address of the Rectangl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41B4-3D8F-40DE-9C83-4688625CB3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2520" y="1968120"/>
            <a:ext cx="56120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x.setLength(10.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335268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312408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0" y="37339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297180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36576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25146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holds the addres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49528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is the state of the box object after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ethod exec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94A7-2C96-444E-B114-EC196CB39A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getLength method returns a 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's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return The value in the length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Length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can be c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Rectangle.java, LengthWidth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7A0B-5AF7-4A3F-A90E-5AAAF41671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Demonstrat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getArea method returns a 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's a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return The product of length times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Are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length * 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Rectangle.java, Rectangle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C7E6-E161-4B18-8D44-9EEDD363E1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programming is centered on creating objects rather than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 melding of data and procedures that manipulate tha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85E3-5509-4042-BD7F-32E4E195D7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or and Mutator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concept of data hiding, fields in a class are priv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s that retrieve the data of field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s that modify the data of field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eld that the programmer wishes to be viewed by other classes needs an ac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eld that the programmer wishes to be modified by other classes needs a mut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CB43-A76D-41D6-A0D6-A2BB2BCE7C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ors and Mut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, the accessors and mutator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t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void setLength(double len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t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void setLength(double w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double getLength(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double getWidth(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names for these metho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F74D-A847-4827-B80C-36BE64A09E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l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ata is the result of a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area of a rect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be impractical to us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hat requires the calculation of various factors has the potential to bec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stale data, it is best to calculate the value of that data within a method rather than store it in a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E714-337E-4C4B-8A40-CD244C492D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l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us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ublic double getAre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turn length * 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ynamically calculates the value of the rectangle’s area when the method is c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any change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will not leave the area of the rectangle st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6E5D-95CE-4D2D-8500-AA0188A23B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743200" y="3429000"/>
            <a:ext cx="3352320" cy="2666520"/>
            <a:chOff x="2743200" y="3429000"/>
            <a:chExt cx="3352320" cy="2666520"/>
          </a:xfrm>
        </p:grpSpPr>
        <p:sp>
          <p:nvSpPr>
            <p:cNvPr id="300" name=""/>
            <p:cNvSpPr/>
            <p:nvPr/>
          </p:nvSpPr>
          <p:spPr>
            <a:xfrm>
              <a:off x="2743200" y="3429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0" y="431784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3200" y="520668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etWidth(w : double) 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0" y="3733920"/>
            <a:ext cx="20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cess modifiers are denoted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3" idx="2"/>
            <a:endCxn id="302" idx="1"/>
          </p:cNvCxnSpPr>
          <p:nvPr/>
        </p:nvCxnSpPr>
        <p:spPr>
          <a:xfrm flipH="1" rot="16200000">
            <a:off x="1582560" y="4490640"/>
            <a:ext cx="607320" cy="17150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3" idx="3"/>
            <a:endCxn id="301" idx="1"/>
          </p:cNvCxnSpPr>
          <p:nvPr/>
        </p:nvCxnSpPr>
        <p:spPr>
          <a:xfrm>
            <a:off x="2057040" y="4389480"/>
            <a:ext cx="686520" cy="37368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A4E8-E83C-4373-BFB4-1291E95A00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743200" y="3429000"/>
            <a:ext cx="3352320" cy="2666520"/>
            <a:chOff x="2743200" y="3429000"/>
            <a:chExt cx="3352320" cy="2666520"/>
          </a:xfrm>
        </p:grpSpPr>
        <p:sp>
          <p:nvSpPr>
            <p:cNvPr id="309" name=""/>
            <p:cNvSpPr/>
            <p:nvPr/>
          </p:nvSpPr>
          <p:spPr>
            <a:xfrm>
              <a:off x="2743200" y="3429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43200" y="431784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width 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3200" y="520668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429240" y="3276720"/>
            <a:ext cx="27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ariable types are placed after the variable name, separated by a col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2"/>
            <a:endCxn id="310" idx="3"/>
          </p:cNvCxnSpPr>
          <p:nvPr/>
        </p:nvCxnSpPr>
        <p:spPr>
          <a:xfrm rot="5400000">
            <a:off x="6853320" y="3829320"/>
            <a:ext cx="175320" cy="16916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0341-1445-4E30-849E-3920F970D1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43200" y="3429000"/>
            <a:ext cx="3352320" cy="2666520"/>
            <a:chOff x="2743200" y="3429000"/>
            <a:chExt cx="3352320" cy="2666520"/>
          </a:xfrm>
        </p:grpSpPr>
        <p:sp>
          <p:nvSpPr>
            <p:cNvPr id="317" name=""/>
            <p:cNvSpPr/>
            <p:nvPr/>
          </p:nvSpPr>
          <p:spPr>
            <a:xfrm>
              <a:off x="2743200" y="3429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43200" y="431784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wid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200" y="520668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172200" y="33526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ethod return types are placed after the method declaration name, separated by a col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19" idx="3"/>
          </p:cNvCxnSpPr>
          <p:nvPr/>
        </p:nvCxnSpPr>
        <p:spPr>
          <a:xfrm rot="5400000">
            <a:off x="6344640" y="4414680"/>
            <a:ext cx="988200" cy="148680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AD0C-856B-4496-9C25-CD265EAD05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743200" y="3429000"/>
            <a:ext cx="3352320" cy="2666520"/>
            <a:chOff x="2743200" y="3429000"/>
            <a:chExt cx="3352320" cy="2666520"/>
          </a:xfrm>
        </p:grpSpPr>
        <p:sp>
          <p:nvSpPr>
            <p:cNvPr id="325" name=""/>
            <p:cNvSpPr/>
            <p:nvPr/>
          </p:nvSpPr>
          <p:spPr>
            <a:xfrm>
              <a:off x="2743200" y="3429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43200" y="431784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wid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520668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w : doub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52280" y="33526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ethod parameters are shown inside the parentheses using the same notation as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/>
          <p:nvPr/>
        </p:nvCxnSpPr>
        <p:spPr>
          <a:xfrm flipH="1" rot="16200000">
            <a:off x="2642400" y="3757320"/>
            <a:ext cx="467280" cy="3010680"/>
          </a:xfrm>
          <a:prstGeom prst="bentConnector3">
            <a:avLst>
              <a:gd name="adj1" fmla="val 4996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4D76-D7EA-421A-9556-5280F38894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the UML Diagra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all of this information together, a Java class file can be built easily using the UML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ML diagram parts match the Java class file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191120" y="4267080"/>
            <a:ext cx="2590560" cy="1600200"/>
            <a:chOff x="4191120" y="4267080"/>
            <a:chExt cx="2590560" cy="1600200"/>
          </a:xfrm>
        </p:grpSpPr>
        <p:sp>
          <p:nvSpPr>
            <p:cNvPr id="333" name=""/>
            <p:cNvSpPr/>
            <p:nvPr/>
          </p:nvSpPr>
          <p:spPr>
            <a:xfrm>
              <a:off x="4191120" y="4267080"/>
              <a:ext cx="2590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lass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91120" y="4800600"/>
              <a:ext cx="2590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Fie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1120" y="5334120"/>
              <a:ext cx="2590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828800" y="4191120"/>
            <a:ext cx="1418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las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363C-6979-499E-85EF-72060CA01C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the UML Diagra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4920" y="2971800"/>
            <a:ext cx="3352680" cy="3276720"/>
            <a:chOff x="304920" y="2971800"/>
            <a:chExt cx="3352680" cy="3276720"/>
          </a:xfrm>
        </p:grpSpPr>
        <p:sp>
          <p:nvSpPr>
            <p:cNvPr id="339" name=""/>
            <p:cNvSpPr/>
            <p:nvPr/>
          </p:nvSpPr>
          <p:spPr>
            <a:xfrm>
              <a:off x="304920" y="2971800"/>
              <a:ext cx="3352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4920" y="3581280"/>
              <a:ext cx="3352680" cy="78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ng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920" y="4343400"/>
              <a:ext cx="3352680" cy="1905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Length(len : double)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Width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Length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Area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91120" y="1295280"/>
            <a:ext cx="48006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t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leng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Width(double 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Length(double 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Width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Length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Area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430280"/>
            <a:ext cx="398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e structure of the class can be compiled and tested without having bodies for the methods.  Just be sure to put in dummy return values for methods that have a return type other than vo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8211-F42F-406A-A0E8-9ACC417D15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24080" y="1295280"/>
            <a:ext cx="2819160" cy="4876920"/>
            <a:chOff x="3124080" y="1295280"/>
            <a:chExt cx="2819160" cy="4876920"/>
          </a:xfrm>
        </p:grpSpPr>
        <p:sp>
          <p:nvSpPr>
            <p:cNvPr id="90" name=""/>
            <p:cNvSpPr/>
            <p:nvPr/>
          </p:nvSpPr>
          <p:spPr>
            <a:xfrm>
              <a:off x="3124080" y="1295280"/>
              <a:ext cx="28191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1828800"/>
              <a:ext cx="28191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(Field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4080" y="2286000"/>
              <a:ext cx="281916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at Operate on th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656880" y="3352680"/>
              <a:ext cx="1820520" cy="2056320"/>
              <a:chOff x="3656880" y="3352680"/>
              <a:chExt cx="1820520" cy="205632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3656880" y="3352680"/>
                <a:ext cx="449280" cy="560160"/>
                <a:chOff x="3656880" y="3352680"/>
                <a:chExt cx="449280" cy="560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5724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flipV="1">
                  <a:off x="365652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342320" y="3352680"/>
                <a:ext cx="449280" cy="560160"/>
                <a:chOff x="4342320" y="3352680"/>
                <a:chExt cx="449280" cy="560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4268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flipV="1">
                  <a:off x="434196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028840" y="3352680"/>
                <a:ext cx="448560" cy="560160"/>
                <a:chOff x="5028840" y="3352680"/>
                <a:chExt cx="448560" cy="560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28840" y="335268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>
                  <a:off x="5028840" y="346428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028840" y="4848840"/>
                <a:ext cx="448560" cy="560160"/>
                <a:chOff x="5028840" y="4848840"/>
                <a:chExt cx="448560" cy="560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028840" y="484884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flipV="1">
                  <a:off x="5028840" y="496044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656880" y="4100760"/>
                <a:ext cx="449280" cy="560160"/>
                <a:chOff x="3656880" y="4100760"/>
                <a:chExt cx="449280" cy="560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65724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flipV="1">
                  <a:off x="365652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342320" y="4100760"/>
                <a:ext cx="449280" cy="560160"/>
                <a:chOff x="4342320" y="4100760"/>
                <a:chExt cx="449280" cy="560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4268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 flipV="1">
                  <a:off x="434196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28840" y="4100760"/>
                <a:ext cx="448560" cy="560160"/>
                <a:chOff x="5028840" y="4100760"/>
                <a:chExt cx="448560" cy="560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028840" y="410076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flipV="1">
                  <a:off x="5028840" y="421236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656880" y="4848840"/>
                <a:ext cx="449280" cy="560160"/>
                <a:chOff x="3656880" y="4848840"/>
                <a:chExt cx="449280" cy="560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5724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365652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42320" y="4848840"/>
                <a:ext cx="449280" cy="560160"/>
                <a:chOff x="4342320" y="4848840"/>
                <a:chExt cx="449280" cy="560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34268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434196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 flipV="1">
              <a:off x="38858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716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2574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6BB3-437D-4557-9F6D-4BC747C346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the UML Diagra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1235160"/>
            <a:ext cx="48006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t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leng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Width(double 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width = 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Length(double 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length = 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Width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Length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leng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Area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length *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04920" y="2971800"/>
            <a:ext cx="3352680" cy="3276720"/>
            <a:chOff x="304920" y="2971800"/>
            <a:chExt cx="3352680" cy="3276720"/>
          </a:xfrm>
        </p:grpSpPr>
        <p:sp>
          <p:nvSpPr>
            <p:cNvPr id="347" name=""/>
            <p:cNvSpPr/>
            <p:nvPr/>
          </p:nvSpPr>
          <p:spPr>
            <a:xfrm>
              <a:off x="304920" y="2971800"/>
              <a:ext cx="3352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920" y="3581280"/>
              <a:ext cx="3352680" cy="78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ng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920" y="4343400"/>
              <a:ext cx="3352680" cy="1905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Length(len : double)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Width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Length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Area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52280" y="1523880"/>
            <a:ext cx="39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Once the class structure has been tested, the method bodies can be written and tes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1C21-DB99-437C-B003-0D241E4771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Layout Con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yout of a source code file can vary by employer or i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layou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list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listed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ors and mutators are typically grou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ools that can help in formatting layout to specific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C13E-861E-43A9-83D6-C151275167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e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nd methods that are declared as previously shown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ance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ance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created from a class each have their own copy of instanc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methods are methods tha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lared with a special keyword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1D44-F4C9-48F7-B664-35CDC1DE98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e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fields and instance methods require an object to be created in order to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RoomArea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each room represented in this example can have different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tangle kitchen = new Rectang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tangle bedroom = new Rectang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tangle den = new Rectang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8300-37E8-488E-A0E5-654375D474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 of Three Different Rectangle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335268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312408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37339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97180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36576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190512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6765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0" y="228600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152388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220968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487692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46483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0" y="525780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1500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449568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518148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167652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tc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312408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d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457200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494F-5DA8-4D2F-9123-E35FAB4FD7F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can have special method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is a method th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matical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when an object i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re used to perform operations at the time an object i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typically initialize instance fields and perform other object initialization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6156-4561-4E63-877F-DBD4A2C7DE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have a few special properties that set them apart from normal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have the same name as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have no return type (not ev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may not return any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re typically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5AF1-A5D8-46D2-A3C8-589E0D40C6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 for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param len The length of the rect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param w The width of the rect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Rectangle(double len, double 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 = l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 = 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Rectangle.java, Constructor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8C35-4336-480E-B1AD-20554FACC8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s in U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UML, the most common way constructors are define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143000" y="2590920"/>
            <a:ext cx="3962160" cy="3276000"/>
            <a:chOff x="1143000" y="2590920"/>
            <a:chExt cx="3962160" cy="3276000"/>
          </a:xfrm>
        </p:grpSpPr>
        <p:sp>
          <p:nvSpPr>
            <p:cNvPr id="391" name=""/>
            <p:cNvSpPr/>
            <p:nvPr/>
          </p:nvSpPr>
          <p:spPr>
            <a:xfrm>
              <a:off x="1143000" y="2590920"/>
              <a:ext cx="3962160" cy="609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43000" y="3200040"/>
              <a:ext cx="3962160" cy="787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ngth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3000" y="3962160"/>
              <a:ext cx="396216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+Rectangle(len:double, w:doub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Length(len : double): vo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Width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Length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Area()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181480" y="2514600"/>
            <a:ext cx="3110040" cy="1676520"/>
            <a:chOff x="5181480" y="2514600"/>
            <a:chExt cx="3110040" cy="1676520"/>
          </a:xfrm>
        </p:grpSpPr>
        <p:sp>
          <p:nvSpPr>
            <p:cNvPr id="395" name=""/>
            <p:cNvSpPr/>
            <p:nvPr/>
          </p:nvSpPr>
          <p:spPr>
            <a:xfrm>
              <a:off x="5948280" y="2514600"/>
              <a:ext cx="234324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ice there is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return type lis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or constructo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181480" y="4191120"/>
              <a:ext cx="19051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6600" y="3733920"/>
              <a:ext cx="0" cy="457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836F-3CEB-4B1C-85F5-98C34FC5B9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nitialized Local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variables can be declared without being initial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 bo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atement does not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so it is an uninitialized local reference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cal reference variable must reference an object before it can be used, otherwise a compiler error 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 = new Rectangle(7.0, 14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now referenc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of length 7.0 and width 14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6E2A-3116-461B-BE80-8E88C2F25F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programming combines data and behavior vi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hi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bility of an object to hide data from other objects in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n object’s methods should be able to directly manipulate it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objects are allowed manipulate an object’s data via the object’s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1DFA-613A-46CE-B02C-DF7CA287D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fault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object is created, its constructo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 not write a constructor, Java provides one when the class is compiled.  The constructor that Java provides is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ault constru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ts all of the object’s numeric fields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ts all of the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ts all of the object’s reference variables to the special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0D38-4AAD-4C9A-9C78-37B432B9EA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fault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constructor is a constructor with no parameters, used to initialize an object in a default configu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hat Java provides a default constructor is when you do not wri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for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 First version of Rectangl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constructo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d by Java if a constructor is already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 Rectangle.java with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1224-22E3-4ABE-8A42-E7C77DF42B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Your Own No-Arg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uctor that does not accept arguments is known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-arg constru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constructor (provided by Java) is a no-arg co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write our own no-arg constr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Rectang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dth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EB14-6AE5-426E-959A-669011864D7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structors accepts a string literal as an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ring literal is used to initializ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n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new String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chael Lo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E89D-958C-44CC-BB7F-6F91450A85D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reates a new reference variab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points 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hat represents the name “Michael Lo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y are used so often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 can be created with a shorth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name = "Michael Long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3C45-A9C2-4745-A407-80B3ACD2754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loading Methods and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methods in a class may have the same name as long as their parameter lists are differ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occurs, it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loa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also applies to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overloading is important because sometimes you need several different ways to perform the sam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0A48-ABDC-4E65-B4BB-D4601E13459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loaded Metho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 add(int num1, int num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um = num1 + nu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ring add (String str1, String st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combined = str1 + st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ombin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ADA1-452F-41D0-BDDF-1134015AAF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 Signature and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signature consists of the method’s name and the data types of the method’s parameters, in the order that they appear.  The return ty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 of the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, 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tring, 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matching a method call with the correct method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compilier uses the method signature to determine which version of the overloaded method to bind the call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2851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Signatures of the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add</a:t>
            </a: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 methods of previous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895480" y="3352680"/>
            <a:ext cx="16765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733920" y="3352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FBF0-C91D-4625-B982-67F30188F46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 Over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were to add the no-arg constructor we wrote previously to 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n addition to the original constructor we wrote, what would happen when we execute the following ca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1 = new Rectang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2 = new Rectangle(5.0, 1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FF0F-8680-46BE-AC2F-F22BAE46CF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 Over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were to add the no-arg constructor we wrote previously to 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n addition to the original constructor we wrote, what would happen when we execute the following ca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1 = new Rectang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2 = new Rectangle(5.0, 1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he first call would use the no-arg constructor and </a:t>
            </a:r>
            <a:r>
              <a:rPr b="0" lang="en-US" sz="2800" spc="-1" strike="noStrike">
                <a:solidFill>
                  <a:srgbClr val="009999"/>
                </a:solidFill>
                <a:latin typeface="Courier New"/>
              </a:rPr>
              <a:t>box1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would have a length of 1.0 and width of 1.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he second call would use the original constructor and </a:t>
            </a:r>
            <a:r>
              <a:rPr b="0" lang="en-US" sz="2800" spc="-1" strike="noStrike">
                <a:solidFill>
                  <a:srgbClr val="009999"/>
                </a:solidFill>
                <a:latin typeface="Courier New"/>
              </a:rPr>
              <a:t>box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would have a length of 5.0 and a width of 10.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392A-A5E0-451E-9A5D-140332DD001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36920" y="1295280"/>
            <a:ext cx="2819520" cy="4876920"/>
            <a:chOff x="3436920" y="1295280"/>
            <a:chExt cx="2819520" cy="4876920"/>
          </a:xfrm>
        </p:grpSpPr>
        <p:sp>
          <p:nvSpPr>
            <p:cNvPr id="128" name=""/>
            <p:cNvSpPr/>
            <p:nvPr/>
          </p:nvSpPr>
          <p:spPr>
            <a:xfrm>
              <a:off x="3436920" y="1295280"/>
              <a:ext cx="28195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36920" y="1752480"/>
              <a:ext cx="28195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(Fields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ically private to this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6920" y="2286000"/>
              <a:ext cx="281952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 Tha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te on th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970080" y="3352680"/>
              <a:ext cx="1820520" cy="2056320"/>
              <a:chOff x="3970080" y="3352680"/>
              <a:chExt cx="1820520" cy="2056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3970080" y="3352680"/>
                <a:ext cx="449280" cy="560160"/>
                <a:chOff x="3970080" y="3352680"/>
                <a:chExt cx="449280" cy="5601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97044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396972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55520" y="3352680"/>
                <a:ext cx="449280" cy="560160"/>
                <a:chOff x="4655520" y="3352680"/>
                <a:chExt cx="449280" cy="560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65588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65516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342040" y="3352680"/>
                <a:ext cx="448560" cy="560160"/>
                <a:chOff x="5342040" y="3352680"/>
                <a:chExt cx="448560" cy="560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42040" y="335268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5342040" y="346428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342040" y="4848840"/>
                <a:ext cx="448560" cy="560160"/>
                <a:chOff x="5342040" y="4848840"/>
                <a:chExt cx="448560" cy="560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342040" y="484884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5342040" y="496044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970080" y="4100760"/>
                <a:ext cx="449280" cy="560160"/>
                <a:chOff x="3970080" y="4100760"/>
                <a:chExt cx="449280" cy="560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97044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396972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55520" y="4100760"/>
                <a:ext cx="449280" cy="560160"/>
                <a:chOff x="4655520" y="4100760"/>
                <a:chExt cx="449280" cy="560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65588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465516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342040" y="4100760"/>
                <a:ext cx="448560" cy="560160"/>
                <a:chOff x="5342040" y="4100760"/>
                <a:chExt cx="448560" cy="560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342040" y="410076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5342040" y="421236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970080" y="4848840"/>
                <a:ext cx="449280" cy="560160"/>
                <a:chOff x="3970080" y="4848840"/>
                <a:chExt cx="449280" cy="5601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97044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396972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655520" y="4848840"/>
                <a:ext cx="449280" cy="560160"/>
                <a:chOff x="4655520" y="4848840"/>
                <a:chExt cx="449280" cy="5601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65588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465516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V="1">
              <a:off x="41990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848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5706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066680" y="3429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Outside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26708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06F0-0016-45A8-B907-8D9B1DAC4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13716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Account.java AccountTest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91120" y="1447920"/>
            <a:ext cx="4647960" cy="464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1523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19051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67080" y="19051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balance: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2860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91120" y="2438280"/>
            <a:ext cx="46479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BankAccoun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BankAccount(startBalance:dou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BankAccount(strString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deposit(amount:double):v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deposit(str:String):v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withdraw(amount:double):v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withdraw(str:String):v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setBalance(b:double):v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setBalance(str:String):v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getBalance():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8120" y="281952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0240" y="3673440"/>
            <a:ext cx="34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os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7960" y="4419720"/>
            <a:ext cx="35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4320" y="518148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809880" y="5257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53341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7339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4648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657600" y="37335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3886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200400" y="2666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200400" y="29718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00400" y="30481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1556-0F0D-45D2-B769-78B4BA0A900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 of Instanc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ables declared as instance fields in a class can be accessed by any instance method in the same class as the fie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n instance field is declared with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ss specifier, it can also be accessed by code outside the class, as long as an instance of the class ex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7FC2-0D28-4334-ABE2-D0719CBC48C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d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ameter variable is, in effect, a local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method, variable names must be u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may have a local variable with the same name as an instance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ad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cal variable wi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value of the instance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dowing is discouraged and local variable names should not be the same as instance fiel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3AB1-7A98-46C8-8FC0-F5C481B51C0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in the Java API are organized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and Wildca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imports name a specifi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dcard imports name a package, followed b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 is automatically made available to any Jav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8564-786A-42A7-ADD1-57CE0CFFED6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Java Standard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143000" y="1987560"/>
            <a:ext cx="6748560" cy="35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E5B1-9C42-4213-B986-A0893E203F8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Desig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Classes and Their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written description of the problem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ll nouns, each is a potent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list to include only classes relevant 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a class is responsible for kn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a class is responsible for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list to include only classes relevant 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DBC6-FB4E-4DB0-973F-AECAE470C10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Desig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Classes and Their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29476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gs a class is responsible for kn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gs a class is responsible for d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list to include only classes relevant to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7352-243D-4AFF-A474-E2DDC44487A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hiding is important for several rea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tects the data from accidental corruption by outsid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ides the details of how an object works, so the programmer can concentrate on us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ows the maintainer of the object to have the ability to modify the internal functioning of the object without “breaking” someone else's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AE3C-80A7-42C6-81FB-A904EB6A01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Re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-Oriented Programming (OOP) has encouraged object reusabilit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software object contains data and methods that represents a specific concept or servi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object is not a stand-alone progra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can be used by programs that need the object’s servi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use of code promotes the rapid development of larger software projec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7655-1878-460B-A712-180C858F83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veryday Example of an Object—An Alarm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define the state that the alarm is currently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second (a value in the range of 0-5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minute (a value in the range of 0-5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hour (a value in the range of 1-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ime the alarm is set for (a valid hour and minu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the alarm is on or off (“on” or “off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03C6-3812-4984-ABC3-6C0947A740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8:40:41Z</dcterms:created>
  <dc:creator>Tony Gaddis</dc:creator>
  <dc:description/>
  <dc:language>en-US</dc:language>
  <cp:lastModifiedBy>test</cp:lastModifiedBy>
  <cp:lastPrinted>2009-04-22T19:24:48Z</cp:lastPrinted>
  <dcterms:modified xsi:type="dcterms:W3CDTF">2007-03-12T18:36:45Z</dcterms:modified>
  <cp:revision>78</cp:revision>
  <dc:subject>A First Look at Classes</dc:subject>
  <dc:title>Chapter 6</dc:title>
</cp:coreProperties>
</file>