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4DE23-CC7E-4847-B9E9-E85B229866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5AF7F-5C2E-4396-8774-E6BAD54505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E5844-92A7-4E53-9BE7-A245E1BEEC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93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37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93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37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31E10-B32E-4A27-9653-C02CF3B173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03120"/>
            <a:ext cx="861048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7E2E7-7C4C-4C00-8EBA-4083F1E59C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93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137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93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137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5464C-4476-41A5-95DE-317136BBCB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121E6-2A4B-4284-A84E-374B76B73A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5B5CE-355D-48B8-A0A1-5F7E3CC24A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303120"/>
            <a:ext cx="861048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0389E-3337-4E59-AA42-3BEED6A9BD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E5CF4-416D-41A6-A881-89A6CF6FB5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38EB6-6FF4-48D7-9D84-05C7E5C2B2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4E272-8A1A-48BE-B44B-DA2773A25C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>
            <a:off x="-720" y="0"/>
            <a:ext cx="9140760" cy="2133720"/>
          </a:xfrm>
          <a:custGeom>
            <a:avLst/>
            <a:gdLst>
              <a:gd name="textAreaLeft" fmla="*/ 0 w 9140760"/>
              <a:gd name="textAreaRight" fmla="*/ 9140760 w 9140760"/>
              <a:gd name="textAreaTop" fmla="*/ 0 h 2133720"/>
              <a:gd name="textAreaBottom" fmla="*/ 21340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6a9a7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-</a:t>
            </a:r>
            <a:fld id="{811A907A-1142-48FF-9253-ED0BBAEE4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6324480"/>
            <a:ext cx="5562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8 Pearson Education, Inc. Publishing as Pearson Addison-Wes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a9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228600" y="5791320"/>
            <a:ext cx="766800" cy="847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147680" y="6324480"/>
            <a:ext cx="5562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8 Pearson Education, Inc. Publishing as Pearson Addison-Wes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0" y="1523880"/>
            <a:ext cx="9144000" cy="152640"/>
          </a:xfrm>
          <a:custGeom>
            <a:avLst/>
            <a:gdLst>
              <a:gd name="textAreaLeft" fmla="*/ 360 w 9144000"/>
              <a:gd name="textAreaRight" fmla="*/ 9144720 w 9144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bee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PersonSearch.java" TargetMode="External"/><Relationship Id="rId2" Type="http://schemas.openxmlformats.org/officeDocument/2006/relationships/hyperlink" Target="file:///PersonSearch.java" TargetMode="Externa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StringAnalyzer.java" TargetMode="Externa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Telephone.java" TargetMode="External"/><Relationship Id="rId2" Type="http://schemas.openxmlformats.org/officeDocument/2006/relationships/hyperlink" Target="file:///TelephoneTester.java" TargetMode="External"/><Relationship Id="rId3" Type="http://schemas.openxmlformats.org/officeDocument/2006/relationships/hyperlink" Target="file:///TelephoneTester.java" TargetMode="External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file:///DateComponent.java" TargetMode="External"/><Relationship Id="rId2" Type="http://schemas.openxmlformats.org/officeDocument/2006/relationships/hyperlink" Target="file:///DateTester.java" TargetMode="External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file:///TestScoreReader.java" TargetMode="External"/><Relationship Id="rId2" Type="http://schemas.openxmlformats.org/officeDocument/2006/relationships/hyperlink" Target="file:///TestScoreReader.java" TargetMode="External"/><Relationship Id="rId3" Type="http://schemas.openxmlformats.org/officeDocument/2006/relationships/hyperlink" Target="file:///TestAverages.java" TargetMode="External"/><Relationship Id="rId4" Type="http://schemas.openxmlformats.org/officeDocument/2006/relationships/hyperlink" Target="file:///TestAverages.java" TargetMode="Externa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CharacterTest.java" TargetMode="External"/><Relationship Id="rId2" Type="http://schemas.openxmlformats.org/officeDocument/2006/relationships/hyperlink" Target="file:///CharacterTest.java" TargetMode="External"/><Relationship Id="rId3" Type="http://schemas.openxmlformats.org/officeDocument/2006/relationships/hyperlink" Target="file:///CustomerNumber.java" TargetMode="External"/><Relationship Id="rId4" Type="http://schemas.openxmlformats.org/officeDocument/2006/relationships/hyperlink" Target="file:///CustomerNumber.java" TargetMode="External"/><Relationship Id="rId5" Type="http://schemas.openxmlformats.org/officeDocument/2006/relationships/hyperlink" Target="file:///CircleArea.java" TargetMode="External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a9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837720" y="1980720"/>
            <a:ext cx="7543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ing Out with Java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Control Structures through Object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E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y Tony Gadd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45720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apter 10:</a:t>
            </a:r>
            <a:br>
              <a:rPr sz="3200"/>
            </a:b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ext Processing and More about Wrapper Clas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arching Str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endsWi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thod determines whether a string ends with a specified substr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ing str = "Four score and seven years ago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str.endsWith("ago"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out.println("The string ends with ago.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out.println("The string does not end with ago.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endsWi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thod also performs a case sensitive comparis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PersonSearch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.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3C37F-EB22-49E9-BA61-0E37E5A6B8B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arching Str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ss provides methods that will if specified regions of two strings mat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gionMatches(int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tar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String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tart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s true if the specified regions match or false if they don’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sensitive comparis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gionMatches(boolean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ignoreCa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tar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String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tart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ignore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rue, it performs case insensitive compar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99DC4-7EBB-42C0-AF9F-3FC1BC0A0F9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arching Str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ss also provides methods that will locate the position of a substr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dex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s the first location of a substring or character in the call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bj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astIndex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s the last location of a substring or character in the call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bj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C6D5B-6B37-47EB-9E2A-FEF26B355E5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arching Str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ing str = "Four score and seven years ago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first, las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rst = </a:t>
            </a:r>
            <a:r>
              <a:rPr b="1" lang="en-US" sz="1600" spc="-1" strike="noStrike">
                <a:solidFill>
                  <a:srgbClr val="ff3300"/>
                </a:solidFill>
                <a:latin typeface="Courier New"/>
              </a:rPr>
              <a:t>str.indexOf('r'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ast = </a:t>
            </a:r>
            <a:r>
              <a:rPr b="1" lang="en-US" sz="1600" spc="-1" strike="noStrike">
                <a:solidFill>
                  <a:srgbClr val="ff3300"/>
                </a:solidFill>
                <a:latin typeface="Courier New"/>
              </a:rPr>
              <a:t>str.lastIndexOf('r'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out.println("The letter r first appears at 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+ "position " + fir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out.println("The letter r last appears at 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+ "position " + la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ing str = "and a one and a two and a three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positio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out.println("The word and appears at the 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+ "following locations.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sition = str.indexOf("and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 (position != -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out.println(positio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sition = str.indexOf("and", position + 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3505320"/>
            <a:ext cx="7010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D6F48-55DF-43DF-993C-AD3CA79EC7B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Methods For Getting Character Or Substring Lo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687680" y="1347840"/>
            <a:ext cx="4636800" cy="51292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553080" y="838080"/>
            <a:ext cx="2362320" cy="825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ee Table 10-4 on page 6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3E2A1-A448-437F-9E61-4901DA17FAE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tracting Substr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ss provides methods to extract substrings in 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bj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ub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 returns a substring beginning at a start location and an optional ending loc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 fullName = "Cynthia Susan Smith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 lastName = fullName.substring(14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"The full name is "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+ fullNam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"The last name is "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+ lastNam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92929-DCF7-430B-9DA7-8EFB32C581A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tracting Substr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19320" y="2590920"/>
            <a:ext cx="12952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800600" y="2590920"/>
            <a:ext cx="34290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ynthia Susan Smith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182880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ull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variable holds the address of a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bjec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" name=""/>
          <p:cNvCxnSpPr>
            <a:stCxn id="117" idx="3"/>
            <a:endCxn id="118" idx="1"/>
          </p:cNvCxnSpPr>
          <p:nvPr/>
        </p:nvCxnSpPr>
        <p:spPr>
          <a:xfrm>
            <a:off x="2514600" y="2781000"/>
            <a:ext cx="2286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1219320" y="4572000"/>
            <a:ext cx="12952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4572000"/>
            <a:ext cx="1371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mith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37339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ast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variable holds the address of a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bjec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" name=""/>
          <p:cNvCxnSpPr>
            <a:stCxn id="121" idx="3"/>
            <a:endCxn id="122" idx="1"/>
          </p:cNvCxnSpPr>
          <p:nvPr/>
        </p:nvCxnSpPr>
        <p:spPr>
          <a:xfrm>
            <a:off x="2514600" y="4762080"/>
            <a:ext cx="2286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25" name=""/>
          <p:cNvGrpSpPr/>
          <p:nvPr/>
        </p:nvGrpSpPr>
        <p:grpSpPr>
          <a:xfrm>
            <a:off x="5486040" y="2666880"/>
            <a:ext cx="2134080" cy="1905480"/>
            <a:chOff x="5486040" y="2666880"/>
            <a:chExt cx="2134080" cy="1905480"/>
          </a:xfrm>
        </p:grpSpPr>
        <p:sp>
          <p:nvSpPr>
            <p:cNvPr id="126" name=""/>
            <p:cNvSpPr/>
            <p:nvPr/>
          </p:nvSpPr>
          <p:spPr>
            <a:xfrm>
              <a:off x="6934320" y="2666880"/>
              <a:ext cx="685800" cy="2509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7" name=""/>
            <p:cNvCxnSpPr>
              <a:stCxn id="126" idx="2"/>
              <a:endCxn id="122" idx="0"/>
            </p:cNvCxnSpPr>
            <p:nvPr/>
          </p:nvCxnSpPr>
          <p:spPr>
            <a:xfrm flipH="1">
              <a:off x="5486040" y="2930400"/>
              <a:ext cx="1791360" cy="164232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EB544-1C6A-40AA-B04C-159F8C0C520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tracting Characters to Arr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ss provides methods to extract substrings in 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bject and store them in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ray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getCh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s a substring in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oCharArr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s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bject’s contents in an array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StringAnalyzer.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07FEF-8D0C-4C56-A18D-1B5B64A8412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turning Modified Str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ss provides methods to return modified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bj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c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bject that is the concatenation of tw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bj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ep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bject with all occurrences of one character being replaced by another charac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r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bject with all leading and trailing whitespace characters remov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73587-CC21-40D4-BDBF-441E52FF200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valueOf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13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 provides several overload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value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return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bject representation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imitive value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haracter arr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.valueOf(true) will return "true"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.valueOf(5.0) will return "5.0"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.valueOf(‘C’) will return "C"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45511-C9B2-412E-90B3-4F100D6EB34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pter 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1536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5000"/>
          </a:bodyPr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pter 10 discusses the following main topic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roduction to Wrapper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cter Testing and Conversion with the Character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Buil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Tokeniz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apper Classes for the Numeric Data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cus on Problem Solving: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estScoreRea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3C09D-6487-4997-B9DF-F1C4C529A06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valueOf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 b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[] letters = { 'a', 'b', 'c', 'd', 'e' 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 d = 2.4981567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i = 7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String.valueOf(b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String.valueOf(letters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String.valueOf(letters, 1, 3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String.valueOf(d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String.valueOf(i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es the following outpu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bc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c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.498156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D4999-56FA-4C04-B8A9-3FF6F921838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StringBuilde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1608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Buil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 is similar to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you may change the contents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Buil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bjec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 change specific character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character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e characters,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orm other oper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Buil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bject will grow or shrink in size, as needed, to accommodate the chan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E54DD-6F7E-41AD-A2CC-E81E796C8B3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StringBuilde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onstru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1536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Builder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constructor gives the object enough storage space to hold 16 charac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Builder(int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constructor gives the object enough storage space to hold 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c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Builder(String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constructor initializes the object with the string in 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bject will have at least enough storage space to hold the string in 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80983-26A7-4D18-B9C7-D6F3A6D35B0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tringBuild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The St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tringBuild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so have common metho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charAt(int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posit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getChars(int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star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end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[]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arra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arrayStar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ndexOf(String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ndexOf(String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star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lastIndexOf(String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lastIndexOf(String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star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length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 substring(int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star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 substring(int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star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2E482-9DFB-4709-9D0C-3843E929DDC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ending to a </a:t>
            </a:r>
            <a:r>
              <a:rPr b="0" lang="en-US" sz="3000" spc="-1" strike="noStrike">
                <a:solidFill>
                  <a:srgbClr val="000000"/>
                </a:solidFill>
                <a:latin typeface="Courier New"/>
              </a:rPr>
              <a:t>StringBuilde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bje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Buil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 has several overloaded versions of a method nam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pp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append a string representation of their argument to the calling object’s current cont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eneral form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pp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object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(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ite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n instance of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Build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ss and 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i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mitive literal or varia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har  array, 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literal or objec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E82D3-913A-466F-801C-A7FC2C29676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pp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 is called, a string representation of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ite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appended to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cont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Builder str = new StringBuilder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.append("We sold 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.append(1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.append(" doughnuts for $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.append(15.95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st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ni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nion-Regular"/>
              </a:rPr>
              <a:t>This code will produce the following out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e sold 12 doughnuts for $15.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ending to a </a:t>
            </a:r>
            <a:r>
              <a:rPr b="0" lang="en-US" sz="3000" spc="-1" strike="noStrike">
                <a:solidFill>
                  <a:srgbClr val="000000"/>
                </a:solidFill>
                <a:latin typeface="Courier New"/>
              </a:rPr>
              <a:t>StringBuilde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bje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B5A7B-1E08-4A6C-9A26-9288E32D51F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8088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StringBuilde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lass also has several overloaded versions of a method named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inser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se methods accept two argument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specifies the position to begin insertion,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lue to be inser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value to be inserted may b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imitive literal or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ray,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iteral or obj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ending to a </a:t>
            </a:r>
            <a:r>
              <a:rPr b="0" lang="en-US" sz="3000" spc="-1" strike="noStrike">
                <a:solidFill>
                  <a:srgbClr val="000000"/>
                </a:solidFill>
                <a:latin typeface="Courier New"/>
              </a:rPr>
              <a:t>StringBuilde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bje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9BE29-DFC4-41E0-B645-71FB2571A3D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general form of a typical call to the </a:t>
            </a:r>
            <a:r>
              <a:rPr b="0" lang="en-US" sz="3000" spc="-1" strike="noStrike">
                <a:solidFill>
                  <a:srgbClr val="000000"/>
                </a:solidFill>
                <a:latin typeface="Courier New"/>
              </a:rPr>
              <a:t>inser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etho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object.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sert(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tart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item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n instance of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Build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ss, 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sta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insertion location, and 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i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558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mitive literal or varia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558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ray, 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558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literal or objec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Telephone.jav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TelephoneTester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.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ending to a </a:t>
            </a:r>
            <a:r>
              <a:rPr b="0" lang="en-US" sz="3000" spc="-1" strike="noStrike">
                <a:solidFill>
                  <a:srgbClr val="000000"/>
                </a:solidFill>
                <a:latin typeface="Courier New"/>
              </a:rPr>
              <a:t>StringBuilde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bje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C5CF8-4430-4F90-859F-169E945C088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Buil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 has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epla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 that replaces a specified substring with a 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eneral form of a call to the 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object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place(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star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tar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at specifies the starting position of a substring in the calling object,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at specifies the ending position of the substring. (The starting position is included in the substring, but the ending position is not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ameter is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the method executes, the substring will be replaced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acing a Substring in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Build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A2A3D-392A-42BD-9092-6FCAA8B6533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epla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thod in this code replaces the word “Chicago” with “New York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Builder str = new StringBuilder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We moved from Chicago to Atlanta.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.replace(14, 21, "New York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str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de will produce the following outpu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 moved from New York to Atlan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acing a Substring in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Build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44BE2-2336-47E6-9CC1-4E079CFFD5E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roduction to Wrapper 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provides 8 primitive data typ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are called “primitive” because they are not created from clas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provides wrapper classes for all of the primitive data typ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rapper clas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class that is “wrapped around” a primitive data typ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rapper classes are part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ava.la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o to use them, there is n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mpo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tement requi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5AF89-1101-4CF8-9458-103D367FB8C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tringBuild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Buil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 also provides methods to set and delete characters in an ob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ingBuilder str = new StringBuilder(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I ate 100 blueberries!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Display the StringBuilder objec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out.println(st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Delete the '0'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.deleteCharAt(8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Delete "blue"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.delete(9, 13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Display the StringBuilder objec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out.println(st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Change the '1' to '5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.setCharAt(6, '5'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Display the StringBuilder objec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out.println(st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4AA2E-B81D-450A-ADE3-5DD3EFE24DE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StringTokenize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tringTokeniz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ss breaks a string down into its components, which are call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oke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kens are a series of words or other items of data separated by spaces or other charac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"peach raspberry strawberry vanilla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string contains the following four tokens: peach, raspberry, strawberry, and vanill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146C0-E0D9-4116-ABA8-1CA592019CF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StringTokenize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haracter that separates tokens 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limit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"17;92;81;12;46;5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string contains the following tokens: 17, 92, 81, 12, 46, and 5 that are delimited by semi-col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programming problems require you to process a string that contains a list of it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993B2-9C95-47F1-8358-6222225B688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StringTokenize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xampl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cess of breaking a string into tokens is known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okeniz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Java API provides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Tokeniz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  that allows you to tokenize a 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ollow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mpo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tement must be used in any class that uses 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mport java.util.StringTokeniz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219320" y="1905120"/>
          <a:ext cx="6095880" cy="785520"/>
        </p:xfrm>
        <a:graphic>
          <a:graphicData uri="http://schemas.openxmlformats.org/drawingml/2006/table">
            <a:tbl>
              <a:tblPr/>
              <a:tblGrid>
                <a:gridCol w="2514600"/>
                <a:gridCol w="3581280"/>
              </a:tblGrid>
              <a:tr h="78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dat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urier New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11-22-2007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 operating system pathname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urier New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/home/rsullivan/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D3064-C6A6-4FC2-B684-77D25ECFB91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tringTokeniz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u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380880" y="1544760"/>
          <a:ext cx="8382240" cy="4246560"/>
        </p:xfrm>
        <a:graphic>
          <a:graphicData uri="http://schemas.openxmlformats.org/drawingml/2006/table">
            <a:tbl>
              <a:tblPr/>
              <a:tblGrid>
                <a:gridCol w="3760920"/>
                <a:gridCol w="4621320"/>
              </a:tblGrid>
              <a:tr h="420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tru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66768"/>
                        </a:gs>
                        <a:gs pos="50000">
                          <a:srgbClr val="bbe0e3"/>
                        </a:gs>
                        <a:gs pos="100000">
                          <a:srgbClr val="5667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66768"/>
                        </a:gs>
                        <a:gs pos="50000">
                          <a:srgbClr val="bbe0e3"/>
                        </a:gs>
                        <a:gs pos="100000">
                          <a:srgbClr val="566768"/>
                        </a:gs>
                      </a:gsLst>
                      <a:lin ang="5400000"/>
                    </a:gradFill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ringTokenizer(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String 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r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string to be tokenized is passed into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Whitespace characters (space, tab, and newline) are used as delimiter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ringTokenizer(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String 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r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String 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elimiters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string to be tokenized is passed into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The characters in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limiter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ll be used as delimiter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ringTokenizer(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String 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r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String 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elimiters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Boolean 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Delimeters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string to be tokenized is passed into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The characters in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limiter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ll be used as delimiters. If the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turnDelimiter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ameter is set to true, the delimiters will be included as tokens. If this parameter is set to false, the delimiters will not be included as token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E915D-383E-4ECE-A312-1D3843BDED7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Tokeniz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create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Tokeniz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bject with the default delimiters (whitespace characters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Tokenizer strTokenizer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w StringTokenizer("2 4 6 8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create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Tokeniz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bject with the hyphen character as a delimit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Tokenizer strTokenizer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w StringTokenizer("8-14-2004", "-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create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Tokeniz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bject with the hyphen character as a delimiter, returning hyphen characters as tokens as wel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Tokenizer strTokenizer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w StringTokenizer("8-14-2004", "-", tr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A8257-0446-4AE7-BBE1-C07553EFC57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StringTokenize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tringTokeniz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ss provi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untTok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main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kens in the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hasMoreTok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there any more tokens to extrac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extTo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s the next token in the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ow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SuchElementExce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f there are no more tokens in the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55DD8-4119-47B7-9E50-ACC8C1DB13E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tracting Toke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ps are often used to extract tokens from a 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Tokenizer strTokenizer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w StringTokenizer("One Two Three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(strTokenizer.hasMoreTokens(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strTokenizer.nextToken(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code will produce the following out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w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r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DateComponent.jav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DateTester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7A362-039A-4C7F-84DF-DE11C55C2B9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ple Delimi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fault delimiters for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Tokeniz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are the whitespace charac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\n\r\t\b\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multiple characters can be used as delimiters in the same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oe@gaddisbooks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string uses two delimiters: </a:t>
            </a:r>
            <a:r>
              <a:rPr b="0" lang="en-US" sz="2800" spc="-1" strike="noStrike">
                <a:solidFill>
                  <a:srgbClr val="ff3300"/>
                </a:solidFill>
                <a:latin typeface="Courier New"/>
              </a:rPr>
              <a:t>@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ff3300"/>
                </a:solidFill>
                <a:latin typeface="Courier New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non-default delimiters are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 should be used on user input strings to avoid having whitespace become part of the last tok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508FB-DECD-4429-A51C-A948DE37804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ple Delimi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extract the tokens from this string we must specify both characters as delimiters to the construc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Tokenizer strTokenizer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w StringTokenizer("joe@gaddisbooks.com", "@.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(strTokenizer.hasMoreTokens(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strTokenizer.nextToken(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code will produce the following out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addisboo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276E8-DE08-45FD-B4AC-8DCC627C9DD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rapper 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apper classes allow you to create objects to represent a primit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apper classes are immutable, which means that once you create an object, you cannot change the object’s val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get the value stored in an object you must call a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apper classes provide static methods that are very usefu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EBADD-EFD5-4524-89F3-1A0F7B044F3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lass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pl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keniz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bject and returns an array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array element is one tok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Create a String to tokeniz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str = "one two three four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Get the tokens from the str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[] tokens = str.split(" 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Display each tok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String s : toke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code will produce the following out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w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r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0C389-F7BC-44F5-8CC5-2CF7EEE895A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umeric Data Type Wrapp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294400" cy="1622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provides wrapper classes for all of the primitive data typ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umeric primitive wrapper classes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2590920" y="3124080"/>
          <a:ext cx="3733560" cy="3284280"/>
        </p:xfrm>
        <a:graphic>
          <a:graphicData uri="http://schemas.openxmlformats.org/drawingml/2006/table">
            <a:tbl>
              <a:tblPr/>
              <a:tblGrid>
                <a:gridCol w="1295280"/>
                <a:gridCol w="2438280"/>
              </a:tblGrid>
              <a:tr h="760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apper Cl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66768"/>
                        </a:gs>
                        <a:gs pos="50000">
                          <a:srgbClr val="bbe0e3"/>
                        </a:gs>
                        <a:gs pos="100000">
                          <a:srgbClr val="5667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eric Primitive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pe It Applies 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66768"/>
                        </a:gs>
                        <a:gs pos="50000">
                          <a:srgbClr val="bbe0e3"/>
                        </a:gs>
                        <a:gs pos="100000">
                          <a:srgbClr val="566768"/>
                        </a:gs>
                      </a:gsLst>
                      <a:lin ang="5400000"/>
                    </a:gradFill>
                  </a:tcPr>
                </a:tc>
              </a:tr>
              <a:tr h="420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y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y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ou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ou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lo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lo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eg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h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h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F7CAF-9896-462A-BD26-264288FE3CB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eating a Wrapper Obj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create objects from these wrapper classes, you can pass a value to the construct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eger number = new Integer(7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also assign a primitive value to a wrapper class ob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eger numb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umber = 7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919A3-B76C-4393-8401-C51D7EC3638E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arse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all from Chapter 2, we convert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put (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OptionPa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nto numbers.  An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taining a number, such as “127.89”, can be converted to a numeric data ty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of the numeric wrapper classes has a static method that converts a string to a numb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eg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ss has a method that convert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ss has a method that convert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methods are known a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se method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their names begin with the word “pars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93797-8346-4343-8FCB-33C284B808B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arse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5000"/>
          </a:bodyPr>
          <a:p>
            <a:pPr lvl="1" marL="705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Store 1 in bVa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yte bVar = Byte.parseByte("1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Store 2599 in iV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iVar = Integer.parseInt("2599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Store 10 in sV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hort sVar = Short.parseShort("10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Store 15908 in lV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ng lVar = Long.parseLong("15908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Store 12.3 in fV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loat fVar = Float.parseFloat("12.3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Store 7945.6 in dV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 dVar = Double.parseDouble("7945.6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arse methods all throw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umberFormatExcep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bject does not represent a numeric val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F2EBC-F1C3-4A3E-A28D-178693E2A53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of the numeric wrapper classes has a static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thod that converts a number to a str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ethod accepts the number as its argument and returns a string representation of that numbe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 = 1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uble d = 14.95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 str1 = Integer.toString(i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 str2 = Double.toString(d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EB705-0EE7-4703-89D8-B751EFACBDB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oBinarySt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oHexSt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oOctalSt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nteg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Lo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sses have three additional metho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oBinary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oHex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oOctalSt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number = 14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Integer.toBinaryString(number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Integer.toHexString(number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Integer.toOctalString(number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code will produce the following outpu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1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35271-1DAB-46B2-82C6-1F9944F0BB5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MIN_VALU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MAX_VAL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umeric wrapper classes each have a set of static final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IN_VAL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X_VAL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variables hold the minimum and maximum values for a particular data typ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"The minimum value for an 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+ "int is 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+ Integer.MIN_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"The maximum value for an 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+ "int is 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+ Integer.MAX_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D7381-CE0C-4220-9F04-503A0BF0BB85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toboxing and Unbox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can declare a wrapper class variable and assign a valu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ger numb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umber = 7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nay think this is an error, but because number is a wrapper class variable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utobox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ccu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nbox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oes the opposite with wrapper class variab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ger myInt = 5;   // Autoboxes the value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primitiveNumb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mitiveNumber = myInt;  // unbox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09E3D-347C-4E13-A311-32B45081B8B1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toboxing and Unbox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rarely need to declare numeric wrapper class objects, but they can be useful when you need to work with primitives in a context where primitives are not permit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all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, which works only with objec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rrayList&lt;int&gt; list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ew ArrayList&lt;int&gt;();     // Erro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rrayList&lt;Integer&gt; list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ew ArrayList&lt;Integer&gt;(); // OK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boxing and unboxing allow you to conveniently us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with primiti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7FA06-4632-4930-96E7-D73471B04EF7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37944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 Testing and Conversion With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harac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haract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ss allows a char data type to b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rapp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an obj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haract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ss provides methods that allow easy testing, processing, and conversion of character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23637-7AC2-424E-9DCA-CB2334407D6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blem Solv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. Harrison keeps student scores in an Excel file.  This can be exported as a comma separated text file.  Each student’s data will be on one line. We want to write a Java program that will find the average for each student. (The number of students changes each year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: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TestScoreReader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.jav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TestAverages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.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4E0DD-6ACA-4635-86DA-7A138E88D479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Characte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685800" y="1371600"/>
          <a:ext cx="8001000" cy="4800600"/>
        </p:xfrm>
        <a:graphic>
          <a:graphicData uri="http://schemas.openxmlformats.org/drawingml/2006/table">
            <a:tbl>
              <a:tblPr/>
              <a:tblGrid>
                <a:gridCol w="3216240"/>
                <a:gridCol w="4784760"/>
              </a:tblGrid>
              <a:tr h="546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66768"/>
                        </a:gs>
                        <a:gs pos="50000">
                          <a:srgbClr val="bbe0e3"/>
                        </a:gs>
                        <a:gs pos="100000">
                          <a:srgbClr val="5667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66768"/>
                        </a:gs>
                        <a:gs pos="50000">
                          <a:srgbClr val="bbe0e3"/>
                        </a:gs>
                        <a:gs pos="100000">
                          <a:srgbClr val="566768"/>
                        </a:gs>
                      </a:gsLst>
                      <a:lin ang="5400000"/>
                    </a:gradFill>
                  </a:tcPr>
                </a:tc>
              </a:tr>
              <a:tr h="671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olean isDigit(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har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h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turns true if the argument passed into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s a digit from 0 through 9. Otherwise returns fals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olean isLetter(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har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h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turns true if the argument passed into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s an alphabetic letter. Otherwise returns fals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olean isLetterOrDigit(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har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h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turns true if the character passed into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ains a digit (0 through 9) or an alphabetic letter. Otherwise returns fals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3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olean isLowerCase(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har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h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turns true if the argument passed into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s a lowercase letter. Otherwise returns fals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olean isUpperCase(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har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h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turns true if the argument passed into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s an uppercase letter. Otherwise returns fals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0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olean isSpaceChar(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har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h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turns true if the argument passed into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s a space character. Otherwise returns fals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B0A37-5AC8-47C7-A57A-2C869F3132A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racter Testing and Conversion With 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Characte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CharacterTest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CustomerNumber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harac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 provides two methods that will change the case of a charac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143000" y="3962520"/>
          <a:ext cx="7391520" cy="1692000"/>
        </p:xfrm>
        <a:graphic>
          <a:graphicData uri="http://schemas.openxmlformats.org/drawingml/2006/table">
            <a:tbl>
              <a:tblPr/>
              <a:tblGrid>
                <a:gridCol w="2878200"/>
                <a:gridCol w="4513320"/>
              </a:tblGrid>
              <a:tr h="406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th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66768"/>
                        </a:gs>
                        <a:gs pos="50000">
                          <a:srgbClr val="bbe0e3"/>
                        </a:gs>
                        <a:gs pos="100000">
                          <a:srgbClr val="5667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66768"/>
                        </a:gs>
                        <a:gs pos="50000">
                          <a:srgbClr val="bbe0e3"/>
                        </a:gs>
                        <a:gs pos="100000">
                          <a:srgbClr val="566768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har toLowerCase(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har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h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turns the lowercase equivalent of the argument passed to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har toUpperCase(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har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h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turns the uppercase equivalent of the argument passed to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907920" y="5715000"/>
            <a:ext cx="381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example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CircleArea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D8123-8D77-440B-87CD-A970CE23822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bstr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 provides several methods that search for a string inside of a 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string that is part of another 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of the substring searching methods provided by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 startsWith(String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 endsWith(String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 regionMatches(int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star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String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start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    int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 regionMatches(boolean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ignoreCase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star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    String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start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3D01C-37D8-4C2A-8586-53FE203544D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arching Str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tartsWi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thod determines whether a string begins with a specified substr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ing str = "Four score and seven years ago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str.startsWith("Four"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out.println("The string starts with Four.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out.println("The string does not start with Four.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tr.startsWith("Four"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turns true becaus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oes begin with “Four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tartsWi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case sensitive comparis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22DB3-8713-4B08-9427-6E4C41252AF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6T01:54:02Z</dcterms:created>
  <dc:creator>Tony Gaddis</dc:creator>
  <dc:description/>
  <dc:language>en-US</dc:language>
  <cp:lastModifiedBy>test</cp:lastModifiedBy>
  <cp:lastPrinted>2009-04-22T19:24:48Z</cp:lastPrinted>
  <dcterms:modified xsi:type="dcterms:W3CDTF">2007-02-20T17:38:22Z</dcterms:modified>
  <cp:revision>44</cp:revision>
  <dc:subject>Text Processing and More about Wrapper Classes</dc:subject>
  <dc:title>Chapter 10</dc:title>
</cp:coreProperties>
</file>