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15E4-25AB-41EA-B149-CBD46994A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5900-A875-4644-8ABD-B813B2AC8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2E3D-E3FD-4330-91DB-4A8EAB329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F76A-BB2D-42E7-8869-2651E7BDE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B74D-63B8-4E0B-B268-B84CCB7A8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B493-3041-4904-ACC9-8EF736D80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4E8A-4420-4B8D-9A1A-F9250F1B1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42C4-E45F-4435-AEA7-1EB2BC84C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8B3B-7949-4537-A5C3-E6484CC90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AB85-6243-4782-827A-263ED022B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2299-A8C8-42DB-91E1-B8D2EABB0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7101-4D70-4E8B-A1C7-23D6EE767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720" y="0"/>
            <a:ext cx="9140760" cy="213372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6a9a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10834CFA-333C-4A8F-892F-EFF9F563E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766800" cy="847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768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e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ShowWindow.java" TargetMode="External"/><Relationship Id="rId2" Type="http://schemas.openxmlformats.org/officeDocument/2006/relationships/hyperlink" Target="file:///ShowWindow.java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SimpleWindow.java" TargetMode="External"/><Relationship Id="rId2" Type="http://schemas.openxmlformats.org/officeDocument/2006/relationships/hyperlink" Target="file:///SimpleWindowDemo.java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ColorWindow.java" TargetMode="External"/><Relationship Id="rId2" Type="http://schemas.openxmlformats.org/officeDocument/2006/relationships/hyperlink" Target="file:///ColorWindow.java" TargetMode="External"/><Relationship Id="rId3" Type="http://schemas.openxmlformats.org/officeDocument/2006/relationships/hyperlink" Target="file:///ColorDemo.java" TargetMode="External"/><Relationship Id="rId4" Type="http://schemas.openxmlformats.org/officeDocument/2006/relationships/hyperlink" Target="file:///ColorDemo.java" TargetMode="External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EventObjectWindow.java" TargetMode="External"/><Relationship Id="rId2" Type="http://schemas.openxmlformats.org/officeDocument/2006/relationships/hyperlink" Target="file:///EventObjectWindow.java" TargetMode="External"/><Relationship Id="rId3" Type="http://schemas.openxmlformats.org/officeDocument/2006/relationships/hyperlink" Target="file:///EventObjectDemo.java" TargetMode="External"/><Relationship Id="rId4" Type="http://schemas.openxmlformats.org/officeDocument/2006/relationships/hyperlink" Target="file:///EventObjectDemo.java" TargetMode="External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EmbeddedMain.java" TargetMode="External"/><Relationship Id="rId2" Type="http://schemas.openxmlformats.org/officeDocument/2006/relationships/hyperlink" Target="file:///EmbeddedMain.java" TargetMode="External"/><Relationship Id="rId3" Type="http://schemas.openxmlformats.org/officeDocument/2006/relationships/hyperlink" Target="file:///FlowWindow.java" TargetMode="External"/><Relationship Id="rId4" Type="http://schemas.openxmlformats.org/officeDocument/2006/relationships/hyperlink" Target="file:///FlowWindow.java" TargetMode="External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BorderWindow.java" TargetMode="External"/><Relationship Id="rId2" Type="http://schemas.openxmlformats.org/officeDocument/2006/relationships/hyperlink" Target="file:///BorderWindow.java" TargetMode="External"/><Relationship Id="rId3" Type="http://schemas.openxmlformats.org/officeDocument/2006/relationships/hyperlink" Target="file:///BorderPanelWindow.java" TargetMode="External"/><Relationship Id="rId4" Type="http://schemas.openxmlformats.org/officeDocument/2006/relationships/hyperlink" Target="file:///BorderPanelWindow.java" TargetMode="Externa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GridWindow.java" TargetMode="External"/><Relationship Id="rId2" Type="http://schemas.openxmlformats.org/officeDocument/2006/relationships/hyperlink" Target="file:///GridWindow.java" TargetMode="Externa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GridPanelWindow.java" TargetMode="External"/><Relationship Id="rId2" Type="http://schemas.openxmlformats.org/officeDocument/2006/relationships/hyperlink" Target="file:///GridPanelWindow.java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MetricConverterWindow.java" TargetMode="Externa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ColorCheckBoxWindow.java" TargetMode="External"/><Relationship Id="rId2" Type="http://schemas.openxmlformats.org/officeDocument/2006/relationships/hyperlink" Target="file:///ColorCheckBoxWindow.java" TargetMode="Externa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7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irst Look at GUI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javax.sw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n application that uses Swing classes, it is necessary to use the following stat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 javax.sw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letter</a:t>
            </a: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ppears after the word</a:t>
            </a: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f the AWT classes are used to determine when events, such as the clicking of a mouse, take place in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n application that uses an AWT class, it is necessary to use the following sta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there is no</a:t>
            </a:r>
            <a:r>
              <a:rPr b="0" lang="en-US" sz="2800" spc="-1" strike="noStrike">
                <a:solidFill>
                  <a:srgbClr val="000000"/>
                </a:solidFill>
                <a:latin typeface="Minion-Regula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package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03E2-B445-4CEB-8393-F4E56CEEF5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, applications need one or more windows with various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indow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is simply a component that holds other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tainer that can be displayed as a window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Swing application, you create a frame from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CD99-15F4-4F4C-A941-1A5B346DC2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rame is a basic window that h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rder around i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tle bar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buttons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ing the 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tandard features are sometimes referred to as window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co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ACC6-A248-4364-B296-345876C6D1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howWindow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209680" y="2209680"/>
            <a:ext cx="4638960" cy="33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0572-320F-4D6F-82F8-0F2D407C70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is needed to use the swing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, two constants are decla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WINDOW_WIDTH = 35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WINDOW_HEIGHT = 25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use these constants later in the program to set the size of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indow’s size is measured in pixe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ixel (picture element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one of the small dots that make up a screen disp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61A3-C15C-4688-A780-EF586ABC53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needs to be crea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Frame window = new JFram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in memor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s its address to the window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ing that is passed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will appear in the window’s title bar when it is displa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.setTitle("A Simple Window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itially invi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FFF8-2C88-40E5-BD06-FFF2D2C48D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t the size of the wind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ndow.setSize(WINDOW_WIDTH, WINDOW_HE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pecify the action to take place when the user clicks on the close 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DefaultCloseOperation(JFrame.EXIT_ON_CLOSE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DefaultCloseOp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take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gument which specifies the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.HIDE_ON_CL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causes the window to be hidden from view, but the application does not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action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.HIDE_ON_CL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8C53-3E5E-4390-B2C0-9D29F7F44D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code displays the wind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indow.setVisible(tru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Vi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take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display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hide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34DC-94CB-4805-9986-7905286695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ending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ually use inheritance to create a new class that extend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new class extends an existing class, it inherits many of the existing class’s members just as if they were part of the new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members act just as if they were written into the new class decla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fields and methods can be declared in the new class decla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llows specialized methods and fields to be added to your 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impleWindow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impleWindow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B075-BF72-4E69-ADF1-98301793B6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ing provides numerous components that can be added to a wind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fundamental components 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2065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ea that can display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065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ea in which the user may type a single line of input from the key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065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tton that can cause an action to occur when it is cli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65D3-0FBD-4548-900B-3A75B5B154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7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ping GUI Classes with a mai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out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Buttons and Check 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Problem Solving: Extending Classes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7C49-EDB5-41C3-ACFC-C413F82194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ketch of Kilometer Converter Graphical User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477120" cy="229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90512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9680" y="3124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11320" y="5105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52440" y="15238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352680"/>
            <a:ext cx="5335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2133720"/>
            <a:ext cx="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1981080"/>
            <a:ext cx="0" cy="990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67080" y="4495680"/>
            <a:ext cx="0" cy="6098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456C-DEF5-4CC5-BB27-A3156CDC48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JLabel messag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JTextField kilomete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JButton calcButt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age = new JLabel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Enter a distance in kilometer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ometers = new JTextField(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cButton = new JButton("Calculat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de declares and instantiates three Swing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CFE4-648A-494D-8FB6-19CFC137ED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 pa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tainer that is part of every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component added to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added to its content pane. You do this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'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ent pane is not visible and it does not have a b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ne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so a container that can hold GUI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193E-691C-49B2-B230-3956353396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els cannot be displayed by themsel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els are commonly used to hold and organize collections of related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panels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JPanel pane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 = new JPane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add(mess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add(kilomete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add(calcButt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7A5D-89D5-49BD-AF2F-CBDDFCB822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ypically placed on a panel and then the panel is added to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s content pan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panel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iloConverterWindow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KilometerConverterDemo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5ADC-FD6A-4FFD-80BD-81E366D2FE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Action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action that takes place within a program, such as the clicking of a 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event takes place, the component that is responsible for the event create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t 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objec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information about the ev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onent that generated the event object is know a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t 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possible that the source component is connected to one or more event liste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0FA0-3DF3-4568-8A94-DAFDEF7C58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Action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 listen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object that responds to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urce compon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event which is passed to a method in the event liste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 listener classes are specific to each applic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 listener classes are commonly written as private inner classes in an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3CD6-C332-443E-96AA-9526334208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Event Listener Classes as Private Inn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that is defined inside of another class is known as an inn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elds and methods of the Outer class appear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class I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elds and methods of the Inner class appear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574A-B68E-4168-A7EC-670B505127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Listeners Must Implement an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event listener classes mu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plement an inte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is something like a class containing one or more method head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write a class that implements an interface, you are agreeing that the class will have all of the methods that are specified in the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29D1-9B7F-478F-BBD1-D591F71FBB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Action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s 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on ev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require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on listen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listener classes must meet the following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hav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takes an argumen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de to be executed when button is pressed goes her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1D2A-EB3F-4385-9BB2-00D335D79E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Java application us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aphical user interfa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U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onounced “gooey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UI is a graphical window or windows that provide interaction with th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’s accept input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indow in a GUI consis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data to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interaction with the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E018-CA79-436F-9F3A-0015076B89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Action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682720"/>
            <a:ext cx="25146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2606760"/>
            <a:ext cx="4343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Listene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actionPerformed(ActionEvent 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8440" y="357012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button is pressed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1387440"/>
            <a:ext cx="958680" cy="95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1" idx="0"/>
            <a:endCxn id="154" idx="2"/>
          </p:cNvCxnSpPr>
          <p:nvPr/>
        </p:nvCxnSpPr>
        <p:spPr>
          <a:xfrm flipH="1" flipV="1" rot="5400000">
            <a:off x="2581920" y="1378080"/>
            <a:ext cx="818280" cy="179136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  <a:endCxn id="152" idx="0"/>
          </p:cNvCxnSpPr>
          <p:nvPr/>
        </p:nvCxnSpPr>
        <p:spPr>
          <a:xfrm>
            <a:off x="4844880" y="1865160"/>
            <a:ext cx="1518480" cy="74232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828800" y="419112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onent generates an event object and passes it to the action listener object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5425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iloConverterWindow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KilometerConverterDemo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BB6F-C9BC-48B6-BEBF-71755A25AA5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stering A Lis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of connecting an event listener object to a component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gister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vent liste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onents have a method name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cButton.addActionListen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CalcButtonListener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user clicks on the source button, the action listener object’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will be exec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7759-B276-4933-8F17-BDAA7ADCDB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 and Foreground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f the Swing component classes have methods name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Foregr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ed to change the color of the component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Foregr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ed to change the color of the text displayed on th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ethod takes a color constant as an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6BDD-D7B3-4688-9D98-204F358182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r Cons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predefined constants that you can use for colo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.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.CYA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.DARK_G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.GRA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.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.LIGHT_GRA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.MAG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.ORAN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.P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.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.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olorWindow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ColorDem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C035-0C1F-405C-9C9A-C74B657BDA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objects contain certain information about the ev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nformation can be obtained by calling one of the event object’s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f these method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returns a reference to the object that generated this ev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ActionComm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returns the action command for this even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EventObjectWindow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EventObjectDemo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97EA-AA2C-45FE-83F6-5E0F0951333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ipping GUI Classes with a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pplications always starts execution with a method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seen applications in two separate files, one file for the class that defines the GUI window and one file that contain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that creates an object of the GUI window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can also be written with the main method directly written into the GUI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EmbeddedMain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1D92-3828-4032-A293-2F9886DDC8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yout Mana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mportant part of designing a GUI application is determining the layout of the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yo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the positioning and sizing of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Java, you do not normally specify the exact location of a component within a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yout mana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object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s the positions and sizes of component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adjustments when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931F-8114-412E-A48B-3B7F35A5FF2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yout Mana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yout manager object and the container work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rovides several layout manag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Arranges components in rows. This is the default for pan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Arranges components in five reg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th, South, East, West, and Ce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the default layout manager for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’s content p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Arranges components in a grid with rows and colum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67B4-D3C6-4814-8A66-D7FFB5B42DD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yout Mana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one of the base classes that many components are derived fr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mponent that is deriv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can have a layout manager added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dd a layout manager to a container by call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Panel panel = new JPane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Layout(new BorderLayout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or you might 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Layout(new FlowLayout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2563-776B-415E-89A8-842961F4067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default layout manager fo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 appear horizontally, from left to right, in the order that they were added.  When there is no more room in a row, the next components “flow” to the next 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FlowWindow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D66F-7F4E-4E3F-A273-05FA011AB0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3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ommon GUI component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s, labels, text fields, check boxes, radio buttons, combo boxes, and sli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2647800"/>
            <a:ext cx="7696440" cy="329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64FB-355D-4E30-B43C-399BF0B567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nager allows you to align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enter of each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ong the left or right edges of each 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verloaded constructor allows you to p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wLayout.CEN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wLayout.LEFT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wLayout.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Layout(new FlowLayout(FlowLayout.LEFT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B0C2-B2B9-4E00-B9D6-20C8DF02B2C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erts a gap of five pixels between components, horizontally and vert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verload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or allows these to be adjus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structor has the following 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wLayout(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alignmen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horizontalGa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erticalGa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Layout(new FlowLayout(FlowLayout.LEFT, 10, 7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84EA-A23E-40AF-881D-8DA0B9250B6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2233440"/>
            <a:ext cx="6781680" cy="40910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676520" y="131904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ages five regions where components can be pla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8AE7-9724-4E6B-9B3A-C51DCEDF52E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BorderWindow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nent placed into a container that is managed by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placed into one of five reg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rderLayout.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rderLayout.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rderLayout.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rderLayout.W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rderLayout.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264F-5C13-427A-A5F3-5032D568E31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region can hold only one component at a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component is added to a region, it is stretched so it fills up the entire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efault manager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(button, BorderLayout.NORT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do not pass a second argument to the add method, the component will be added to the center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E442-B5CE-4570-8222-5816ACDA1DF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ly the size of a button is just large enough to accommodate the text that it 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uttons displayed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gion will not retain their normal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nents are stretched to fill all of the space in their reg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9335-8A0E-4367-8901-0A4F20FFCA9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user resizes the window, the sizes of the components will be changed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ager resizes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d in the north or south regions may be resized horizontally so it fills up the entire reg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d in the east or west regions may be resized vertically so it fills up the entire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onent that is placed in the center region may be resized both horizontally and vertically so it fills up the entire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7EE7-88C0-4B8E-A6B8-0326A1853E3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efault there is no gap between the reg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loade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ructor allows horizontal and vertical gaps to be specified (in pixel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structor has the following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(int horizontalGap, int verticalG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(new BorderLayout(5,10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E6F1-E2F9-47BB-BED2-977A05F7B27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sting Components in a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components to panels and then nesting the panels inside the regions can overcome the single component limitation of layout reg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dding buttons to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n adding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to a region, sophisticated layouts can be achie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BorderPanelWindow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ACD4-E2FD-48A2-9BEF-3B434EFC4A9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1219320"/>
            <a:ext cx="647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grid with rows and columns, much like a spreadsheet.  A container that is managed by a</a:t>
            </a:r>
            <a:r>
              <a:rPr b="0" lang="en-US" sz="2000" spc="-1" strike="noStrike">
                <a:solidFill>
                  <a:srgbClr val="000000"/>
                </a:solidFill>
                <a:latin typeface="Minion-Regula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is divided into equally sized ce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895480" y="3368520"/>
          <a:ext cx="3124440" cy="3016440"/>
        </p:xfrm>
        <a:graphic>
          <a:graphicData uri="http://schemas.openxmlformats.org/drawingml/2006/table">
            <a:tbl>
              <a:tblPr/>
              <a:tblGrid>
                <a:gridCol w="625680"/>
                <a:gridCol w="623880"/>
                <a:gridCol w="625320"/>
                <a:gridCol w="623880"/>
                <a:gridCol w="62568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 rot="5400000">
            <a:off x="4228560" y="1485720"/>
            <a:ext cx="457200" cy="3124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3368520"/>
            <a:ext cx="380880" cy="295596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040 h 2955960"/>
              <a:gd name="textAreaBottom" fmla="*/ 2878920 h 295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7280" y="23623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10920" y="4572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17D8-6DD3-4A6B-9E8E-1FC3F3392E6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FC, AWT, S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rogrammers us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ava Foundation Classes (JFC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GUI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FC consists of several sets of classes, many of which are beyond the scope of this b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wo sets of JFC classes that we focus on are AWT and Swing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is equipped with a set of classes for drawing graphics and creating graphical user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lasses are part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tract Windowing Toolkit (AW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9580-168B-4963-92E1-9682C7BD8F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ager follows some simple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ell can hold only one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the cells are the size of the largest component placed within the lay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onent that is placed in a cell is automatically resized to fill up any extra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pass the number of rows and columns as arguments to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ru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F872-F03B-4F5B-85E7-7163DA270CD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format of the construc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Layout(int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rows, int colum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(new GridLayout(2, 3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zero (0) can be passed for one of the arguments but not bo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0 for both arguments will caus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llegalArgument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be thr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68E7-C160-4F2C-B9AE-F5C56F377E5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143000" y="2666880"/>
            <a:ext cx="3124080" cy="2587680"/>
            <a:chOff x="1143000" y="2666880"/>
            <a:chExt cx="3124080" cy="2587680"/>
          </a:xfrm>
        </p:grpSpPr>
        <p:sp>
          <p:nvSpPr>
            <p:cNvPr id="209" name=""/>
            <p:cNvSpPr/>
            <p:nvPr/>
          </p:nvSpPr>
          <p:spPr>
            <a:xfrm>
              <a:off x="3641760" y="4736880"/>
              <a:ext cx="625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17880" y="4736880"/>
              <a:ext cx="623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92200" y="4736880"/>
              <a:ext cx="625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68320" y="4736880"/>
              <a:ext cx="623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4736880"/>
              <a:ext cx="625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41760" y="4219200"/>
              <a:ext cx="625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17880" y="4219200"/>
              <a:ext cx="623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92200" y="4219200"/>
              <a:ext cx="625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68320" y="4219200"/>
              <a:ext cx="623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4219200"/>
              <a:ext cx="625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41760" y="3701880"/>
              <a:ext cx="625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17880" y="3701880"/>
              <a:ext cx="623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92200" y="3701880"/>
              <a:ext cx="625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68320" y="3701880"/>
              <a:ext cx="623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43000" y="3701880"/>
              <a:ext cx="625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41760" y="3184200"/>
              <a:ext cx="625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17880" y="3184200"/>
              <a:ext cx="623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92200" y="3184200"/>
              <a:ext cx="625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8320" y="3184200"/>
              <a:ext cx="623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43000" y="3184200"/>
              <a:ext cx="625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41760" y="2666880"/>
              <a:ext cx="625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17880" y="2666880"/>
              <a:ext cx="623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92200" y="2666880"/>
              <a:ext cx="625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68320" y="2666880"/>
              <a:ext cx="623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43000" y="2666880"/>
              <a:ext cx="625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43000" y="2666880"/>
              <a:ext cx="3124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3000" y="318420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43000" y="370188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43000" y="421920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43000" y="473688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43000" y="5254560"/>
              <a:ext cx="3124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43000" y="2666880"/>
              <a:ext cx="0" cy="258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68320" y="266688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92200" y="266688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17880" y="266688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41760" y="266688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67080" y="2666880"/>
              <a:ext cx="0" cy="258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 are added to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following order (for a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gri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76920" y="2666880"/>
            <a:ext cx="373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Window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ccepts nested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PanelWindow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BD8D-D219-4DEF-AAE2-5B4739FD695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dio butt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th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to select one choice from several possible op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used to create radio but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(String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(String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ext, boolean selec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RadioButton radio1 = new JRadioButton("Choice 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RadioButton radio1 = new JRadioButton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Choice 1", 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324480" y="2666880"/>
            <a:ext cx="1905120" cy="1008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Button appears already selected when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781680" y="3657600"/>
            <a:ext cx="152640" cy="30492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B505-839E-4675-AC83-A0062F16528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ton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 buttons normally are grouped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radio button group only one of the radio buttons in the group may be selected at any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ing on a radio button selects it and automatically deselects any other radio button in the same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stance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is a used to group radio but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0C1C-1F17-457D-99D3-843A49AC900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ton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create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tually exclus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ship between the radio buttons that it cont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RadioButton radio1 = new JRadioButton("Choice 1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RadioButton radio2 = new JRadioButton("Choice 2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RadioButton radio3 = new JRadioButton("Choice 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ttonGroup group = new ButtonGroup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oup.add(radio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oup.add(radio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oup.add(radio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A1D8-1EBC-4A27-A93B-EA16DC09AF9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ton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 are not containers lik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, or content fr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wish to add the radio buttons to a panel or a content frame, you must add them individu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add(radio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add(radio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add(radio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EC6D-A005-4221-BC2F-08695F37094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 Button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 generate an action event when they are clic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spond to an action event, you must write an action listener class, just like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nt hand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MetricConverterWindow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967B-933A-4DB9-BD44-04CB27FC283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ing Selected Radio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sSel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return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ndicating if the radio button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radio.isSelected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de here executes if the 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button is sel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EEE8-A874-4282-B82B-B57C5019CE7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ng a Radio Button in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lso possible to select a radio button in code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method is called, the radio button is selected just as if the user had clicked o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result, an action event is gen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dio.doClick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0626-603F-4B9B-8441-DB7163D8019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FC, AWT, S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WT allows creation of applications and applets with GUI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WT does not actually draw user interface components on the sc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WT communicates with a layer of softwar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er cla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version of Java for a particular operating system has its own set of peer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4FE2-C4C4-4CBE-939D-5E4594924B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 bo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s as a small box with a label appearing next to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radio buttons, check boxes may be selected or deselected at run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heck box is selected, a small check mark appears inside the b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boxes are often displayed in groups but they are not usually grouped in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FB86-ED6A-4118-871A-E78FA52081C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r is allowed to select any or all of the check boxes that are displayed in a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used to create check bo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or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heckBox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heckBox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ext, boolean selec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ion-Regular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heckBox check1 = new JCheckBox("Macaroni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heckBox check1 = new JCheckBox("Macaroni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2743200"/>
            <a:ext cx="2057400" cy="825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heck appears in box if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019920" y="3581280"/>
            <a:ext cx="457200" cy="38124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54EA-282D-4FE2-9313-C984F9DA8DD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 Box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is selected or deselected, it generate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em 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ing item events is similar to handling action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em listen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, which must meet the following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hav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mStateChan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ethod must take an argument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mEv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779E-3B4E-4E5A-B902-02398D4A7FD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 Box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 object of th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the item listener object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an event,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temStateChang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of the item listener object is automatically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object is passed in as an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4B9B-EFA0-4AD4-BFA6-F9493298526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ing Selected Check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sSel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will determine whether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onent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thod return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r>
              <a:rPr b="0" lang="en-US" sz="3200" spc="-1" strike="noStrike">
                <a:solidFill>
                  <a:srgbClr val="000000"/>
                </a:solidFill>
                <a:latin typeface="Minion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checkBox.isSelected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here executes if th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box is s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ColorCheckBoxWindow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76D1-F30E-4746-B2EE-3B49122B281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ng Check Boxes in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possible to select check boxes in code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method is called, the check box is selected just as if the user had clicked o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result, an item event is gen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Box.doClick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21A1-FBC7-4A89-B426-A378D6AB531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have a more organized look if related components are grouped inside b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add a border to any component that is deriv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component derived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herits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0" y="2514600"/>
            <a:ext cx="1590840" cy="1847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743200" y="2514600"/>
            <a:ext cx="167148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1DBF-77AC-4A58-9173-3573E01CCA1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B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is used to add a border to th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B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accept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as its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contains detailed information describing the appearance of a b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rderFac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, which is part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x.sw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, has static methods that return various types of bor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2B83-B567-4F30-A70F-488A33B2CC6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685800" y="609480"/>
          <a:ext cx="7772400" cy="5489640"/>
        </p:xfrm>
        <a:graphic>
          <a:graphicData uri="http://schemas.openxmlformats.org/drawingml/2006/table">
            <a:tbl>
              <a:tblPr/>
              <a:tblGrid>
                <a:gridCol w="1371600"/>
                <a:gridCol w="2438280"/>
                <a:gridCol w="39625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rderFactor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und b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Compound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border that has two parts: an inside edge and an outside edge. The inside and outside edges can be any of the other border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ty b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Empty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border that contains only empty spac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hed b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Etched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border with a 3D appearance that looks “etched” into the back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 b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Line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border that appears as a li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ered bevel b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LoweredBevel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border that looks like beveled edges. It has a 3D appearance that gives the illusion of being sunken into the surrounding back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te b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Matte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line border that can have edges of different thicknes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ised bevel b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RaisedBevel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border that looks like beveled edges. It has a 3D appearance that gives the illusion of being raised above the surrounding back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d b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Titled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 etched border with a tit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FA4B-DAF8-4393-AFD5-EACF72EE02E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randi’s Bagel House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lex application that uses numeroous components can be constructed from several specialized panel components, each containing other components and related code such as event liste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tingPanel.java, BagelPanel.java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pingPanel.java, CoffeePanel.java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CalculatorGUI.java, Bagel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FF4F-25C1-4FCB-AAC2-9257599E9C3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FC, AWT, S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rograms using the AW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consistent with other applications on the sam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offer only components that are common to all the operating systems that support Ja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havior of components across various operating systems can di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s cannot easily extend the AWT compon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T components are commonly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avyweight compon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1834-293B-4C85-9DFB-D4C194CC13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lash Scre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lash screen is a graphic image that is displayed while an application loads into memory and starts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lash screen keeps the user's attention while a large application loads and exec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ning with Java 6, you can display splash screens with your Java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0557-0CFD-4AC4-B659-7426E11B10B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lash Scre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isplay the splash screen you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 in the following way when you run the application: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va -splash: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GraphicFileName ClassFi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aphicFile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name of the file that contains the graphic imag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assFile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name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clas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 le that you are ru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ic file can be in the GIF, PNG, or JPEG form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3905-2276-403A-B0F0-1470D013930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onsole Output to Debug a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 variable values, etc. as your application executes to identify logic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For debugging, display the text entered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its value converted to a dou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Reading " + str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from the text field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onverted value: "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.parseDouble(str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KiloConverterWindow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80D5-6DFA-4F4B-B81B-A8FB35420C8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FC, AWT, S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was introduced with the release of Java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w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library of classes that provide an improved alternative for creating GUI applications and appl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few Swing classes rely on peer classes, so they are referred to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ghtweight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draws most of its own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components have a consistent look and predictable behavior on any operating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components can be easily ext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01C43-4766-4509-8C43-B62FD2A12F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Driven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s that operate in a GUI environment must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-driv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action that takes place within a program, such as the clicking of a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writing a GUI application is creating event liste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 listen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object that automatically executes one of its methods when a specific event occu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8353-24F8-4C6F-96D3-95F4AFAFA4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4:42:30Z</dcterms:created>
  <dc:creator>Tony Gaddis</dc:creator>
  <dc:description/>
  <dc:language>en-US</dc:language>
  <cp:lastModifiedBy>test</cp:lastModifiedBy>
  <cp:lastPrinted>2009-04-22T19:24:48Z</cp:lastPrinted>
  <dcterms:modified xsi:type="dcterms:W3CDTF">2007-03-12T18:52:20Z</dcterms:modified>
  <cp:revision>56</cp:revision>
  <dc:subject>A First Look at GUI Applications</dc:subject>
  <dc:title>Chapter 7</dc:title>
</cp:coreProperties>
</file>