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5176-18CD-431A-98A0-E7338E4A9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A69A-D9D8-4FDA-9B14-E93FDF45C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C02C-F1FF-4C6F-B3E4-B9DAEDE78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B9B2-B911-4DA4-929C-487287188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858B-E4F5-4015-92D3-2C8750981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3990-63DA-489C-8BCE-62131B240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E3E6-B043-4887-86B2-C9D6A5274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B9DE-2723-462C-83A2-583F96C7E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0DDC-6C38-44A9-A07B-5B42643E0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DB28-84E6-4A14-B1D9-0B6AE0810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01EE-3759-47BE-9DCD-CDF8AE245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F2A6-85A7-4668-A370-14CE823DF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C4FD5A1-3C44-454F-A2C7-4D060B793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OpenFile.java" TargetMode="External"/><Relationship Id="rId2" Type="http://schemas.openxmlformats.org/officeDocument/2006/relationships/hyperlink" Target="file:///OpenFile.java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xceptionMessage.java" TargetMode="External"/><Relationship Id="rId2" Type="http://schemas.openxmlformats.org/officeDocument/2006/relationships/hyperlink" Target="file:///ExceptionMessage.java" TargetMode="External"/><Relationship Id="rId3" Type="http://schemas.openxmlformats.org/officeDocument/2006/relationships/hyperlink" Target="file:///ParseIntError.java" TargetMode="External"/><Relationship Id="rId4" Type="http://schemas.openxmlformats.org/officeDocument/2006/relationships/hyperlink" Target="file:///ParseIntError.java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alesReport.java" TargetMode="External"/><Relationship Id="rId2" Type="http://schemas.openxmlformats.org/officeDocument/2006/relationships/hyperlink" Target="file:///SalesReport.java" TargetMode="External"/><Relationship Id="rId3" Type="http://schemas.openxmlformats.org/officeDocument/2006/relationships/hyperlink" Target="file:///SalesReport2.java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tackTrace.java" TargetMode="External"/><Relationship Id="rId2" Type="http://schemas.openxmlformats.org/officeDocument/2006/relationships/hyperlink" Target="file:///StackTrace.java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BadArray.java" TargetMode="External"/><Relationship Id="rId2" Type="http://schemas.openxmlformats.org/officeDocument/2006/relationships/hyperlink" Target="file:///BadArray.java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DateComponentExceptionDemo.java" TargetMode="External"/><Relationship Id="rId2" Type="http://schemas.openxmlformats.org/officeDocument/2006/relationships/hyperlink" Target="file:///DateComponentExceptionDemo.java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BankAccount.java" TargetMode="External"/><Relationship Id="rId2" Type="http://schemas.openxmlformats.org/officeDocument/2006/relationships/hyperlink" Target="file:///BankAccount.java" TargetMode="External"/><Relationship Id="rId3" Type="http://schemas.openxmlformats.org/officeDocument/2006/relationships/hyperlink" Target="file:///NegativeStartingBalance.java" TargetMode="External"/><Relationship Id="rId4" Type="http://schemas.openxmlformats.org/officeDocument/2006/relationships/hyperlink" Target="file:///NegativeStartingBalance.java" TargetMode="External"/><Relationship Id="rId5" Type="http://schemas.openxmlformats.org/officeDocument/2006/relationships/hyperlink" Target="file:///AccountTest.java" TargetMode="External"/><Relationship Id="rId6" Type="http://schemas.openxmlformats.org/officeDocument/2006/relationships/hyperlink" Target="file:///AccountTest.java" TargetMode="External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WriteBinaryFile.java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ReadBinaryFile.java" TargetMode="External"/><Relationship Id="rId2" Type="http://schemas.openxmlformats.org/officeDocument/2006/relationships/hyperlink" Target="file:///ReadBinaryFile.java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WriteUTF.java" TargetMode="External"/><Relationship Id="rId2" Type="http://schemas.openxmlformats.org/officeDocument/2006/relationships/hyperlink" Target="file:///WriteUTF.java" TargetMode="External"/><Relationship Id="rId3" Type="http://schemas.openxmlformats.org/officeDocument/2006/relationships/hyperlink" Target="file:///ReadUTF.java" TargetMode="External"/><Relationship Id="rId4" Type="http://schemas.openxmlformats.org/officeDocument/2006/relationships/hyperlink" Target="file:///ReadUTF.java" TargetMode="Externa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WriteLetters.java" TargetMode="External"/><Relationship Id="rId2" Type="http://schemas.openxmlformats.org/officeDocument/2006/relationships/hyperlink" Target="file:///WriteLetters.java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eadRandomLetters.java" TargetMode="External"/><Relationship Id="rId2" Type="http://schemas.openxmlformats.org/officeDocument/2006/relationships/hyperlink" Target="file:///ReadRandomLetters.java" TargetMode="Externa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BankAccount2.java" TargetMode="Externa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SerializeObjects.java" TargetMode="External"/><Relationship Id="rId2" Type="http://schemas.openxmlformats.org/officeDocument/2006/relationships/hyperlink" Target="file:///SerializeObjects.java" TargetMode="External"/><Relationship Id="rId3" Type="http://schemas.openxmlformats.org/officeDocument/2006/relationships/hyperlink" Target="file:///DeserializeObjects.java" TargetMode="External"/><Relationship Id="rId4" Type="http://schemas.openxmlformats.org/officeDocument/2006/relationships/hyperlink" Target="file:///DeserializeObjects.java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eptions and Advanced 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atch clause begins with the key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xceptionType Parameter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ExceptionTyp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ame of an exception clas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arameterN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variable name which will reference the exception object if the code in the try block throws an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that immediately follows the catch clause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tch blo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curly braces are requir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in the catch block is executed if the try block throws an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744C-4E19-4C65-8BBA-3B49408A05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is designed to handl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 is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ile = new File ("MyFile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FileNotFound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File not found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Virtual Machine searches fo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that can deal with the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OpenFil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C4B1-BC7F-4B37-AEA3-56709FDE8E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ameter must be of a type that is compatible with the thrown exception’s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n exception, the program will continue execution at the point just past the catch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1032-FDE0-4354-AF5E-724DCA355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xception object has a method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an be used to retrieve the default error message for the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xceptionMessag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arseIntErro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EA55-693B-4307-A99A-B92C6AFE53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c References To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andling exceptions, you can use a polymorphic reference as a parameter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exceptions are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that uses a parameter variabl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 is capable of catching any exception that is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5932-CBC4-4577-B3B6-03338169E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c References To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following error occurred: 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+ 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hr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3569-9FBD-4629-BA84-D5B0F357CB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Multiple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in the try block may be capable of throwing more than one type of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needs to be written for each type of exception that could potentially be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VM will run the first compati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f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s must be listed from most specific to most ge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alesRepor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alesReport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F599-8345-4159-902B-C8BB289E2C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Hand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can be many polymorphic catch clau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y statement may have only o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use for each specific type of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NumberFormat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Bad number forma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NumberFormatException e)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 ERROR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tr + " is not a numb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6CD2-810D-43B8-B850-6DEB5AB9DB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Hand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llegalArgumen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IllegalArgument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Bad number format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NumberFormatException e)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 ERROR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 + " is not a number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9E4F-BFBF-4EA0-A513-8012CC0990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08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Hand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evious code could be rewritten to work, as follows, with no err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NumberFormat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" is not a number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IllegalArgumentException e)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Bad number format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3DB8-8D82-4E77-9334-50252D131E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2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bout Input/Out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Topic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Fi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Access File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83FF-53BA-44F6-A733-A1A0AD15BC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ry statement may have an optional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present,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must appear after all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try block statement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ceptionType Parameter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catch block statement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finally block statement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E252-E64B-4471-9AAC-44F4DB3071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ally blo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ne or more state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re always executed after the try block has execute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y catch blocks have executed if an exception was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ements in the finally block execute whether an exception occur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F1E6-5B6A-4DF3-A035-0281200261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ck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44936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sta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nal list of all the methods that are currently execu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ck tr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list of all the methods in the call st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ndic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that was executing when an exception occurr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methods that were called in order to execute that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ackTrac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C26D-F597-42D9-B229-26F0D369D4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aught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xception is thrown, it cannot be ign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ust be handled by the program, or by the default exception hand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de in a method throws an exce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execution of that method stop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VM searches for a compatible exception handler inside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E8DC-5D15-42D4-9CE3-C41725F948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aught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exception handler inside the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of the program is passed to the previous method in the call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at method has no exception handler, then control is passed again, up the call stack, to the previou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ntrol reach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method must either handle the exception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is halted and the default exception handler handles the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B2F4-3C40-4AB8-AA83-0835F5EC4E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categories of exce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he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hecked excep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ose that are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 deriv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rown when a critical error occurs, and should not be hand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es as a superclass for exceptions that result from programming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06E1-E5BE-4723-8F8C-26A35C63A4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exceptions can be avoided with properly written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hecked exceptions, in most cases, should not be hand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xceptions that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from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ed exce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4B18-338E-44EE-ADEC-0C66E9EBD8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ode in a method can throw a checked exception, the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ndle the exception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ust hav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listed in the method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informs the compiler what exceptions can be thrown from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7114-F05D-4F9D-AF57-19B0B3EB8D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This method will not compi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isplayFile(String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ile = new File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ad and display the file's cont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inputFile.hasNex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inputFile.next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lose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D204-D99C-4FF9-AD79-A80D75ED3C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in this method is capable of throwing checked excep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written at the end of the method header, followed by a list of the types of exceptions that the method can th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isplayFile(String name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FileNotFound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26CB-F9B1-4A42-B8B4-3D96B2C7DF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is an object that is generated as the result of an error or an unexpected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are said to have been “thrown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programmers responsibility to write code that detects and handles excep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handled exceptions will crash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dArra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llows you to create exception handl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A23C-FEB0-4955-AC6A-BFC25A48A7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w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write code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s one of the standard Java exceptions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a custom exception class that you have desig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used to manually throw an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ceptionType(MessageStrin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causes an exception object to be created and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5463-9913-495A-87B3-5A5191FE7F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w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ssage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contains a custom error message that can be retrieved from the exception objec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 not pass a message to the constructor, the exception will have a null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Exception("Out of fue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Don’t confuse th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atement with th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ateComponentException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802D-CAAD-4124-A71F-15D079A94E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your own exception classes by deriving them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or one of its derive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nkAccoun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NegativeStartingBalanc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AccountTes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17B3-E593-425A-8D40-E9211F843D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amples of exceptions that can affect a bank 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starting balance is passed to the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interest rate is passed to the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number is passed to the deposit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number is passed to the withdraw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passed to the withdraw method exceeds the account’s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reate exceptions that represent each of these error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C21E-EAA6-43D8-93AA-743C210385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@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g in Documentation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@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ceptionNam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rules a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g in a method’s documentation comment must appear after the general description of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cription can span several lines. It ends at the end of the documentation comment (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mbol) or at the beginning of another 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EF98-A5AA-4A94-BCFB-861BCB1265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y data is stored in memory is sometime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w binary form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an be stored in a file in its raw binary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contains binary data is often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data in its binary format is more efficient than storing it as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types of data that should only be stored in its raw binary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665B-5208-469F-B793-73FB58CE57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iles cannot be opened in a text editor such as Notep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data to a binary file you must create objects from the following cl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llows you to open a file for writing binary data. It provides only basic functionality for writing bytes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llows you to write data of any primitive type or String objects to a binary file. Cannot directly access a file. It is used in conjunction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that has a connection to a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426C-82D4-4510-AEE3-0836B986B5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s wrapped around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o write data to a binary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 fstream = new FileOutputStream("MyInfo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 outputFile = new DataOutputStream(f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file that you are opening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already exists, it will be erased and an empty file by the same name will be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FD6F-D4E1-433E-8208-18A041ED98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atements can combined into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OutputStream outputFile = new DataOutputStream(new FileOutputStream("MyInfo.dat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DataOutputStream object has been created, you can use it to write binary data to the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riteBinaryFi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441B-DE68-464D-BDB2-D980C2F5D9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a binary file for input, you wrap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roun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InputStream fstream = new FileInputStream("MyInfo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InputStream inputFile = new DataInputStream(f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wo statements can be combined into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InputStream inputFile = new DataInputStream(new FileInputStream("MyInfo.da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6C64-FD9D-43A1-9FB2-4F0BC2ED19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ion handl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ection of code that gracefully responds to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intercepting and responding to exception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ault exception handl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s with unhandled exce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exception handler prints an error message and crashes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6845-A344-4F22-9580-9E2CD9F6B4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or will throw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 file named by the string argument cannot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has been created, you can use it to read binary data from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adBinaryFil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B9C9-C156-4275-925B-A59B38E5B5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Read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string to a binary file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writes i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in a format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F-8 enc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before writing the string, this method writes a two-byte integer indicating the number of bytes that the string occu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it writes the string’s characters in Unicode. (UTF stands for Unicode Text Forma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ads from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D8E8-30CA-4A2D-AD12-D600FFDE38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Read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string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Chlo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File.writeUTF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 a string from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inputFile.readUT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correctly read a string only when the string was written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riteUTF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ReadUTF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6A12-4DAA-4543-81DA-A9B3B712E1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ing Data to 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takes an optional second argument which must b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file will not be erased if it exists; new data will be written to the end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file will be erased if it already ex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 fstream = new FileOutputStream("MyInfo.dat", 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 outputFile = new DataOutputStream(f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0DAA-E56A-4AFE-8FCA-B90D07EA75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files and the binary files previously show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quential file ac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equential ac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ime data is read from the file, the data will be read from its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reading continues, the file’s read position advances sequentially through the file’s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file access is useful in many circum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le is very large, locating data buried deep inside it can take a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B5B7-B28F-420C-A9D1-1AB911C02C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a program to 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dom file ac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andom file access, a program may immediately jump to any location i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nd work with random access files in Java, you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AccessFile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ilename, String m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name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string indicating the mode in which you wish to us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r"    =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rw" = for reading and 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EDD8-BBF1-4E5B-B3DC-073C0C52C1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a file for random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AccessFile randomFile = new RandomAccessFile("MyData.dat", "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a file for random reading and 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AccessFile randomFile = new RandomAccessFile("MyData.dat", "rw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pening a file in "r" mode where the file does not exist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th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a file in "r" mode and trying to write to it will throw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open an existing file in "rw" mode, it will not be deleted and the file’s existing content will be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A1B8-5BC0-4D89-90F5-4548F594AD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in a sequential access file are accessed one after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in a random access file are accessed in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open a file in "rw" mode and the file does not exist, it will be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that is opened or created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is treated as a binary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C607-41DA-451C-9ED2-1D88971C67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methods 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or writing data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methods 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or read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an be used to sequentially process a binary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riteLetter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F3D0-525B-4E6B-B4D8-AB79918A93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reats a file as a stream of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ytes are numb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byte is byte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byte’s number is one less than the number of bytes in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yte numbers are similar to an array’s subscripts, and are used to identify locations i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l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keeps a long integer valu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e 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79C9-E470-4F4E-A675-65630C2713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ception is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objects are created from classes in the Java API hierarchy of exception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 exception classes in the hierarchy are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877A-4598-4F8B-BD6B-59599E444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le poin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the byte number of a location in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ile is first opened, the file pointer is set to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tem is read from the file, it is read from the byte that the file pointer points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lso causes the file pointer to advance to the byte just beyond the item that was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other item is immediately read, the reading will begin at that point in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DFEE-A3DE-4DE7-A5BC-BEB4C40EB7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OF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rown when a read causes the file pointer to go beyond the size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also takes place at the location pointed to by the file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le pointer points to the end of the file, data will be written to the end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le pointer holds the number of a byte within the file, at a location where data is already stored, a write will overwrite the data at that poi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7467-C502-4A7F-8229-75957BAEEEF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lets you move the file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llows data to be read and written at any byte location in the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ek method is used to move the file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ndFile.seek(long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ositio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gument is the number of the byte that you want to move the file pointer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06D3-93B0-4446-BEEB-5A81FA6A154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AccessFile file = new RandomAccessFile("MyInfo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.seek(9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yte b = file.readBy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adRandomLetter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5C54-DF64-4903-974C-11158335BE9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object contains other types of objects as fields, saving its contents can be compli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, which is a simpler way of saving objects 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object is serialized, it is converted into a series of bytes that contain the object’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bject is set up properly, even the other objects that it might contain as fields are automatically ser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set of bytes can be saved to a file for later retriev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2579-8DD2-403E-8A3B-9CF8FF0AF5E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object to be serialized, its class must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 has no methods or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only to let the Java compiler know that objects of the class might be ser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lass contains objects of other classes as fields, those classes must also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, in order to be ser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nkAccount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022D-055C-4F16-A847-DACF10DD48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as many others in the Java API, 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serialized object to a file, you us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designed to perform the serializat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the bytes to a file, an output stream object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 outStream = new FileOutputStream("Objects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Stream objectOutputFile = new ObjectOutputStream(out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7789-F29D-4AFB-AE54-FEB92E2EF47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rialize an object and write it to the fi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2 account = new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2500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File.writeObject(ac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row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reading a serialized object’s bytes and constructing an object from them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eria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C5C7-60CE-48BF-B6A2-5D4DC7EADD2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serialize an object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used in conjunction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InputStream inStream = new FileInputStream("Objects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InputStream objectInputFile = new ObjectInputStream(in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 a serialized object from the fi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2 ac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ount = (BankAccount2) objectInputFile.readOb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51C0-B90C-4DD6-8824-DE12BE7A9BC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deserialized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 that you must cast the return value to the desired class typ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rows a number of different exceptions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erializeObject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DeserializeObject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3F66-561A-4243-BCC6-3E701BFCCA2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that are deriv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or exceptions that are thrown when critical errors occur. (i.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ternal error in the Java Virtual Machine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ning out of 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should not try to handle these errors because they are the result of a serious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s should handle the exceptions that are instances of classes that are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1A0E-780D-46D0-BEA0-48B098446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23880" y="1447920"/>
            <a:ext cx="6477120" cy="4572000"/>
            <a:chOff x="1523880" y="1447920"/>
            <a:chExt cx="6477120" cy="4572000"/>
          </a:xfrm>
        </p:grpSpPr>
        <p:sp>
          <p:nvSpPr>
            <p:cNvPr id="96" name=""/>
            <p:cNvSpPr/>
            <p:nvPr/>
          </p:nvSpPr>
          <p:spPr>
            <a:xfrm>
              <a:off x="3581280" y="1447920"/>
              <a:ext cx="15242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280" y="2133720"/>
              <a:ext cx="15242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row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3048120"/>
              <a:ext cx="15242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04812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4114800"/>
              <a:ext cx="1981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time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480" y="4114800"/>
              <a:ext cx="15242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O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67080" y="5715000"/>
              <a:ext cx="23623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leNotFound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715000"/>
              <a:ext cx="16761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OF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0200" y="38862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7" idx="0"/>
              <a:endCxn id="96" idx="2"/>
            </p:cNvCxnSpPr>
            <p:nvPr/>
          </p:nvCxnSpPr>
          <p:spPr>
            <a:xfrm flipV="1">
              <a:off x="4343040" y="175248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9" idx="0"/>
              <a:endCxn id="97" idx="2"/>
            </p:cNvCxnSpPr>
            <p:nvPr/>
          </p:nvCxnSpPr>
          <p:spPr>
            <a:xfrm flipH="1" flipV="1" rot="5400000">
              <a:off x="2819160" y="1523520"/>
              <a:ext cx="610200" cy="2439000"/>
            </a:xfrm>
            <a:prstGeom prst="bentConnector3">
              <a:avLst>
                <a:gd name="adj1" fmla="val 432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0"/>
              <a:endCxn id="97" idx="2"/>
            </p:cNvCxnSpPr>
            <p:nvPr/>
          </p:nvCxnSpPr>
          <p:spPr>
            <a:xfrm flipV="1" rot="16200000">
              <a:off x="4723920" y="2056680"/>
              <a:ext cx="610200" cy="1372320"/>
            </a:xfrm>
            <a:prstGeom prst="bentConnector3">
              <a:avLst>
                <a:gd name="adj1" fmla="val 432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4" idx="0"/>
              <a:endCxn id="99" idx="2"/>
            </p:cNvCxnSpPr>
            <p:nvPr/>
          </p:nvCxnSpPr>
          <p:spPr>
            <a:xfrm flipV="1">
              <a:off x="1904760" y="335232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6705720" y="48006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7150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41148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09" idx="0"/>
              <a:endCxn id="100" idx="2"/>
            </p:cNvCxnSpPr>
            <p:nvPr/>
          </p:nvCxnSpPr>
          <p:spPr>
            <a:xfrm flipV="1">
              <a:off x="7009920" y="441936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10" idx="0"/>
              <a:endCxn id="101" idx="2"/>
            </p:cNvCxnSpPr>
            <p:nvPr/>
          </p:nvCxnSpPr>
          <p:spPr>
            <a:xfrm flipV="1" rot="16200000">
              <a:off x="5447880" y="3771360"/>
              <a:ext cx="1296000" cy="2591640"/>
            </a:xfrm>
            <a:prstGeom prst="bentConnector3">
              <a:avLst>
                <a:gd name="adj1" fmla="val 273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02" idx="0"/>
              <a:endCxn id="101" idx="2"/>
            </p:cNvCxnSpPr>
            <p:nvPr/>
          </p:nvCxnSpPr>
          <p:spPr>
            <a:xfrm flipV="1" rot="16200000">
              <a:off x="4476240" y="4743000"/>
              <a:ext cx="1296000" cy="648360"/>
            </a:xfrm>
            <a:prstGeom prst="bentConnector3">
              <a:avLst>
                <a:gd name="adj1" fmla="val 270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238200" y="4152600"/>
              <a:ext cx="1296000" cy="1829520"/>
            </a:xfrm>
            <a:prstGeom prst="bentConnector3">
              <a:avLst>
                <a:gd name="adj1" fmla="val 2720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1" idx="0"/>
              <a:endCxn id="98" idx="2"/>
            </p:cNvCxnSpPr>
            <p:nvPr/>
          </p:nvCxnSpPr>
          <p:spPr>
            <a:xfrm flipH="1" flipV="1" rot="5400000">
              <a:off x="4114440" y="2514240"/>
              <a:ext cx="762480" cy="24390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01" idx="0"/>
              <a:endCxn id="98" idx="2"/>
            </p:cNvCxnSpPr>
            <p:nvPr/>
          </p:nvCxnSpPr>
          <p:spPr>
            <a:xfrm flipH="1" flipV="1" rot="5400000">
              <a:off x="4876560" y="3276360"/>
              <a:ext cx="762480" cy="91512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00" idx="0"/>
              <a:endCxn id="98" idx="2"/>
            </p:cNvCxnSpPr>
            <p:nvPr/>
          </p:nvCxnSpPr>
          <p:spPr>
            <a:xfrm flipV="1" rot="16200000">
              <a:off x="5981400" y="3085560"/>
              <a:ext cx="762480" cy="12960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49D5-E2FA-4F8A-8AC0-F365334FFD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andle an exception, you us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try block statement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xceptionType Parameter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catch block statement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icates a block of code will be attempted (the curly braces are requir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lock of code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y b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F86D-969C-4AED-81CC-29F393ABE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y blo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statements that are executed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otentially throw an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 will not halt if the try block throws an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try block,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59B5-FE6F-451D-B626-77470C863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2:44:46Z</dcterms:created>
  <dc:creator>Tony Gaddis</dc:creator>
  <dc:description/>
  <dc:language>en-US</dc:language>
  <cp:lastModifiedBy>test</cp:lastModifiedBy>
  <cp:lastPrinted>2009-04-22T19:24:48Z</cp:lastPrinted>
  <dcterms:modified xsi:type="dcterms:W3CDTF">2007-02-20T16:09:54Z</dcterms:modified>
  <cp:revision>43</cp:revision>
  <dc:subject>Exceptions and Advanced File I/O</dc:subject>
  <dc:title>Chapter 12</dc:title>
</cp:coreProperties>
</file>