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704A-0BDD-4167-B0A4-E6B0E0308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86C8-81C8-4455-B426-3005F9E6A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ACBA-16D4-4DDF-8D2F-69ADAB6BA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8AF7-6296-475D-9ACB-7FB861A1F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9194-22ED-4488-8624-7D33061BA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E965-D28A-41B4-8BF8-F1120A634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CD17-C3B6-419C-A7BA-FBA6C9A5E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DBA2-C910-4499-90EC-D5BB0905F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36DC-C3F6-4273-9BF2-3BFA9597C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C566-3821-487B-8D47-F20E425A5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D7E6-3815-444B-BAAD-99E91EF44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B693-523C-4801-B30D-3D7381B83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7BB66FF-807B-4D19-8378-5023403B1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SuperClass1.java" TargetMode="External"/><Relationship Id="rId2" Type="http://schemas.openxmlformats.org/officeDocument/2006/relationships/hyperlink" Target="file:///SubClass1.java" TargetMode="External"/><Relationship Id="rId3" Type="http://schemas.openxmlformats.org/officeDocument/2006/relationships/hyperlink" Target="file:///ConstructorDemo1.java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uperClass2.java" TargetMode="External"/><Relationship Id="rId2" Type="http://schemas.openxmlformats.org/officeDocument/2006/relationships/hyperlink" Target="file:///SubClass2.java" TargetMode="External"/><Relationship Id="rId3" Type="http://schemas.openxmlformats.org/officeDocument/2006/relationships/hyperlink" Target="file:///ConstructorDemo2.java" TargetMode="External"/><Relationship Id="rId4" Type="http://schemas.openxmlformats.org/officeDocument/2006/relationships/hyperlink" Target="file:///Rectangle.java" TargetMode="External"/><Relationship Id="rId5" Type="http://schemas.openxmlformats.org/officeDocument/2006/relationships/hyperlink" Target="file:///Cube.java" TargetMode="External"/><Relationship Id="rId6" Type="http://schemas.openxmlformats.org/officeDocument/2006/relationships/hyperlink" Target="file:///CubeDemo.java" TargetMode="External"/><Relationship Id="rId7" Type="http://schemas.openxmlformats.org/officeDocument/2006/relationships/hyperlink" Target="file:///CubeDemo.java" TargetMode="Externa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GradedActivity.java" TargetMode="External"/><Relationship Id="rId2" Type="http://schemas.openxmlformats.org/officeDocument/2006/relationships/hyperlink" Target="file:///GradedActivity.java" TargetMode="External"/><Relationship Id="rId3" Type="http://schemas.openxmlformats.org/officeDocument/2006/relationships/hyperlink" Target="file:///CurvedActivity.java" TargetMode="External"/><Relationship Id="rId4" Type="http://schemas.openxmlformats.org/officeDocument/2006/relationships/hyperlink" Target="file:///CurvedActivity.java" TargetMode="External"/><Relationship Id="rId5" Type="http://schemas.openxmlformats.org/officeDocument/2006/relationships/hyperlink" Target="file:///CurvedActivityDemo.java" TargetMode="External"/><Relationship Id="rId6" Type="http://schemas.openxmlformats.org/officeDocument/2006/relationships/hyperlink" Target="file:///CurvedActivityDemo.java" TargetMode="Externa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SuperClass3.java" TargetMode="External"/><Relationship Id="rId2" Type="http://schemas.openxmlformats.org/officeDocument/2006/relationships/hyperlink" Target="file:///SubClass3.java" TargetMode="External"/><Relationship Id="rId3" Type="http://schemas.openxmlformats.org/officeDocument/2006/relationships/hyperlink" Target="file:///ShowValueDemo.java" TargetMode="External"/><Relationship Id="rId4" Type="http://schemas.openxmlformats.org/officeDocument/2006/relationships/hyperlink" Target="file:///ShowValueDemo.java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GradedActivity2.java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GradedActivity.java" TargetMode="External"/><Relationship Id="rId2" Type="http://schemas.openxmlformats.org/officeDocument/2006/relationships/hyperlink" Target="file:///GradeDemo.java" TargetMode="External"/><Relationship Id="rId3" Type="http://schemas.openxmlformats.org/officeDocument/2006/relationships/hyperlink" Target="file:///FinalExam.java" TargetMode="External"/><Relationship Id="rId4" Type="http://schemas.openxmlformats.org/officeDocument/2006/relationships/hyperlink" Target="file:///FinalExamDemo.java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ance, Field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nstance of the subclass is created, the non-private methods of the superclass are available through the subclass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Exam exam = new FinalExa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exam.setScore(85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Score = "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+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exam.getScore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rivate methods and fields of the superclass are available in the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Score(newSco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AB1A-92DA-4162-B7F4-D650C6CA34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ance and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not inher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class is instantiated, the superclass default constructor is executed 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uperClass1.jav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ubClass1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onstructorDemo1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EEAD-388B-48C2-BA82-2EF4E28EC9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perclass’s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 refers to an object’s super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erclass constructor can be explicitly called from the subclass by us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uperClass2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ubClass2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onstructorDemo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Rectangle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Cube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Cube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69BC-BD91-4870-98AA-BCA34748A0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ing The Superclass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parameterized constructor is defined in the supercla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erclass must provide a no-arg constructor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es must provide a constructor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es must call a superclass constru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to a superclass constructor must be the first java statement in the subclass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3D0A-95D6-4144-BCF4-A01299E142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riding Superclass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class may have a method with the same signature as a superclass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class method overrides the superclass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 overri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radedActivit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urvedActivit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CurvedActivity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ja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72A8-92E3-436F-B6D9-C0399FFF6E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riding Superclass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38080" y="1523880"/>
            <a:ext cx="3124440" cy="1676520"/>
            <a:chOff x="838080" y="1523880"/>
            <a:chExt cx="3124440" cy="1676520"/>
          </a:xfrm>
        </p:grpSpPr>
        <p:sp>
          <p:nvSpPr>
            <p:cNvPr id="137" name=""/>
            <p:cNvSpPr/>
            <p:nvPr/>
          </p:nvSpPr>
          <p:spPr>
            <a:xfrm>
              <a:off x="838080" y="1523880"/>
              <a:ext cx="3124440" cy="386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aded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1910520"/>
              <a:ext cx="3124440" cy="45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score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080" y="2362320"/>
              <a:ext cx="312444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setScore(s : double) : 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etScore() 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etGrade() : ch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990720" y="3809880"/>
            <a:ext cx="2819160" cy="2514240"/>
            <a:chOff x="990720" y="3809880"/>
            <a:chExt cx="2819160" cy="2514240"/>
          </a:xfrm>
        </p:grpSpPr>
        <p:sp>
          <p:nvSpPr>
            <p:cNvPr id="141" name=""/>
            <p:cNvSpPr/>
            <p:nvPr/>
          </p:nvSpPr>
          <p:spPr>
            <a:xfrm>
              <a:off x="990720" y="3809880"/>
              <a:ext cx="2819160" cy="43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ved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4240800"/>
              <a:ext cx="2819160" cy="57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rawScore 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percentage 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15360"/>
              <a:ext cx="2819160" cy="150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Curved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percent : double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setScore(s : double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getRawScore() : dou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getPercentage() : dou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4" name=""/>
          <p:cNvCxnSpPr>
            <a:stCxn id="141" idx="0"/>
            <a:endCxn id="139" idx="2"/>
          </p:cNvCxnSpPr>
          <p:nvPr/>
        </p:nvCxnSpPr>
        <p:spPr>
          <a:xfrm flipV="1">
            <a:off x="2400120" y="3199680"/>
            <a:ext cx="1080" cy="610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762440" y="3375000"/>
            <a:ext cx="42069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method is a more specialized version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Sco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in the superclas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5840" y="5715000"/>
            <a:ext cx="29718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4419720"/>
            <a:ext cx="144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883E-9E9E-49C3-9E7A-C0E5B9EC3C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riding Superclass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a method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’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types method’s parameters in the order that they app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class method that overrides a superclass method must have the same signature as the superclass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of the subclass invokes the subclass’s version of the method, not the superclass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12EF-CC9C-402E-A252-F75704F3FD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riding Superclass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subclass method can call the overridden superclass method via the super key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.setScore(rawScore * percentag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distinction between overloading a method and overriding a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is when a method has the same name as one or more other methods, but with a different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method overrides another method, however, they both have the same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4E75-8E02-480A-A451-A6A45CDFF7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riding Superclass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overloading and overriding can take place in an inheritanc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riding can only take place in an inheritanc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uperClass3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ubClass3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howValue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788E-FBE2-4D7A-82C9-D2E7A15918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enting a Method from Being Overri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ifier will prevent the  overriding of a superclass method in a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final void messag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ubclass attempts to override a final method, the compiler generates an err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that a particular superclass method is used by subclasses rather than a modified version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57F8-CFCE-4CD3-9554-9EEC1CF201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1 discusses the following main 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nherit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ing the Superclass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iding Superclass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s of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Classes and Abstract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5E16-0B63-44D3-89C1-F43BFBA0FB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ected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ed members of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ccessed by methods in a subclas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ethods in the same package as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vides a third access specificatio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’s access is somewher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radedActivity2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Exam2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79D5-B573-438F-946C-F9CEC84BE3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ected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some tasks eas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any class that is derived from the class, or is in the same package, has unrestricted access to the protected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ways better to make all fiel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n prov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s for accessing thos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access specifier for a class member is provided, the class member is 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ckage ac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e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method in the same package may access the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6431-2A69-4CA6-9BDB-615340C71F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863640"/>
          <a:ext cx="8001000" cy="271764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3124080"/>
              </a:tblGrid>
              <a:tr h="76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s Mod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sible to a subclass inside the same packa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sible to all other classes inside the same packa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 modifi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85800" y="3660840"/>
          <a:ext cx="8001000" cy="273996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3124080"/>
              </a:tblGrid>
              <a:tr h="782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s Mod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sible to a subclass outside the packa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sible to all other classes outside the packa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 modifi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4435-D03A-4399-8E71-1FF759A2C1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s of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perclass can also be derived from anoth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572000" y="2209680"/>
            <a:ext cx="2362320" cy="3886200"/>
            <a:chOff x="4572000" y="2209680"/>
            <a:chExt cx="2362320" cy="3886200"/>
          </a:xfrm>
        </p:grpSpPr>
        <p:sp>
          <p:nvSpPr>
            <p:cNvPr id="166" name=""/>
            <p:cNvSpPr/>
            <p:nvPr/>
          </p:nvSpPr>
          <p:spPr>
            <a:xfrm>
              <a:off x="4572000" y="2209680"/>
              <a:ext cx="23623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4495680"/>
              <a:ext cx="23623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Fail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5638680"/>
              <a:ext cx="23623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FailEx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3352680"/>
              <a:ext cx="23623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ded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9" idx="0"/>
              <a:endCxn id="166" idx="2"/>
            </p:cNvCxnSpPr>
            <p:nvPr/>
          </p:nvCxnSpPr>
          <p:spPr>
            <a:xfrm flipV="1">
              <a:off x="5752800" y="2666160"/>
              <a:ext cx="1080" cy="6865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67" idx="0"/>
              <a:endCxn id="169" idx="2"/>
            </p:cNvCxnSpPr>
            <p:nvPr/>
          </p:nvCxnSpPr>
          <p:spPr>
            <a:xfrm flipV="1">
              <a:off x="5752800" y="3809160"/>
              <a:ext cx="1080" cy="6865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8" idx="0"/>
              <a:endCxn id="167" idx="2"/>
            </p:cNvCxnSpPr>
            <p:nvPr/>
          </p:nvCxnSpPr>
          <p:spPr>
            <a:xfrm flipV="1">
              <a:off x="5752800" y="4952160"/>
              <a:ext cx="1080" cy="6865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3" name=""/>
          <p:cNvSpPr/>
          <p:nvPr/>
        </p:nvSpPr>
        <p:spPr>
          <a:xfrm>
            <a:off x="304560" y="2819520"/>
            <a:ext cx="369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dActivity.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FailActivity.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FailExam.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FailExam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BF4E-9140-4BC4-B747-68D8444F94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s of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often are depicted graphically in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ss hierarch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hierarchy shows the inheritance relationships between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81080" y="3276720"/>
            <a:ext cx="5029200" cy="2437920"/>
            <a:chOff x="1981080" y="3276720"/>
            <a:chExt cx="5029200" cy="2437920"/>
          </a:xfrm>
        </p:grpSpPr>
        <p:sp>
          <p:nvSpPr>
            <p:cNvPr id="177" name=""/>
            <p:cNvSpPr/>
            <p:nvPr/>
          </p:nvSpPr>
          <p:spPr>
            <a:xfrm>
              <a:off x="4647960" y="4343400"/>
              <a:ext cx="236232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Fail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47960" y="5257800"/>
              <a:ext cx="236232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FailEx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52680" y="3276720"/>
              <a:ext cx="236232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ded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8" idx="0"/>
              <a:endCxn id="177" idx="2"/>
            </p:cNvCxnSpPr>
            <p:nvPr/>
          </p:nvCxnSpPr>
          <p:spPr>
            <a:xfrm flipV="1">
              <a:off x="5828760" y="4799880"/>
              <a:ext cx="1080" cy="4575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7" idx="0"/>
              <a:endCxn id="179" idx="2"/>
            </p:cNvCxnSpPr>
            <p:nvPr/>
          </p:nvCxnSpPr>
          <p:spPr>
            <a:xfrm flipV="1" rot="16200000">
              <a:off x="4876200" y="3389760"/>
              <a:ext cx="610200" cy="1296000"/>
            </a:xfrm>
            <a:prstGeom prst="bentConnector3">
              <a:avLst>
                <a:gd name="adj1" fmla="val 50000"/>
              </a:avLst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1981080" y="4343400"/>
              <a:ext cx="236232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lEx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82" idx="0"/>
              <a:endCxn id="179" idx="2"/>
            </p:cNvCxnSpPr>
            <p:nvPr/>
          </p:nvCxnSpPr>
          <p:spPr>
            <a:xfrm flipH="1" flipV="1" rot="5400000">
              <a:off x="3543120" y="3351960"/>
              <a:ext cx="610200" cy="1372320"/>
            </a:xfrm>
            <a:prstGeom prst="bentConnector3">
              <a:avLst>
                <a:gd name="adj1" fmla="val 50000"/>
              </a:avLst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16D9-7468-43D0-9122-512949A745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Java classes are directly or indirectly derived from a class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lass that does not specif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 is automatically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My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//this class is derived from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imately, every class is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F3E1-138C-4236-B89B-69EA9477A4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every class is directly or indirectly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class inheri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’s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a string containing the object’s class name and a hash of its memory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accepts the address of an object as its argument and returns true if it is the same as the calling object’s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ObjectMethod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992F-D30C-4DFE-BC49-1A5B479581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ference variable can reference objects of classes that are derived from the variable’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dedActivity exa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the exam variable to referenc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 = new GradedActivi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also used as the superclass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Ex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Ex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62CE-8F10-4F50-B8AB-A3D2FDEDCB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can be used to referenc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dedActivity exam = new FinalExam(50, 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atement creat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nd stores the object’s address in the exam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n example of polymorph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ymorphis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the ability to take many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va, a reference variab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ymorph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t can reference objects of types different from its own, as long as those types are subclasses of its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DE4E-3062-458B-8411-933A1826F1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egal polymorphic refe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dedActivity exam1 = new FinalExam(50, 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dedActivity exam2 = new PassFailActivity(7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dedActivity exam3 = new PassFailExam(100, 10, 7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has three method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Sc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c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can be used to call only those three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adedActivity exam = new PassFailExam(100, 10, 7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exam.getScore()); // This wor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exam.getGrade()); // This wor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exam.getPointsEach()); //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6DC9-E807-4652-985A-0D8FA7C97A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Inheritance?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 vs. 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life objects are typically specialized versions of other more general obje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 “insect” describes a very general type of creature with numerous character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sshoppers and bumblebees are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hare the general characteristics of an ins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y have special characteristics of their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sshoppers have a jumping ability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mblebees have a stin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sshoppers and bumblebees are specialized versions of an ins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4328-ADBE-45CE-9000-D557B3D429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 and Dynamic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object of the subclass has overridden a method in the super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variable makes a call to that method the subclass’s version of the method will be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dedActivity exam = new PassFailActivity(6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.setScore(7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exam.getGrad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erform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ynamic bin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te bin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variable contains a polymorphic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ava Virtual Machine determines at runtime which method to call, depending on the type of object that the variable re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FC22-B86E-4DAA-AAAD-922AB5B8DB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object’s type, rather than the reference type, that determines which method is cal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c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assign a superclass object to a subclass reference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1FFB-C486-459B-A811-AE66CB504C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stract class cannot be instantiated, but other classes are derived from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tract cla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as a superclass for oth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stract class represents the generic or abstract form of all the classes that are derived from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becomes abstract when you place the abstract key word in the class defin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lass Clas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D2E5-2DA4-4AE4-A206-35ABBF6E60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stract method has no body and must be overridden in a sub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tract 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ethod that appears in a superclass, but expects to be overridden in a sub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stract method has only a header and no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ssSpecifier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eturnType MethodName(ParameterLi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.java, CompSciStudent.java, CompSciStudentDem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8DFD-7B53-4DB4-B103-5BDE5B142E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at the key 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ears in the header, and that the header ends with a semicolon.</a:t>
            </a: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abstract void setValue(int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lass that contains an abstract method is automatically abs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subclass fails to override an abstract method, a compiler error will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methods are used to ensure that a subclass implements th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6BD0-AB83-4FF6-8A5F-117446A638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imilar to an abstract class that has all abstrac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not be instantiated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methods listed in an interface must be written else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rpose of an interface is to specify behavior for oth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face looks similar to a class,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instead of the keywor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s that are specified in an interface have no bodies, only headers that are terminated by semicol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80DF-36E4-4189-975C-3F86FD70DD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at of an interface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Interfac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(Method header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specified by an interface are public by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can implement one or more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9B38-A3CB-4941-81EA-EB3BADE213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class implements an interface, it use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 in the class h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FinalExam3 extends GradedActivity implements Re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dActivity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abl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Exam3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2DD5-6676-4A53-B46C-19D4719257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s in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face can contain field decla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ields in an interface are treated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y automaticall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ou must provide an initialization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erface Do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IELD1 = 1, FIELD2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(Method headers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interface,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EL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ELD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 static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s.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lass that implements this interface has access to thes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68D1-ACEF-451B-8EE0-C3D0B4F310B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ing Multiple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can be derived from only one super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allows a class to implement multiple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lass implements multiple interfaces, it must provide the methods specified by all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pecify multiple interfaces in a class definition, simply list the names of the interfaces, separated by commas, after the implements key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MyClass implements Interface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E4D8-C306-4465-AEEA-FA74548980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447920"/>
            <a:ext cx="2057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3429000"/>
            <a:ext cx="19814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ssh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19810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mble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0"/>
            <a:endCxn id="89" idx="2"/>
          </p:cNvCxnSpPr>
          <p:nvPr/>
        </p:nvCxnSpPr>
        <p:spPr>
          <a:xfrm flipH="1" flipV="1" rot="5400000">
            <a:off x="3638160" y="2457000"/>
            <a:ext cx="838800" cy="1105560"/>
          </a:xfrm>
          <a:prstGeom prst="bentConnector3">
            <a:avLst>
              <a:gd name="adj1" fmla="val 4997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90" idx="0"/>
            <a:endCxn id="89" idx="2"/>
          </p:cNvCxnSpPr>
          <p:nvPr/>
        </p:nvCxnSpPr>
        <p:spPr>
          <a:xfrm flipV="1" rot="16200000">
            <a:off x="4743000" y="2457000"/>
            <a:ext cx="838800" cy="1105560"/>
          </a:xfrm>
          <a:prstGeom prst="bentConnector3">
            <a:avLst>
              <a:gd name="adj1" fmla="val 4997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4" name=""/>
          <p:cNvGrpSpPr/>
          <p:nvPr/>
        </p:nvGrpSpPr>
        <p:grpSpPr>
          <a:xfrm>
            <a:off x="228600" y="2018520"/>
            <a:ext cx="3352680" cy="1096560"/>
            <a:chOff x="228600" y="2018520"/>
            <a:chExt cx="3352680" cy="1096560"/>
          </a:xfrm>
        </p:grpSpPr>
        <p:sp>
          <p:nvSpPr>
            <p:cNvPr id="95" name=""/>
            <p:cNvSpPr/>
            <p:nvPr/>
          </p:nvSpPr>
          <p:spPr>
            <a:xfrm>
              <a:off x="228600" y="2198160"/>
              <a:ext cx="28195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ins those attributes and methods that are shared by all insec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3"/>
              <a:endCxn id="89" idx="1"/>
            </p:cNvCxnSpPr>
            <p:nvPr/>
          </p:nvCxnSpPr>
          <p:spPr>
            <a:xfrm flipV="1">
              <a:off x="3047760" y="2018520"/>
              <a:ext cx="533880" cy="639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97" name=""/>
          <p:cNvGrpSpPr/>
          <p:nvPr/>
        </p:nvGrpSpPr>
        <p:grpSpPr>
          <a:xfrm>
            <a:off x="380880" y="4000320"/>
            <a:ext cx="8305920" cy="1950120"/>
            <a:chOff x="380880" y="4000320"/>
            <a:chExt cx="8305920" cy="1950120"/>
          </a:xfrm>
        </p:grpSpPr>
        <p:sp>
          <p:nvSpPr>
            <p:cNvPr id="98" name=""/>
            <p:cNvSpPr/>
            <p:nvPr/>
          </p:nvSpPr>
          <p:spPr>
            <a:xfrm>
              <a:off x="380880" y="5033520"/>
              <a:ext cx="342900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ins those attributes and methods that specific to a Bumble Be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8" idx="0"/>
              <a:endCxn id="91" idx="1"/>
            </p:cNvCxnSpPr>
            <p:nvPr/>
          </p:nvCxnSpPr>
          <p:spPr>
            <a:xfrm flipH="1" flipV="1" rot="5400000">
              <a:off x="1790640" y="4304880"/>
              <a:ext cx="1028880" cy="41976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0" name=""/>
            <p:cNvSpPr/>
            <p:nvPr/>
          </p:nvSpPr>
          <p:spPr>
            <a:xfrm>
              <a:off x="5486400" y="5033520"/>
              <a:ext cx="320040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ins those attributes and methods that are specific to a Grasshopp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100" idx="0"/>
              <a:endCxn id="90" idx="3"/>
            </p:cNvCxnSpPr>
            <p:nvPr/>
          </p:nvCxnSpPr>
          <p:spPr>
            <a:xfrm flipV="1" rot="16200000">
              <a:off x="6381720" y="4323600"/>
              <a:ext cx="1028880" cy="38160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50F0-67E8-4F42-93FB-A7CC14E81F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s in U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057400"/>
            <a:ext cx="2286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d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3581280"/>
            <a:ext cx="2286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3581280"/>
            <a:ext cx="2286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Exa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7" idx="0"/>
            <a:endCxn id="215" idx="2"/>
          </p:cNvCxnSpPr>
          <p:nvPr/>
        </p:nvCxnSpPr>
        <p:spPr>
          <a:xfrm flipV="1">
            <a:off x="2666520" y="2666520"/>
            <a:ext cx="1080" cy="915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7" idx="3"/>
            <a:endCxn id="216" idx="1"/>
          </p:cNvCxnSpPr>
          <p:nvPr/>
        </p:nvCxnSpPr>
        <p:spPr>
          <a:xfrm>
            <a:off x="3809520" y="3885840"/>
            <a:ext cx="1220040" cy="1080"/>
          </a:xfrm>
          <a:prstGeom prst="straightConnector1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4952880" y="2057400"/>
            <a:ext cx="32781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dashed line with an arrow indicates implementation of an inte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343040" y="2514600"/>
            <a:ext cx="609480" cy="1219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9792-C144-4BD8-A9A3-3A55F279892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 with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llows you to create reference variables of an interface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face reference variable can reference any object that implements that interface, regardless of its class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other example of polymorph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Item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Disc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dMovi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cInterface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ACE5-1AD2-4C74-A023-DE51C64AA99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 with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xample code, 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ailI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 variable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m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m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re decla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m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referenc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ctDi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an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m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referenc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vd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class implements an interface, an inheritance relationship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face inherit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sta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ctDi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ail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vdMov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ail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5497-E7F9-4249-B405-E59D2C1911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 with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erence to an interface can point to any class that implements that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create an instance of an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ailItem item = new RetailItem(); // ERRO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nterface variable references an ob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e methods declared in the interface are availa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type casting is required to access the other methods of an object referenced by an interface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F7B1-A69A-4DA4-905D-F996C369C9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is a”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 between a superclass and an inherited class is called an “is a”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sshopper “is a” ins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odle “is a”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r “is a” veh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ized object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characteristics of the general object,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characteristics that make it spe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bject-oriented programmin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herit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sed to create an “is a” relationship among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0499-F65C-4C7C-AF82-63C1815637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is a”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apabilities of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involves a superclass and a sub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ercla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general clas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pecialized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bclass is based on, or extended from, the super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es are 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es are 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r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 of classes can be thought of a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ent class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ild 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6A9F-346C-4F8A-810D-F62CF19B4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class inherits fields and methods from the superclass without any of them being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ields and methods may be added to the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keywor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te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used on the class header to define the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FinalExam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ded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461D-D946-44FE-ABC9-09C0E237D9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00240" y="4191120"/>
            <a:ext cx="3886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radedActivity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radeDemo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FinalExam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FinalExam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1143000"/>
            <a:ext cx="3124080" cy="1981080"/>
            <a:chOff x="533520" y="1143000"/>
            <a:chExt cx="3124080" cy="1981080"/>
          </a:xfrm>
        </p:grpSpPr>
        <p:sp>
          <p:nvSpPr>
            <p:cNvPr id="111" name=""/>
            <p:cNvSpPr/>
            <p:nvPr/>
          </p:nvSpPr>
          <p:spPr>
            <a:xfrm>
              <a:off x="533520" y="1143000"/>
              <a:ext cx="3124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aded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1600200"/>
              <a:ext cx="312408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score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2133720"/>
              <a:ext cx="312408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setScore(s : double) : 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etScore() 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etGrade() : ch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" y="3733920"/>
            <a:ext cx="2819160" cy="2666880"/>
            <a:chOff x="685800" y="3733920"/>
            <a:chExt cx="2819160" cy="2666880"/>
          </a:xfrm>
        </p:grpSpPr>
        <p:sp>
          <p:nvSpPr>
            <p:cNvPr id="115" name=""/>
            <p:cNvSpPr/>
            <p:nvPr/>
          </p:nvSpPr>
          <p:spPr>
            <a:xfrm>
              <a:off x="685800" y="3733920"/>
              <a:ext cx="281916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aEx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191120"/>
              <a:ext cx="281916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numQuestions : 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pointsEach 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numMissed : 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" y="5105520"/>
              <a:ext cx="281916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+ FinalExam(questions : int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issed : i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+ getPointsEach() : doub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+ getNumMissed() : i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8" name=""/>
          <p:cNvCxnSpPr>
            <a:stCxn id="115" idx="0"/>
            <a:endCxn id="113" idx="2"/>
          </p:cNvCxnSpPr>
          <p:nvPr/>
        </p:nvCxnSpPr>
        <p:spPr>
          <a:xfrm flipV="1">
            <a:off x="2095200" y="3123720"/>
            <a:ext cx="1080" cy="610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419720" y="1421640"/>
            <a:ext cx="4190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ins those attributes and methods that are shared by all graded activ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1"/>
            <a:endCxn id="113" idx="3"/>
          </p:cNvCxnSpPr>
          <p:nvPr/>
        </p:nvCxnSpPr>
        <p:spPr>
          <a:xfrm flipV="1" rot="10800000">
            <a:off x="3656880" y="1742040"/>
            <a:ext cx="762840" cy="886680"/>
          </a:xfrm>
          <a:prstGeom prst="bentConnector3">
            <a:avLst>
              <a:gd name="adj1" fmla="val 5000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419720" y="2274840"/>
            <a:ext cx="41907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ins those attributes and methods that are specific to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Exa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herits all non-private attributes and methods from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16" idx="3"/>
          </p:cNvCxnSpPr>
          <p:nvPr/>
        </p:nvCxnSpPr>
        <p:spPr>
          <a:xfrm flipV="1" rot="10800000">
            <a:off x="3504600" y="3144600"/>
            <a:ext cx="915120" cy="1504080"/>
          </a:xfrm>
          <a:prstGeom prst="bentConnector3">
            <a:avLst>
              <a:gd name="adj1" fmla="val 4998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FF5C-0791-4F7E-9CE9-061A7E167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ance, Field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 of the superclass that are mark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not inherited by the subclas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 in memory when the object of the subclass i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only be accessed from the subclass by public methods of the super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 of the superclass that are mark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herited by the subclas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directly accessed from the sub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6F97-2F39-4EA7-AA11-267B962E1E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20:51:53Z</dcterms:created>
  <dc:creator>Tony Gaddis</dc:creator>
  <dc:description/>
  <dc:language>en-US</dc:language>
  <cp:lastModifiedBy>test</cp:lastModifiedBy>
  <cp:lastPrinted>2009-04-22T19:24:48Z</cp:lastPrinted>
  <dcterms:modified xsi:type="dcterms:W3CDTF">2007-02-20T15:42:43Z</dcterms:modified>
  <cp:revision>42</cp:revision>
  <dc:subject>Inheritance</dc:subject>
  <dc:title>Chapter 11 </dc:title>
</cp:coreProperties>
</file>