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174B-F912-43F5-9DF1-DC0695AD7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03FD-EB3F-45B1-AF7B-596D9A0F6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E4F3-0DCA-4FDE-8BF6-D7DFEEBA5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FF23-331E-46CC-B454-BB1DAC9D8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8AF3-8FB7-4DD9-8172-95A8A7436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3C2F-65F0-4D25-9C2A-E73B09AF9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2AD7-BB42-49E6-8D91-8A38F822D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0451-0798-4915-8976-52B6034BF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6CE-CE07-4440-B079-4594FB64C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EDB3-6AD2-4CD1-97E0-2F61A5D3F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0D21-5387-485B-9865-F7D4F7353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C371-3A23-4B2F-BA5A-1918367DB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6a9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893ACE3-9F1F-4A7A-A6FA-F0885F0D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5791320"/>
            <a:ext cx="766800" cy="84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768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8 Pearson Education, Inc.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ee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a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to Computers and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2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1EF5-32AE-44FB-A135-26F362DE61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000" y="32767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440" y="3276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1676520"/>
            <a:ext cx="7619760" cy="4419360"/>
            <a:chOff x="838080" y="1676520"/>
            <a:chExt cx="7619760" cy="4419360"/>
          </a:xfrm>
        </p:grpSpPr>
        <p:grpSp>
          <p:nvGrpSpPr>
            <p:cNvPr id="109" name=""/>
            <p:cNvGrpSpPr/>
            <p:nvPr/>
          </p:nvGrpSpPr>
          <p:grpSpPr>
            <a:xfrm>
              <a:off x="838080" y="1752480"/>
              <a:ext cx="7619760" cy="4343400"/>
              <a:chOff x="838080" y="1752480"/>
              <a:chExt cx="7619760" cy="4343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210120" y="1752480"/>
                <a:ext cx="2947320" cy="4343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69760" y="2102400"/>
                <a:ext cx="2228040" cy="1681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rithmetic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ogic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Un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69760" y="4064040"/>
                <a:ext cx="2228040" cy="1681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Un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8080" y="3924000"/>
                <a:ext cx="23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57800" y="3924000"/>
                <a:ext cx="23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267080" y="167652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6DA4-3EBB-48D2-AA80-552CE77391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PU performs the fetch, decode, execute cycle in order to process program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81080" y="2895480"/>
            <a:ext cx="7162920" cy="1295640"/>
            <a:chOff x="1981080" y="2895480"/>
            <a:chExt cx="7162920" cy="1295640"/>
          </a:xfrm>
        </p:grpSpPr>
        <p:sp>
          <p:nvSpPr>
            <p:cNvPr id="119" name=""/>
            <p:cNvSpPr/>
            <p:nvPr/>
          </p:nvSpPr>
          <p:spPr>
            <a:xfrm>
              <a:off x="1981080" y="3124080"/>
              <a:ext cx="129564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9000" y="2895480"/>
              <a:ext cx="5715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CPU’s control unit fetches, from main memory,</a:t>
              </a:r>
              <a:br>
                <a:rPr sz="1600"/>
              </a:b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next instruction in the sequence of program instru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819520" y="3657600"/>
            <a:ext cx="6324480" cy="1905120"/>
            <a:chOff x="2819520" y="3657600"/>
            <a:chExt cx="6324480" cy="1905120"/>
          </a:xfrm>
        </p:grpSpPr>
        <p:sp>
          <p:nvSpPr>
            <p:cNvPr id="122" name=""/>
            <p:cNvSpPr/>
            <p:nvPr/>
          </p:nvSpPr>
          <p:spPr>
            <a:xfrm>
              <a:off x="3276720" y="3740040"/>
              <a:ext cx="7617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495680"/>
              <a:ext cx="12952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3657600"/>
              <a:ext cx="472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 instruction is encoded in the form of a number. The control unit decodes the instruction and generates an electronic sign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66680" y="3733920"/>
            <a:ext cx="7864560" cy="1981800"/>
            <a:chOff x="1066680" y="3733920"/>
            <a:chExt cx="7864560" cy="1981800"/>
          </a:xfrm>
        </p:grpSpPr>
        <p:sp>
          <p:nvSpPr>
            <p:cNvPr id="126" name=""/>
            <p:cNvSpPr/>
            <p:nvPr/>
          </p:nvSpPr>
          <p:spPr>
            <a:xfrm>
              <a:off x="1066680" y="4495680"/>
              <a:ext cx="129564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3623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219320" y="3733920"/>
              <a:ext cx="7617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4648320"/>
              <a:ext cx="466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signal is routed to the appropriate component of the computer (such as the ALU, a disk drive, or some other device). The signal causes the component to perform an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867A-2B6D-4667-8958-EB7CA9B213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-access memory (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cont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runn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used by tho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is divided into uni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yte consists of e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y be either on o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C6F0-68E4-47C5-A99E-8A7713705E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is either on or 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s form a pattern that represents a character or a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yte  in memory is assigned a unique number known a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that when the computer is turned off, the contents of RAM are er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A736-3997-4E4E-93A5-F60163F2A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2743200"/>
            <a:ext cx="5257440" cy="459720"/>
            <a:chOff x="3505320" y="2743200"/>
            <a:chExt cx="5257440" cy="459720"/>
          </a:xfrm>
        </p:grpSpPr>
        <p:sp>
          <p:nvSpPr>
            <p:cNvPr id="136" name=""/>
            <p:cNvSpPr/>
            <p:nvPr/>
          </p:nvSpPr>
          <p:spPr>
            <a:xfrm>
              <a:off x="4035960" y="2743200"/>
              <a:ext cx="472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section of memory is called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y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819520"/>
              <a:ext cx="457200" cy="304560"/>
            </a:xfrm>
            <a:prstGeom prst="leftArrow">
              <a:avLst>
                <a:gd name="adj1" fmla="val 50000"/>
                <a:gd name="adj2" fmla="val 375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81280" y="4343400"/>
            <a:ext cx="5273640" cy="1523880"/>
            <a:chOff x="3581280" y="4343400"/>
            <a:chExt cx="5273640" cy="1523880"/>
          </a:xfrm>
        </p:grpSpPr>
        <p:sp>
          <p:nvSpPr>
            <p:cNvPr id="139" name=""/>
            <p:cNvSpPr/>
            <p:nvPr/>
          </p:nvSpPr>
          <p:spPr>
            <a:xfrm>
              <a:off x="3581280" y="4343400"/>
              <a:ext cx="685800" cy="15238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4724280"/>
              <a:ext cx="435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section of two or four bytes is often called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11280" y="1371600"/>
            <a:ext cx="7932960" cy="4498200"/>
            <a:chOff x="611280" y="1371600"/>
            <a:chExt cx="7932960" cy="4498200"/>
          </a:xfrm>
        </p:grpSpPr>
        <p:sp>
          <p:nvSpPr>
            <p:cNvPr id="142" name=""/>
            <p:cNvSpPr/>
            <p:nvPr/>
          </p:nvSpPr>
          <p:spPr>
            <a:xfrm>
              <a:off x="985680" y="1371600"/>
              <a:ext cx="75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 memory can be visualized as a column or row of ce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0" y="19051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11280" y="2743200"/>
              <a:ext cx="2817720" cy="3126600"/>
              <a:chOff x="611280" y="2743200"/>
              <a:chExt cx="2817720" cy="3126600"/>
            </a:xfrm>
          </p:grpSpPr>
          <p:sp>
            <p:nvSpPr>
              <p:cNvPr id="145" name=""/>
              <p:cNvSpPr/>
              <p:nvPr/>
            </p:nvSpPr>
            <p:spPr>
              <a:xfrm>
                <a:off x="1600200" y="2819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00200" y="3581280"/>
                <a:ext cx="182880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00200" y="3962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00200" y="4343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00200" y="4724280"/>
                <a:ext cx="182880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5105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86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1280" y="2743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1280" y="3124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1280" y="3886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1280" y="35053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1280" y="4267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1280" y="46483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1280" y="5029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1280" y="5410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00200" y="3200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1600200" y="3124080"/>
            <a:ext cx="5976360" cy="459720"/>
            <a:chOff x="1600200" y="3124080"/>
            <a:chExt cx="5976360" cy="459720"/>
          </a:xfrm>
        </p:grpSpPr>
        <p:grpSp>
          <p:nvGrpSpPr>
            <p:cNvPr id="162" name=""/>
            <p:cNvGrpSpPr/>
            <p:nvPr/>
          </p:nvGrpSpPr>
          <p:grpSpPr>
            <a:xfrm>
              <a:off x="3505320" y="3124080"/>
              <a:ext cx="4071240" cy="459720"/>
              <a:chOff x="3505320" y="3124080"/>
              <a:chExt cx="407124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3505320" y="3235320"/>
                <a:ext cx="457200" cy="304920"/>
              </a:xfrm>
              <a:prstGeom prst="leftArrow">
                <a:avLst>
                  <a:gd name="adj1" fmla="val 50000"/>
                  <a:gd name="adj2" fmla="val 374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21560" y="3124080"/>
                <a:ext cx="355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byte is made up of 8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i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600200" y="3200400"/>
              <a:ext cx="1828800" cy="380880"/>
              <a:chOff x="1600200" y="3200400"/>
              <a:chExt cx="1828800" cy="380880"/>
            </a:xfrm>
          </p:grpSpPr>
          <p:sp>
            <p:nvSpPr>
              <p:cNvPr id="166" name=""/>
              <p:cNvSpPr/>
              <p:nvPr/>
            </p:nvSpPr>
            <p:spPr>
              <a:xfrm>
                <a:off x="16002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8288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574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860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146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432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718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004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5CDE-5EF8-42F0-9C15-32905141B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devices are capable of storing information for longer periods of tim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n-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econdary Storage de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8360" y="3657600"/>
            <a:ext cx="28353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ppy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RW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43160" y="3657600"/>
            <a:ext cx="37040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D RAM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Flash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DFB2-DBE2-42C2-B166-CAFD411C1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any data the computer collects from the outsid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data comes from devices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put de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104A-5742-4DC6-BDD1-4B8F11920A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s any data the computer sends to the outsid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data is displayed on device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output de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vices such as disk drives perform input and output an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put/outp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6759-1809-42CF-9C82-AACD53283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refers to the programs that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classifications of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EF1D-1858-464E-838D-C23CE1A6D5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: Hardware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rogram Made O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D7CE-6880-427B-8831-B5FCF178D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erating system has two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the system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user with a means of interaction with the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can be either single tasking or multi-tas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5222-4B48-4087-A777-5EABABF2A0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tasking operating system is capable of running only one program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ultitasking operating system is capable of running multiple programs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8146-645B-40CD-8901-BBAAC5206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can also be categorized as single user or multi-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user operating system allows only one user to operate the computer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user systems allow several users to run programs and operate the computer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FD6E-B240-419E-B48B-926DA27FDF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Us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498680"/>
            <a:ext cx="3048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/98/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2280" y="4495680"/>
            <a:ext cx="8763120" cy="1711440"/>
            <a:chOff x="152280" y="4495680"/>
            <a:chExt cx="8763120" cy="17114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57200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2362320" y="4495680"/>
              <a:ext cx="213336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67816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522F-05AD-4BA8-9032-202A7A84C5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520" y="1498680"/>
            <a:ext cx="2501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/2000/X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2280" y="4495680"/>
            <a:ext cx="8763120" cy="1711440"/>
            <a:chOff x="152280" y="4495680"/>
            <a:chExt cx="8763120" cy="171144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457200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2362320" y="4495680"/>
              <a:ext cx="213336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67816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1219320" y="1447920"/>
            <a:ext cx="6629400" cy="3047760"/>
            <a:chOff x="1219320" y="1447920"/>
            <a:chExt cx="6629400" cy="3047760"/>
          </a:xfrm>
        </p:grpSpPr>
        <p:graphicFrame>
          <p:nvGraphicFramePr>
            <p:cNvPr id="205" name=""/>
            <p:cNvGraphicFramePr/>
            <p:nvPr/>
          </p:nvGraphicFramePr>
          <p:xfrm>
            <a:off x="3962520" y="1447920"/>
            <a:ext cx="103320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62520" y="1447920"/>
                      <a:ext cx="103320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 flipV="1">
              <a:off x="12193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038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4290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7150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8487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49568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3662-7186-4CD3-B8AF-75BE8BA2CE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softw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programs that make the computer useful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 provides a more specialized type of environment for the user to work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application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30A8-A52B-4C33-B4C9-FD0024060C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is a set of instructions a computer follows in order to perform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is a special language used to write computer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program is a set of instructions that enable the computer to solve a problem or perform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ly, these instructions form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05DB-94E5-4A46-8998-F0B5B54BD5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gorithm is a set of well defined steps to completing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eps in an algorithm are performed sequenti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needs the algorithm to be writte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anguage is writte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nary numbering system (base 2) only has two digits (0 and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A472-483F-4EF9-A33B-1244D7A775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numbers are encoded as a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PU has its own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ola 68000 series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x86 series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 Alpha processo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machine language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10100000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3D0-45B5-4081-85CA-FF310D592B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istant past, programmers wrote programs in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rs developed higher level programming languages to make thing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of these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er made things easier but was also processor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77D-E6CE-4BD0-963C-17A33DE575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- Green Team started by Sun Micr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7 Handheld controller for multiple entertainment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a need for a programming language that would run on various de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(first named Oak) was develop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BCFC-90FA-49D3-AE5F-BF444C2CE8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programming languages followed that were not processor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on programming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628C-853F-499E-A34B-FF18995781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ngu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me concepts that are common to virtually al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nce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-defined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syntactic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66DA-DA02-467D-B710-2772970647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5560" y="1895040"/>
            <a:ext cx="82134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messag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Worl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mess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A6F0-CA38-44AE-A1ED-D97750C161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in the sample program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are lower case (Java is a case sensitive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cannot be used as a programmer-defined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1955880"/>
            <a:ext cx="2203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51600" y="1981080"/>
            <a:ext cx="1936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BDB5-9D73-41E1-804F-E904CD9A83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colons are used to end Java statements; however, not all lines of a Java program end a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learning Java is to learn where to properly use the punc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1243-A765-4123-BB1E-9B3CE96B48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vs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ces between lines and statements when discussing source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ss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e Java statement written using two lines.  Do you see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tement is a complete Java instruction that causes the computer to perform an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AD37-681E-44B1-BAAE-7417E3E867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 Java program is stored in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represent a location in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in Java are sometimes called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created by the programmer who assigns it a programmer-defined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int hours = 4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example, the variab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 as an integer (more on this later) and assigned the value of 4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7995-4772-4FD0-B60B-27E51587D7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simply a name given to represent a place in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516040" y="2743200"/>
            <a:ext cx="2970360" cy="3126600"/>
            <a:chOff x="2516040" y="2743200"/>
            <a:chExt cx="2970360" cy="3126600"/>
          </a:xfrm>
        </p:grpSpPr>
        <p:sp>
          <p:nvSpPr>
            <p:cNvPr id="242" name=""/>
            <p:cNvSpPr/>
            <p:nvPr/>
          </p:nvSpPr>
          <p:spPr>
            <a:xfrm>
              <a:off x="3505320" y="2819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05320" y="3200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05320" y="35812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5320" y="3962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5320" y="4343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05320" y="47242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5320" y="5105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5320" y="5486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6040" y="2743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6040" y="3124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6040" y="35053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6040" y="3886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6040" y="4267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6040" y="46483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16040" y="5029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6040" y="5410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8AE4-BA97-4D03-AB56-2036805FFB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16040" y="2514600"/>
            <a:ext cx="2970360" cy="3126600"/>
            <a:chOff x="2516040" y="2514600"/>
            <a:chExt cx="2970360" cy="3126600"/>
          </a:xfrm>
        </p:grpSpPr>
        <p:sp>
          <p:nvSpPr>
            <p:cNvPr id="260" name=""/>
            <p:cNvSpPr/>
            <p:nvPr/>
          </p:nvSpPr>
          <p:spPr>
            <a:xfrm>
              <a:off x="3505320" y="2590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5320" y="2971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5320" y="33526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3733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4114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5320" y="44956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5320" y="4876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05320" y="5257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16040" y="2514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6040" y="2895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6040" y="32767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6040" y="3657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6040" y="4038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6040" y="44197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6040" y="4800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16040" y="5181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36800" y="2860560"/>
            <a:ext cx="221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Jav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chine (JV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ually de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ere th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ll be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92560" y="1905120"/>
            <a:ext cx="4936320" cy="3523320"/>
            <a:chOff x="4192560" y="1905120"/>
            <a:chExt cx="4936320" cy="3523320"/>
          </a:xfrm>
        </p:grpSpPr>
        <p:sp>
          <p:nvSpPr>
            <p:cNvPr id="278" name=""/>
            <p:cNvSpPr/>
            <p:nvPr/>
          </p:nvSpPr>
          <p:spPr>
            <a:xfrm>
              <a:off x="4192560" y="36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22080" y="1905120"/>
              <a:ext cx="31068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e that the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able decla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s been mad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urier New"/>
                </a:rPr>
                <a:t>int length = 7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8120" y="4114800"/>
              <a:ext cx="230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variable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s a symbolic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 the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cation 0x00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105160" y="3913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162920" y="3379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4B8D-E829-4318-836E-CB5FB50486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er writes Java programming statements for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tements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edi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to edit and save a 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rce co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files hav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il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translates source code into an executabl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E7BD-2DEF-402B-8414-409EBCCEFF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enabled web brows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t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monstrated at 1995 Sun World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corporated into Netscape shortly af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“cross platform”, meaning that it can run on various computer operat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1F7F-FAC6-4D04-82CA-41A0478B4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r is run using a source code file a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errors that may be in the program will be discovered during compi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tax err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istakes that the programmer has made that violate the rules of the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creates another file that holds the translated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3949-739D-4FC8-9C5B-72F2073D73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pilers translate source code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 translates a Java source file into a file that contai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te c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code instructions are the machine languag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Virtual Machine (JV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annot be directly executed directly by the CP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B4ED-5472-40C4-BD3F-2DE69A22A3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code files end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is a program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icro-pro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executes instructions as they are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VM is often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often referred to a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d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359E-3C10-4AE7-9C2E-FA1D0A7963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velopm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44792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124080" y="1447920"/>
            <a:ext cx="5257800" cy="1295280"/>
            <a:chOff x="3124080" y="1447920"/>
            <a:chExt cx="5257800" cy="1295280"/>
          </a:xfrm>
        </p:grpSpPr>
        <p:sp>
          <p:nvSpPr>
            <p:cNvPr id="294" name=""/>
            <p:cNvSpPr/>
            <p:nvPr/>
          </p:nvSpPr>
          <p:spPr>
            <a:xfrm>
              <a:off x="6705360" y="1447920"/>
              <a:ext cx="1676520" cy="12952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jav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124080" y="1523880"/>
              <a:ext cx="3504960" cy="533520"/>
              <a:chOff x="3124080" y="1523880"/>
              <a:chExt cx="3504960" cy="533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124080" y="2057400"/>
                <a:ext cx="350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7920" y="1523880"/>
                <a:ext cx="28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ves Java statem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09480" y="2277720"/>
            <a:ext cx="6095520" cy="1989360"/>
            <a:chOff x="609480" y="2277720"/>
            <a:chExt cx="6095520" cy="1989360"/>
          </a:xfrm>
        </p:grpSpPr>
        <p:sp>
          <p:nvSpPr>
            <p:cNvPr id="299" name=""/>
            <p:cNvSpPr/>
            <p:nvPr/>
          </p:nvSpPr>
          <p:spPr>
            <a:xfrm>
              <a:off x="609480" y="3124080"/>
              <a:ext cx="243828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 comp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895120" y="2277720"/>
              <a:ext cx="3809880" cy="1074960"/>
              <a:chOff x="2895120" y="2277720"/>
              <a:chExt cx="3809880" cy="107496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2895120" y="2286000"/>
                <a:ext cx="38098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758200">
                <a:off x="3505680" y="2438280"/>
                <a:ext cx="138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read b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048120" y="2971800"/>
            <a:ext cx="5333400" cy="1295280"/>
            <a:chOff x="3048120" y="2971800"/>
            <a:chExt cx="5333400" cy="1295280"/>
          </a:xfrm>
        </p:grpSpPr>
        <p:sp>
          <p:nvSpPr>
            <p:cNvPr id="304" name=""/>
            <p:cNvSpPr/>
            <p:nvPr/>
          </p:nvSpPr>
          <p:spPr>
            <a:xfrm>
              <a:off x="6705360" y="2971800"/>
              <a:ext cx="167616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cla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048120" y="3165480"/>
              <a:ext cx="3657240" cy="492120"/>
              <a:chOff x="3048120" y="3165480"/>
              <a:chExt cx="3657240" cy="492120"/>
            </a:xfrm>
          </p:grpSpPr>
          <p:sp>
            <p:nvSpPr>
              <p:cNvPr id="306" name=""/>
              <p:cNvSpPr/>
              <p:nvPr/>
            </p:nvSpPr>
            <p:spPr>
              <a:xfrm>
                <a:off x="3048120" y="365760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8280" y="316548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609480" y="3856680"/>
            <a:ext cx="6095880" cy="2163240"/>
            <a:chOff x="609480" y="3856680"/>
            <a:chExt cx="6095880" cy="2163240"/>
          </a:xfrm>
        </p:grpSpPr>
        <p:sp>
          <p:nvSpPr>
            <p:cNvPr id="309" name=""/>
            <p:cNvSpPr/>
            <p:nvPr/>
          </p:nvSpPr>
          <p:spPr>
            <a:xfrm>
              <a:off x="609480" y="4876920"/>
              <a:ext cx="243828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971440" y="3856680"/>
              <a:ext cx="3733920" cy="1324800"/>
              <a:chOff x="2971440" y="3856680"/>
              <a:chExt cx="3733920" cy="1324800"/>
            </a:xfrm>
          </p:grpSpPr>
          <p:sp>
            <p:nvSpPr>
              <p:cNvPr id="311" name=""/>
              <p:cNvSpPr/>
              <p:nvPr/>
            </p:nvSpPr>
            <p:spPr>
              <a:xfrm flipH="1">
                <a:off x="2971440" y="4038480"/>
                <a:ext cx="37339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613000">
                <a:off x="3259440" y="4156200"/>
                <a:ext cx="21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interpreted b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3048120" y="4724280"/>
            <a:ext cx="5333400" cy="1295640"/>
            <a:chOff x="3048120" y="4724280"/>
            <a:chExt cx="5333400" cy="1295640"/>
          </a:xfrm>
        </p:grpSpPr>
        <p:sp>
          <p:nvSpPr>
            <p:cNvPr id="314" name=""/>
            <p:cNvSpPr/>
            <p:nvPr/>
          </p:nvSpPr>
          <p:spPr>
            <a:xfrm>
              <a:off x="6705360" y="4724280"/>
              <a:ext cx="1676160" cy="129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048120" y="4952880"/>
              <a:ext cx="3657240" cy="533520"/>
              <a:chOff x="3048120" y="4952880"/>
              <a:chExt cx="3657240" cy="533520"/>
            </a:xfrm>
          </p:grpSpPr>
          <p:sp>
            <p:nvSpPr>
              <p:cNvPr id="316" name=""/>
              <p:cNvSpPr/>
              <p:nvPr/>
            </p:nvSpPr>
            <p:spPr>
              <a:xfrm>
                <a:off x="3048120" y="548640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67440" y="4952880"/>
                <a:ext cx="139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sults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0B6D-2F0E-4E04-B68C-90AE226CE2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that a program may be written on one type of computer and then run on a wide variety of computers, with little or no modif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byte code runs on the JVM and not on any particular CPU; therefore, compiled Java programs are highly por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VMs exist on many plat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4480" y="4805280"/>
            <a:ext cx="9072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4800600"/>
            <a:ext cx="17524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1E31-F016-418C-9B91-1BC45469EB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ost programming languages, portability is achieved by compiling a program for each CPU it will ru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an JVM for each platform so that programmers do not have to recompile for different plat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A53B-14FE-4611-B2C1-8C180F33D01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3352680"/>
            <a:ext cx="2438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1447920"/>
            <a:ext cx="16761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5029200"/>
            <a:ext cx="2438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502920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35268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743200" y="27432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352680" y="274320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27432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274320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8413-3D02-43AF-8A18-7A042C7DC5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ftware you use to write Java programs is called the Java Development Kit, or JD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different editions of the JD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E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erprise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M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cro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download at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java.su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26FD-2169-47CA-A29E-DAA7B72436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iling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and to compile a program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filenam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c is the Java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.java file extension must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 compile a java source code file named Payroll.java you would use the comm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c Payroll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2D82-889A-4C8E-9A5D-3AD1D80000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gramm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define what the program is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e the program running on the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esign tools to create a model of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model for logical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7F0C-4A38-45A8-9545-296763A1E57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Applications and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can be of two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-alone programs that run without the aid of a web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ed security model since the user runs the program lo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pplications that require the use of a Java enabled web browser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security model since the user merely goes to a web page and the applet run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FAAF-E961-4A33-AC3A-88D23D697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gramm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the code and compil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any errors found during compi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peat Steps 5 and 6 as many times a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program with test data fo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any runtime errors found while running the pr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peat Steps 5 through 8 as many times a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 the results of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F2A5-32CF-4A5F-8B40-6309B7E888F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mpasses the whole process of crafting computer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s perform several tasks in the development of complex software pro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B337-3AEB-4CA9-BF59-2151908202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s devel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pecif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s of screen outp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s representing the program components and the flow of dat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expected input and desired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60ED-5646-453D-A342-1C30D251D7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s also use special software designed for testing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software applications are large and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 team of programmers, not a single individual, develops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equirements are thoroughly analyzed and divided into subtasks that are handl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within a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4787-F3EC-47D9-91B2-0C2BFF818A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programming languages were proced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et of programming language statements that, together, perform a specific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typically operate on data items that are separate from the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cedural program, the data items are commonly passed from one procedur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6AB8-8668-4289-891D-BDFEDBEA896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124080"/>
            <a:ext cx="25146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905120" y="1371600"/>
            <a:ext cx="3809880" cy="1752480"/>
            <a:chOff x="1905120" y="1371600"/>
            <a:chExt cx="3809880" cy="1752480"/>
          </a:xfrm>
        </p:grpSpPr>
        <p:sp>
          <p:nvSpPr>
            <p:cNvPr id="353" name=""/>
            <p:cNvSpPr/>
            <p:nvPr/>
          </p:nvSpPr>
          <p:spPr>
            <a:xfrm>
              <a:off x="3200400" y="1371600"/>
              <a:ext cx="251460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1828800"/>
              <a:ext cx="1295280" cy="12952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89" stAng="10800000" swAng="5400000"/>
                  <a:lnTo>
                    <a:pt x="15115" y="3971"/>
                  </a:lnTo>
                  <a:lnTo>
                    <a:pt x="15115" y="0"/>
                  </a:lnTo>
                  <a:lnTo>
                    <a:pt x="21600" y="6079"/>
                  </a:lnTo>
                  <a:lnTo>
                    <a:pt x="15115" y="12158"/>
                  </a:lnTo>
                  <a:lnTo>
                    <a:pt x="15115" y="8187"/>
                  </a:lnTo>
                  <a:lnTo>
                    <a:pt x="12427" y="8187"/>
                  </a:lnTo>
                  <a:arcTo wR="8211" hR="3973" stAng="16200000" swAng="-5400000"/>
                  <a:lnTo>
                    <a:pt x="4216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62720" y="1981080"/>
            <a:ext cx="2514600" cy="3124440"/>
            <a:chOff x="5562720" y="1981080"/>
            <a:chExt cx="2514600" cy="3124440"/>
          </a:xfrm>
        </p:grpSpPr>
        <p:sp>
          <p:nvSpPr>
            <p:cNvPr id="356" name=""/>
            <p:cNvSpPr/>
            <p:nvPr/>
          </p:nvSpPr>
          <p:spPr>
            <a:xfrm>
              <a:off x="5562720" y="3124080"/>
              <a:ext cx="251460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cedu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5905440" y="1866600"/>
              <a:ext cx="1143000" cy="1371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82" stAng="10800000" swAng="5400000"/>
                  <a:lnTo>
                    <a:pt x="14909" y="4078"/>
                  </a:lnTo>
                  <a:lnTo>
                    <a:pt x="14909" y="0"/>
                  </a:lnTo>
                  <a:lnTo>
                    <a:pt x="21600" y="6079"/>
                  </a:lnTo>
                  <a:lnTo>
                    <a:pt x="14909" y="12158"/>
                  </a:lnTo>
                  <a:lnTo>
                    <a:pt x="14909" y="8080"/>
                  </a:lnTo>
                  <a:lnTo>
                    <a:pt x="12427" y="8080"/>
                  </a:lnTo>
                  <a:arcTo wR="8425" hR="4080" stAng="16200000" swAng="-5400000"/>
                  <a:lnTo>
                    <a:pt x="4002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DC20-5C83-452C-8ED1-33C2B3BED6A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cedural programming, procedures are developed to operate on the program’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the program tends to be global to the entir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ormats might change and thus, the procedures that operate on that data must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B812-B5E4-47C7-B95F-14F528C370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is centered on creating objects rather tha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 melding of data and procedures that manipulate tha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DC8-4BA5-45D6-A322-4DBDE2ABA9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124080" y="1295280"/>
            <a:ext cx="2819160" cy="4876920"/>
            <a:chOff x="3124080" y="1295280"/>
            <a:chExt cx="2819160" cy="4876920"/>
          </a:xfrm>
        </p:grpSpPr>
        <p:sp>
          <p:nvSpPr>
            <p:cNvPr id="364" name=""/>
            <p:cNvSpPr/>
            <p:nvPr/>
          </p:nvSpPr>
          <p:spPr>
            <a:xfrm>
              <a:off x="3124080" y="1295280"/>
              <a:ext cx="28191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24080" y="182880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tributes (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24080" y="2286000"/>
              <a:ext cx="281916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ehaviors / procedu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656880" y="3352680"/>
              <a:ext cx="1820520" cy="2056320"/>
              <a:chOff x="3656880" y="3352680"/>
              <a:chExt cx="1820520" cy="20563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3656880" y="3352680"/>
                <a:ext cx="449280" cy="560160"/>
                <a:chOff x="3656880" y="3352680"/>
                <a:chExt cx="449280" cy="5601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65724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365652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342320" y="3352680"/>
                <a:ext cx="449280" cy="560160"/>
                <a:chOff x="4342320" y="3352680"/>
                <a:chExt cx="449280" cy="5601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34268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434196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028840" y="3352680"/>
                <a:ext cx="448560" cy="560160"/>
                <a:chOff x="5028840" y="3352680"/>
                <a:chExt cx="448560" cy="5601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028840" y="335268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028840" y="346428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028840" y="4848840"/>
                <a:ext cx="448560" cy="560160"/>
                <a:chOff x="5028840" y="4848840"/>
                <a:chExt cx="448560" cy="560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028840" y="484884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>
                  <a:off x="5028840" y="496044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656880" y="4100760"/>
                <a:ext cx="449280" cy="560160"/>
                <a:chOff x="3656880" y="4100760"/>
                <a:chExt cx="449280" cy="5601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65724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365652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4342320" y="4100760"/>
                <a:ext cx="449280" cy="560160"/>
                <a:chOff x="4342320" y="4100760"/>
                <a:chExt cx="449280" cy="5601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34268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434196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028840" y="4100760"/>
                <a:ext cx="448560" cy="560160"/>
                <a:chOff x="5028840" y="4100760"/>
                <a:chExt cx="448560" cy="560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028840" y="410076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5028840" y="421236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656880" y="4848840"/>
                <a:ext cx="449280" cy="560160"/>
                <a:chOff x="3656880" y="4848840"/>
                <a:chExt cx="449280" cy="5601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65724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365652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342320" y="4848840"/>
                <a:ext cx="449280" cy="560160"/>
                <a:chOff x="4342320" y="4848840"/>
                <a:chExt cx="449280" cy="5601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34268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434196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 flipV="1">
              <a:off x="38858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716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2574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D612-9B97-431E-9BBC-36DEF82C67B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combines data and behavior v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h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bility of an object to hide data from other objects in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n objects methods should be able to directly manipulate its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bjects are allowed manipulate an object’s attributes via the objec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direct acces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gramming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6B8E-ABBC-4285-8F53-19C7A273114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are tools that can be programmed to perform many function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are versatile because they can be program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Programmers implement programs that perform these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9000" y="2438280"/>
            <a:ext cx="3205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6120" y="2438280"/>
            <a:ext cx="1770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3DD8-5938-4320-BA70-DA03E6159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436920" y="1295280"/>
            <a:ext cx="2819520" cy="4876920"/>
            <a:chOff x="3436920" y="1295280"/>
            <a:chExt cx="2819520" cy="4876920"/>
          </a:xfrm>
        </p:grpSpPr>
        <p:sp>
          <p:nvSpPr>
            <p:cNvPr id="402" name=""/>
            <p:cNvSpPr/>
            <p:nvPr/>
          </p:nvSpPr>
          <p:spPr>
            <a:xfrm>
              <a:off x="3436920" y="1295280"/>
              <a:ext cx="28195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36920" y="1752480"/>
              <a:ext cx="28195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tributes (dat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ically private to this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36920" y="2286000"/>
              <a:ext cx="281952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ehaviors / procedu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970080" y="3352680"/>
              <a:ext cx="1820520" cy="2056320"/>
              <a:chOff x="3970080" y="3352680"/>
              <a:chExt cx="1820520" cy="205632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3970080" y="3352680"/>
                <a:ext cx="449280" cy="560160"/>
                <a:chOff x="3970080" y="3352680"/>
                <a:chExt cx="449280" cy="560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7044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396972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655520" y="3352680"/>
                <a:ext cx="449280" cy="560160"/>
                <a:chOff x="4655520" y="3352680"/>
                <a:chExt cx="449280" cy="560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655880" y="335268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>
                  <a:off x="4655160" y="346428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342040" y="3352680"/>
                <a:ext cx="448560" cy="560160"/>
                <a:chOff x="5342040" y="3352680"/>
                <a:chExt cx="448560" cy="560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342040" y="335268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5342040" y="346428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342040" y="4848840"/>
                <a:ext cx="448560" cy="560160"/>
                <a:chOff x="5342040" y="4848840"/>
                <a:chExt cx="448560" cy="560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342040" y="484884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>
                  <a:off x="5342040" y="496044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970080" y="4100760"/>
                <a:ext cx="449280" cy="560160"/>
                <a:chOff x="3970080" y="4100760"/>
                <a:chExt cx="449280" cy="5601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97044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>
                  <a:off x="396972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655520" y="4100760"/>
                <a:ext cx="449280" cy="560160"/>
                <a:chOff x="4655520" y="4100760"/>
                <a:chExt cx="449280" cy="560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655880" y="410076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>
                  <a:off x="4655160" y="421236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42040" y="4100760"/>
                <a:ext cx="448560" cy="560160"/>
                <a:chOff x="5342040" y="4100760"/>
                <a:chExt cx="448560" cy="5601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342040" y="4100760"/>
                  <a:ext cx="448560" cy="448200"/>
                </a:xfrm>
                <a:custGeom>
                  <a:avLst/>
                  <a:gdLst>
                    <a:gd name="textAreaLeft" fmla="*/ 0 w 448560"/>
                    <a:gd name="textAreaRight" fmla="*/ 448920 w 44856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5342040" y="4212360"/>
                  <a:ext cx="448560" cy="448560"/>
                </a:xfrm>
                <a:custGeom>
                  <a:avLst/>
                  <a:gdLst>
                    <a:gd name="textAreaLeft" fmla="*/ 360 w 448560"/>
                    <a:gd name="textAreaRight" fmla="*/ 449280 w 44856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970080" y="4848840"/>
                <a:ext cx="449280" cy="560160"/>
                <a:chOff x="3970080" y="4848840"/>
                <a:chExt cx="449280" cy="5601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97044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>
                  <a:off x="396972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655520" y="4848840"/>
                <a:ext cx="449280" cy="560160"/>
                <a:chOff x="4655520" y="4848840"/>
                <a:chExt cx="449280" cy="5601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655880" y="4848840"/>
                  <a:ext cx="448920" cy="448200"/>
                </a:xfrm>
                <a:custGeom>
                  <a:avLst/>
                  <a:gdLst>
                    <a:gd name="textAreaLeft" fmla="*/ 0 w 448920"/>
                    <a:gd name="textAreaRight" fmla="*/ 449280 w 4489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>
                  <a:off x="4655160" y="4960440"/>
                  <a:ext cx="448920" cy="448560"/>
                </a:xfrm>
                <a:custGeom>
                  <a:avLst/>
                  <a:gdLst>
                    <a:gd name="textAreaLeft" fmla="*/ -360 w 448920"/>
                    <a:gd name="textAreaRight" fmla="*/ 448920 w 448920"/>
                    <a:gd name="textAreaTop" fmla="*/ 360 h 448560"/>
                    <a:gd name="textAreaBottom" fmla="*/ 449280 h 44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00" y="10800"/>
                      </a:moveTo>
                      <a:arcTo wR="-5500" hR="-5500" stAng="-10800000" swAng="-10800000"/>
                      <a:lnTo>
                        <a:pt x="0" y="10800"/>
                      </a:lnTo>
                      <a:arcTo wR="10800" hR="10800" stAng="10800000" swAng="10800000"/>
                      <a:lnTo>
                        <a:pt x="24300" y="10800"/>
                      </a:lnTo>
                      <a:lnTo>
                        <a:pt x="18950" y="16150"/>
                      </a:lnTo>
                      <a:lnTo>
                        <a:pt x="136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 flipV="1">
              <a:off x="41990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48848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5706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914400" y="1793880"/>
            <a:ext cx="2827080" cy="3540240"/>
            <a:chOff x="914400" y="1793880"/>
            <a:chExt cx="2827080" cy="3540240"/>
          </a:xfrm>
        </p:grpSpPr>
        <p:grpSp>
          <p:nvGrpSpPr>
            <p:cNvPr id="437" name=""/>
            <p:cNvGrpSpPr/>
            <p:nvPr/>
          </p:nvGrpSpPr>
          <p:grpSpPr>
            <a:xfrm>
              <a:off x="2903400" y="3581640"/>
              <a:ext cx="838080" cy="1523880"/>
              <a:chOff x="2903400" y="3581640"/>
              <a:chExt cx="838080" cy="152388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2903400" y="510552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903400" y="434376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2903400" y="358164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922320" y="3352680"/>
              <a:ext cx="182880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914400" y="1793880"/>
              <a:ext cx="2522520" cy="1482840"/>
              <a:chOff x="914400" y="1793880"/>
              <a:chExt cx="2522520" cy="1482840"/>
            </a:xfrm>
          </p:grpSpPr>
          <p:sp>
            <p:nvSpPr>
              <p:cNvPr id="443" name=""/>
              <p:cNvSpPr/>
              <p:nvPr/>
            </p:nvSpPr>
            <p:spPr>
              <a:xfrm>
                <a:off x="914400" y="1793880"/>
                <a:ext cx="186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400000">
                <a:off x="2522520" y="2362320"/>
                <a:ext cx="990720" cy="8380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6899" stAng="10800000" swAng="5400000"/>
                    <a:lnTo>
                      <a:pt x="15092" y="5261"/>
                    </a:lnTo>
                    <a:lnTo>
                      <a:pt x="15092" y="0"/>
                    </a:lnTo>
                    <a:lnTo>
                      <a:pt x="21600" y="6079"/>
                    </a:lnTo>
                    <a:lnTo>
                      <a:pt x="15092" y="12158"/>
                    </a:lnTo>
                    <a:lnTo>
                      <a:pt x="15092" y="6897"/>
                    </a:lnTo>
                    <a:lnTo>
                      <a:pt x="12427" y="6897"/>
                    </a:lnTo>
                    <a:arcTo wR="10791" hR="5263" stAng="16200000" swAng="-5400000"/>
                    <a:lnTo>
                      <a:pt x="1636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DD26-5326-43C6-B587-491E186A10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a computer program that must be desig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flow of the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hematic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out of the programming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earance of the scr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information is presented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’s “user friendli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s, help systems, and/or other forms of written docu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640-6C24-463F-AA4F-36F0F5CD5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must be analytically correct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rarely work the first time they are program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must perform the following on a continual ba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 have strict rules,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must be carefully fo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C31A-5842-4640-9CC8-227AA4878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hardware components are the physical pieces of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hardware components of a computer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and Out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95E0-23B5-4F7F-AB2C-E8F709C0A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51:31Z</dcterms:created>
  <dc:creator>Tony Gaddis</dc:creator>
  <dc:description/>
  <dc:language>en-US</dc:language>
  <cp:lastModifiedBy>test</cp:lastModifiedBy>
  <cp:lastPrinted>2009-04-22T19:24:48Z</cp:lastPrinted>
  <dcterms:modified xsi:type="dcterms:W3CDTF">2007-03-12T15:01:34Z</dcterms:modified>
  <cp:revision>84</cp:revision>
  <dc:subject>Introduction to Computers and Java</dc:subject>
  <dc:title>Chapter 1</dc:title>
</cp:coreProperties>
</file>