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13.png" ContentType="image/png"/>
  <Override PartName="/ppt/media/image10.pct" ContentType="image/x-pict"/>
  <Override PartName="/ppt/media/image24.pct" ContentType="image/x-pict"/>
  <Override PartName="/ppt/media/image15.png" ContentType="image/png"/>
  <Override PartName="/ppt/media/image23.pct" ContentType="image/x-pict"/>
  <Override PartName="/ppt/media/image14.png" ContentType="image/png"/>
  <Override PartName="/ppt/media/image3.pct" ContentType="image/x-pict"/>
  <Override PartName="/ppt/media/image20.pct" ContentType="image/x-pict"/>
  <Override PartName="/ppt/media/image18.pct" ContentType="image/x-pict"/>
  <Override PartName="/ppt/media/image17.png" ContentType="image/png"/>
  <Override PartName="/ppt/media/image16.png" ContentType="image/png"/>
  <Override PartName="/ppt/media/image2.png" ContentType="image/png"/>
  <Override PartName="/ppt/media/image4.pct" ContentType="image/x-pict"/>
  <Override PartName="/ppt/media/image8.png" ContentType="image/png"/>
  <Override PartName="/ppt/media/image19.pct" ContentType="image/x-pict"/>
  <Override PartName="/ppt/media/image21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A3B-041B-4002-9E20-2FE5EDC4B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4C91-2007-4A4C-9A5D-37A14D120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AA19-4145-4964-A4A0-CC5509B03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5393-127B-4211-A6BC-FF6E25D85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2EEB-7CA5-4E3C-B53C-C6FB5AA4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E6F3-EA75-470A-81BB-8969D4936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9E63-9D16-46C7-84AE-8945F01C2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059A-ECC3-4060-8CAF-225631D71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4726-BE01-4B7F-891C-41ECFFD3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7D3B-F84F-40C7-AAE0-67023737E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BA89-5535-4434-8B3D-EA1334603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EB15-2B9C-4F2C-A449-BE7D3D153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F5A8098-A839-4509-A1F7-F6BABD31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Window.java" TargetMode="External"/><Relationship Id="rId2" Type="http://schemas.openxmlformats.org/officeDocument/2006/relationships/hyperlink" Target="file:///ListWindow.java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ListWindowWithScroll.jav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MultipleIntervalSelection.java" TargetMode="Externa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mboBoxWindow.java" TargetMode="External"/><Relationship Id="rId2" Type="http://schemas.openxmlformats.org/officeDocument/2006/relationships/hyperlink" Target="file:///ComboBoxWindow.java" TargetMode="External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MyCatImage.java" TargetMode="External"/><Relationship Id="rId2" Type="http://schemas.openxmlformats.org/officeDocument/2006/relationships/hyperlink" Target="file:///MyCatImage.java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MenuWindow.java" TargetMode="External"/><Relationship Id="rId2" Type="http://schemas.openxmlformats.org/officeDocument/2006/relationships/hyperlink" Target="file:///MenuWindow.java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TempConverter.java" TargetMode="External"/><Relationship Id="rId2" Type="http://schemas.openxmlformats.org/officeDocument/2006/relationships/hyperlink" Target="file:///TempConverter.java" TargetMode="Externa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3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d GUI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tem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selected it genera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 selection 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is handled by an instance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 selection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, which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method must take an argumen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Sele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ListSelection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o register the instance of the list selection listener class with the list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1B9-B2B3-48E4-8F3F-576297FCC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generates an ev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utomatically execu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Chan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of the list selection listene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asses the event object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1868-97D2-47F7-9028-EAA6F40E1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which item in a list is currently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a reference to the item that is currently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edName = (String)nameList.getSelected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value must be cas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quired in order to store it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ed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item in the list is selected, the method returns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453-C5FE-420A-BBDE-F98C1E8A2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index of the selected item,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no item i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ly, the items that are stored in a list are numbered (similar to an arra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tem’s number is called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tem has the index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index of the selected item to retrieve the item from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4338-F3F7-46A8-BEAA-3A02A3C9A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could be used to determine the selected it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nameList.getSelectedInde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index != 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edName = names[inde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st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3BD9-73E4-42A0-B5E2-F66888BD4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ed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an be used to draw a border arou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nthList.setBor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ack,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030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F27E-932F-4CDE-9417-00C27F59C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a list component is large enough to display all of the items it cont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a list component contains too many items to be display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UI applications display a scroll bar on list components that contain a large number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components do not automatically display a scroll 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F4E-714A-4F47-9484-4FC357361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a scroll bar on a list component,  follow these general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68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number of visible rows for the list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68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croll pane object and add the list component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68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scroll pane object to any other containers, such as pa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391-BFD5-4149-8490-D502291639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the size of the list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List.setVisibleRowCount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croll pane object and add the list component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roll pane obj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ntainer that displays scroll bars on any component it cont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o create a scroll pan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ass the object that we wish to add to the scroll pane as an argument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ScrollPane scrollPane =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ScrollPane(nameL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2C43-B110-48EA-BB96-20917AAD2C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he scroll pane object to any other containers that are necessary for our G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add(scrollPa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(pan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list component is displayed, it will appear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tems showing at a time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oll ba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1DDF-F78E-439C-82C4-931C2542A2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3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wing and AWT Clas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-Only Text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o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Images in Labels and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s and Tool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FC70-2509-455E-A668-9ED0838C8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add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only display a scroll bar if there are more items in the list than there are visible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is add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, a border will automatically appear around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stWindowWithScroll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980F-BE2C-499D-A894-F14E900D4D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Items to an Exist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1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List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allows the adding of items in an exist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ListData(Object[]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places any items that are currently displayed i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n be used to add items to an empty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5BC7-D296-4800-82C4-1DAB1090D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Items to an Exist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an empty list by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’s no-parameter constructor:</a:t>
            </a: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added to the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List.setListData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173-18D0-4DFD-9BE5-15477BE7F2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is set to single interval selection mode by passing th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SINGLE_INTERVAL_SE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al is a set of contiguous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sel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tem in the interval by clicking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item by holding the Shift key while clicking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items that appear in the list from the first item through the last item are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B206-09B3-4223-B915-33CE5B1CC4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first item in the selected interv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index of the first item in the selected inter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entire selected interval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returns an array of objects, which are the items in the selected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Ind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n array of int values that are the indices of all the selected items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2CB-7CD3-446B-8653-42269EF72E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multiple interval selection mode by passing th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MULTIPLE_INTERVAL_SEL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ultiple interval selection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items can b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s do not have to be in the sam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ultiple interval selection mode the user can select single items or inter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D6CC-4AFC-4CCC-A55D-44124AB9B1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holds down the Ctrl key while clicking on an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lects the item without deselecting other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first selected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index of the first selected i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n array of objects containing the items that are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 containing the indices of the selected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9706-7767-4383-BD34-AAD993B666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1828800"/>
            <a:ext cx="43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ultipleIntervalSelection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7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2410-1003-41A4-9D40-D35C5735A6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4280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bo box presents a drop-down list of items that the user may select fr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used to create a combo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an array of objects that are to be displayed as the items in the drop-down list to the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splayed, the combo box created by this code will initially appear as the but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010280" y="5686560"/>
            <a:ext cx="122868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37BB-C031-4935-8A61-122BA7FB6D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31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tton displays the item that is currently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item in the list is automatically selected when the combo box is displa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user clicks on the button, the drop-down list appears and the user may select another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9480" y="2438280"/>
            <a:ext cx="120960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B8DA-2676-4EBB-B43F-0D280B326E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3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Choosers and Color Cho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bout Text Components: Text Areas and F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DD81-CD8B-4EB5-B5E9-48C987ED0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tem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selected, it generates an action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action events with an action event listener class, which must hav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user selects an item in a combo box, the combo box executes its action event listener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, passing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4632-7CE0-41D5-8388-CA4BCDC0A2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ethod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hat can be used to determine which item in a list is currently selec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reference to the item that is currently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edName = (String) nameBox.getSelectedIte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so we cast the return value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2989-23A3-4796-8D9C-CF4AFF399B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returns the index of the selected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he selected item from the names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 = nameBox.getSelectedInde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edName = names[inde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6416-E0FB-4E88-AA6A-879246C975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800" y="1627200"/>
            <a:ext cx="350712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mboBoxWindow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14400" y="1649520"/>
            <a:ext cx="274320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914400" y="340200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5029200" y="3173400"/>
            <a:ext cx="2819520" cy="12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BDBB-9C0F-4440-8B74-067DE36DDA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types of combo box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ditable – allows the user to only select items from its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able – combines a text field and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llows the selection of items from th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the user to type input into the tex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sets the edit mode for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Box.setEdita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633B-0141-42E2-BE15-15565EB92D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ditable combo box appears as a text field with a small button displaying an arrow join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user clicks on the button, the drop-down list appears as shown in the center of the fig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m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item from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a value into the tex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is not restricted to the values that appear in the list, and may type any input into the text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C7AC-6486-46A1-A701-7076779763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1666800" cy="447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1752840" cy="212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943600" y="2895480"/>
            <a:ext cx="1638360" cy="447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90920" y="1447920"/>
            <a:ext cx="3733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Sharon is not in th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1" idx="2"/>
            <a:endCxn id="169" idx="0"/>
          </p:cNvCxnSpPr>
          <p:nvPr/>
        </p:nvCxnSpPr>
        <p:spPr>
          <a:xfrm flipV="1" rot="10800000">
            <a:off x="4457160" y="1854000"/>
            <a:ext cx="1080" cy="10418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2"/>
            <a:endCxn id="170" idx="0"/>
          </p:cNvCxnSpPr>
          <p:nvPr/>
        </p:nvCxnSpPr>
        <p:spPr>
          <a:xfrm flipH="1" rot="16200000">
            <a:off x="5089680" y="1222200"/>
            <a:ext cx="1041840" cy="230544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96FB-75AD-49AF-80FA-5464DF2E3E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s can display text, an image, o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an image, create 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which reads the imag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ructor accepts the name of an imag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ed file types are JPEG, GIF, and P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can also contain path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:\\Chapter 12\\Images\\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F4FE-0C97-4928-A292-7185D6BFD6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e image in a label by pas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s an argument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(Icon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passed can b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or any object that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c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"Have a nice day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Ic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6CD-76A5-4C2F-93FC-C574EF2C69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s displayed to the right of images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alignment can be modified by passing one of the following to an overloaded 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ngConstants.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ngConstants.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ngConstants.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"Have a nice day!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Constants.R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DD80-749B-4F35-897C-3A1D1F71B1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ng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T Cla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1000" y="457200"/>
            <a:ext cx="427212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A0E4-3E20-4451-AF3E-A732BB7F8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button with an image is similar to that of creating a label with an im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button with an image and 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ave a nice day!", 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.setIc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D443-E73E-43C8-9271-C6F9C16561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d an image to an existing butt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Button button = new JButt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Have a nice day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.setIcon(im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not limited to small graphical icons when placing images in labels or but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yCatImag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6EF9-E896-4FF0-9243-F96AF9AF3D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nemon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key that you press in combination with the Alt key to quickly access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sometimes referred to as hot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t key is assigned to a component through the component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Mnemon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gument passed to the method is an integer code that represents the key you wish to as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8C51-D21A-4B4A-ABA5-D5100908B4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534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codes are predefined constant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ants take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Event.VK_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key on the key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tters VK in the constants stand for “virtual k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ssig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 as a mnemonic,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Event.VK_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exitButton = new JButton("Exi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Mnemonic(KeyEvent.VK_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AE7B-B6D8-46F2-9065-CBD0935E46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etter is in the component’s text, the first occurrence of that letter will appear under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etter does not appear in the component’s text, then no letter will appear under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CDBE-CE2B-4565-83FE-F4104ADB03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assign mnemonics to radio buttons and check box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 rb1 = new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("Breakfas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b1.setMnemonic(KeyEvent.VK_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 rb2 = new JRadioButton("Lunch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b2.setMnemonic(KeyEvent.VK_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b1 = new JCheckBox("Monda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b1.setMnemonic(KeyEvent.VK_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b2 = new JCheckBox("Wednesda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b2.setMnemonic(KeyEvent.VK_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8CE6-3A68-4ADE-8381-1E3ED69BBF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ol ti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xt that is displayed in a small box when the mouse is held over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x usually gives a short description of what the component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UI applications use tool tips as concise help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3B71-DB94-471F-B119-DC7E90B58E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a tool tip to a component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ToolTip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exitButton = new JButton("Exi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Mnemonic(KeyEvent.VK_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ToolTipTex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ick here to exi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286000" y="4267080"/>
            <a:ext cx="2485800" cy="1371600"/>
            <a:chOff x="2286000" y="4267080"/>
            <a:chExt cx="2485800" cy="137160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2286000" y="4267080"/>
              <a:ext cx="2485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2743200" y="4419360"/>
              <a:ext cx="43812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5644440" y="4114800"/>
            <a:ext cx="2893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mnemonic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71440" y="4343400"/>
            <a:ext cx="25909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520" y="4876920"/>
            <a:ext cx="1155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71640" y="5105520"/>
            <a:ext cx="10666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588C-4C41-47B6-AC34-7C2BFEC888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chooser is a specialized dialog box that allows the user to browse for a file and selec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953240" cy="35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CDCD-ABD6-4E73-B7DC-FB2902FD74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o display a file chooser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f the constructors have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onstructor shown takes no arguments and uses the default directory as the starting point for all of its dialo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constructor tak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containing a valid path. This path will be the starting point for the object’s dialo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D187-6451-4510-8757-A369E1C8CF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Only Text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137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only text fields are a different way to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has a metho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Editable(boolean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di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 a text field is edi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must be called and passed false to make the field read-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7212-52C4-4136-9ABF-208C6BFA4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can display two types of predefined dialog box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file dialog box – lets the user browse for an existing file to op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ve file dialog box – lest the user browse to a location to save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1AB1-E9AF-497E-9BDD-EF9E31F4BE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534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an open file dialog box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wOpen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howOpenDialog(Compone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r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can be null or a reference to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ull is passed, the dialog box is normally centered i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pass a reference to a component the dialog box is displayed over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7510-6F69-4D04-89F6-6836B35BF6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splay a save file dialog box,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howSave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fo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howSaveDialog(Component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r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gument can be either null or a reference to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methods return an integer that indicates the action taken by the user to close the dialog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880-0BBC-43EB-804B-6FBEFF1021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compare the return value to one of the following cons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CANCEL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the user clicked on the Cancel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APPROVE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the user clicked on the OK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ERROR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an error occurred, or the user clicked on the standard close button on the window to dismis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selected a file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o determine the file that wa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which contains data about the sel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952C-621D-4F33-8A16-A6D9C5CA72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o get the path and file name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 fileChooser = new JFileChoos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tatus = fileChooser.showOpenDialog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tatus == JFileChooser.APPROVE_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 selectedFil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Chooser.getSelectedFi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tring filename = selectedFile.getPa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 selected " + fil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257D-41EF-4270-9ADB-4BA7424F2DC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or chooser is a specialized dialog box that allows the user to select a color from a predefined palette of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886200" cy="36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0B8F-2CCF-48E7-A681-018D700008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licking the HSB tab you can select a color by specifying its hue, saturation, and brigh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licking the RGB tab you can select a color by specifying its red, green, and blue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lorChoo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 a static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w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th the following 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 showDialog(Compone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r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olo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8968-BA4E-4A74-A305-584087D92C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first argument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dialog box is normally centered i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a reference to a component the dialog box is displayed over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argument is the dialog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ird argument indicates the color that appears initially selected in the dialog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thod returns the color selected by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CEFE-5444-43C7-BDB4-BF2D5DF73EA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 selectedColo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lorChooser.showDialog(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elect a Background Color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selectedCol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5E21-F5D9-4D6D-A5B5-A3B22C102F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105160" cy="3573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nu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llection of commands organized in one or more drop-down men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919240"/>
            <a:ext cx="102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u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4520" y="5357880"/>
            <a:ext cx="2478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Button Menu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8280" y="4114800"/>
            <a:ext cx="105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3480" y="4648320"/>
            <a:ext cx="2274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Box Menu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3529080"/>
            <a:ext cx="730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3124080"/>
            <a:ext cx="12189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733920"/>
            <a:ext cx="1689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29000" y="5257440"/>
            <a:ext cx="9144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487692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3434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5627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10360" y="3533760"/>
            <a:ext cx="1380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Menu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105160" y="3581280"/>
            <a:ext cx="1066680" cy="152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981320" y="3733920"/>
            <a:ext cx="1190520" cy="114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181480" y="3733920"/>
            <a:ext cx="99072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29360" y="41623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10600" y="4495680"/>
            <a:ext cx="1123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Sub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1E6B-A72F-432B-93FA-96D4F9FF1C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mponent that displays a list of items and allows the user to select items from the l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is used for creating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created, an array of objects is passed to the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(Object[]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uses the array to create the list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030-6EBF-4F4D-A4B7-23A1B5AA6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A Menu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nu system commonly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 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nu b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 the names of one or me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drop-down list of menu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 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nu i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elect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 box menu 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eck box menu i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with a small box besid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tem may be selected or de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 button menu 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dio button menu i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elected or de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– A menu within a menu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or 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 separator bar is a horizontal bar used to separate groups of items on a 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B749-D684-4606-AD71-7372509E57F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nu system is constructed with the following cl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Menu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d to create a menu 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6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can contain JMenu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d to create a menu.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 can cont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6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6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well as oth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ubmenu i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 that is inside anoth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d to create a regular menu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6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CE12-045C-44AB-86A7-49044EAF507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d to create a check box menu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’s isSelected method returns true if the item is selected, or false otherw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d to create a radio button menu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s can be grouped together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so that only one of them can be selected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’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returns true if the item is selected, or false otherw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9FDA-8AA7-4487-B445-2B3D783BEBE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nu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BCED-0F7E-4580-A2D1-A8F47BF5463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used to create text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eld is a component that allows the user to enter a single line of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area is like a text field that can accept multiple lines of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o create a text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at of two of the class’s 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rows, int 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, int 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2007-F66A-4576-ACE3-66D1B12AB0C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1608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for getting and setting th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userText = textInput.getT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Text("Modified: " + userT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do not automatically display scroll b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dd a text area to a scroll 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 textInput = JTextArea(20, 4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 scrollPane = new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(text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C039-2D62-43F8-B3F6-00069446DCA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displays both vertical and horizontal scroll bars on a text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, the scroll bars are not displayed until they are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ehavior can be alt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rollPane.setHorizontalScrollBarPolicy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ScrollPane.HORIZONTAL_SCROLLBAR_NEV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rollPane.setVerticalScrollBarPolicy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ScrollPane.VERTICAL_SCROLLBAR_ALWAY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D3C0-C2EF-4158-BBD9-73BE4F62465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pass one of the following constants as an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setHorizontalScrollBar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AS_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N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setVericalScrollBar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AS_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N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AL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52FD-F16E-4587-992B-38C534AD56D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do not 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e wr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nable line wrapp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LineWrap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different styles of line wrapp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wrapping – the line breaks always occur between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WrapStyleWord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wrapping – lines are broken between characters (default mo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9433-EAC1-434E-BF75-DBDD7DD4AEC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display according to their font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 – the name of the type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 – can be plain, bold, and/or ita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– size of the text in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change the appearance of the text in the compon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 (Fo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constructor takes three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ont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028E-358C-42B1-B5E6-404A4A9BF63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can operate in any of the following selectio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le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Only one item can be selected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le Interval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Multiple items can be selected, but they must be in a single interval. An interval is a set of contiguous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e Interval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n this mode multiple items may be selected with no restri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default selectio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5A92-F40B-4A0C-9EFE-14ED8FBD1B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guarantees that you will have the fo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log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nsSer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hree font sty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Font(new Fon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erif", Font.BOLD, 24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t styles can be combined add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Font(new Fon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erif",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ont.BOLD + Font.ITA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24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DAB1-4C90-4C74-AE2D-0A7F60B4A2C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lider is a component that allows the user to graphically adjust a number within a ran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iders are created from 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y display an image of a “slider knob” that can be dragged along a tr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3750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1040-5165-4C6F-B731-937F9DC5AB3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der is designed to represent a range of numeric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user moves the knob along the track, the numeric value is adjusted accord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 minimum and maximum values, major tick marks are displayed with a label indicating the value at that tick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the major tick marks are minor tick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FAE6-32C4-404F-BA29-B095C51AA2A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or has the general fo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orient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in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ax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rientation, one of these constants should b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lider.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lider.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8109-2841-4B9B-BD31-631725C2670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 slider1 = new JSlider(JSlider.HORIZONTAL, 0, 50, 2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 slider2 = new JSlider(JSlider.VERTICAL, 0, 50, 2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major and minor tick mark spacing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MajorTickSp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MinorTickSp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ider1.setMajorTickSpacing(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ider1.setMinorTickSpacing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D8A0-E0A8-4D54-974D-4C1BCDCC8E6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tick marks by ca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PaintTick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ider1.setPaintTickMarks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numeric labels on the slider by ca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Paint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ider1.setPaintLabels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knob’s position is moved, the slider component generat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 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ndle the change event, writ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 liste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1187-E0C7-4591-946C-AB3FA7CF5B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nge listener class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ge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must take an argumen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g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rieve the current value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Value = slider1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mpConvert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90B0-99CE-4429-817F-64F86A132E8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earance of a particular system’s GUI is known as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select the look and feel of a GUI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ost systems, Java’s default look and feel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Motif and Windows look and feel classes for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 is similar to a UNIX look and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is the look and feel of the Windows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B4FE-E851-4B99-AF93-AD856652F09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ange an application’s look and feel, call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IMana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static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LookAndFe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a class for each look and fe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LookAndFe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akes the fully qualified class name for the desired look and feel as its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name must be passed as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613E-DEC7-4A32-B992-C58EBD4A324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javax.swing.plaf.metal.Metal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f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m.sun.java.swing.plaf.motif.Motif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m.sun.java.swing.plaf.windows.Windows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E3D3-FDA2-4F20-A121-550D4DED3E3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1447920"/>
            <a:ext cx="3504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election mode a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item to be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200400"/>
            <a:ext cx="4038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terval selection mode allows multiple items to be selected with no restri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5280" y="4879800"/>
            <a:ext cx="3999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interval selection mode a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interval of contiguous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1"/>
          </p:cNvCxnSpPr>
          <p:nvPr/>
        </p:nvCxnSpPr>
        <p:spPr>
          <a:xfrm rot="10800000">
            <a:off x="1739160" y="5069880"/>
            <a:ext cx="543600" cy="319680"/>
          </a:xfrm>
          <a:prstGeom prst="curvedConnector5">
            <a:avLst>
              <a:gd name="adj1" fmla="val 49966"/>
              <a:gd name="adj2" fmla="val 49943"/>
              <a:gd name="adj3" fmla="val 4996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3"/>
          </p:cNvCxnSpPr>
          <p:nvPr/>
        </p:nvCxnSpPr>
        <p:spPr>
          <a:xfrm flipV="1">
            <a:off x="6629040" y="3543120"/>
            <a:ext cx="686520" cy="167040"/>
          </a:xfrm>
          <a:prstGeom prst="curvedConnector5">
            <a:avLst>
              <a:gd name="adj1" fmla="val 50000"/>
              <a:gd name="adj2" fmla="val 49892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1"/>
          </p:cNvCxnSpPr>
          <p:nvPr/>
        </p:nvCxnSpPr>
        <p:spPr>
          <a:xfrm flipV="1" rot="10800000">
            <a:off x="1751760" y="1956240"/>
            <a:ext cx="610560" cy="4438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3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37772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2CCD-7B29-4D7D-85ED-8BDF9C19E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1587600"/>
            <a:ext cx="2209680" cy="2374560"/>
            <a:chOff x="914400" y="1587600"/>
            <a:chExt cx="2209680" cy="23745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914400" y="2006640"/>
              <a:ext cx="2209680" cy="19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485720" y="1587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5320" y="1587600"/>
            <a:ext cx="2057400" cy="2363760"/>
            <a:chOff x="3505320" y="1587600"/>
            <a:chExt cx="2057400" cy="236376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3505320" y="2006640"/>
              <a:ext cx="20574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000680" y="1587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t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943600" y="1587600"/>
            <a:ext cx="2057400" cy="2354040"/>
            <a:chOff x="5943600" y="1587600"/>
            <a:chExt cx="2057400" cy="2354040"/>
          </a:xfrm>
        </p:grpSpPr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943600" y="2006640"/>
              <a:ext cx="20574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210360" y="1587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1E4E-CBE3-4A25-9ED0-3A318B6FC03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mponents that have already been created need to be upd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takes a reference to the component that you want to update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IManager.setLookAnd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rows a number of exce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NotFound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tantiation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llegalAccess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supportedLookAndFeel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851A-6150-4AB2-8CA7-240DF787BE8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Motif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om.sun.java.swing.plaf.motif.MotifLookAndFeel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 setting the look and fee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B3FB-154A-426E-933A-F19937C1FD9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Window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om.sun.java.swing.plaf.windows.WindowsLookAndFeel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 setting the look and fee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3CEF-4EDE-457E-B3BB-A9692A46012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hang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’s selection mode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accept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that determines the selection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SINGLE_INTERVAL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MULTIPLE_INTERVAL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List.setSelectionMode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SINGLE_SELE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6D39-E136-4A17-B631-07E09BE02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dc:language>en-US</dc:language>
  <cp:lastModifiedBy>test</cp:lastModifiedBy>
  <cp:lastPrinted>2009-04-22T19:24:48Z</cp:lastPrinted>
  <dcterms:modified xsi:type="dcterms:W3CDTF">2007-03-13T13:21:32Z</dcterms:modified>
  <cp:revision>55</cp:revision>
  <dc:subject>Advanced GUI Applications</dc:subject>
  <dc:title>Chapter 13</dc:title>
</cp:coreProperties>
</file>