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65FA-981A-4148-ADEF-44C9F42BD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5634-8352-4893-9634-53A1E1247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9DD0-4AF6-40BB-A4AC-469212966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31FD-6202-43CE-88BB-C531EA1E5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0089-9BDF-412D-A308-DF6D98F93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551C-7BA6-4DF9-83BC-8B71C28F5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EB35-E6F3-4784-9CF4-5AC4255E1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C387-E4B0-4E77-8394-DA2CC7D19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B33C-9E20-46A2-8AC0-DF8C5F13D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E045-9639-47F1-92A1-2CB26B15F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DD34-D624-43B7-9D21-8D018609F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E8B4-5D1B-40E9-802B-CAE58288B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C4E519B-9BC0-4D1D-91EB-1B5CCFC5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estAverage1.java" TargetMode="External"/><Relationship Id="rId2" Type="http://schemas.openxmlformats.org/officeDocument/2006/relationships/hyperlink" Target="file:///TestAverage1.java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quares.java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erSquares.java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otalSales.java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occerPoints.java" TargetMode="External"/><Relationship Id="rId2" Type="http://schemas.openxmlformats.org/officeDocument/2006/relationships/hyperlink" Target="file:///SoccerPoints.java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lock.java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MathTutor.java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ReadFirstLine.java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efix.java" TargetMode="External"/><Relationship Id="rId2" Type="http://schemas.openxmlformats.org/officeDocument/2006/relationships/hyperlink" Target="file:///Prefix.java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FileReadDemo.java" TargetMode="External"/><Relationship Id="rId2" Type="http://schemas.openxmlformats.org/officeDocument/2006/relationships/hyperlink" Target="file:///FileReadDemo.java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FileWriteDemo.java" TargetMode="External"/><Relationship Id="rId2" Type="http://schemas.openxmlformats.org/officeDocument/2006/relationships/hyperlink" Target="file:///FileWriteDemo.java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WhileLoop.java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ccerTeams.java" TargetMode="External"/><Relationship Id="rId2" Type="http://schemas.openxmlformats.org/officeDocument/2006/relationships/hyperlink" Target="file:///SoccerTeams.jav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4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ps an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version of the loop decrements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uring each iter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x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is greater than 0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x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ACA1-3F2C-450B-B669-FEA2A1F480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Statements in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ly braces are required to enclose block statement while loops. (like block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482B-6BE4-496F-A3F7-BF9AFEEC9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or Input Va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 valid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ocess of ensuring that user input is va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in th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range of 1 through 100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Validate the in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umber &lt; 1 || number &gt;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at number is invalid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in th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range of 1 through 100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occerTeam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0170-0F95-4D51-88DD-F3D55BD661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-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, which means it will execute the loop prior to testing the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(sometimes called call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) take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while 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stAverage1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E904-5F14-4B9F-904C-C7C0184D8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95480" y="1219320"/>
            <a:ext cx="2819520" cy="4800240"/>
            <a:chOff x="2895480" y="1219320"/>
            <a:chExt cx="2819520" cy="4800240"/>
          </a:xfrm>
        </p:grpSpPr>
        <p:sp>
          <p:nvSpPr>
            <p:cNvPr id="119" name=""/>
            <p:cNvSpPr/>
            <p:nvPr/>
          </p:nvSpPr>
          <p:spPr>
            <a:xfrm>
              <a:off x="2895480" y="2057400"/>
              <a:ext cx="19051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ment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1219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963520" y="2887560"/>
              <a:ext cx="2375640" cy="3132000"/>
              <a:chOff x="2963520" y="2887560"/>
              <a:chExt cx="2375640" cy="3132000"/>
            </a:xfrm>
          </p:grpSpPr>
          <p:sp>
            <p:nvSpPr>
              <p:cNvPr id="122" name=""/>
              <p:cNvSpPr/>
              <p:nvPr/>
            </p:nvSpPr>
            <p:spPr>
              <a:xfrm rot="2701200">
                <a:off x="3200040" y="3124080"/>
                <a:ext cx="1143000" cy="1143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1680" y="320040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457200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25160" y="3371760"/>
                <a:ext cx="126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oole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pression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87280" y="495288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809880" y="2514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24280" y="3733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715000" y="15998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86200" y="1600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5226-1652-4FF4-BD42-547F40F4AC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a pre-test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allows the programmer to initialize a control variable, test a condition, and modify the control variable all in one line of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take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quar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CD18-EBAB-4AB9-A3EC-59F9B9101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91920" y="1219320"/>
            <a:ext cx="6714000" cy="4419360"/>
            <a:chOff x="1591920" y="1219320"/>
            <a:chExt cx="6714000" cy="4419360"/>
          </a:xfrm>
        </p:grpSpPr>
        <p:sp>
          <p:nvSpPr>
            <p:cNvPr id="135" name=""/>
            <p:cNvSpPr/>
            <p:nvPr/>
          </p:nvSpPr>
          <p:spPr>
            <a:xfrm rot="2701200">
              <a:off x="1828440" y="2743200"/>
              <a:ext cx="11430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3124080"/>
              <a:ext cx="19051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ment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1480" y="28954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191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40" idx="0"/>
            </p:cNvCxnSpPr>
            <p:nvPr/>
          </p:nvCxnSpPr>
          <p:spPr>
            <a:xfrm flipV="1" rot="16200000">
              <a:off x="4171320" y="-57960"/>
              <a:ext cx="1524600" cy="4839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2438280" y="1219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3560" y="2990880"/>
              <a:ext cx="12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ress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15680" y="45720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3352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0800" y="3124080"/>
              <a:ext cx="19051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1AEB-5E87-4565-95BF-74001AA7BD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ctions of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itialization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allows the loop to initialize its own control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st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acts in the same manner as the condition section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date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s the last thing to execute at the end of each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UserSquare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86C6-9FFC-4B1A-BC77-52B037C9D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ization section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s optional; however, it is usually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s initialize a counter variable that will be tested by the test section of the loop and updated by the update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ization section can initialize multipl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in this section have scope only for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7F54-CD50-4A45-83D0-E7D997D055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pdate 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date expression is usually used to increment or decrement the counter variable(s) declared in the initialization section of the for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date section of the loop executes last in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date section may update multipl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riable updated is executed as if it were on a line b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FB9B-0AA9-488F-96C2-5B2070536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ment and Decre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for Input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otals and Sentine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D275-AE93-438E-93BA-97342CD5D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ying The Control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avoid updating the control variable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within the body of th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pdate section should be used to update the control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the control variable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body leads to hard to maintain code and difficult debug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C14A-BC09-4485-AC7E-2ED024897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itializations and Up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may initialize and update multipl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nt i = 5, int j = 0; i &lt; 10 || j &lt; 20; i++, j+=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the only part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that are mandatory are the semicol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;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// infinite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ft out, the test section defaults to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4617-2CF9-497D-A993-E8205166F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To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allow the program to keep running totals while evaluat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needing to keep a running total of user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otalSale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9351-DF39-4FFA-9D41-140AF97DB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tinel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end point of input data is not kn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tinel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to notify the program to stop acquiring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 a user input, the user could be prompted to input data that is not normally in the input data range (i.e. –1 where normal input would be positiv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that get file input typically use the end-of-file marker to stop acquiring inpu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occerPoint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0FAF-A4C4-499C-AB95-02D976F6AD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, loops can be n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loop is nested, the inner loop will execute all of its iterations for each time the outer loop executes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nt i = 0; i &lt; 10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nt j = 0; j &lt; 10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 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op statements in this example will execute 100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ock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4C99-AF6D-442F-8925-91376B9A5E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can be used to abnormally terminate a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n loops bypasses the normal mechanisms and makes the code hard to read and main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sidered bad form to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n this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5FBB-2A57-4AEF-B611-0191A00C1F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ill cause the currently executing iteration of a loop to terminate and the next iteration will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ill cause the evaluation of the condition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should be avoided because it makes the code hard to read and de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8D6A-EB09-47C8-AE3F-05085D2BB1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ing Which Loops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where you do not want the statements to execute if the condition is false in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te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where you want the statements to execute at least on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where there is some type of counting variable that can be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BDAD-5F96-4BBA-B3A9-0E1EEDCEB8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Input and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ntering data all the time could get tedious for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can be saved 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can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have to be op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then written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le must be closed prior to program ter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re are two types of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C4B3-7314-4FA1-845C-6A09305AEA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Text To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pen a file for text output you create an instanc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819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Writer outputFile = new PrintWriter("StudentData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191120"/>
            <a:ext cx="396252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ss the name of the file that you wish to open as an argument to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rintWriter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19520" y="3200040"/>
            <a:ext cx="4343040" cy="990720"/>
            <a:chOff x="2819520" y="3200040"/>
            <a:chExt cx="4343040" cy="990720"/>
          </a:xfrm>
        </p:grpSpPr>
        <p:sp>
          <p:nvSpPr>
            <p:cNvPr id="175" name=""/>
            <p:cNvSpPr/>
            <p:nvPr/>
          </p:nvSpPr>
          <p:spPr>
            <a:xfrm flipV="1">
              <a:off x="2819520" y="38095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19520" y="3809880"/>
              <a:ext cx="43430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162560" y="3200040"/>
              <a:ext cx="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715000" y="4191120"/>
            <a:ext cx="28954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arning: if the file already exists, it will be erased and replaced with a new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A056-F3EA-42CD-90AF-DC6FCF8006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ing Which Loop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File Input an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2AA5-81A6-4B6F-8792-713E0DA8C9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allows you to write data to a file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, as you have been using to display data on the scre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will place a newline character after the writte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rites data without writing the newline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305F-7117-4F65-9746-2497F7FCC5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46708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Writer outputFile = new PrintWriter("Names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println("Chri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println("Kathry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println("Jea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close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1360" y="1555920"/>
            <a:ext cx="1828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pe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77840" y="178452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077840" y="17845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77840" y="26226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029200"/>
            <a:ext cx="26668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rite data to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62000" y="2951280"/>
            <a:ext cx="1528920" cy="2077920"/>
            <a:chOff x="1062000" y="2951280"/>
            <a:chExt cx="1528920" cy="2077920"/>
          </a:xfrm>
        </p:grpSpPr>
        <p:grpSp>
          <p:nvGrpSpPr>
            <p:cNvPr id="189" name=""/>
            <p:cNvGrpSpPr/>
            <p:nvPr/>
          </p:nvGrpSpPr>
          <p:grpSpPr>
            <a:xfrm>
              <a:off x="1062000" y="2951280"/>
              <a:ext cx="235080" cy="1544400"/>
              <a:chOff x="1062000" y="2951280"/>
              <a:chExt cx="235080" cy="1544400"/>
            </a:xfrm>
          </p:grpSpPr>
          <p:sp>
            <p:nvSpPr>
              <p:cNvPr id="190" name=""/>
              <p:cNvSpPr/>
              <p:nvPr/>
            </p:nvSpPr>
            <p:spPr>
              <a:xfrm>
                <a:off x="1068480" y="2951280"/>
                <a:ext cx="228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68480" y="3236760"/>
                <a:ext cx="228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68480" y="3468600"/>
                <a:ext cx="228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2000" y="2952720"/>
                <a:ext cx="4680" cy="1542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066680" y="4495680"/>
              <a:ext cx="1524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0920" y="4495680"/>
              <a:ext cx="0" cy="53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648320" y="4267080"/>
            <a:ext cx="19047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lose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962160" y="3809880"/>
            <a:ext cx="1600560" cy="457200"/>
            <a:chOff x="3962160" y="3809880"/>
            <a:chExt cx="1600560" cy="457200"/>
          </a:xfrm>
        </p:grpSpPr>
        <p:sp>
          <p:nvSpPr>
            <p:cNvPr id="198" name=""/>
            <p:cNvSpPr/>
            <p:nvPr/>
          </p:nvSpPr>
          <p:spPr>
            <a:xfrm flipV="1">
              <a:off x="5562720" y="3809880"/>
              <a:ext cx="0" cy="45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62160" y="3809880"/>
              <a:ext cx="1600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DA53-6BC0-46D6-8592-F9EEC1B9A9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put the follow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at the top of the source fil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ileWrite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6F80-6AD0-4A6F-AE46-977D671D9F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mething unexpected happens in a Java program,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that is executing when the exception is thrown must either handle the exception or pass it up the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the exception will be discuss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ass it up the line, the method need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in the method h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271D-D298-4D93-9290-F2539E69AF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er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in a method header, simply add the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name of the expected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can throw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writ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like th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throws IOException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2A11-A000-4145-9492-7CBF9779EB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ing Text to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void erasing a file that already exists,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n this manner: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Writer fw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new FileWriter("names.txt", tru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n this manne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fw = new PrintWriter(f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5480-891C-4F74-9F56-6CA81A4D50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ying a File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Windows computer, paths contain backslash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haract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if the backslash is used in a string literal, it is the escape character so you must use two of th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outFil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rintWriter("A:\\PriceList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CF09-97AB-4D7A-8D5E-B883431E2E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ying a File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nly necessary if the backslash is in a string lit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backslash is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hen it will be handled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ately, Java allows Unix style filenames using the forward slash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separate direct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outFile =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("/home/rharrison/names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8B7D-A0B8-47D9-9E4E-E36B72DCDE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Data From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and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to read data from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0384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myFile = new File("Customers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myFile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2590920"/>
            <a:ext cx="342900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ss the name of the file as an argument to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lass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5029200"/>
            <a:ext cx="342900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ss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object as an argument to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lass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440" y="3048120"/>
            <a:ext cx="304920" cy="990360"/>
            <a:chOff x="5257440" y="3048120"/>
            <a:chExt cx="304920" cy="990360"/>
          </a:xfrm>
        </p:grpSpPr>
        <p:sp>
          <p:nvSpPr>
            <p:cNvPr id="218" name=""/>
            <p:cNvSpPr/>
            <p:nvPr/>
          </p:nvSpPr>
          <p:spPr>
            <a:xfrm flipH="1">
              <a:off x="5257440" y="304812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57800" y="3048120"/>
              <a:ext cx="0" cy="99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43400" y="55627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19920" y="472392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0057-46A5-4396-9451-8DFBF95541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Data From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ner keyboard = new Scanner(System.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"Enter the filename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filename = keyboard.next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 file = new File(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ner inputFile = new Scanner(file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s ab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read from the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pt the user for a 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the filename from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represent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hat reads from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9A36-2D5C-498B-AB77-DBB615BCDD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crement and Decre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umerous times where a variable must simply be incremented or decr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number –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 shortened ways to increment and decrement a variable’s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ary operators, this task can be completed quick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++;  or  ++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--;  or  --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crementDecremen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E73E-D7AF-48BD-812A-BD1074169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Data From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n instanc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, data can be read using the same methods that you have used to read keyboard inpu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8954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pen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 file = new File("Names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Read a line from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 = inputFile.next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Clos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0D87-19B4-42EA-83DB-78892586DE0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an throw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s passed to its co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e pu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in the header of the method that instantiat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adFirstLin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E8E3-9229-4E3D-9296-1C5B25C80A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cting The End of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asNext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ill return true if another item can be read from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ile = new File(fil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ad until the end of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putFile.hasNex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 = inputFile.next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putFile.close();// close the file when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22E0-A7CB-4BCE-AFD4-2C0B931CD2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cting the End  of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FileRead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5C4E-3E3D-4514-B90E-67B6BB5587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pplications, such as games and simulations, require the use of randomly generated numb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API has a clas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this purpose.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use 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and create an instance of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 randomNumbers = new Rando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055A-2CDD-4531-899C-A32EEF9D49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Methods of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33520" y="1600200"/>
          <a:ext cx="8001000" cy="4190760"/>
        </p:xfrm>
        <a:graphic>
          <a:graphicData uri="http://schemas.openxmlformats.org/drawingml/2006/table">
            <a:tbl>
              <a:tblPr/>
              <a:tblGrid>
                <a:gridCol w="2133720"/>
                <a:gridCol w="58672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he next random number a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The number will be within the range of 0.0 and 1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Floa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he next random number a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The number will be within the range of 0.0 and 1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the next random number as a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The number will be within the range of a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which is –2,147,483,648 to +2,147,483,6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int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method accepts an integer argument, n.  It returns a random number as a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The number will be within the range of 0 to 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60948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athTut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D10B-BD0B-42C4-B468-CEFC4A09B0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ces Between Prefix and Postf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crement or decrement are the only operations in a statement, there is no difference between prefix and postfix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ed in a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notation indicates that the variable will be incremented or decremented prior to the rest of the equation being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fix notation indicates that the variable will be incremented or decremented after the rest of the equation has been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fix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EA3C-5726-48FC-928B-37241E8B8D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three different looping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ha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he condition is true, the statements will execute repeate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, which means that it will test the value of the condition prior to executing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A63B-CA77-4642-BEF5-F4A4A1396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 must be taken to set the condition to false somewhere in the loop so the loop will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that do not end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inite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executes 0 or more times. If the condition is false, the loop will not exe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hileLoop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BA24-D5EE-4BF8-8E92-290233A8C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63520" y="1230480"/>
            <a:ext cx="4580280" cy="4408200"/>
            <a:chOff x="2963520" y="1230480"/>
            <a:chExt cx="4580280" cy="4408200"/>
          </a:xfrm>
        </p:grpSpPr>
        <p:sp>
          <p:nvSpPr>
            <p:cNvPr id="98" name=""/>
            <p:cNvSpPr/>
            <p:nvPr/>
          </p:nvSpPr>
          <p:spPr>
            <a:xfrm rot="2701200">
              <a:off x="3200040" y="2743200"/>
              <a:ext cx="11430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3124080"/>
              <a:ext cx="19051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ment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01680" y="28195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9880" y="4191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/>
            <p:nvPr/>
          </p:nvCxnSpPr>
          <p:spPr>
            <a:xfrm rot="10800000">
              <a:off x="3885480" y="1599480"/>
              <a:ext cx="2705760" cy="1524600"/>
            </a:xfrm>
            <a:prstGeom prst="bentConnector3">
              <a:avLst>
                <a:gd name="adj1" fmla="val 5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3755880" y="1230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25160" y="2990880"/>
              <a:ext cx="12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ress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7280" y="45720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832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CDA4-EB9C-4FCD-9619-B116337D40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fo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to end, the condition must become false. The following loop will not 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x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is greater than 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ver gets decremented so it will always be greater than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he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x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ve fixes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697C-628A-4C6F-AF38-3556B9344C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4:44:15Z</dcterms:created>
  <dc:creator>Tony Gaddis</dc:creator>
  <dc:description/>
  <dc:language>en-US</dc:language>
  <cp:lastModifiedBy>test</cp:lastModifiedBy>
  <cp:lastPrinted>2009-04-22T19:24:48Z</cp:lastPrinted>
  <dcterms:modified xsi:type="dcterms:W3CDTF">2007-02-20T15:04:13Z</dcterms:modified>
  <cp:revision>48</cp:revision>
  <dc:subject>Loops and Files</dc:subject>
  <dc:title>Chapter 4</dc:title>
</cp:coreProperties>
</file>