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4FAD-9F39-4383-8726-1F8008D45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323D-9E29-4EBA-81DA-1FC0375BB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BE8B-2194-405A-83B1-10EEB6389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A24C-8AD8-45B2-977A-18F0276B6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2F62-983A-498E-85D4-5C572EAB0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5E1F-2B1A-496C-94AC-BDB41CE7F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6A59-7B95-4C75-82DA-198C217E7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BC89-42AA-4F5B-8409-B9C2297CD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9DE2E-1818-4836-9F96-AF0451E3B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1411-0BB4-432F-ACF7-5917D85D0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B151-46B8-4758-AE3E-2AEB75C69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9C0A-08D2-4944-B3A2-3031F9106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720" y="0"/>
            <a:ext cx="9140760" cy="213372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6a9a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52D7B173-6787-4171-8052-310C646B3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766800" cy="847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768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ee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9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econd Look at Classes an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sing Objects as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can be passed to methods as arg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asses all argum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n object is passed as an argument, the value of the reference variable is pa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of the reference variable is an address or reference to the object in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object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pas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just a pointer to th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method receives a reference variable as an argument, it is possible for the method to modify the contents of the object referenced by the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309F-F8B2-457E-9D04-548408061A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sing Objects as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295280"/>
            <a:ext cx="27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PassObject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.java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PassObject2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7748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Rectangle(bo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0240" y="4241880"/>
            <a:ext cx="690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isplayRectangle(Rectangl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Display the length and 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Length: " + r.getLength()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 Width: " + r.getWidth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62160" y="162072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092320"/>
            <a:ext cx="3048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ngt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2320920"/>
            <a:ext cx="121896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25840"/>
            <a:ext cx="121896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3540240"/>
            <a:ext cx="7984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78200" y="3159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895480" y="3844800"/>
            <a:ext cx="4343040" cy="457200"/>
            <a:chOff x="2895480" y="3844800"/>
            <a:chExt cx="4343040" cy="457200"/>
          </a:xfrm>
        </p:grpSpPr>
        <p:sp>
          <p:nvSpPr>
            <p:cNvPr id="125" name=""/>
            <p:cNvSpPr/>
            <p:nvPr/>
          </p:nvSpPr>
          <p:spPr>
            <a:xfrm>
              <a:off x="7238520" y="4073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895480" y="3844800"/>
              <a:ext cx="4343040" cy="270000"/>
              <a:chOff x="2895480" y="3844800"/>
              <a:chExt cx="4343040" cy="270000"/>
            </a:xfrm>
          </p:grpSpPr>
          <p:sp>
            <p:nvSpPr>
              <p:cNvPr id="127" name=""/>
              <p:cNvSpPr/>
              <p:nvPr/>
            </p:nvSpPr>
            <p:spPr>
              <a:xfrm>
                <a:off x="2895480" y="3844800"/>
                <a:ext cx="0" cy="27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2895480" y="4073040"/>
                <a:ext cx="434304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29" name=""/>
          <p:cNvCxnSpPr>
            <a:stCxn id="122" idx="3"/>
            <a:endCxn id="119" idx="1"/>
          </p:cNvCxnSpPr>
          <p:nvPr/>
        </p:nvCxnSpPr>
        <p:spPr>
          <a:xfrm flipV="1">
            <a:off x="3312720" y="2586960"/>
            <a:ext cx="164052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022E-F632-4DC7-9600-6E32D98B84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urning Objects From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are not limited to returning the primitive data 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can return references to object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as with passing arguments, a copy of the object is not returned, only its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ReturnObjec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return typ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BankAccount getAccoun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ew BankAccount(balanc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57600" y="4343400"/>
            <a:ext cx="1066680" cy="838080"/>
            <a:chOff x="3657600" y="4343400"/>
            <a:chExt cx="1066680" cy="838080"/>
          </a:xfrm>
        </p:grpSpPr>
        <p:sp>
          <p:nvSpPr>
            <p:cNvPr id="133" name=""/>
            <p:cNvSpPr/>
            <p:nvPr/>
          </p:nvSpPr>
          <p:spPr>
            <a:xfrm>
              <a:off x="3657600" y="4343400"/>
              <a:ext cx="106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24280" y="434340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85840" y="434340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5840" y="4952880"/>
              <a:ext cx="838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24280" y="495288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CB9F-C5FA-4271-BE20-AD37806FA4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urning Objects from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371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ount = getAccou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40800" y="4267080"/>
            <a:ext cx="5972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BankAccount getAccoun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ew BankAccount(balanc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286000"/>
            <a:ext cx="24386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l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6160" y="2362320"/>
            <a:ext cx="674640" cy="307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20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048120"/>
            <a:ext cx="114300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143000" y="1828440"/>
            <a:ext cx="0" cy="121932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142640" y="5410080"/>
            <a:ext cx="167652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143000" y="3504960"/>
            <a:ext cx="0" cy="19047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752480" y="2590560"/>
            <a:ext cx="274320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1828800"/>
            <a:ext cx="25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A78E-E3DC-4E97-AE90-A301D28C6F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ethod of a class can be call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xplicitl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ock xyzCompany = new Stock ("XYZ", 9.6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yzCompany.toString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ever,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ethod does not have to be called explicitly but is called implicitly whenever you pass an object of the class to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ock xyzCompany = new Stock ("XYZ", 9.6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yzCompan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D0F3-27A8-4FB6-AA57-A097A6A7AB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is also called implicitly whenever you concatenate an object of the class with a string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ock xyzCompany = new Stock ("XYZ", 9.6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tock data is:\n" + xyzCompan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7784-3CE9-4A41-A62A-3926B43C4A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objects have a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ethod that returns the class name and a hash of the memory address of the objec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can override the default method with our own to print out more useful inform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Times New Roman"/>
              </a:rPr>
              <a:t>Stock.jav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Times New Roman"/>
              </a:rPr>
              <a:t>StockDemo1.ja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2647-D0D0-4814-976A-37ED06E344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erator is used with reference variables, the memory address of the objects are com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tents of the objects are not com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bjects have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fault operation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is to compare memory addresses of the objects (just like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erato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EEBC-C3B1-4D46-816B-42567F0A2D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ha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try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ck stock1 = new Stock("GMX", 55.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ck stock2 = new Stock("GMX", 55.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tock1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tock2)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// This is a mista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he objects are the same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he objects are not the same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he addresses of the objects are compa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E2CF-3761-4084-8511-F77F2CFA5B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using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perator to compare two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toc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bjects, we should use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boolean equals(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Stock object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statu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symbol.equals(Object2.symbol &amp;&amp; sharePrice == Object2.sharePri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tus = tr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tus = fal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tatu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w, objects can be compared by their contents rather than by their memory addres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Times New Roman"/>
              </a:rPr>
              <a:t>StockCompare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Times New Roman"/>
              </a:rPr>
              <a:t>.ja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1E83-7D95-4F89-B17F-F4B069BA97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9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Clas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Objects as Arguments to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ing Objects from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that Copy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B6A4C-EE93-4441-85B8-D27093BEC1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That Copy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wo ways to copy an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not use the assignment operator to copy referenc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only 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imply copying the address of an object into another reference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ep copy (corr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volves creating a new instance of the class and copying the values from one object into the new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ObjectCopy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8927-4E1F-49DE-B38B-8A067D184A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y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py constructor accepts an existing object of the same class and clon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ock(Stock object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mbol = object2.symb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arePrice = object2.sharePri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reate a Stock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ck company1 = new Stock("XYZ", 9.6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Create company2, a copy of company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ck company2 = new Stock(company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D161-18EE-4A0F-A218-5891276F20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ng an instance of one class as a reference in another clas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bject aggreg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 creates a “has a” relationship between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Instructor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Textbook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Course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CourseDem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31DC5-2C67-4DF9-824B-EC7A0CA46F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ion in UML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057400" y="685800"/>
            <a:ext cx="4952520" cy="2208960"/>
            <a:chOff x="2057400" y="685800"/>
            <a:chExt cx="4952520" cy="2208960"/>
          </a:xfrm>
        </p:grpSpPr>
        <p:sp>
          <p:nvSpPr>
            <p:cNvPr id="169" name=""/>
            <p:cNvSpPr/>
            <p:nvPr/>
          </p:nvSpPr>
          <p:spPr>
            <a:xfrm>
              <a:off x="2057400" y="685800"/>
              <a:ext cx="4952520" cy="37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ur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57400" y="1058040"/>
              <a:ext cx="4952520" cy="933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urseName : St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 Instructor : Instruc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 textBook : TextBo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57400" y="1991160"/>
              <a:ext cx="4952520" cy="903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urse(name : String, instr : Instructor, text : TextBoo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 getName() : St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 getInstructor() : Instruc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 getTextBook() : TextBo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 toString() : St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724280" y="3492360"/>
            <a:ext cx="4190760" cy="2819160"/>
            <a:chOff x="4724280" y="3492360"/>
            <a:chExt cx="4190760" cy="2819160"/>
          </a:xfrm>
        </p:grpSpPr>
        <p:sp>
          <p:nvSpPr>
            <p:cNvPr id="173" name=""/>
            <p:cNvSpPr/>
            <p:nvPr/>
          </p:nvSpPr>
          <p:spPr>
            <a:xfrm>
              <a:off x="4724280" y="3492360"/>
              <a:ext cx="41907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Boo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24280" y="3796920"/>
              <a:ext cx="4190760" cy="838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Helvetic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tle 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Helvetic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or 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Helvetic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ublisher 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4280" y="4635360"/>
              <a:ext cx="4190760" cy="1676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 TextBook(title : String, author : String, publisher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 TextBook(object2 : TextBoo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 set(title : String, author : String, publisher : Str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 toString() 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80880" y="3505320"/>
            <a:ext cx="3962160" cy="2742840"/>
            <a:chOff x="380880" y="3505320"/>
            <a:chExt cx="3962160" cy="2742840"/>
          </a:xfrm>
        </p:grpSpPr>
        <p:sp>
          <p:nvSpPr>
            <p:cNvPr id="177" name=""/>
            <p:cNvSpPr/>
            <p:nvPr/>
          </p:nvSpPr>
          <p:spPr>
            <a:xfrm>
              <a:off x="380880" y="3505320"/>
              <a:ext cx="3962160" cy="28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ru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880" y="3786120"/>
              <a:ext cx="3962160" cy="984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Helvetic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stName 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Helvetic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rstName 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Helvetic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iceNumber 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880" y="4771080"/>
              <a:ext cx="3962160" cy="147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 Instructor(lname : String, fname : String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ice : Str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Instructor(object2 : Instructo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set(lname : String, fname : String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ice : String)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 toString() 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419720" y="2895480"/>
            <a:ext cx="152280" cy="30492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1" idx="2"/>
            <a:endCxn id="180" idx="0"/>
          </p:cNvCxnSpPr>
          <p:nvPr/>
        </p:nvCxnSpPr>
        <p:spPr>
          <a:xfrm flipH="1" flipV="1">
            <a:off x="4495320" y="2882160"/>
            <a:ext cx="388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" name=""/>
          <p:cNvCxnSpPr/>
          <p:nvPr/>
        </p:nvCxnSpPr>
        <p:spPr>
          <a:xfrm flipH="1" rot="16200000">
            <a:off x="5518080" y="2198160"/>
            <a:ext cx="280080" cy="2324880"/>
          </a:xfrm>
          <a:prstGeom prst="bentConnector3">
            <a:avLst>
              <a:gd name="adj1" fmla="val 4761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" name=""/>
          <p:cNvCxnSpPr>
            <a:stCxn id="180" idx="2"/>
            <a:endCxn id="177" idx="0"/>
          </p:cNvCxnSpPr>
          <p:nvPr/>
        </p:nvCxnSpPr>
        <p:spPr>
          <a:xfrm rot="5400000">
            <a:off x="3282120" y="2292480"/>
            <a:ext cx="293040" cy="2134080"/>
          </a:xfrm>
          <a:prstGeom prst="bentConnector3">
            <a:avLst>
              <a:gd name="adj1" fmla="val 477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C5C7-E4A8-40F1-A9CE-324D41382C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urning References to Priva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returning references to private data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ing references to private variables will allow any object that receives the reference to modify the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6583-DB3B-4E02-85AF-8A75CDC0F6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ll 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ull 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ference variable that points to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reference is null, then no operations can be performed on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 can be tested to see if they point to null prior to being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name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!= nu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Name is: 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name.toUpperCase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FullNam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NameTester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516E-B6D2-4C14-AA02-718355066E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e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ference is simply a name that an object can use to refer to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ference can be used to overcome shadowing and allow a parameter to have the same name as an instance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Feet(int fe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.feet = fee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ets the this instance’s feet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equal to the parameter fe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5120" y="4267080"/>
            <a:ext cx="31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Local parameter variable f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800240" y="4190760"/>
            <a:ext cx="152280" cy="2286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352320" y="4419720"/>
            <a:ext cx="1600200" cy="2286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57913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adowed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914400" y="4800600"/>
            <a:ext cx="228600" cy="99072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C718-1155-4327-A6CF-AE2C39CE16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e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ence can be used to call a constructor from another con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ock(String sy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this(sym, 0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onstructor would allow an instance of the Stock class to be created using only the symbol name as a param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alls the constructor that takes the symbol and the price, us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the symbol argument and 0 as the price arg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borate constructor chaining can be created using this techn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sed in a constructor, it must be the first statement in the con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B222-B8C8-4361-BADA-F69140E652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nown as a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requires declaration and definition like a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tax: 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um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ne or more enum constan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um Day { SUNDAY, MONDAY, TUESDAY, WEDNESDAY, THURSDAY,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FRIDAY, SATURDAY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y WorkDay; // creates a Day e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ment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y WorkDay = Day.WEDNESDA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98B8-2263-4954-947C-E90147D355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pecialized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2895480"/>
            <a:ext cx="1828800" cy="3812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y.MON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6920" y="3429000"/>
            <a:ext cx="18288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y.TUES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76920" y="3962520"/>
            <a:ext cx="18288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y.WEDNES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76920" y="2362320"/>
            <a:ext cx="18288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y.SUN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76920" y="4495680"/>
            <a:ext cx="1828800" cy="3812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y.THURS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5029200"/>
            <a:ext cx="18288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y.FRI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5562720"/>
            <a:ext cx="18288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y.SATUR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3962520"/>
            <a:ext cx="18288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198108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re objects of typ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 specialized 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895480"/>
            <a:ext cx="43434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y workDay = Day.WEDNESDA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orkD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 holds the address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y.WEDNESD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4191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79E3-C7DB-493F-9957-329F7FF816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9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ence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ed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bage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on Object-Oriented Design: Class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1AC7-84E1-40DB-9E98-8FE9CC5864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umerated Types -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returns name of calling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returns the zero-based position of the constant in the enum. For example the ordinal 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y.THURSD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accepts an object as an argument and returns true if the argument is equal to the calling enum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accepts an object as an argument and returns a negative integer if the calling constant’s ordinal &lt; than the argument’s ordinal, a positive integer if the calling constant’s ordinal &gt; than the argument’s ordinal and zero if the calling constant’s ordinal == the argument’s ord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EnumDemo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CarTyp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SportsCa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SportsCarDemo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0A4E3-B875-4555-89AB-D82CE5E30D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umerated Types - Swit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llows you to test an enum constant wit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SportsCarDemo2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803A-1F04-4ABE-ABF6-72E8886B1E4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objects are no longer needed they should be destroy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frees up the memory that they consu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handles all of the memory operations for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y set the reference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Java will reclaim the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2A4D-C9F1-4FD4-A0C9-5352E55EF84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ava Virtual Machine has a process that runs in the background that reclaims memory from released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rbage coll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reclaim memory from any object that no longer has a valid reference pointing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nkAccount account1 = new BankAccount(50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nkAccount account2 = accoun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et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coun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coun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point to the same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1188-C085-4148-97FA-DD5DED4B3E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92200" y="160020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2071800"/>
            <a:ext cx="26672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a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417760"/>
            <a:ext cx="121896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241776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endCxn id="222" idx="1"/>
          </p:cNvCxnSpPr>
          <p:nvPr/>
        </p:nvCxnSpPr>
        <p:spPr>
          <a:xfrm flipV="1">
            <a:off x="3124080" y="2566800"/>
            <a:ext cx="1372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57200" y="23414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865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394164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3"/>
            <a:endCxn id="222" idx="2"/>
          </p:cNvCxnSpPr>
          <p:nvPr/>
        </p:nvCxnSpPr>
        <p:spPr>
          <a:xfrm flipV="1">
            <a:off x="3123720" y="3061440"/>
            <a:ext cx="2706120" cy="103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608040" y="5108400"/>
            <a:ext cx="72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, bo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 to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D27A-D7B1-418A-9721-01AF7110665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5520" y="5073480"/>
            <a:ext cx="553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by running the statement: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account1 = null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ount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ll be pointing to the ob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2200" y="150336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32092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24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37688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384480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3"/>
          </p:cNvCxnSpPr>
          <p:nvPr/>
        </p:nvCxnSpPr>
        <p:spPr>
          <a:xfrm flipV="1">
            <a:off x="3124080" y="2964600"/>
            <a:ext cx="2896560" cy="103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4495680" y="1974960"/>
            <a:ext cx="26672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a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2320920"/>
            <a:ext cx="121896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97C9-413A-4D5A-84A2-9AEE641B7B5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3000" y="5073480"/>
            <a:ext cx="613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we now run the statement: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account2 = null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ith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ount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ount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ll be pointing to the ob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962520" y="2965320"/>
            <a:ext cx="4114800" cy="1644120"/>
            <a:chOff x="3962520" y="2965320"/>
            <a:chExt cx="4114800" cy="1644120"/>
          </a:xfrm>
        </p:grpSpPr>
        <p:sp>
          <p:nvSpPr>
            <p:cNvPr id="244" name=""/>
            <p:cNvSpPr/>
            <p:nvPr/>
          </p:nvSpPr>
          <p:spPr>
            <a:xfrm>
              <a:off x="3962520" y="3692520"/>
              <a:ext cx="411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nce there are no valid references to th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ect, it is now available for the garb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llector to reclai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44" idx="0"/>
            </p:cNvCxnSpPr>
            <p:nvPr/>
          </p:nvCxnSpPr>
          <p:spPr>
            <a:xfrm flipV="1">
              <a:off x="6019560" y="2965320"/>
              <a:ext cx="1080" cy="72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46" name=""/>
          <p:cNvSpPr/>
          <p:nvPr/>
        </p:nvSpPr>
        <p:spPr>
          <a:xfrm>
            <a:off x="4192200" y="150336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0" y="232092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224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37688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0" y="384480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1974960"/>
            <a:ext cx="26672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a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91320" y="2320920"/>
            <a:ext cx="121896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E357-8C61-4E86-B9CA-A09933F9885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268160" y="154296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62320" y="236052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22845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380844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62320" y="3884760"/>
            <a:ext cx="8380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2014560"/>
            <a:ext cx="26668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a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2360520"/>
            <a:ext cx="121932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419720" y="1827360"/>
            <a:ext cx="3352680" cy="2822040"/>
            <a:chOff x="4419720" y="1827360"/>
            <a:chExt cx="3352680" cy="2822040"/>
          </a:xfrm>
        </p:grpSpPr>
        <p:sp>
          <p:nvSpPr>
            <p:cNvPr id="262" name=""/>
            <p:cNvSpPr/>
            <p:nvPr/>
          </p:nvSpPr>
          <p:spPr>
            <a:xfrm>
              <a:off x="5410080" y="1827360"/>
              <a:ext cx="1371600" cy="137160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19720" y="3732480"/>
              <a:ext cx="335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 garbage collector reclaims the memory the next time it runs in the backgroun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" name=""/>
            <p:cNvCxnSpPr>
              <a:stCxn id="263" idx="0"/>
              <a:endCxn id="262" idx="4"/>
            </p:cNvCxnSpPr>
            <p:nvPr/>
          </p:nvCxnSpPr>
          <p:spPr>
            <a:xfrm flipV="1">
              <a:off x="6095520" y="3207960"/>
              <a:ext cx="1080" cy="52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89D8-3BD2-4843-B567-016C9BF1ABA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inaliz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method with the signa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finalize(){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cluded in a class, it will run just prior to the garbage collector reclaiming its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rbage collector is a background thread that runs period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annot be determined whe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nal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will actually be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3D3D-9B6C-4D62-BB0B-51F0043D0A7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 Collab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on – two classes interact with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 object is to collaborate with another object, it must know something about the second object’s methods and how to call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design a cla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ockPurch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collaborates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(previously defined), we define it to create and manipulat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s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StockPurchas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StockTrader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1AFB-C063-4442-A35F-23287921AA9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of Instance Fields and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nstance of a class has its own copy of instance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define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instance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can have different values stored in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methods require that an instance of a class be created in order to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methods typically interact with instance fields or calculate values based on those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71C1-1C8B-4C16-B9B2-68CC275AC9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C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7000"/>
          </a:bodyPr>
          <a:p>
            <a:pPr lvl="1" marL="780480" indent="-33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, Responsibilities and Collaborations (CRC) cards are useful for determining and documenting a class’s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65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hings a class is responsible for kn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65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ctions a class is responsible for d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0480" indent="-33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C Card Layout (Example for class St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3809880"/>
            <a:ext cx="6095880" cy="30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4114800"/>
            <a:ext cx="3047760" cy="30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 stock to purc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4114800"/>
            <a:ext cx="3048120" cy="30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ck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5120" y="4419720"/>
            <a:ext cx="3047760" cy="304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 number of sh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4419720"/>
            <a:ext cx="3048120" cy="304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4724280"/>
            <a:ext cx="3047760" cy="30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 cost of purc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4724280"/>
            <a:ext cx="3048120" cy="30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ck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5029200"/>
            <a:ext cx="3047760" cy="30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5029200"/>
            <a:ext cx="3048120" cy="30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e or class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4027-BAE2-4600-AF0F-75E1A39BC04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c Class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tic fiel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tic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not belong to a single instance of a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voke a static method or use a static field, the class name, rather than the instance name,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val = Math.sqrt(25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5638680"/>
            <a:ext cx="167616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5638680"/>
            <a:ext cx="1981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tatic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514600" y="5257800"/>
            <a:ext cx="8380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724280" y="5257800"/>
            <a:ext cx="106704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5313-565A-40D5-8A27-0B512800F7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c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fields are declared using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eyword between the access specifier and the field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 static int instanceCount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eld is initialized to 0 only once, regardless of the number of times the class is instanti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itive static fields are initialized to 0 if no initialization is per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Countable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taticDemo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5CA7-7CF7-4997-9D0D-340C1F4AD7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c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90920" y="1773360"/>
            <a:ext cx="3961800" cy="3636360"/>
            <a:chOff x="2590920" y="1773360"/>
            <a:chExt cx="3961800" cy="3636360"/>
          </a:xfrm>
        </p:grpSpPr>
        <p:sp>
          <p:nvSpPr>
            <p:cNvPr id="100" name=""/>
            <p:cNvSpPr/>
            <p:nvPr/>
          </p:nvSpPr>
          <p:spPr>
            <a:xfrm>
              <a:off x="2958120" y="1773360"/>
              <a:ext cx="319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instanceCou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fie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tati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4440" y="2742840"/>
              <a:ext cx="9140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90920" y="4343040"/>
              <a:ext cx="106632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040" y="434304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38480" y="4343040"/>
              <a:ext cx="106632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101" idx="2"/>
              <a:endCxn id="102" idx="0"/>
            </p:cNvCxnSpPr>
            <p:nvPr/>
          </p:nvCxnSpPr>
          <p:spPr>
            <a:xfrm flipH="1">
              <a:off x="3123720" y="3504600"/>
              <a:ext cx="1447920" cy="838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1" idx="2"/>
              <a:endCxn id="104" idx="0"/>
            </p:cNvCxnSpPr>
            <p:nvPr/>
          </p:nvCxnSpPr>
          <p:spPr>
            <a:xfrm>
              <a:off x="4571280" y="3504600"/>
              <a:ext cx="1080" cy="838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1" idx="2"/>
              <a:endCxn id="103" idx="0"/>
            </p:cNvCxnSpPr>
            <p:nvPr/>
          </p:nvCxnSpPr>
          <p:spPr>
            <a:xfrm>
              <a:off x="4571280" y="3504600"/>
              <a:ext cx="1448280" cy="838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E032-FBD0-406E-A312-FEB0E4CE72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can also be declared static by plac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 between the access modifier and the return type of the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double milesToKilometers(double mi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class contains a static method, it is not necessary to create an instance of the class in order to use the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kilosPerMile = Metric.milesToKilometers(1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Metric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MetricDem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3FB7-7341-456B-96F4-9D1532E8D9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methods are convenient because they may be called at the class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typically used to create utility classes, such a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in the Java Standard Libr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methods may not communicate with instance fields, only static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41F0C-59D6-4B71-82E4-CF10BB067F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05:12:36Z</dcterms:created>
  <dc:creator>Tony Gaddis</dc:creator>
  <dc:description/>
  <dc:language>en-US</dc:language>
  <cp:lastModifiedBy>test</cp:lastModifiedBy>
  <cp:lastPrinted>2009-04-22T19:24:48Z</cp:lastPrinted>
  <dcterms:modified xsi:type="dcterms:W3CDTF">2007-03-12T19:11:28Z</dcterms:modified>
  <cp:revision>56</cp:revision>
  <dc:subject>A Second Look at Classes and Objects</dc:subject>
  <dc:title>Chapter 9</dc:title>
</cp:coreProperties>
</file>