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04C7-92F8-4E17-A89B-B9EEA8568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9B9A-FC20-4441-A038-1D114CBDB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4777-68E5-4AF4-8CD1-FC3B5AFE3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4C0C-D05A-4413-956A-BBE90668D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73BE-39AA-4985-850D-7091D38B8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B72E-5B4B-450B-853B-5C8CF9791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7E99-435F-47D2-9A4D-82D115102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F29E-34F5-4CF1-A811-D73EABF8D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A7F3-BA31-4E9F-9070-7D47FC84C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B083-6A25-45C7-8EAB-D7BCEC392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EFFB-5613-40E2-A4AB-75E0BB7F0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8AFA-3689-4143-943B-A2BBAED78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E670466C-0465-4C38-A2CB-1B49D8AD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actorialDemo.java" TargetMode="External"/><Relationship Id="rId2" Type="http://schemas.openxmlformats.org/officeDocument/2006/relationships/hyperlink" Target="file:///FactorialDemo.java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RangeSum.java" TargetMode="External"/><Relationship Id="rId2" Type="http://schemas.openxmlformats.org/officeDocument/2006/relationships/hyperlink" Target="file:///RangeSum.java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ircles.java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ibNumbers.java" TargetMode="External"/><Relationship Id="rId2" Type="http://schemas.openxmlformats.org/officeDocument/2006/relationships/hyperlink" Target="file:///FibNumbers.java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GCDdemo.java" TargetMode="External"/><Relationship Id="rId2" Type="http://schemas.openxmlformats.org/officeDocument/2006/relationships/hyperlink" Target="file:///GCDdemo.java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RecursiveBinarySearch.java" TargetMode="External"/><Relationship Id="rId2" Type="http://schemas.openxmlformats.org/officeDocument/2006/relationships/hyperlink" Target="file:///RecursiveBinarySearch.java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Hanoi.java" TargetMode="External"/><Relationship Id="rId2" Type="http://schemas.openxmlformats.org/officeDocument/2006/relationships/hyperlink" Target="file:///HanoiDemo.java" TargetMode="External"/><Relationship Id="rId3" Type="http://schemas.openxmlformats.org/officeDocument/2006/relationships/hyperlink" Target="file:///HanoiDemo.java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EndlessRecursion.java" TargetMode="External"/><Relationship Id="rId2" Type="http://schemas.openxmlformats.org/officeDocument/2006/relationships/hyperlink" Target="file:///EndlessRecursion.java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ecursive.java" TargetMode="External"/><Relationship Id="rId2" Type="http://schemas.openxmlformats.org/officeDocument/2006/relationships/hyperlink" Target="file:///RecursionDemo.java" TargetMode="External"/><Relationship Id="rId3" Type="http://schemas.openxmlformats.org/officeDocument/2006/relationships/hyperlink" Target="file:///RecursionDemo.java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5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rules stat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0, its factorial is 1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than 0, its factorial is the product of all the positive integers from 1 up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ial(6) is calculat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× 2 × 3 × 4 × 5 ×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e case is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al to 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then factorial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case, or the part of the problem that we use recursion to solv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if n &gt; 0 then factorial(n) = n × factorial(n –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9C43-CD53-47E9-A5D9-E3C6FA08AC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call works on a reduced version of the proble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rule for calculating the factor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then factoria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 then factoria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 factoria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va based 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atic int factorial(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n == 0) return 1; // Base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return n * factorial(n -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actorial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6EA7-E695-4659-9B74-B05C34BBED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1519200"/>
            <a:ext cx="251460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1814400"/>
            <a:ext cx="2514600" cy="29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109960"/>
            <a:ext cx="2514600" cy="29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479680"/>
            <a:ext cx="259092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774880"/>
            <a:ext cx="259092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3071880"/>
            <a:ext cx="259092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3440160"/>
            <a:ext cx="266724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735360"/>
            <a:ext cx="266724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032360"/>
            <a:ext cx="266724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400640"/>
            <a:ext cx="2743200" cy="29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697280"/>
            <a:ext cx="2743200" cy="29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4992840"/>
            <a:ext cx="274320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361120"/>
            <a:ext cx="2819520" cy="29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657760"/>
            <a:ext cx="281952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5952960"/>
            <a:ext cx="2819520" cy="29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25" idx="3"/>
          </p:cNvCxnSpPr>
          <p:nvPr/>
        </p:nvCxnSpPr>
        <p:spPr>
          <a:xfrm flipH="1" flipV="1">
            <a:off x="7466760" y="4844160"/>
            <a:ext cx="305640" cy="1256760"/>
          </a:xfrm>
          <a:prstGeom prst="bentConnector3">
            <a:avLst>
              <a:gd name="adj1" fmla="val -75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6" idx="3"/>
            <a:endCxn id="122" idx="3"/>
          </p:cNvCxnSpPr>
          <p:nvPr/>
        </p:nvCxnSpPr>
        <p:spPr>
          <a:xfrm flipH="1" flipV="1">
            <a:off x="7162560" y="3884400"/>
            <a:ext cx="305280" cy="1256400"/>
          </a:xfrm>
          <a:prstGeom prst="bentConnector3">
            <a:avLst>
              <a:gd name="adj1" fmla="val -7497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3" idx="3"/>
            <a:endCxn id="119" idx="3"/>
          </p:cNvCxnSpPr>
          <p:nvPr/>
        </p:nvCxnSpPr>
        <p:spPr>
          <a:xfrm flipH="1" flipV="1">
            <a:off x="6857280" y="2921760"/>
            <a:ext cx="305640" cy="1258200"/>
          </a:xfrm>
          <a:prstGeom prst="bentConnector3">
            <a:avLst>
              <a:gd name="adj1" fmla="val -75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0" idx="3"/>
            <a:endCxn id="116" idx="3"/>
          </p:cNvCxnSpPr>
          <p:nvPr/>
        </p:nvCxnSpPr>
        <p:spPr>
          <a:xfrm flipH="1" flipV="1">
            <a:off x="6552360" y="1961280"/>
            <a:ext cx="305640" cy="1258200"/>
          </a:xfrm>
          <a:prstGeom prst="bentConnector3">
            <a:avLst>
              <a:gd name="adj1" fmla="val -75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6" idx="1"/>
            <a:endCxn id="118" idx="1"/>
          </p:cNvCxnSpPr>
          <p:nvPr/>
        </p:nvCxnSpPr>
        <p:spPr>
          <a:xfrm flipH="1" flipV="1" rot="10800000">
            <a:off x="4037400" y="1962000"/>
            <a:ext cx="229320" cy="665640"/>
          </a:xfrm>
          <a:prstGeom prst="bentConnector3">
            <a:avLst>
              <a:gd name="adj1" fmla="val -1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5" idx="1"/>
            <a:endCxn id="127" idx="1"/>
          </p:cNvCxnSpPr>
          <p:nvPr/>
        </p:nvCxnSpPr>
        <p:spPr>
          <a:xfrm flipH="1" flipV="1" rot="10800000">
            <a:off x="4723200" y="4844880"/>
            <a:ext cx="229320" cy="665640"/>
          </a:xfrm>
          <a:prstGeom prst="bentConnector3">
            <a:avLst>
              <a:gd name="adj1" fmla="val -1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2" idx="1"/>
            <a:endCxn id="124" idx="1"/>
          </p:cNvCxnSpPr>
          <p:nvPr/>
        </p:nvCxnSpPr>
        <p:spPr>
          <a:xfrm flipH="1" flipV="1" rot="10800000">
            <a:off x="4494600" y="3883680"/>
            <a:ext cx="229320" cy="664200"/>
          </a:xfrm>
          <a:prstGeom prst="bentConnector3">
            <a:avLst>
              <a:gd name="adj1" fmla="val -1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19" idx="1"/>
            <a:endCxn id="121" idx="1"/>
          </p:cNvCxnSpPr>
          <p:nvPr/>
        </p:nvCxnSpPr>
        <p:spPr>
          <a:xfrm flipH="1" flipV="1" rot="10800000">
            <a:off x="4266000" y="2922480"/>
            <a:ext cx="229320" cy="665640"/>
          </a:xfrm>
          <a:prstGeom prst="bentConnector3">
            <a:avLst>
              <a:gd name="adj1" fmla="val -1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685800" y="1371600"/>
            <a:ext cx="251460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method is first called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ialDem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8" idx="3"/>
            <a:endCxn id="115" idx="1"/>
          </p:cNvCxnSpPr>
          <p:nvPr/>
        </p:nvCxnSpPr>
        <p:spPr>
          <a:xfrm flipV="1">
            <a:off x="3200400" y="1666440"/>
            <a:ext cx="838800" cy="246960"/>
          </a:xfrm>
          <a:prstGeom prst="bentConnector3">
            <a:avLst>
              <a:gd name="adj1" fmla="val 4997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91B5-9CCE-4A20-AE17-230389727A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 and Indirect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cursive methods directly call themselves it is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ect recu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rect recur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hen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lls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in turn calls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even be several methods involved in the recu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,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ld call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ould call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alls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must be used in indirect recursion to ensure that the proper base cases and return values are hand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17BC-DC11-4128-9650-85EE7E8516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ing a Range of Arra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 can be used to sum a range of array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ge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following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ying the starting element of the rang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ying the ending element of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might be call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 = {1, 2, 3, 4, 5, 6, 7, 8, 9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rangeSum(numbers, 3, 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B161-666D-44CE-81C4-7DE108EA28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inition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ge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int rangeSum(int[] arra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tart, int e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tart &gt; e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rray[start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rangeSum(array, start + 1, en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angeSu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ing a Range of Arra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164A-CE7E-4827-A594-752818F36D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efinition of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drawCir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drawCircles(Graphics g, int n, 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pXY, intƒsi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Oval(topXY, topXY, size, siz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Circles(g, n - 1, topXY + 15, size - 3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ircles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Concentric Cir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20F4-FC77-457B-834F-3BF01E3F37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bonacci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athematical problems are designed to be solved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ell known example is the calcul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bonacci nu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1, 2, 3, 5, 8, 13, 21, 34, 55, 89, 144, 233,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second number, each number in the series is the sum of the two previou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bonacci series can be defin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N = F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1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F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F295-F632-4187-96BA-7FB4DFF481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bonacci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int fib(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n =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b(n - 1) + fib(n - 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has two base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 is equal to 0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 is equal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ibNumber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9B9A-977B-4B2D-9BAE-436343EF55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efinition of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c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int gcd(int x, int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x % y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gcd(y, x % 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CDdemo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est Common Divisor (G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1371-393E-4E11-966B-B84EA533D8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5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Problems with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Recursive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ursive Binary Search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wers of Han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5F2E-B3B2-46FD-BF62-E44C81F23A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ursive Binary 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nary search algorithm can be implemented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dure can be express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array[middle] equals the search value, then the value is fo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array[middle] is less than the search value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a binary search on the upper half of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array[middle] is greater than the search value, perform a binary search on the lower half of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cursiveBinarySearch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0BAE-EA7D-473D-8523-099DDA9486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wers of Han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wers of Hanoi is a mathematical game that 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eg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discs with holes through their cen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s are stacked on the leftmost peg, in order of size with the largest disc at the bot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bject of the game is to move the pegs from the left peg to the right peg by these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disk may be moved at a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k cannot be placed on top of a smaller di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iscs must be stored on a peg except while being mo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812E-4EC4-4870-9556-8A8968D497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wers of Han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verall solution to the problem is to move n discs from peg 1 to peg 3 using peg 2 as a temporary p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gorithm solves the g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n &gt; 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n – 1 discs from peg A to peg 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peg C as a temporary pe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the remaining disc from the peg A to peg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n – 1 discs from peg B to peg 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peg A as a temporary pe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e case for the algorithm is reached when there are no more discs to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noi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anoiDemo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0565-1A23-4B68-9F5E-F1EB36DE19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been calling other methods from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also possible for a method to call itsel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calls itself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ndlessRecursi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B7FB-EFEC-4FE3-9A1B-CC12173F9C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in the example displays the string “This is a recursive method.”, and then calls itsel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ime it calls itself, the cycle is repeated endles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loop, a recursive method must have some way to control the number of times it repe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cursive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Recursion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5789-FB9D-40C5-8795-A9D7F8742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15238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2209680"/>
            <a:ext cx="2590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8954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35812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267080"/>
            <a:ext cx="2590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9528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371600"/>
            <a:ext cx="251460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method is first called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cursionDem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100" idx="1"/>
          </p:cNvCxnSpPr>
          <p:nvPr/>
        </p:nvCxnSpPr>
        <p:spPr>
          <a:xfrm>
            <a:off x="3200400" y="3040200"/>
            <a:ext cx="591120" cy="884880"/>
          </a:xfrm>
          <a:prstGeom prst="bentConnector3">
            <a:avLst>
              <a:gd name="adj1" fmla="val 5155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685800" y="2743200"/>
            <a:ext cx="25146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second through sixth calls are recurs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20968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7" idx="3"/>
            <a:endCxn id="91" idx="1"/>
          </p:cNvCxnSpPr>
          <p:nvPr/>
        </p:nvCxnSpPr>
        <p:spPr>
          <a:xfrm flipV="1">
            <a:off x="3200400" y="1790280"/>
            <a:ext cx="838800" cy="123120"/>
          </a:xfrm>
          <a:prstGeom prst="bentConnector3">
            <a:avLst>
              <a:gd name="adj1" fmla="val 4997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B44A-A19E-4A2F-953B-31A6799A2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 can be a powerful tool for solving repetitiv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 is never absolutely required to solve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roblem that can be solved recursively can also be solved iteratively, with a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cases, recursive algorithms are less efficient than iterative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5940-B87D-4D14-9688-0FF8DEBCC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solutions repetitiv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e memory for parameters and local variable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the address of where control returns after the method termin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ction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ver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ake place with each method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verhead does not occur with a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repetitive problems are more easily solved with recursion than with it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 algorithms might execute faster; howe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cursive algorithm might be designe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9258-F5D9-4E37-9615-1B6E6D62CA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 works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se case is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atched, the method solves it and ret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ase case cannot be solved 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hod reduces it to a smaller problem (recursive case) and calls itself to solve the smaller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ducing the problem with each recursive call, the base case will eventually be reached and the recursion will st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thematics, the not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represents the factorial of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7B45-615C-4101-8CE1-5A8F482E04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ctorial of a nonnegative number can be defined by the follow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= 1 × 2 × 3 × ... ×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replace the not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with factori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ch looks a bit more like computer code, and rewrite these rules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 then factoria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 then factoria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 × 2 × 3 × ... ×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EC8D-88B7-4E0A-AD5A-FA43170596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4:42:30Z</dcterms:created>
  <dc:creator>Tony Gaddis</dc:creator>
  <dc:description/>
  <dc:language>en-US</dc:language>
  <cp:lastModifiedBy>test</cp:lastModifiedBy>
  <cp:lastPrinted>2009-04-22T19:24:48Z</cp:lastPrinted>
  <dcterms:modified xsi:type="dcterms:W3CDTF">2007-02-20T17:19:16Z</dcterms:modified>
  <cp:revision>25</cp:revision>
  <dc:subject>Recursion</dc:subject>
  <dc:title>Chapter 15 </dc:title>
</cp:coreProperties>
</file>