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2F92-BAF5-48C8-ADD7-2F2FB42E0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DA75-0FA1-41DA-B33F-821DD698F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82AC-C2E3-4C90-918D-DADA7AF6D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344C-3E35-48E2-92DC-862C0EA04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B15F-116F-41CC-9063-B0592E2B2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F95C-5E60-4A9E-8EB0-7DF8C31DC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D91F-1098-46B7-8A8B-DEB216929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EF5C-3671-493D-9301-4CFCC37BC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11AD-47F5-42E4-B0F9-DC7703E1A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6E5B-E4B9-4EA0-96B9-61626CDBB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DCCD-29C9-436C-89D2-A5E3A2129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B6FB-0EE9-4741-80D7-9A28775EA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720" y="0"/>
            <a:ext cx="9140760" cy="213372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6a9a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3A907A7-089C-4CF6-B0C4-2263B0427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766800" cy="84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4768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e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Variable.java" TargetMode="External"/><Relationship Id="rId2" Type="http://schemas.openxmlformats.org/officeDocument/2006/relationships/hyperlink" Target="file:///Variable.java" TargetMode="External"/><Relationship Id="rId3" Type="http://schemas.openxmlformats.org/officeDocument/2006/relationships/hyperlink" Target="file:///Variable.java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java.sun.com/docs/codeconv/html/CodeConventions.doc8.html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IntegerVariables.java" TargetMode="External"/><Relationship Id="rId2" Type="http://schemas.openxmlformats.org/officeDocument/2006/relationships/hyperlink" Target="file:///IntegerVariables.java" TargetMode="Externa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Sale.java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SunFacts.java" TargetMode="External"/><Relationship Id="rId2" Type="http://schemas.openxmlformats.org/officeDocument/2006/relationships/hyperlink" Target="file:///SunFacts.java" TargetMode="Externa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TrueFalse.java" TargetMode="Externa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Letters.java" TargetMode="Externa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Letters2.java" TargetMode="Externa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Simple.java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Wages.java" TargetMode="Externa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StringDemo.java" TargetMode="External"/><Relationship Id="rId2" Type="http://schemas.openxmlformats.org/officeDocument/2006/relationships/hyperlink" Target="file:///StringDemo.java" TargetMode="External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StringLength.java" TargetMode="External"/><Relationship Id="rId2" Type="http://schemas.openxmlformats.org/officeDocument/2006/relationships/hyperlink" Target="file:///StringLength.java" TargetMode="External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file:///Scope.java" TargetMode="External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file:///Payroll.java" TargetMode="External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PayrollDialog.java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file:///Compact.java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hyperlink" Target="file:///Readable.java" TargetMode="External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file:///StringMethods.java" TargetMode="External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va Fundamen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s of a Jav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ine must be exactly as shown in the example (except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name can be programmer defin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line of code that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and will run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starts the Java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Jav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program runs, the statements with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ll be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see what the line in the example will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F057-CDE2-4D2E-A631-547E38B838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look back at the previous example, we can see that there is only one line that ends with a semi-col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rogramming is great fun!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it is the only Java statement in the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t of the code is either a comment or other Java framework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F4B2-7897-4540-9179-EBFA4D4406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 are ignored by the Java compiler so they need no semi-col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Java code elements that do not need semi colon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d by the code within its curly br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h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d by the code within its curly br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ly b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 of framework code that needs no semi-colon termi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540E-1163-4D51-BCB3-2073173229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s a case-sensitive langu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Java programs must be stored in a file with a .java fil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 are ignored by the compi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.java file may contain many classes but may only have one public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.java file has a public class, the class must have the same name as th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8352-CAD5-4E85-9506-717BAFCADF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applications must have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left brace, or opening brace, there must be a corresponding right brace, or closing br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s are terminated with semicol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, class headers, method headers, and  braces are not considered Java stat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46AA-D8A0-49ED-B083-8C0B9DA612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601640"/>
          <a:ext cx="8001000" cy="4494240"/>
        </p:xfrm>
        <a:graphic>
          <a:graphicData uri="http://schemas.openxmlformats.org/drawingml/2006/table">
            <a:tbl>
              <a:tblPr/>
              <a:tblGrid>
                <a:gridCol w="1752480"/>
                <a:gridCol w="2743200"/>
                <a:gridCol w="3505320"/>
              </a:tblGrid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l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s the beginning of a single line commen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 and close pare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d in a method header to mark the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eter lis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{ 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 and close curly bra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loses a group of statements, such as the contents of a class or a meth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 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otation ma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loses a string of characters, such as a message that is to be printed on the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-co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s the end of a complete programming sta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00F7-A437-460B-80E7-F35EEF180D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f the programs that you will write will run in a consol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800600" cy="303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F55F-E47B-43AE-8353-14530D54C0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sole window that starts a Java application is typically known a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ndard out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ndard 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vice is typically the key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sends information to the standard output device by using a Java class stored in the standard Java libr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5FBB-9170-4906-A773-E5FDF5B741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classes in the standard Java library are accessed using the Java Applications Programming Interface (AP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Java library is commonly referred to a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ava AP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1A4D-78BB-4312-86FA-881F58E4E7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vious example uses the 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rogramming is great fun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ine use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from the standard Java libr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contains methods and objects that perform system level tas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, a member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, contains the method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E9C8-6985-49C6-A9B7-F228B360E4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2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ts of a Java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, and the Java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and Lit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d Assignm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7D51-3FEE-4481-8F04-9EBB4ACB73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actually perform the task of sending characters to the output de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rogramming is great fun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ronounced: System dot out dot println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inside the parenthesis will be sent to the output device (in this case, a str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683C-0782-4727-B2F5-0A14DEB48E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places a newline character at the end of whatever is being printe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l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is is being printed ou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 two separate lines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be printed out on separate lines since the first statement sends a newline command to the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DF8B-D8D3-45E8-8A02-2A6AFEC1B2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works very similarly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does not put a newline character at the end of th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i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se lines will b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ed o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e same line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output: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se lines will beprinted onthe same 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 odd spacing?  Why are some words run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3CBA-71E1-4ED0-98EC-B4E275AD41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of the previous examples, we have been printing out strings of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, we will see that much more can be pri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ome special characters that can be put into the output.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his line will have a newline at the end.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string is an escape sequence that represents the newline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pe sequences allow the programmer to print characters that otherwise would be unpri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B717-FFEB-45BF-BC92-3A7CFAC388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Escape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2040" y="1600200"/>
          <a:ext cx="8294400" cy="4613400"/>
        </p:xfrm>
        <a:graphic>
          <a:graphicData uri="http://schemas.openxmlformats.org/drawingml/2006/table">
            <a:tbl>
              <a:tblPr/>
              <a:tblGrid>
                <a:gridCol w="650880"/>
                <a:gridCol w="1625400"/>
                <a:gridCol w="601812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ces the cursor to the next line for subsequent prin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s the cursor to skip over to the next tab s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s the cursor to back up, or move left, one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riage retu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s the cursor to go to the beginning of the current line, not the next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\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sl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s a backslash to be pri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 qu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s a single quotation mark to be pri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qu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s a double quotation mark to be pri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A063-E52F-4B51-A52F-A08EC4D4B6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Escape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hough the escape sequences are comprised of two characters, they are treated by the compiler as a single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hese are our top sellers:\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\tComputer games\n\tCoffee\n 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\tAspiri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result in the following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se are our top sell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r g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pr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se escape sequences, complex text output can be achie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83F3-14EA-4246-84DE-C3C6741F98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s and Lit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is a named storage location in the computer’s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teral is a value that is written into the code of a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s determine the number and type of  variables a program will n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example: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Variabl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urier New"/>
                <a:ea typeface="Courier New"/>
                <a:hlinkClick r:id="rId2"/>
              </a:rPr>
              <a:t>.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Courier New"/>
                <a:ea typeface="Times New Roman"/>
                <a:hlinkClick r:id="rId3"/>
              </a:rPr>
              <a:t>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D01E-C77A-4E23-A4A4-D336A43AA7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s and Lit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43840" y="1398600"/>
            <a:ext cx="2509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line is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iable 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nt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86680" y="1422360"/>
            <a:ext cx="31374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line i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n assignment  stat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value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0760" y="5029200"/>
            <a:ext cx="43261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"The value is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514240" y="4395960"/>
            <a:ext cx="5999040" cy="633240"/>
            <a:chOff x="2514240" y="4395960"/>
            <a:chExt cx="5999040" cy="633240"/>
          </a:xfrm>
        </p:grpSpPr>
        <p:cxnSp>
          <p:nvCxnSpPr>
            <p:cNvPr id="166" name=""/>
            <p:cNvCxnSpPr>
              <a:stCxn id="167" idx="1"/>
            </p:cNvCxnSpPr>
            <p:nvPr/>
          </p:nvCxnSpPr>
          <p:spPr>
            <a:xfrm flipV="1" rot="10800000">
              <a:off x="3276000" y="4607280"/>
              <a:ext cx="457920" cy="273960"/>
            </a:xfrm>
            <a:prstGeom prst="bentConnector3">
              <a:avLst>
                <a:gd name="adj1" fmla="val 10102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" name=""/>
            <p:cNvSpPr/>
            <p:nvPr/>
          </p:nvSpPr>
          <p:spPr>
            <a:xfrm>
              <a:off x="3734280" y="4395960"/>
              <a:ext cx="477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is is a string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itera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It will be printed 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as i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3200040" y="4191120"/>
              <a:ext cx="152280" cy="15238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666880" y="5157720"/>
            <a:ext cx="4821480" cy="1008720"/>
            <a:chOff x="2666880" y="5157720"/>
            <a:chExt cx="4821480" cy="1008720"/>
          </a:xfrm>
        </p:grpSpPr>
        <p:sp>
          <p:nvSpPr>
            <p:cNvPr id="170" name=""/>
            <p:cNvSpPr/>
            <p:nvPr/>
          </p:nvSpPr>
          <p:spPr>
            <a:xfrm flipV="1" rot="16200000">
              <a:off x="2819160" y="5485320"/>
              <a:ext cx="228600" cy="5335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614"/>
                  </a:lnTo>
                  <a:cubicBezTo>
                    <a:pt x="10800" y="9514"/>
                    <a:pt x="5400" y="10414"/>
                    <a:pt x="0" y="10414"/>
                  </a:cubicBezTo>
                  <a:cubicBezTo>
                    <a:pt x="5400" y="10414"/>
                    <a:pt x="10800" y="11314"/>
                    <a:pt x="10800" y="1221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78360" y="5157720"/>
              <a:ext cx="2610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integer 5 w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 printed out her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Notice no quote mark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" name=""/>
            <p:cNvCxnSpPr>
              <a:stCxn id="171" idx="1"/>
              <a:endCxn id="170" idx="1"/>
            </p:cNvCxnSpPr>
            <p:nvPr/>
          </p:nvCxnSpPr>
          <p:spPr>
            <a:xfrm flipV="1" rot="10800000">
              <a:off x="2931480" y="5644080"/>
              <a:ext cx="1945440" cy="222840"/>
            </a:xfrm>
            <a:prstGeom prst="bentConnector4">
              <a:avLst>
                <a:gd name="adj1" fmla="val 43087"/>
                <a:gd name="adj2" fmla="val 20275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3" name=""/>
          <p:cNvGrpSpPr/>
          <p:nvPr/>
        </p:nvGrpSpPr>
        <p:grpSpPr>
          <a:xfrm>
            <a:off x="2439720" y="2538360"/>
            <a:ext cx="2970360" cy="1602720"/>
            <a:chOff x="2439720" y="2538360"/>
            <a:chExt cx="2970360" cy="1602720"/>
          </a:xfrm>
        </p:grpSpPr>
        <p:sp>
          <p:nvSpPr>
            <p:cNvPr id="174" name=""/>
            <p:cNvSpPr/>
            <p:nvPr/>
          </p:nvSpPr>
          <p:spPr>
            <a:xfrm>
              <a:off x="3429000" y="261468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299556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29000" y="3376440"/>
              <a:ext cx="19810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9000" y="375768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39720" y="253836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x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39720" y="29192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x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39720" y="33004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x0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39720" y="368136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x0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68880" y="299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557040" y="2666880"/>
            <a:ext cx="1384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stored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304812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730C-5E08-4D5E-B033-5F4594C218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+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+ operator can be used in two w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concatenation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n addition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either side of the + operator is a string, the result will be a st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Hello " + "World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value is: " + 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value is: " + 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value is: " + ‘/n’ + 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015A-A4AC-427D-BC51-CF5F34F65D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ing Concat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commands that have string literals must be treated with c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ring literal value cannot span lines in a Java source cod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is line is too long and now it has spanned more than one line, which will cause a syntax error to be generated by the compiler.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5DB8-563A-42D1-A3FF-E65741A8BF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named constants with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for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log 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7FFF-1A2A-4165-A463-3A64C2E784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ing Concat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ing concatenation operator can be used to fix t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ese lines are "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are now ok and will not "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cause the error as before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concatenation can join various dat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e can join a string to "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a number like this: " + 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8CAD-6451-4CFC-8A3A-DCAA2547B1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ing Concat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oncatenation operator can be used to format complex String objec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following will be printed "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in a tabbed format: "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\n\tFirst = " + 5 * 6 + ", "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n\tSecond = " (6 + 4) + ","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n\tThird = " + 16.7 + "."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ice that if an addition operation is also needed, it must be put in parenthes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5D33-2235-4433-965E-E66A970130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are programmer-defined nam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may not be any of the Java reserved key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5758-17BC-4581-8237-A579C0FB32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must follow certain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dentifier may only cont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s a–z or A–Z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gits 0–9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cores (_)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llar sign (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character may not be a dig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 are case sen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sOrde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not the same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ms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 cannot include sp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20DD-F106-40FA-960B-C34251066E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38080" y="1295280"/>
            <a:ext cx="731520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Reserved Key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43720" y="1395360"/>
            <a:ext cx="1238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69040" y="1395360"/>
            <a:ext cx="16088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6040" y="1395360"/>
            <a:ext cx="14562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ce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74000" y="1395360"/>
            <a:ext cx="1829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ctf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1F69-0152-456D-8E3E-4671728DA1F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names should be descrip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ve names allow the code to be more readable; therefore, the code is more maintain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more descript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t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.072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salesTaxR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.072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s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f-documen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CFCA-F3C0-451D-9005-E863CBF7EE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Naming Con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names should begin with a lower case letter and then switch to title case thereaf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caTax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names should be all title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BigLi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Java naming conventions can be foun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java.sun.com/docs/codeconv/html/CodeConventions.doc8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 rule of thumb about naming variables and classes are that, with some exceptions, their names tend to be nouns or noun phr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7CA1-B02A-485C-993C-3E01F67E45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5560" y="3336840"/>
            <a:ext cx="406692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33480" y="3336480"/>
            <a:ext cx="406548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778824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 data types are built into the Java language and are not derived from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8 Java primitive data 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536C-163E-4A01-9A49-97836E74534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 Data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371600"/>
          <a:ext cx="8381880" cy="4699080"/>
        </p:xfrm>
        <a:graphic>
          <a:graphicData uri="http://schemas.openxmlformats.org/drawingml/2006/table">
            <a:tbl>
              <a:tblPr/>
              <a:tblGrid>
                <a:gridCol w="990720"/>
                <a:gridCol w="915840"/>
                <a:gridCol w="64753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ers in the 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1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+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ers in the range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32,7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+32,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ers in the range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2,147,483,64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+2,147,483,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ers in the range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9,223,372,036,854,775,80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+9,223,372,036,854,775,8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ating-point numbers in the range o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±3.410-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±3.410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with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7 digits of 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ating-point numbers in the range o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±1.710-30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±1.71030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with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5 digits of 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4974-E74C-444E-ADDD-CA3AA14840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Decla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Declarations take the following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Type VariableNam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te inch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rt mon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spe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ng timeSt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salesCommiss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d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C3AB-6EE5-4A19-AD4B-1945E9FC24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s of a Jav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ava source code file contains one or more Java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ore than one class is in a source code file, only one of them may be publ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blic class and the filename of the source code file must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A class nam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in a file nam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mpl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ava class can be separated into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A152-B8B4-4481-90F4-A23B708828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er Data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all integer dat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an hold whole numbers such as 5, 10, 23, 89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data types cannot hold numbers that have a decimal point i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s embedded into Java source code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ger liter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IntegerVariable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71F5-EA24-4434-92B4-8254DFA4AAC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ating Point Data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ypes that allow fractional value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loating-point</a:t>
            </a:r>
            <a:r>
              <a:rPr b="0" i="1" lang="en-US" sz="3200" spc="-1" strike="noStrike">
                <a:solidFill>
                  <a:srgbClr val="000000"/>
                </a:solidFill>
                <a:latin typeface="Minion-Ital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 and -45.316 are floating-point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Java there are two data types that can represent floating-point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le preci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 decimal poin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uble preci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5 decimal poin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4A5C-3C1D-4522-8286-6AE4D955D6E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ating Point Lit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floating point numbers are embedded into Java source code they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loating point liter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ault type for floating point literals i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9.75, 1.76, and 31.51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ongly-typ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ale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6118-6491-47D6-84C2-B5ACBEB0F41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ating Point Lit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not compatible with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 because of its size and pr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 numb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 = 23.5; // Erro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forced into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appending the letter F or f to the lit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 numb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 = 23.5F; // This will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CBA1-7443-4741-A765-3C094BB8E35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ating Point Lit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ls cannot contain embedded currency symbols or com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ossPay = $1,257.00; // ERR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ossPay = 1257.00;   // 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-point literals can be represen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ientific no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,281.97  ==  4.72819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us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not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present values in scientific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728197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= 4.728197E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6AF3-EDB8-4ED4-877A-00FFA25667F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tific and E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04920" y="1895400"/>
          <a:ext cx="8294400" cy="3326040"/>
        </p:xfrm>
        <a:graphic>
          <a:graphicData uri="http://schemas.openxmlformats.org/drawingml/2006/table">
            <a:tbl>
              <a:tblPr/>
              <a:tblGrid>
                <a:gridCol w="2765160"/>
                <a:gridCol w="2764080"/>
                <a:gridCol w="2765160"/>
              </a:tblGrid>
              <a:tr h="1030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Decimal N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Scientific N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 N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79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Universal-GreekwithMathPi"/>
                        </a:rPr>
                        <a:t>x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791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2 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Universal-GreekwithMathP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2E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 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Universal-GreekwithMathP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E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690120" y="5334120"/>
            <a:ext cx="41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unFact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B42E-1203-4C5B-975A-7AFE029B972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ata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type can have two possibl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o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 may only be copied into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rueFalse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905E-7BE4-4E91-86D0-13CB8A51B3B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ata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av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type provides access to single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terals are enclosed in single quote m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, ‘Z’, ‘\n’, ‘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conf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terals with string liter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terals are enclosed in single qu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literals are enclosed in double qu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etter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3D89-8F33-4647-BE9D-EEBF1886827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ly, characters are stored as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data in Java is stored as Unicode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code character set can consist of 65536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dividual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each character takes up 2 bytes 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256 characters in the Unicode character set are compatible with the ASCII* character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etters2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*American Standard Code for Information Inter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5C22-A1C6-4605-B192-050BBDE3883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1676520"/>
            <a:ext cx="914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600200" y="3276720"/>
            <a:ext cx="1676520" cy="761760"/>
            <a:chOff x="1600200" y="3276720"/>
            <a:chExt cx="1676520" cy="761760"/>
          </a:xfrm>
        </p:grpSpPr>
        <p:sp>
          <p:nvSpPr>
            <p:cNvPr id="237" name=""/>
            <p:cNvSpPr/>
            <p:nvPr/>
          </p:nvSpPr>
          <p:spPr>
            <a:xfrm>
              <a:off x="1600200" y="327672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38640" y="327672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438280" y="24382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48520" y="1676520"/>
            <a:ext cx="914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867280" y="3276720"/>
            <a:ext cx="1676520" cy="761760"/>
            <a:chOff x="5867280" y="3276720"/>
            <a:chExt cx="1676520" cy="761760"/>
          </a:xfrm>
        </p:grpSpPr>
        <p:sp>
          <p:nvSpPr>
            <p:cNvPr id="242" name=""/>
            <p:cNvSpPr/>
            <p:nvPr/>
          </p:nvSpPr>
          <p:spPr>
            <a:xfrm>
              <a:off x="5867280" y="327672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05360" y="327672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705720" y="24382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09480" y="4800600"/>
            <a:ext cx="1828800" cy="380880"/>
            <a:chOff x="609480" y="4800600"/>
            <a:chExt cx="1828800" cy="380880"/>
          </a:xfrm>
        </p:grpSpPr>
        <p:sp>
          <p:nvSpPr>
            <p:cNvPr id="246" name=""/>
            <p:cNvSpPr/>
            <p:nvPr/>
          </p:nvSpPr>
          <p:spPr>
            <a:xfrm>
              <a:off x="609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8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66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95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23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52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81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09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438280" y="4800600"/>
            <a:ext cx="1828800" cy="380880"/>
            <a:chOff x="2438280" y="4800600"/>
            <a:chExt cx="1828800" cy="380880"/>
          </a:xfrm>
        </p:grpSpPr>
        <p:sp>
          <p:nvSpPr>
            <p:cNvPr id="255" name=""/>
            <p:cNvSpPr/>
            <p:nvPr/>
          </p:nvSpPr>
          <p:spPr>
            <a:xfrm>
              <a:off x="2438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66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95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24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52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81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38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09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876920" y="4800600"/>
            <a:ext cx="3657600" cy="380880"/>
            <a:chOff x="4876920" y="4800600"/>
            <a:chExt cx="3657600" cy="380880"/>
          </a:xfrm>
        </p:grpSpPr>
        <p:grpSp>
          <p:nvGrpSpPr>
            <p:cNvPr id="264" name=""/>
            <p:cNvGrpSpPr/>
            <p:nvPr/>
          </p:nvGrpSpPr>
          <p:grpSpPr>
            <a:xfrm>
              <a:off x="4876920" y="4800600"/>
              <a:ext cx="1828800" cy="380880"/>
              <a:chOff x="4876920" y="4800600"/>
              <a:chExt cx="1828800" cy="380880"/>
            </a:xfrm>
          </p:grpSpPr>
          <p:sp>
            <p:nvSpPr>
              <p:cNvPr id="265" name=""/>
              <p:cNvSpPr/>
              <p:nvPr/>
            </p:nvSpPr>
            <p:spPr>
              <a:xfrm>
                <a:off x="4876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05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334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562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91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19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48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77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705720" y="4800600"/>
              <a:ext cx="1828800" cy="380880"/>
              <a:chOff x="6705720" y="4800600"/>
              <a:chExt cx="1828800" cy="380880"/>
            </a:xfrm>
          </p:grpSpPr>
          <p:sp>
            <p:nvSpPr>
              <p:cNvPr id="274" name=""/>
              <p:cNvSpPr/>
              <p:nvPr/>
            </p:nvSpPr>
            <p:spPr>
              <a:xfrm>
                <a:off x="6705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34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162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91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620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48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305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077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 rot="16200000">
            <a:off x="2171520" y="2628360"/>
            <a:ext cx="533160" cy="3657600"/>
          </a:xfrm>
          <a:custGeom>
            <a:avLst/>
            <a:gdLst>
              <a:gd name="textAreaLeft" fmla="*/ 0 w 533160"/>
              <a:gd name="textAreaRight" fmla="*/ 192600 w 5331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438960" y="2628360"/>
            <a:ext cx="533160" cy="3657600"/>
          </a:xfrm>
          <a:custGeom>
            <a:avLst/>
            <a:gdLst>
              <a:gd name="textAreaLeft" fmla="*/ 0 w 533160"/>
              <a:gd name="textAreaRight" fmla="*/ 192600 w 5331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AD2B-11D7-45EE-8B57-CC4A0C6ADD9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s of a Jav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imple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ile the 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c Simple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 extension is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result in a file nam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ple.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ing cr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un the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re is no file extens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and assumes the extension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7A56-FE21-4AD3-8875-DF08CAAE29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160020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600200" y="3200400"/>
            <a:ext cx="1676520" cy="761760"/>
            <a:chOff x="1600200" y="3200400"/>
            <a:chExt cx="1676520" cy="761760"/>
          </a:xfrm>
        </p:grpSpPr>
        <p:sp>
          <p:nvSpPr>
            <p:cNvPr id="287" name=""/>
            <p:cNvSpPr/>
            <p:nvPr/>
          </p:nvSpPr>
          <p:spPr>
            <a:xfrm>
              <a:off x="1600200" y="320040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38640" y="320040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438280" y="23623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160020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867280" y="3200400"/>
            <a:ext cx="1676520" cy="761760"/>
            <a:chOff x="5867280" y="3200400"/>
            <a:chExt cx="1676520" cy="761760"/>
          </a:xfrm>
        </p:grpSpPr>
        <p:sp>
          <p:nvSpPr>
            <p:cNvPr id="292" name=""/>
            <p:cNvSpPr/>
            <p:nvPr/>
          </p:nvSpPr>
          <p:spPr>
            <a:xfrm>
              <a:off x="5867280" y="320040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05360" y="320040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705720" y="23623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09480" y="4724280"/>
            <a:ext cx="1828800" cy="380880"/>
            <a:chOff x="609480" y="4724280"/>
            <a:chExt cx="1828800" cy="380880"/>
          </a:xfrm>
        </p:grpSpPr>
        <p:sp>
          <p:nvSpPr>
            <p:cNvPr id="296" name=""/>
            <p:cNvSpPr/>
            <p:nvPr/>
          </p:nvSpPr>
          <p:spPr>
            <a:xfrm>
              <a:off x="609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8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66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95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23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52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81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9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438280" y="4724280"/>
            <a:ext cx="1828800" cy="380880"/>
            <a:chOff x="2438280" y="4724280"/>
            <a:chExt cx="1828800" cy="380880"/>
          </a:xfrm>
        </p:grpSpPr>
        <p:sp>
          <p:nvSpPr>
            <p:cNvPr id="305" name=""/>
            <p:cNvSpPr/>
            <p:nvPr/>
          </p:nvSpPr>
          <p:spPr>
            <a:xfrm>
              <a:off x="2438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6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95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24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52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81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38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09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876920" y="4724280"/>
            <a:ext cx="3657600" cy="380880"/>
            <a:chOff x="4876920" y="4724280"/>
            <a:chExt cx="3657600" cy="380880"/>
          </a:xfrm>
        </p:grpSpPr>
        <p:grpSp>
          <p:nvGrpSpPr>
            <p:cNvPr id="314" name=""/>
            <p:cNvGrpSpPr/>
            <p:nvPr/>
          </p:nvGrpSpPr>
          <p:grpSpPr>
            <a:xfrm>
              <a:off x="4876920" y="4724280"/>
              <a:ext cx="1828800" cy="380880"/>
              <a:chOff x="4876920" y="4724280"/>
              <a:chExt cx="1828800" cy="380880"/>
            </a:xfrm>
          </p:grpSpPr>
          <p:sp>
            <p:nvSpPr>
              <p:cNvPr id="315" name=""/>
              <p:cNvSpPr/>
              <p:nvPr/>
            </p:nvSpPr>
            <p:spPr>
              <a:xfrm>
                <a:off x="4876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05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34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562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91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019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48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477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6705720" y="4724280"/>
              <a:ext cx="1828800" cy="380880"/>
              <a:chOff x="6705720" y="4724280"/>
              <a:chExt cx="1828800" cy="380880"/>
            </a:xfrm>
          </p:grpSpPr>
          <p:sp>
            <p:nvSpPr>
              <p:cNvPr id="324" name=""/>
              <p:cNvSpPr/>
              <p:nvPr/>
            </p:nvSpPr>
            <p:spPr>
              <a:xfrm>
                <a:off x="6705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934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162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91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0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848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305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077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 rot="16200000">
            <a:off x="2171520" y="2552760"/>
            <a:ext cx="533520" cy="3657600"/>
          </a:xfrm>
          <a:custGeom>
            <a:avLst/>
            <a:gdLst>
              <a:gd name="textAreaLeft" fmla="*/ 0 w 533520"/>
              <a:gd name="textAreaRight" fmla="*/ 192600 w 5335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6438960" y="2552760"/>
            <a:ext cx="533520" cy="3657600"/>
          </a:xfrm>
          <a:custGeom>
            <a:avLst/>
            <a:gdLst>
              <a:gd name="textAreaLeft" fmla="*/ 0 w 533520"/>
              <a:gd name="textAreaRight" fmla="*/ 192600 w 5335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590920" y="1523880"/>
            <a:ext cx="3962160" cy="2590920"/>
            <a:chOff x="2590920" y="1523880"/>
            <a:chExt cx="3962160" cy="2590920"/>
          </a:xfrm>
        </p:grpSpPr>
        <p:sp>
          <p:nvSpPr>
            <p:cNvPr id="335" name=""/>
            <p:cNvSpPr/>
            <p:nvPr/>
          </p:nvSpPr>
          <p:spPr>
            <a:xfrm>
              <a:off x="3582720" y="1523880"/>
              <a:ext cx="206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haracters 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stored in memory</a:t>
              </a:r>
              <a:br>
                <a:rPr sz="1800"/>
              </a:b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as binary number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72000" y="2514600"/>
              <a:ext cx="0" cy="16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90920" y="4114800"/>
              <a:ext cx="3962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FB6B-C66B-4973-BFC4-54A344C6F1A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81080" y="160020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600200" y="3200400"/>
            <a:ext cx="1676520" cy="761760"/>
            <a:chOff x="1600200" y="3200400"/>
            <a:chExt cx="1676520" cy="761760"/>
          </a:xfrm>
        </p:grpSpPr>
        <p:sp>
          <p:nvSpPr>
            <p:cNvPr id="341" name=""/>
            <p:cNvSpPr/>
            <p:nvPr/>
          </p:nvSpPr>
          <p:spPr>
            <a:xfrm>
              <a:off x="1600200" y="320040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38640" y="320040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6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438280" y="23623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48520" y="160020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867280" y="3200400"/>
            <a:ext cx="1676520" cy="761760"/>
            <a:chOff x="5867280" y="3200400"/>
            <a:chExt cx="1676520" cy="761760"/>
          </a:xfrm>
        </p:grpSpPr>
        <p:sp>
          <p:nvSpPr>
            <p:cNvPr id="346" name=""/>
            <p:cNvSpPr/>
            <p:nvPr/>
          </p:nvSpPr>
          <p:spPr>
            <a:xfrm>
              <a:off x="5867280" y="320040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360" y="320040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6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705720" y="23623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09480" y="4724280"/>
            <a:ext cx="1828800" cy="380880"/>
            <a:chOff x="609480" y="4724280"/>
            <a:chExt cx="1828800" cy="380880"/>
          </a:xfrm>
        </p:grpSpPr>
        <p:sp>
          <p:nvSpPr>
            <p:cNvPr id="350" name=""/>
            <p:cNvSpPr/>
            <p:nvPr/>
          </p:nvSpPr>
          <p:spPr>
            <a:xfrm>
              <a:off x="609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6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95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3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52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81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09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438280" y="4724280"/>
            <a:ext cx="1828800" cy="380880"/>
            <a:chOff x="2438280" y="4724280"/>
            <a:chExt cx="1828800" cy="380880"/>
          </a:xfrm>
        </p:grpSpPr>
        <p:sp>
          <p:nvSpPr>
            <p:cNvPr id="359" name=""/>
            <p:cNvSpPr/>
            <p:nvPr/>
          </p:nvSpPr>
          <p:spPr>
            <a:xfrm>
              <a:off x="2438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66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95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24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52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1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8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09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876920" y="4724280"/>
            <a:ext cx="3657600" cy="380880"/>
            <a:chOff x="4876920" y="4724280"/>
            <a:chExt cx="3657600" cy="380880"/>
          </a:xfrm>
        </p:grpSpPr>
        <p:grpSp>
          <p:nvGrpSpPr>
            <p:cNvPr id="368" name=""/>
            <p:cNvGrpSpPr/>
            <p:nvPr/>
          </p:nvGrpSpPr>
          <p:grpSpPr>
            <a:xfrm>
              <a:off x="4876920" y="4724280"/>
              <a:ext cx="1828800" cy="380880"/>
              <a:chOff x="4876920" y="4724280"/>
              <a:chExt cx="1828800" cy="380880"/>
            </a:xfrm>
          </p:grpSpPr>
          <p:sp>
            <p:nvSpPr>
              <p:cNvPr id="369" name=""/>
              <p:cNvSpPr/>
              <p:nvPr/>
            </p:nvSpPr>
            <p:spPr>
              <a:xfrm>
                <a:off x="4876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105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34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62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91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019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48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477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705720" y="4724280"/>
              <a:ext cx="1828800" cy="380880"/>
              <a:chOff x="6705720" y="4724280"/>
              <a:chExt cx="1828800" cy="380880"/>
            </a:xfrm>
          </p:grpSpPr>
          <p:sp>
            <p:nvSpPr>
              <p:cNvPr id="378" name=""/>
              <p:cNvSpPr/>
              <p:nvPr/>
            </p:nvSpPr>
            <p:spPr>
              <a:xfrm>
                <a:off x="6705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934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162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91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620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848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05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77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6" name=""/>
          <p:cNvSpPr/>
          <p:nvPr/>
        </p:nvSpPr>
        <p:spPr>
          <a:xfrm rot="16200000">
            <a:off x="2171520" y="2552760"/>
            <a:ext cx="533520" cy="3657600"/>
          </a:xfrm>
          <a:custGeom>
            <a:avLst/>
            <a:gdLst>
              <a:gd name="textAreaLeft" fmla="*/ 0 w 533520"/>
              <a:gd name="textAreaRight" fmla="*/ 192600 w 5335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16200000">
            <a:off x="6438960" y="2552760"/>
            <a:ext cx="533520" cy="3657600"/>
          </a:xfrm>
          <a:custGeom>
            <a:avLst/>
            <a:gdLst>
              <a:gd name="textAreaLeft" fmla="*/ 0 w 533520"/>
              <a:gd name="textAreaRight" fmla="*/ 192600 w 5335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352680" y="1600200"/>
            <a:ext cx="2438640" cy="1981080"/>
            <a:chOff x="3352680" y="1600200"/>
            <a:chExt cx="2438640" cy="1981080"/>
          </a:xfrm>
        </p:grpSpPr>
        <p:sp>
          <p:nvSpPr>
            <p:cNvPr id="389" name=""/>
            <p:cNvSpPr/>
            <p:nvPr/>
          </p:nvSpPr>
          <p:spPr>
            <a:xfrm>
              <a:off x="3506760" y="1600200"/>
              <a:ext cx="2187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The binary num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represent the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decimal valu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2000" y="2514600"/>
              <a:ext cx="0" cy="1066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52680" y="3581280"/>
              <a:ext cx="2438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09EB-BF5D-4AF1-89EA-E4F6D70C44A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81080" y="1676520"/>
            <a:ext cx="914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600200" y="3276720"/>
            <a:ext cx="1676520" cy="761760"/>
            <a:chOff x="1600200" y="3276720"/>
            <a:chExt cx="1676520" cy="761760"/>
          </a:xfrm>
        </p:grpSpPr>
        <p:sp>
          <p:nvSpPr>
            <p:cNvPr id="395" name=""/>
            <p:cNvSpPr/>
            <p:nvPr/>
          </p:nvSpPr>
          <p:spPr>
            <a:xfrm>
              <a:off x="1600200" y="327672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38640" y="327672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438280" y="24382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1676520"/>
            <a:ext cx="914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867280" y="3276720"/>
            <a:ext cx="1676520" cy="761760"/>
            <a:chOff x="5867280" y="3276720"/>
            <a:chExt cx="1676520" cy="761760"/>
          </a:xfrm>
        </p:grpSpPr>
        <p:sp>
          <p:nvSpPr>
            <p:cNvPr id="400" name=""/>
            <p:cNvSpPr/>
            <p:nvPr/>
          </p:nvSpPr>
          <p:spPr>
            <a:xfrm>
              <a:off x="5867280" y="327672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05360" y="327672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705720" y="24382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09480" y="4800600"/>
            <a:ext cx="1828800" cy="380880"/>
            <a:chOff x="609480" y="4800600"/>
            <a:chExt cx="1828800" cy="380880"/>
          </a:xfrm>
        </p:grpSpPr>
        <p:sp>
          <p:nvSpPr>
            <p:cNvPr id="404" name=""/>
            <p:cNvSpPr/>
            <p:nvPr/>
          </p:nvSpPr>
          <p:spPr>
            <a:xfrm>
              <a:off x="609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8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6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95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23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52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09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2438280" y="4800600"/>
            <a:ext cx="1828800" cy="380880"/>
            <a:chOff x="2438280" y="4800600"/>
            <a:chExt cx="1828800" cy="380880"/>
          </a:xfrm>
        </p:grpSpPr>
        <p:sp>
          <p:nvSpPr>
            <p:cNvPr id="413" name=""/>
            <p:cNvSpPr/>
            <p:nvPr/>
          </p:nvSpPr>
          <p:spPr>
            <a:xfrm>
              <a:off x="2438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66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95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24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2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81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38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09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876920" y="4800600"/>
            <a:ext cx="3657600" cy="380880"/>
            <a:chOff x="4876920" y="4800600"/>
            <a:chExt cx="3657600" cy="380880"/>
          </a:xfrm>
        </p:grpSpPr>
        <p:grpSp>
          <p:nvGrpSpPr>
            <p:cNvPr id="422" name=""/>
            <p:cNvGrpSpPr/>
            <p:nvPr/>
          </p:nvGrpSpPr>
          <p:grpSpPr>
            <a:xfrm>
              <a:off x="4876920" y="4800600"/>
              <a:ext cx="1828800" cy="380880"/>
              <a:chOff x="4876920" y="4800600"/>
              <a:chExt cx="1828800" cy="380880"/>
            </a:xfrm>
          </p:grpSpPr>
          <p:sp>
            <p:nvSpPr>
              <p:cNvPr id="423" name=""/>
              <p:cNvSpPr/>
              <p:nvPr/>
            </p:nvSpPr>
            <p:spPr>
              <a:xfrm>
                <a:off x="4876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105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334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562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791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19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48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77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6705720" y="4800600"/>
              <a:ext cx="1828800" cy="380880"/>
              <a:chOff x="6705720" y="4800600"/>
              <a:chExt cx="1828800" cy="380880"/>
            </a:xfrm>
          </p:grpSpPr>
          <p:sp>
            <p:nvSpPr>
              <p:cNvPr id="432" name=""/>
              <p:cNvSpPr/>
              <p:nvPr/>
            </p:nvSpPr>
            <p:spPr>
              <a:xfrm>
                <a:off x="6705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934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62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391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620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48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305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077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"/>
          <p:cNvSpPr/>
          <p:nvPr/>
        </p:nvSpPr>
        <p:spPr>
          <a:xfrm rot="16200000">
            <a:off x="2171520" y="2628360"/>
            <a:ext cx="533160" cy="3657600"/>
          </a:xfrm>
          <a:custGeom>
            <a:avLst/>
            <a:gdLst>
              <a:gd name="textAreaLeft" fmla="*/ 0 w 533160"/>
              <a:gd name="textAreaRight" fmla="*/ 192600 w 5331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6438960" y="2628360"/>
            <a:ext cx="533160" cy="3657600"/>
          </a:xfrm>
          <a:custGeom>
            <a:avLst/>
            <a:gdLst>
              <a:gd name="textAreaLeft" fmla="*/ 0 w 533160"/>
              <a:gd name="textAreaRight" fmla="*/ 192600 w 5331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352680" y="2057400"/>
            <a:ext cx="2438640" cy="2059920"/>
            <a:chOff x="3352680" y="2057400"/>
            <a:chExt cx="2438640" cy="2059920"/>
          </a:xfrm>
        </p:grpSpPr>
        <p:sp>
          <p:nvSpPr>
            <p:cNvPr id="443" name=""/>
            <p:cNvSpPr/>
            <p:nvPr/>
          </p:nvSpPr>
          <p:spPr>
            <a:xfrm>
              <a:off x="3581640" y="3200400"/>
              <a:ext cx="205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The decimal val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represent the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haracter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72000" y="2057400"/>
              <a:ext cx="0" cy="1066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52680" y="2057400"/>
              <a:ext cx="2438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1312-88CF-4149-9F13-59836DDAD44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store a value in a variable,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signment 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signment oper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equal (=) 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erand on the left side of the assignment operator must be a variable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erand on the right side must be either a literal or expression that evaluates to a type that is compatible with the type of the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D6E1-F40E-4C6E-B258-A7248C17987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This program shows variable assignmen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itializ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public static void main(String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int month, days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month = 2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days = 28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Month " + month + " has "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days + " Day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1400" y="5486400"/>
            <a:ext cx="74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variables must be declared before they can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1DF6-A880-4EEA-A30E-4462E5ED11C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This program shows variable assignmen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itializ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public static void main(String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int month, days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month = 2;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days = 28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nth " + month + " has "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days + " Day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7080" y="4724280"/>
            <a:ext cx="79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nce declared, they can then receive a value (initializat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owever the value must be compatible with the variabl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clared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5D52-12EC-4FA3-8E70-3833E082711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This program shows variable assignmen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itializ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public static void main(String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int month, days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month = 2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days = 28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Month " +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mon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has "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ay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Day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680" y="5197320"/>
            <a:ext cx="752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fter receiving a value, the variables can then be us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utput statements or in other calcu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5CE8-764C-4660-BFEF-B7B26527C27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This program shows variable initializat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nitializ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static void main(String[] arg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int month = 2, days = 28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Month " + month + " has " 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days + " Days.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0680" y="48769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ocal variables can be declared and initializ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sam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62D9-BBC0-4BDD-B93A-27F79FC9817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can only hold one value at a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variables do not receive a default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variables must have a valid type in order to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 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int month, days; //No value given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nth " +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mon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has “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+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ay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Day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rying to use uninitialized variables will generate a Syntax Error when the code is compi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2FF8-D0BD-4BA1-B24F-3FB2FA57C1C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ithmetic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as five (5) arithmetic ope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457200" y="2057400"/>
          <a:ext cx="8381880" cy="4191120"/>
        </p:xfrm>
        <a:graphic>
          <a:graphicData uri="http://schemas.openxmlformats.org/drawingml/2006/table">
            <a:tbl>
              <a:tblPr/>
              <a:tblGrid>
                <a:gridCol w="1447920"/>
                <a:gridCol w="1974600"/>
                <a:gridCol w="1257480"/>
                <a:gridCol w="3701880"/>
              </a:tblGrid>
              <a:tr h="69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Oper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</a:tr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tal = cost + tax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st = total – tax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x = cost * rate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alePrice = original / 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u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ainder = value % 5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3ABF9-A7CC-44C4-9F4A-1687F8027A7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247644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Sim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95280" y="3086280"/>
            <a:ext cx="5452200" cy="2209680"/>
            <a:chOff x="1295280" y="3086280"/>
            <a:chExt cx="5452200" cy="2209680"/>
          </a:xfrm>
        </p:grpSpPr>
        <p:sp>
          <p:nvSpPr>
            <p:cNvPr id="95" name=""/>
            <p:cNvSpPr/>
            <p:nvPr/>
          </p:nvSpPr>
          <p:spPr>
            <a:xfrm>
              <a:off x="2130480" y="3619800"/>
              <a:ext cx="4617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is area is the body of the class Simp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ll of the data and methods for this class</a:t>
              </a:r>
              <a:br>
                <a:rPr sz="2000"/>
              </a:b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will be between these curly brac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95280" y="3086280"/>
              <a:ext cx="762120" cy="2209680"/>
            </a:xfrm>
            <a:custGeom>
              <a:avLst/>
              <a:gdLst>
                <a:gd name="textAreaLeft" fmla="*/ 0 w 762120"/>
                <a:gd name="textAreaRight" fmla="*/ 275040 w 76212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zing The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9600" y="179064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This is a simple Java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76920" y="1714680"/>
            <a:ext cx="4038120" cy="642600"/>
            <a:chOff x="4876920" y="1714680"/>
            <a:chExt cx="4038120" cy="642600"/>
          </a:xfrm>
        </p:grpSpPr>
        <p:sp>
          <p:nvSpPr>
            <p:cNvPr id="100" name=""/>
            <p:cNvSpPr/>
            <p:nvPr/>
          </p:nvSpPr>
          <p:spPr>
            <a:xfrm>
              <a:off x="5670000" y="1714680"/>
              <a:ext cx="32450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This is a Java comment. It is ignored by the compil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76920" y="1866600"/>
              <a:ext cx="793080" cy="304560"/>
            </a:xfrm>
            <a:prstGeom prst="leftArrow">
              <a:avLst>
                <a:gd name="adj1" fmla="val 50000"/>
                <a:gd name="adj2" fmla="val 651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429000" y="2400480"/>
            <a:ext cx="4973400" cy="703800"/>
            <a:chOff x="3429000" y="2400480"/>
            <a:chExt cx="4973400" cy="703800"/>
          </a:xfrm>
        </p:grpSpPr>
        <p:sp>
          <p:nvSpPr>
            <p:cNvPr id="103" name=""/>
            <p:cNvSpPr/>
            <p:nvPr/>
          </p:nvSpPr>
          <p:spPr>
            <a:xfrm>
              <a:off x="5717880" y="2400480"/>
              <a:ext cx="26845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is is the class header</a:t>
              </a:r>
              <a:br>
                <a:rPr sz="2000"/>
              </a:b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for the class 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29000" y="2628720"/>
              <a:ext cx="2209680" cy="304560"/>
            </a:xfrm>
            <a:prstGeom prst="leftArrow">
              <a:avLst>
                <a:gd name="adj1" fmla="val 50000"/>
                <a:gd name="adj2" fmla="val 18138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77B5-5156-494F-89B6-29E5088310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ithmetic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erators are called binary operators because they must have two oper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perator must have a left and right op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age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ithmetic operators work as one would ex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n error to try to divide any number by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orking with two integer operands, the division operator requires special atten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6221-833D-424A-B81A-FD15A70DFDF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er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can be tric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 a Java program, what is the value of 1/2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ight think the answer is 0.5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, that’s w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 is simply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division will truncate any decimal remain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0A6F-1BE7-479A-86BE-397853561B5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or Prece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expressions can be very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set order in which arithmetic operations will be carrie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066680" y="3733920"/>
          <a:ext cx="7772400" cy="2185920"/>
        </p:xfrm>
        <a:graphic>
          <a:graphicData uri="http://schemas.openxmlformats.org/drawingml/2006/table">
            <a:tbl>
              <a:tblPr/>
              <a:tblGrid>
                <a:gridCol w="1903680"/>
                <a:gridCol w="1677960"/>
                <a:gridCol w="3276360"/>
                <a:gridCol w="914400"/>
              </a:tblGrid>
              <a:tr h="49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ocia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unary neg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 to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= -4 + 3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 /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 to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= -4 + 4 % 3 * 13 + 2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 to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= 6 + 3 – 4 + 6 * 3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"/>
          <p:cNvSpPr/>
          <p:nvPr/>
        </p:nvSpPr>
        <p:spPr>
          <a:xfrm>
            <a:off x="152640" y="4267080"/>
            <a:ext cx="9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2640" y="5257800"/>
            <a:ext cx="9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F1E6-0AC8-43AE-A206-BCFF63E014B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uping with Pare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parenthesis are used in an expression, the inner most parenthesis are processed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wo sets of parenthesis are at the same level, they are processed left to r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((4*5) / (5-2) ) – 25;  // result = -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447920" y="3716280"/>
            <a:ext cx="3124080" cy="2610720"/>
            <a:chOff x="1447920" y="3716280"/>
            <a:chExt cx="3124080" cy="2610720"/>
          </a:xfrm>
        </p:grpSpPr>
        <p:sp>
          <p:nvSpPr>
            <p:cNvPr id="477" name=""/>
            <p:cNvSpPr/>
            <p:nvPr/>
          </p:nvSpPr>
          <p:spPr>
            <a:xfrm rot="5400000">
              <a:off x="1774800" y="4640400"/>
              <a:ext cx="247680" cy="574560"/>
            </a:xfrm>
            <a:custGeom>
              <a:avLst/>
              <a:gdLst>
                <a:gd name="textAreaLeft" fmla="*/ 0 w 247680"/>
                <a:gd name="textAreaRight" fmla="*/ 89280 w 247680"/>
                <a:gd name="textAreaTop" fmla="*/ 26640 h 574560"/>
                <a:gd name="textAreaBottom" fmla="*/ 547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00"/>
                    <a:pt x="10800" y="3199"/>
                  </a:cubicBezTo>
                  <a:lnTo>
                    <a:pt x="10800" y="7601"/>
                  </a:lnTo>
                  <a:cubicBezTo>
                    <a:pt x="10800" y="9201"/>
                    <a:pt x="16200" y="10800"/>
                    <a:pt x="21600" y="10800"/>
                  </a:cubicBezTo>
                  <a:cubicBezTo>
                    <a:pt x="16200" y="10800"/>
                    <a:pt x="10800" y="12400"/>
                    <a:pt x="10800" y="13999"/>
                  </a:cubicBezTo>
                  <a:lnTo>
                    <a:pt x="10800" y="18401"/>
                  </a:lnTo>
                  <a:cubicBezTo>
                    <a:pt x="10800" y="200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31960" y="5008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6200000">
              <a:off x="2400120" y="3240720"/>
              <a:ext cx="304920" cy="2209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4880 h 2209680"/>
                <a:gd name="textAreaBottom" fmla="*/ 21348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72"/>
                    <a:pt x="10800" y="2343"/>
                  </a:cubicBezTo>
                  <a:lnTo>
                    <a:pt x="10800" y="8565"/>
                  </a:lnTo>
                  <a:cubicBezTo>
                    <a:pt x="10800" y="9737"/>
                    <a:pt x="16200" y="10908"/>
                    <a:pt x="21600" y="10908"/>
                  </a:cubicBezTo>
                  <a:cubicBezTo>
                    <a:pt x="16200" y="10908"/>
                    <a:pt x="10800" y="12080"/>
                    <a:pt x="10800" y="13251"/>
                  </a:cubicBezTo>
                  <a:lnTo>
                    <a:pt x="10800" y="19257"/>
                  </a:lnTo>
                  <a:cubicBezTo>
                    <a:pt x="10800" y="20429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84280" y="3716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5400000">
              <a:off x="2640960" y="3936240"/>
              <a:ext cx="761760" cy="3100320"/>
            </a:xfrm>
            <a:custGeom>
              <a:avLst/>
              <a:gdLst>
                <a:gd name="textAreaLeft" fmla="*/ 0 w 761760"/>
                <a:gd name="textAreaRight" fmla="*/ 275040 w 761760"/>
                <a:gd name="textAreaTop" fmla="*/ 105120 h 3100320"/>
                <a:gd name="textAreaBottom" fmla="*/ 2995200 h 31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72"/>
                    <a:pt x="10800" y="2343"/>
                  </a:cubicBezTo>
                  <a:lnTo>
                    <a:pt x="10800" y="8565"/>
                  </a:lnTo>
                  <a:cubicBezTo>
                    <a:pt x="10800" y="9737"/>
                    <a:pt x="16200" y="10908"/>
                    <a:pt x="21600" y="10908"/>
                  </a:cubicBezTo>
                  <a:cubicBezTo>
                    <a:pt x="16200" y="10908"/>
                    <a:pt x="10800" y="12080"/>
                    <a:pt x="10800" y="13251"/>
                  </a:cubicBezTo>
                  <a:lnTo>
                    <a:pt x="10800" y="19257"/>
                  </a:lnTo>
                  <a:cubicBezTo>
                    <a:pt x="10800" y="20429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24200" y="5867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76480" y="5008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5400000">
              <a:off x="2995560" y="4640400"/>
              <a:ext cx="247680" cy="574560"/>
            </a:xfrm>
            <a:custGeom>
              <a:avLst/>
              <a:gdLst>
                <a:gd name="textAreaLeft" fmla="*/ 0 w 247680"/>
                <a:gd name="textAreaRight" fmla="*/ 89280 w 247680"/>
                <a:gd name="textAreaTop" fmla="*/ 26640 h 574560"/>
                <a:gd name="textAreaBottom" fmla="*/ 547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00"/>
                    <a:pt x="10800" y="3199"/>
                  </a:cubicBezTo>
                  <a:lnTo>
                    <a:pt x="10800" y="7601"/>
                  </a:lnTo>
                  <a:cubicBezTo>
                    <a:pt x="10800" y="9201"/>
                    <a:pt x="16200" y="10800"/>
                    <a:pt x="21600" y="10800"/>
                  </a:cubicBezTo>
                  <a:cubicBezTo>
                    <a:pt x="16200" y="10800"/>
                    <a:pt x="10800" y="12400"/>
                    <a:pt x="10800" y="13999"/>
                  </a:cubicBezTo>
                  <a:lnTo>
                    <a:pt x="10800" y="18401"/>
                  </a:lnTo>
                  <a:cubicBezTo>
                    <a:pt x="10800" y="200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3A02-65D2-4331-9BEF-E74F052703A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ed Assignment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as some combined assignment ope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operators allow the programmer to perform an arithmetic operation and assignment with a single op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not required, these operators are popular since they shorten simple eq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FC98-BAE7-4A8B-B098-A79B8BE25D3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ed Assignment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1295280"/>
                <a:gridCol w="1549440"/>
                <a:gridCol w="1955880"/>
                <a:gridCol w="3733560"/>
              </a:tblGrid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 of variable after 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+= 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= x + 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old value of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lus 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 -= 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 = y – 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old value of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inu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 *= 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 = z * 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old value of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imes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/= b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 a / b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old value of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ivided by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%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%= 3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= c % 3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remainder of the division of the old value of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ivided by 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706D-474E-4F57-9F94-5AFDCAD4080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Cons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rograms have data that does not need to be chan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ering programs with literal values can make the program hard do read and main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ing literal values with constants remedies this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allow the programmer to use a name rather than a value throughout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also give a singular point for changing those values when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6A27-7A31-4D69-9A03-B273212D56B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Cons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keep the program organized and easier to main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are identifiers that can hold only a singl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are declared using the key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need not be initialized when declared; however, they must be initialized before they are used or a compiler error will be gene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EE7B-5369-4AFE-B850-1949D8CB650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Cons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initialized with a value, constants cannot be changed programmat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convention, constants are all upper case and words are separated by the underscore charac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final int CAL_SALES_TAX = 0.72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D2F4-4058-4919-8A96-B4109F6392E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has no primitive data type that holds a series of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from the Java standard library is used for this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be useful, the a variable must be created to referenc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String num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pper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onvention, class names should always begin with an upper case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3A38-EFBD-4402-88FB-AA5E8F4DE32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zing The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6960" y="179064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This is a simple Java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09480" y="2476440"/>
            <a:ext cx="5241600" cy="3020040"/>
            <a:chOff x="609480" y="2476440"/>
            <a:chExt cx="5241600" cy="3020040"/>
          </a:xfrm>
        </p:grpSpPr>
        <p:sp>
          <p:nvSpPr>
            <p:cNvPr id="108" name=""/>
            <p:cNvSpPr/>
            <p:nvPr/>
          </p:nvSpPr>
          <p:spPr>
            <a:xfrm>
              <a:off x="609480" y="2476440"/>
              <a:ext cx="2971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c class Simp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37960" y="3314520"/>
              <a:ext cx="4713120" cy="21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c static void main(String[] args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00200" y="3848040"/>
            <a:ext cx="6213600" cy="1008720"/>
            <a:chOff x="1600200" y="3848040"/>
            <a:chExt cx="6213600" cy="1008720"/>
          </a:xfrm>
        </p:grpSpPr>
        <p:sp>
          <p:nvSpPr>
            <p:cNvPr id="111" name=""/>
            <p:cNvSpPr/>
            <p:nvPr/>
          </p:nvSpPr>
          <p:spPr>
            <a:xfrm>
              <a:off x="1978920" y="3848040"/>
              <a:ext cx="583488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is area is the body of the main metho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ll of the actions to be completed d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e main method will be between these curly brac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00200" y="3924000"/>
              <a:ext cx="228240" cy="914400"/>
            </a:xfrm>
            <a:custGeom>
              <a:avLst/>
              <a:gdLst>
                <a:gd name="textAreaLeft" fmla="*/ 0 w 228240"/>
                <a:gd name="textAreaRight" fmla="*/ 82440 w 2282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562720" y="1486080"/>
            <a:ext cx="3347640" cy="2314080"/>
            <a:chOff x="5562720" y="1486080"/>
            <a:chExt cx="3347640" cy="2314080"/>
          </a:xfrm>
        </p:grpSpPr>
        <p:sp>
          <p:nvSpPr>
            <p:cNvPr id="114" name=""/>
            <p:cNvSpPr/>
            <p:nvPr/>
          </p:nvSpPr>
          <p:spPr>
            <a:xfrm>
              <a:off x="5562720" y="1486080"/>
              <a:ext cx="3347640" cy="131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is is the method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for the main method. 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main method is where a 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pplication begins.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5943240" y="2857320"/>
              <a:ext cx="814680" cy="942840"/>
            </a:xfrm>
            <a:custGeom>
              <a:avLst/>
              <a:gdLst>
                <a:gd name="textAreaLeft" fmla="*/ 0 w 814680"/>
                <a:gd name="textAreaRight" fmla="*/ 815040 w 81468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724" stAng="10800000" swAng="5400000"/>
                  <a:lnTo>
                    <a:pt x="13431" y="4436"/>
                  </a:lnTo>
                  <a:lnTo>
                    <a:pt x="13431" y="0"/>
                  </a:lnTo>
                  <a:lnTo>
                    <a:pt x="21600" y="6079"/>
                  </a:lnTo>
                  <a:lnTo>
                    <a:pt x="13431" y="12158"/>
                  </a:lnTo>
                  <a:lnTo>
                    <a:pt x="13431" y="7722"/>
                  </a:lnTo>
                  <a:lnTo>
                    <a:pt x="12427" y="7722"/>
                  </a:lnTo>
                  <a:arcTo wR="9141" hR="4438" stAng="16200000" swAng="-5400000"/>
                  <a:lnTo>
                    <a:pt x="3286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0911-FDF7-4206-BCEF-322B1F3939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itive vs. Reference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 variables actually contain the value that they have been assig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number = 2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25 will be stored in the memory location associated with the variabl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re not stored in variables, however. Object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ferenc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B22D-0C9F-45CB-9D51-A3631A2FA45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itive vs. Reference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variable references an object, it contains the memory address of the object’s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it is said that the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String cityName =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"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Charleston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"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495680"/>
            <a:ext cx="243864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05120" y="4876920"/>
            <a:ext cx="2666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to th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2680" y="4946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city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72000" y="5105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73720" y="3657600"/>
            <a:ext cx="34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he object that contains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haracter string “Charlest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9B2C-AF3D-4573-935D-91AD9587783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able can be assigned a String li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String value = “Hell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only objects that can be created in this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able can be created us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String value = new String(“Hello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method that all other objects must use when they are cre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tringDem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28E2-C8F6-41D9-BCF2-70282D7D3BF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lass, objects that are instances of it have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ose methods i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stringSize = value.length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tatement run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on the object pointed to by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tringLength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36AF-66FB-4FEB-851A-C273499D2F5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contains many methods that help with the manipulation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mu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meaning that they cannot be 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f the methods o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can create new versions of the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StringMethods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0063-C261-44CA-817B-C4D659128F5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s to the part of a program that has access to a variable’s cont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declared inside a method (like the main method)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variables’ scope begins at the declaration of the variable and ends at the end of the method in which it was decl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cope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his program contains an intentional erro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4A40-2E3D-499A-955B-3E8BAD40446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nting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vides three methods for commenting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80880" y="2209680"/>
          <a:ext cx="8458200" cy="4067280"/>
        </p:xfrm>
        <a:graphic>
          <a:graphicData uri="http://schemas.openxmlformats.org/drawingml/2006/table">
            <a:tbl>
              <a:tblPr/>
              <a:tblGrid>
                <a:gridCol w="1524240"/>
                <a:gridCol w="6933960"/>
              </a:tblGrid>
              <a:tr h="72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 line comment.  Anything after the // on the line will be ignored by the compil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*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ock comment.  Everything beginning with /* and ending with the first */ will be ignored by the compiler.  This comment type cannot be nest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**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doc comment.  This is a special version of the previous block comment that allows comments to be documented by the javadoc utility program.  Everything beginning with the /** and ending with the first */ will be ignored by the compiler.  This comment type cannot be nest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8A27-808A-46D2-B1AF-BAA0449AF2B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nting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doc comments can be built into HTML docu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omment3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the documen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d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gram with the source file as an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doc Comment3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d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gram will creat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several other documentation files in the same directory as the inpu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5E9B-922A-48D2-B5A5-02637FE01F1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nting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index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639120" cy="450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4A84-9544-4752-9503-EFA4E1D742D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Java has a strict syntax, whitespace characters are ignored by the compi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whitespace character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age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f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ompact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2B85-C074-498E-880A-20A1B74283F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zing The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9600" y="160164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This is a simple Java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2120" y="2287440"/>
            <a:ext cx="7270560" cy="3020040"/>
            <a:chOff x="762120" y="2287440"/>
            <a:chExt cx="7270560" cy="3020040"/>
          </a:xfrm>
        </p:grpSpPr>
        <p:sp>
          <p:nvSpPr>
            <p:cNvPr id="119" name=""/>
            <p:cNvSpPr/>
            <p:nvPr/>
          </p:nvSpPr>
          <p:spPr>
            <a:xfrm>
              <a:off x="762120" y="2287440"/>
              <a:ext cx="2971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c class Simp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89520" y="3125520"/>
              <a:ext cx="6743160" cy="21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c static void main(String [] args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stem.out.println("Programming is great fun!");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743200" y="4497120"/>
            <a:ext cx="5050800" cy="1439280"/>
            <a:chOff x="2743200" y="4497120"/>
            <a:chExt cx="5050800" cy="1439280"/>
          </a:xfrm>
        </p:grpSpPr>
        <p:sp>
          <p:nvSpPr>
            <p:cNvPr id="122" name=""/>
            <p:cNvSpPr/>
            <p:nvPr/>
          </p:nvSpPr>
          <p:spPr>
            <a:xfrm>
              <a:off x="3733200" y="5232600"/>
              <a:ext cx="40608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is is the Java Statement that </a:t>
              </a:r>
              <a:br>
                <a:rPr sz="2000"/>
              </a:b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is executed when the program run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2604960" y="4635000"/>
              <a:ext cx="1143000" cy="86688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611" stAng="10800000" swAng="5400000"/>
                  <a:lnTo>
                    <a:pt x="15120" y="4549"/>
                  </a:lnTo>
                  <a:lnTo>
                    <a:pt x="15120" y="0"/>
                  </a:lnTo>
                  <a:lnTo>
                    <a:pt x="21600" y="6079"/>
                  </a:lnTo>
                  <a:lnTo>
                    <a:pt x="15120" y="12158"/>
                  </a:lnTo>
                  <a:lnTo>
                    <a:pt x="15120" y="7609"/>
                  </a:lnTo>
                  <a:lnTo>
                    <a:pt x="12427" y="7609"/>
                  </a:lnTo>
                  <a:arcTo wR="9367" hR="4551" stAng="16200000" swAng="-5400000"/>
                  <a:lnTo>
                    <a:pt x="306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868E-E251-4239-8B56-E631F3D884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should use proper ind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lock of code should be indented a few spaces from its surrounding bl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o four spaces are suffic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 characters should be avo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s can vary in size between applications and de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rogramming text editors allow the user to replace the tab with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eadable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A899-D24F-47C0-968B-CBCC3F59472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ad input from the keyboard we can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we will use the following statement at the top of our program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ort java.util.Scann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F1B6-3C47-4DC6-857F-AD7F107E34E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ner objects work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reate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keyboard = new Scanner (System.i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methods are listed in Table 2-18 in 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ayroll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A7E9-BCF2-42DD-AABC-46EB192DAFA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alog bo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mall graphical window that displays a message to the user or requests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ety of dialog boxes can be displayed using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f the dialog box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alog - a dialog box that displays a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Dialog - a dialog box that prompts the user for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1FF2-8A25-43F9-B6DE-EEB0933922E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is not automatically available to your Java pro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tatement must be before the program’s class hea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x.swing.JOptionPa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tatement tells the compiler where to find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D3B7-FA5B-4D4E-9C32-DC98A54D496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1371600"/>
            <a:ext cx="728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provides methods to display each type of dialog b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3403800" cy="15541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2743200" y="4572000"/>
            <a:ext cx="3780000" cy="162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D198-25C8-48E8-9909-2E869BBDBFE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sage Dia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s used to display a message dial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"Hello World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argument will be discussed in Chapter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argument is the message that is to be  displa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2666880" y="4572000"/>
            <a:ext cx="3413160" cy="155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E959-5D4C-46AC-8884-D95CB05DB7B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Dia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put dialog is a quick and simple way to ask the user to enter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alog displays a text field, an Ok button and a Cancel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k is pressed, the dialog returns the user’s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ancel is pressed, the dialog returns n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7512-3B4D-47B3-ADFA-CA50AE2E3B2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Dia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 = JOptionPane.showInputDialog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Enter your nam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 passed to the method is the message to dis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user clicks on the OK button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 the string entered by the u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user clicks on the Cancel button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2438280" y="4724280"/>
            <a:ext cx="3780000" cy="162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68B1-7D51-4AE6-BAFD-FA02D6436E1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ystem.ex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use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not automatically stop executing when the end of the main method i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generate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is a process running in the computer, when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r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ex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is not called, this thread continues to exec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6DC7-6C74-4E18-BB54-D727311B106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s of a Jav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 is ignored by the compi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ment in the example is a single-line com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 header tells the compiler things about the class such as what other classes can use it (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that it is a Java class (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and the name of that class (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i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ly Br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ssociated with the class header, they define the scope of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ssociated with a method, they define the scope of the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A872-4359-4D7B-BE38-388C6AA207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ystem.ex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ex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quires an integer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xit(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rgument i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it co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 passed back to the operating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de is usually ignored, however, it can be used outside th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dicate whether the program ended successfully or as the result of a fail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0 traditionally indicates that the program ended successfu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375D-E0BC-44D1-8E80-C252E48A1E5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ting a String to a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InputDia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always returns the user's input a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aining a number, such as “127.89, can be converted to a numeric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8026-55F0-4BE7-9C86-57C3B1A9CF5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ars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f the numeric wrapper classes, (covered in Chapter 10) has a method that converts a string to a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has a method that converts a string 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has a method that converts a string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methods are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se metho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their names begin with the word “pars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E971-A77A-4B6C-A932-C1C88AC2A72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ars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1 in b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yte bVar = Byte.parseByte("1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2599 in i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Var = Integer.parseInt("2599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10 in s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rt sVar = Short.parseShort("10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15908 in l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 lVar = Long.parseLong("15908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12.3 in f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fVar = Float.parseFloat("12.3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7945.6 in d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Var = Double.parseDouble("7945.6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54BF-74F4-46B4-957E-5CB57E76790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an Integer with an Input Di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19051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um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 = JOptionPane.showInputDialog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Enter a number.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 = Integer.parseInt(s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AE10-A403-4A23-A31A-713529BA7C1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an Input Di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19051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 = JOptionPane.showInputDialog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Enter the retail price.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ce = Double.parseDouble(s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45720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PayrollDialog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C04F-EBB9-43A5-8C5A-145BA685573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20:51:31Z</dcterms:created>
  <dc:creator>Tony Gaddis</dc:creator>
  <dc:description/>
  <dc:language>en-US</dc:language>
  <cp:lastModifiedBy>test</cp:lastModifiedBy>
  <cp:lastPrinted>2009-04-22T19:24:48Z</cp:lastPrinted>
  <dcterms:modified xsi:type="dcterms:W3CDTF">2007-02-20T17:30:29Z</dcterms:modified>
  <cp:revision>143</cp:revision>
  <dc:subject>Java Fundamentals </dc:subject>
  <dc:title>Chapter 2</dc:title>
</cp:coreProperties>
</file>