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APL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"/>
          <p:cNvSpPr/>
          <p:nvPr/>
        </p:nvSpPr>
        <p:spPr>
          <a:xfrm>
            <a:off x="503280" y="2253960"/>
            <a:ext cx="9072360" cy="34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31640" indent="-215640"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tstream Vera Sans"/>
                <a:ea typeface="Lucida San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  <a:ea typeface="Lucida San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itstream Vera Sans"/>
                <a:ea typeface="Lucida Sans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  <a:ea typeface="Lucida Sans"/>
              </a:rPr>
              <a:t>rogramming </a:t>
            </a:r>
            <a:r>
              <a:rPr b="0" lang="en-US" sz="4400" spc="-1" strike="noStrike">
                <a:solidFill>
                  <a:srgbClr val="000000"/>
                </a:solidFill>
                <a:latin typeface="Bitstream Vera Sans"/>
                <a:ea typeface="Lucida San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  <a:ea typeface="Lucida Sans"/>
              </a:rPr>
              <a:t>anguag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  <a:ea typeface="Lucida Sans"/>
              </a:rPr>
              <a:t>http://www.microapl.co.uk/apl/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431640" indent="-215640"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  <a:ea typeface="Lucida Sans"/>
              </a:rPr>
              <a:t>Array-Processing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  <a:ea typeface="Lucida Sans"/>
              </a:rPr>
              <a:t>Josh Mickle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Interpreter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66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PL 1.1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nd at:</a:t>
            </a:r>
            <a:br>
              <a:rPr sz="2800"/>
            </a:br>
            <a:br>
              <a:rPr sz="2800"/>
            </a:br>
            <a:r>
              <a:rPr b="0" lang="en-US" sz="2500" spc="-1" strike="noStrike">
                <a:solidFill>
                  <a:srgbClr val="000000"/>
                </a:solidFill>
                <a:latin typeface="Bitstream Vera Sans"/>
              </a:rPr>
              <a:t>http://www.microapl.co.uk/apl/aplx_downloads.htm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latforms supported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- Linu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- Window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- Macintosh                                 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Brief History of APL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ased on a mathematical notation invented by Kenneth E. Iverson in 1957 while at Harvard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 Programming Language book published in 1962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verson received the Turing award in 1979 for his work with APL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"/>
          <p:cNvSpPr/>
          <p:nvPr/>
        </p:nvSpPr>
        <p:spPr>
          <a:xfrm>
            <a:off x="1459080" y="6066000"/>
            <a:ext cx="899136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itstream Vera Sans"/>
              </a:rPr>
              <a:t>Source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7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itstream Vera San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itstream Vera Sans"/>
              </a:rPr>
              <a:t>http://en.wikipedia.org/wiki/APL_programming_languag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What is APL?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rray/Vector Programming Languag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s a non-standard character set consisting of approximately 200 character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owerful, Expressive, Conci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(at the expense of readability and comprehensibility)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 output will the following expression produce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0 – 10 – 8 - 5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itstream Vera Sans"/>
              </a:rPr>
              <a:t>13  !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Bitstream Vera Sans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481120"/>
            <a:ext cx="8686800" cy="4148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Standard APL Keyboard Layout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3" name=""/>
          <p:cNvSpPr/>
          <p:nvPr/>
        </p:nvSpPr>
        <p:spPr>
          <a:xfrm>
            <a:off x="2373480" y="6751800"/>
            <a:ext cx="563868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itstream Vera Sans"/>
              </a:rPr>
              <a:t>(Cropped screen shot capture of a window in APLX 1.1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Palindrome Tester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Written by me, Josh Mickley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907320" cy="4892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b User</cp:lastModifiedBy>
  <dcterms:modified xsi:type="dcterms:W3CDTF">2005-12-06T19:51:28Z</dcterms:modified>
  <cp:revision>2</cp:revision>
  <dc:subject/>
  <dc:title>APL</dc:title>
</cp:coreProperties>
</file>