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932-EEBE-4F4B-BB68-EDE7AE5E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404-6E9D-4E1C-8CB8-08423F9D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66B-2418-4AE5-AE09-1BA07224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5F3-E23C-4CD7-92BB-24016F47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D40-263E-4A33-A49A-70A4FBDF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35EE-992F-4200-A628-83B8DFE9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A2FD-ABB4-44B6-8363-42A6F559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239C-6F1B-408D-BF8B-1E3003EE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C7EA-8CDB-4E6A-9B1A-F68834B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F417-64E8-4B65-A427-D40E44D1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CB28-C6ED-4B6B-BB60-EFDA18AD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780-2655-4830-A72E-148225E8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831F-13D7-477D-A11A-965E61A7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A73E-E8AB-40AD-B1DF-D6E27EDD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F409-004B-42AD-9ADE-A2783F0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ECBB-3CE7-4030-BFAF-DB5144ED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F8D0-C2F1-4978-8443-4C2BCE7C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CDB-A6C7-4A15-A0FA-367265C9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FDB-8299-462D-91AF-1F709B27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071-4B49-4492-86A8-4BAB372B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97D-0038-4FAF-931A-63DD3BDC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95B-88FA-419D-B5D8-925B150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901-402F-4B9A-A188-7BF91BD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408-A986-4B41-9F4E-78C48D4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44CD-74A3-4728-B3CE-CAE7A4D8FD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308F-C532-41A3-B091-2FFFC2047D8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ept.de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alltalk.org/" TargetMode="External"/><Relationship Id="rId2" Type="http://schemas.openxmlformats.org/officeDocument/2006/relationships/hyperlink" Target="http://www.exept.de/" TargetMode="External"/><Relationship Id="rId3" Type="http://schemas.openxmlformats.org/officeDocument/2006/relationships/hyperlink" Target="http://www.exept.de/" TargetMode="External"/><Relationship Id="rId4" Type="http://schemas.openxmlformats.org/officeDocument/2006/relationships/hyperlink" Target="http://www.exept.de/" TargetMode="External"/><Relationship Id="rId5" Type="http://schemas.openxmlformats.org/officeDocument/2006/relationships/hyperlink" Target="http://www.whysmalltalk.com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malltalk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ww.smalltalk.or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ndal Mil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ct Oriented Program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2085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a - Alan Kay at the University of Utah during the late 1960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lemented – Xerox Palo Alto Research Center in 197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alltalk is not just a language but a complete software development environment with a GU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Smalltal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"called "Smalltalk"--as in "programming should be a matter of ..." [Smalltalk] and "children should program in ..." [Smalltalk]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ed on key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ly 7 reserved wo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rything in Smalltalk is an object and things are accomplished by sending messages to the object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statements are evaluated from left to right so arithmetic has no order of operations – Exception = paranthe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+ 7 * 2     = 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 * 2 + 3     =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malltalk/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vailable a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exept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s 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ux, Solaris, Unixware, Windows 9x,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indows NT/XP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Sunos, Ultrix, ReallX, HP-UX, Alpha OS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sy install…download, unzip, open folder stx/projects and execute smalltal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al Fea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iler – Translates Smalltalk classes into real machine c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preter – Fast turn around to test your c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eals to “Lisper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I development too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werful file and system brows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O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esn’t support multiple inheri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sses inherit methods from Object class, but some error classes do not extend Object to purposely cause excep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 browser to add                                          classes and meth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638680" y="4000680"/>
          <a:ext cx="31752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4000680"/>
                    <a:ext cx="31752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al Fea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nsive class library with lots of ready to use building blocks for applic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in GUI painter that allows dragging  and dropping of buttons, text boxes, labels, trees, menus, files, etc. Similar to Visual Basic or .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malltal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exept.de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http://www.whysmalltalk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2:39:34Z</dcterms:created>
  <dc:creator>Stoopid Kid</dc:creator>
  <dc:description/>
  <dc:language>en-US</dc:language>
  <cp:lastModifiedBy>Stoopid Kid</cp:lastModifiedBy>
  <dcterms:modified xsi:type="dcterms:W3CDTF">2005-12-06T05:14:46Z</dcterms:modified>
  <cp:revision>5</cp:revision>
  <dc:subject/>
  <dc:title>References</dc:title>
</cp:coreProperties>
</file>