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200-24A2-4F18-BFC4-8A5757F8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75C-C7F3-4FC5-810A-3FCFC664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AAA-BD07-4FDB-97E4-8DBA5B59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6DE-B4F3-4A74-A3D7-A23320B3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5A01-02A1-4E25-9E20-E01DDFED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138B-EF2A-46E5-B460-EAC2CDAF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4BCA-D44A-4547-8EA6-CE5E8F24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546D-7850-4C8A-9718-1DE5C848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787C-75C2-4806-947C-23DDB550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D2B4-28C2-4A42-8B89-4F29D13B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31B2-F9E9-49B0-B5B4-0861E6F5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6BC-1BE9-4B82-AD1F-D2B888D8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D920-1A8E-4A7F-AB20-EDF7037F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9A11-DBF8-4A52-8BE8-CE1FB16A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C0F3-0FBB-44A7-B658-B3D150C6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6CD1-60AC-4072-8C62-33C4CE01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E94F-4CEF-41FA-A9DA-A7215D7E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4C8-7164-4A4A-8AD3-2BBD35CF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56A-8E7C-4662-AA5F-A30710AD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777-D4DF-411D-A260-492C90BD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95C-D3EA-440E-9C3D-DE887E88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AFD-88FD-40AB-AB65-FA524EF5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9E5-39BA-4969-8CE6-A228BFDB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96A-575D-497C-8888-8A585AFB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A71D-9D43-4904-BCF0-60388FDEFFF9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9950-50FC-4B5A-8C88-41B22F43C08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ylan_programming_language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yl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120" y="37335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 object-oriented DYnamic LANguag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l Shapir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ww.gwydiondylan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ginal reason for Dylan: software has become too compl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d by a group led by Apple and was intended for use with Apple’s Newton computer. Official release in 199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ly maintained by Gwydion Dyl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gan with LISP style syntax and has moved toward a more Algol style syntax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operations are fun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s and generic fun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ethod is a basic unit of executable co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no pass-by-refer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unctions: Examp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define function absolute-value(x :: &lt;integer&gt;) =&gt; (result :: &lt;integer&gt;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if (x &gt;= 0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x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els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-x;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end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end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21240" y="6019920"/>
            <a:ext cx="63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http://www.gwydiondylan.org/fragments/multiple-values.phtm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etter/Setter Func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373356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(a) // Gets the name of acto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-setter(new, a) // Sets the name of actor a to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ry(a) // Gets the salary of acto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ry-setter(new, a) // Sets the salary of actor a to n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s(a) // Gets the audience size of act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s-setter(new, a) // Sets the audience size of actor a to n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167652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define class &lt;actor&gt; (&lt;object&gt;)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lot name; // Actor's name slot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alary; // Cost to hire slot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fans; // Audience size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end class;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7040" y="6248520"/>
            <a:ext cx="80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http://devworld.apple.com/dev/techsupport/develop/issue21/21strassman.htm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pported 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(x86, PowerP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BS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ar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c OS X/Darwi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ows with Cygwin/gc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P-UX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http://devworld.apple.com/dev/techsupport/develop/issue21/21strassman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http://www.gwydiondylan.org/fragments/multiple-values.p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en.wikipedia.org/wiki/Dylan_programming_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gwydiondylan.org/books/drm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22:39:30Z</dcterms:created>
  <dc:creator>Lisa Shapiro</dc:creator>
  <dc:description/>
  <dc:language>en-US</dc:language>
  <cp:lastModifiedBy>profile</cp:lastModifiedBy>
  <dcterms:modified xsi:type="dcterms:W3CDTF">2005-12-06T02:23:05Z</dcterms:modified>
  <cp:revision>7</cp:revision>
  <dc:subject/>
  <dc:title>Dylan</dc:title>
</cp:coreProperties>
</file>