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3840" indent="-216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5480" indent="-2142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7480" indent="-216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74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74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itanium.cs.berkeley.edu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itanium.cs.berkeley.edu/src/INSTAL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9966"/>
                </a:solidFill>
                <a:latin typeface="Arial"/>
              </a:rPr>
              <a:t>Titanium</a:t>
            </a:r>
            <a:endParaRPr b="1" i="1" lang="en-US" sz="4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itanium.cs.berkeley.edu/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pecialty Language/Object Oriented Languag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Gabriel Beltra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12:30 Secti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Professor Adam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Flexible and efficient multi-dimensional array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Nonblocking Arraycop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8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Instead of waiting for the result of a copy to be computed and then sending the copy, the copy is made as the computations are being performed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8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8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Distributed Array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8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Titanium supports the construction of distributed array data structures using the global address spac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8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i.e. we do not need to take the entire array out of the space to change an element, but only the element in question.”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*http://www.csc.liv.ac.uk/~frans/COMP101/AdditionalStuff/JavaSpaces/distribArray.html 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0">
              <a:lnSpc>
                <a:spcPct val="8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Explicitly unordered loop iterat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9720" indent="-53352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Foreach Loop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1033560" indent="0">
              <a:lnSpc>
                <a:spcPct val="93000"/>
              </a:lnSpc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1033560" indent="-4572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</a:rPr>
              <a:t>foreach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 (p in A.domain()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1033560" indent="0">
              <a:lnSpc>
                <a:spcPct val="93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459080"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Times New Roman"/>
              </a:rPr>
              <a:t>A[p] = 42; 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2" marL="1459080"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2" marL="1459080"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1" marL="1033560" indent="-4572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s style of iterator simplifies the removal of array bound checks from the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</a:rPr>
              <a:t>loop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 body. The iteration order is not specified, which allows the compiler to reorder iterations without the sophisticated and often fragile analysis used by Fortran or C compilers to perform tiling or other optimizations.”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1033560" indent="0">
              <a:lnSpc>
                <a:spcPct val="93000"/>
              </a:lnSpc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1033560" indent="0">
              <a:lnSpc>
                <a:spcPct val="93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e6e6e6"/>
                </a:solidFill>
                <a:latin typeface="Times New Roman"/>
              </a:rPr>
              <a:t>*http://64.233.161.104/search?q=cache:EdZGH6RUuq4J:www.cs.utexas.edu/users/browne/cs392cf2001/papers/titanium.ps+titanium+foreach+loop&amp;hl=en&amp;client=firefox-a</a:t>
            </a: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User-defined immutable class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Allowing the creation of user-defined unboxed objects, analogous to C structs. These provide efficient support for extending the language with new types which are manipulated and passed by value, avoiding pointer-chasing overheads which would otherwise be associated with the use of tiny objects in Java.”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8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8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If one were then to define an array of such Complex objects, the resulting in-memory representation would be an array of pointers to tiny objects, each containing the real and imaginary components for one complex number. This representation is wasteful of storage space.”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6e6e6"/>
                </a:solidFill>
                <a:latin typeface="Times New Roman"/>
              </a:rPr>
              <a:t>*http://bit.csc.lsu.edu/lcpc05/papers/lcpc05-paper-46.pdf</a:t>
            </a: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8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Titanium Immutable Class Exampl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44680" y="1722600"/>
          <a:ext cx="9219960" cy="41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1722600"/>
                    <a:ext cx="9219960" cy="41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96960" y="637056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http://bit.csc.lsu.edu/lcpc05/papers/lcpc05-paper-46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ross-Language suppor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ross-Language Call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Titanium allows the programmer to make calls to kernels and libraries written in other languages, enabling code reuse and mixed-language applications. This feature allows programmers to take advantage of tested, highly-tuned libraries, and encourages shorter, cleaner, and more modular cod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ode Exampl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1265400"/>
          <a:ext cx="8975520" cy="48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5400"/>
                    <a:ext cx="8975520" cy="48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92040" y="659916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http://www.cs.berkeley.edu/projects/titanium/doc/FindMax.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Useful URL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http://titanium.cs.berkeley.edu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http://java.sun.com/products/jdo/javadocs/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Titanium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itanium is an explicitly parallel dialect of Java developed at UC Berkeley to support high-performance scientific computing on large-scale multiprocessors, including massively parallel supercomputers and distributed-memory clusters with one or more processors per node. Other language goals include safety, portability, and support for building complex data structures.”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6e6e6"/>
                </a:solidFill>
                <a:latin typeface="Times New Roman"/>
              </a:rPr>
              <a:t>*http://titanium.cs.berkeley.edu/ </a:t>
            </a: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ompiler Installat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itanium.cs.berkeley.edu/src/INSTAL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Requires a linux distribution with Perl 5.004, GNU make, GNU c++/c, flex, and Java sdk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Unpack to whatever directory you wish to install the compiler i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./configure -&gt; Finds out what kind of machine it is running on and generates a suitable "Makefile"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ompiler Installation cont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12800" y="1337760"/>
            <a:ext cx="8772480" cy="56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make -&gt; </a:t>
            </a: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Builds the compiler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d runtime/backen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make tlib -&gt;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After the compiler itself is built, you must precompile the standard class libraries.  These include such things as java.lang.String, java.io.FileInputStream, and so o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</a:rPr>
              <a:t>The entire installation process is quite long(about 4 hours).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588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e6e6e6"/>
                </a:solidFill>
                <a:latin typeface="Times New Roman"/>
              </a:rPr>
              <a:t>*All of these commands require superuser rights. Prepending “sudo” to the commands solved the issue for me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ompiler Installation Screenshot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06440" y="15699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/con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73240" y="1963800"/>
          <a:ext cx="790416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240" y="1963800"/>
                    <a:ext cx="790416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ompiler Installation Screenshot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382760" y="1874880"/>
          <a:ext cx="7415280" cy="46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760" y="1874880"/>
                    <a:ext cx="74152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306440" y="1417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ompiler Installation Screenshot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306440" y="1951200"/>
          <a:ext cx="745344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6440" y="1951200"/>
                    <a:ext cx="745344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154160" y="1494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Running the compile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Enter the tcbuild directory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The command is “tcbuild FileName.ti”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You will be able to run the executable entitled FileNam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Programs are translated to intermediate C code and then compiled to machine code using a vendor provided C compiler. They are then linked to native runtime libraries which implement communication, garbage collection, and other system-level activities.”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6e6e6"/>
                </a:solidFill>
                <a:latin typeface="Times New Roman"/>
              </a:rPr>
              <a:t>*http://bit.csc.lsu.edu/lcpc05/papers/lcpc05-paper-46.pdf</a:t>
            </a: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Arial"/>
              </a:rPr>
              <a:t>Titanium additions to Jav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lexible and efficient multi-dimensional array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Nonblocking Arraycop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Distributed Array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Explicitly unordered loop itera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Foreach Loop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User-defined immutable class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Immutabl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ross-Language suppor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ross-Language Call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briel Beltran</cp:lastModifiedBy>
  <dcterms:modified xsi:type="dcterms:W3CDTF">2005-12-06T05:27:43Z</dcterms:modified>
  <cp:revision>32</cp:revision>
  <dc:subject/>
  <dc:title>Titanium</dc:title>
</cp:coreProperties>
</file>