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E87-AE71-45E3-B1A0-1DD0D198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929-9652-4F38-B479-E2B67A6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DDE-E304-49DF-82A4-77B570E0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0A2-EEA0-4B0C-A7D1-F831CCDC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A1A-1017-441A-9D97-D6085050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3A6D-3667-411C-B5D6-852E63F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72D5-7C80-4830-BE8C-EC55173B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104-E578-40E3-841C-EB085D6C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D7C-57E7-4AD8-929A-7C9B9DB0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A7D0-7622-48A5-A36E-2F29473C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20B-BCEE-4581-86A6-24295ED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1F0-C4FA-4D63-917F-1E7FD45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F131-C2B7-4002-8702-A23F3E3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CE3F-7329-433C-9A91-8DB7F67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BECD-D870-407C-BEF5-5DC83C88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C82F-7E49-4494-BD7C-DD1FE589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A2C-E08F-4946-9BCB-775E51CC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5FF-15E1-47B9-AE92-FD5C0DC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D05-8C6E-46C6-8F92-A2A9F19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892-1D4F-49AC-9D20-751F66B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817-AF90-41B9-A7A4-44960010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E99-CCA0-42C2-AEFC-802F755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BA3-CEBE-48A5-8941-B6E2F5D3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325-3033-46A1-A018-FAECE3C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8A31-B273-4EC6-8357-76FC5A7D3FB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0656-1EB8-42EF-BBE3-9C84D430C2F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cl.tk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l Command Language (TC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 Letnaunchy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tcl.tk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ed Scripting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pported Operating Sys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er written in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/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stributions offer a package that may be used to ease the instal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arious Iss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a working Windows Bi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velopers do not provide Windows Binaries, only the source code.  It is assumed the user will be able to compile the interpreter source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Binary download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://tcl.activestate.com/pub/tcl/tcl8_4/tcl84a2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lug-s.org/dokumentation/kurse/tcl_tk/gfx0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cltk.free.fr/showmantcltk.ph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story and U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Ousterhout created TCL in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with the goal of creating an interpreted language as a library package that could be reused in many different applications.  The interpreter provided basic functionality and programs added their own features called exten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tcl.tk/about/history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dibly versatile, use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GUI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nd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pidly develop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platform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structure is often shorter than its compet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ax easy to le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be integrated into other languages such as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useful I/O not easy to work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knowledge of C and C compiler in order to install the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8:02:51Z</dcterms:created>
  <dc:creator>Office</dc:creator>
  <dc:description/>
  <dc:language>en-US</dc:language>
  <cp:lastModifiedBy>Office</cp:lastModifiedBy>
  <dcterms:modified xsi:type="dcterms:W3CDTF">2005-12-06T18:38:42Z</dcterms:modified>
  <cp:revision>28</cp:revision>
  <dc:subject/>
  <dc:title>Tool Command Language (TCL)</dc:title>
</cp:coreProperties>
</file>