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2DE0-C82D-4570-8423-38C1DDA3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EF27-D51D-4FE0-97A9-D7905849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37E6-ED84-4CF3-AF9F-7A772D03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9197-B51D-4B58-90D6-C3932BCB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06F8-E5F1-44D9-A702-070A838B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32A9-2FE6-4045-8E2B-0B4C7D68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DE9F-8134-4ADB-866D-073A8D72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015C-662D-48C4-97C4-277D477D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FCD0-4F5E-40DE-B2E5-00F0EF1F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7255-3318-4A0C-A02B-82A63422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F525-9A10-4F6A-84AF-AB053A78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F9F6-0E37-4002-BDEF-E4392E05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164E-C71A-4CAC-A359-CD52C119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B8F9-D14A-4FB9-8735-02C5DCD9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748A-8668-424F-A021-289515C8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A4E2-91B8-4F38-96D9-B5FF7157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9334-F5BC-4A3B-B8B8-7ED0CC4F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95DA-C941-431D-8047-8F31B40D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7EB9-BCBC-4DAF-884A-990E5FBA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DA7E-525C-43EF-A7D7-6A559E79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582B-88FB-450F-8DD0-FEE8B05A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8A38-4C76-4005-90BE-418D4D31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284C-AE1E-4368-8F44-52D8342D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FDD4-1BD0-49D0-84AB-4853706B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B418-B0FE-462B-948B-8197662E3C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657D-F798-4A4B-B42F-2C18239F96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pivey.oriel.ox.ac.uk/mike/obc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zel.org/oberon/osci.htm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spivey.oriel.ox.ac.uk/mike/obc/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OBERON</a:t>
            </a:r>
            <a:br>
              <a:rPr sz="4800"/>
            </a:br>
            <a:br>
              <a:rPr sz="48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website: http://www.oberon.ethz.ch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udia Mar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 530  3:30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or: Dr. Elizabeth  Ad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Code Example</a:t>
            </a:r>
            <a:br>
              <a:rPr sz="3200"/>
            </a:br>
            <a:r>
              <a:rPr b="0" lang="en-US" sz="1200" spc="-1" strike="noStrike">
                <a:solidFill>
                  <a:srgbClr val="dfdef6"/>
                </a:solidFill>
                <a:latin typeface="Arial"/>
              </a:rPr>
              <a:t>(code was obtained from 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http://spivey.oriel.ox.ac.uk/mike/obc/</a:t>
            </a:r>
            <a:r>
              <a:rPr b="0" lang="en-US" sz="1400" spc="-1" strike="noStrike" u="sng">
                <a:solidFill>
                  <a:srgbClr val="dfdef6"/>
                </a:solidFill>
                <a:uFillTx/>
                <a:latin typeface="Arial"/>
              </a:rPr>
              <a:t> and modified)</a:t>
            </a:r>
            <a:endParaRPr b="0" lang="en-US" sz="1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ULE Fac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ORT Args, Conv, Ou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R n: SHORTIN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f: ARRAY 10 OF CHA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EDURE Fac(n: INTEGER): INTEGE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n = 0 TH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n * Fac(n-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 Fac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EDURE Fac2(n: INTEGER): INTEGE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R i, f: INTEGE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:= 0; f := 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LE i &lt; n DO i := i+1; f := f*i END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 Fac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s.GetArg(1, buf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:= SHORT(Conv.IntVal(buf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.Char(CAP('t')); Out.String("he factorial of "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.Int(n, 0); Out.String(" is "); Out.Int(Fac2(n), 0); Out.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 Fa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ERON Histor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ber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name of a modern integrat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ftware enviro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a single-user, multi-tasking system that runs on bare hardware or on top of a host operating syst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eron is also the name of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ming langu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Pascal/Modula tradi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beron project was launched in 1985 by Niklaus Wirth and Jürg Gutknec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shed in 19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endant of Agol 60 (1960) and Modula (197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ERON Featur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trongly types languages, such as Algol, Pascal, and Modula, every constant, variable, or function has a fixed type, recognizable from the program text. Oberon allows to define hierarchies of types, and to determine the actual type of a variable (within the hierarchy) at run-time. This, together with records containing fields of procedural types, is the stem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bject-oriented program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ERON Compil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compilers, unfortunately none works under window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st of compilers can be found here: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http://www.zel.org/oberon/osci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used Oxford Oberon compiler :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http://spivey.oriel.ox.ac.uk/mike/obc/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, which was easy to install (just run the exe file), works under MS-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nice compiler is Pow!(Oberon-2) : http://www.fim.uni-linz.ac.at/pow/pow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beron- Programming Languag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 Paradigm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-ori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eron is a compiled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ERON- Reserved wo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457200" y="1600200"/>
          <a:ext cx="8229600" cy="4040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g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si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in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d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t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: 27 reserved wor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2527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ERON Program Structu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gram is called a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odule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unit of text that is compiled. A module can contain one or several proced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ecutable un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program is called a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ced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ERON – Procedure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 nam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declarations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statements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n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ERON - Module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E Patter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Texts, Ober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 W: Texts.Writ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 command*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 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*executable code*)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comman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Patte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3:57:51Z</dcterms:created>
  <dc:creator>Claudia Marin</dc:creator>
  <dc:description/>
  <dc:language>en-US</dc:language>
  <cp:lastModifiedBy>Claudia Marin</cp:lastModifiedBy>
  <dcterms:modified xsi:type="dcterms:W3CDTF">2005-12-06T14:54:59Z</dcterms:modified>
  <cp:revision>6</cp:revision>
  <dc:subject/>
  <dc:title>OBERON</dc:title>
</cp:coreProperties>
</file>