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3F0-40D7-4EAE-8EC8-6F60C2EE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0E4-F23F-46B8-A7B3-2F0D9615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399-A9BF-47AC-8A96-B0876239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AB2-D819-452B-AEE5-8FAFF120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EB4-B2FD-4FEC-BDD2-984DD20F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BD7-235B-46C4-990B-977EA93C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54E-F208-4FE3-A421-0EC5512F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CE9-7F53-42A7-BD81-B07E8E21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4B2-0D40-446A-AABA-4A3DED0B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4FA-8225-4081-AFEE-EE7BCD60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AF5-2301-4A5A-80E9-9A38D28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B29-1658-4034-B92C-F30594D8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E17-002A-4ABF-B44D-1CFE2E56C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ndaspaces.com/downloads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-LI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4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/Th 3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phi.sinica.edu.tw/instruct/workshop/html/linda/linda.html#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lindaspaces.com/products/linda_benefit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otse.com/dlf/Languag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its.strath.ac.uk/courses/c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 Professor David Gelernter of Yale University in the mid 19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are C-Linda, Fortran-Linda, and javaSpace is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 implementation was made available by Scientific Computing Associ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commercial product to implement virtual shared mem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compiler fro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ndaspaces.com/downloa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 compiler and create .nstnet.config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path to /bin in the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-Linda files have a .cl ex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iled with clc &lt;name&gt;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binary executable with                   clc -0 &lt;exe_file_name&gt; &lt;name&gt;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set of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lel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tual Shared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/Work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rtual Shared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n as tupl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multi-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 like one global memory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 divides work to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repeatedly retrieve/proces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gather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6160" y="274680"/>
            <a:ext cx="75916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qu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- generates passive tu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(“array_data”, row, co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- generates active tu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(“worker”, work(i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 retrieves/removes tuple from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(“array_data”, ?row, ?co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d- retrieves tuple from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d(“array_data, ?row, ?co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Use Li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ord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 load bal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dd(x, y)  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f("sum: %d",(x+y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0;    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real_main(int argc, char *argv[])  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 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a, b, c, d,number1, number2, number3; 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f("Enter a number: ");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anf ("%d", &amp;number1); 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f("Enter another numb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anf ("%d", &amp;number2);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f("Enter a third number: 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anf("%d", &amp;number3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rt_timer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(“math”, 4+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(“math”, ?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f(“a= %d”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(“hello", 1, 2);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(“hello", 3, 4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("hello", ?a, ?b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d("hello", ?c, ?d);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("worker", add(a, b)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("worker", add(c, d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 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mer_split("done.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_times();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(0)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4:37:43Z</dcterms:created>
  <dc:creator>asdfasdf</dc:creator>
  <dc:description/>
  <dc:language>en-US</dc:language>
  <cp:lastModifiedBy>asdfasdf</cp:lastModifiedBy>
  <dcterms:modified xsi:type="dcterms:W3CDTF">2005-12-06T06:40:59Z</dcterms:modified>
  <cp:revision>13</cp:revision>
  <dc:subject/>
  <dc:title>C-LINDA</dc:title>
</cp:coreProperties>
</file>