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09B-B05B-40CB-AEBD-25EC9FAA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0C4-FCD3-4EAE-BC97-A6CA4BF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260-BBA0-47A3-AF6B-14D65888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156-F75E-42BB-B109-2F956892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153-8E22-4A5B-85E5-333FA83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8CA-39F6-453D-8835-B18C1293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C3B-65EF-4C61-AD09-B58C2C8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672-5F79-4AFF-9D4D-312336C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6EA-523E-4F41-B482-07B2C000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B42-1A80-4D54-A56A-7297728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B49-A65E-4E76-928A-4949DB6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EB4-C3FC-4929-BA95-7442F8A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016A-F882-4806-A070-EB4E3F8D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se.monash.edu.au/~lloyd/tildeFP/SML/1997/Intro/" TargetMode="External"/><Relationship Id="rId2" Type="http://schemas.openxmlformats.org/officeDocument/2006/relationships/hyperlink" Target="http://www.csse.monash.edu.au/~lloyd/tildeFP/SML/1997/Intro/" TargetMode="External"/><Relationship Id="rId3" Type="http://schemas.openxmlformats.org/officeDocument/2006/relationships/hyperlink" Target="http://www.dcs.napier.ac.uk/course-notes/sml/manual.html" TargetMode="External"/><Relationship Id="rId4" Type="http://schemas.openxmlformats.org/officeDocument/2006/relationships/hyperlink" Target="http://www.faqs.org/faqs/meta-lang-faq/" TargetMode="External"/><Relationship Id="rId5" Type="http://schemas.openxmlformats.org/officeDocument/2006/relationships/hyperlink" Target="http://www.faqs.org/faqs/meta-lang-faq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 Wilk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: 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mlnj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 into a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N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: 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nbu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 into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input stream is st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6002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strea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utput stream is st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dErr is also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do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ointers for loop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 ifac 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 n = ref 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* n is a pointer with value 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 i = ref 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* i is a pointer with value 1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le !n &lt;&gt; 0 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* the ! dereferences, giving th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i := !i * !n; n := !n -1)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* pointer valu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!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cs.ed.ac.uk/home/stg/NOTES/node87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 written by Nathan Wilkins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ext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name 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(stdOut, "The input for your name was "^Int.toString(size N)^" characters long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ame "Nathan Wilkinso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put for your name was 16 character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it = () :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* written by Nathan Wilkins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ext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largenumber 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N&gt;100) then print("You gave a large number\n") else print("You gave a small number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rgenumber 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ave a smal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it = () :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rgenumber 1455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gave a larg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it = () :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fu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nas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University M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 Gentle Introduction to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Q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about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implementation of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used the Standard ML of N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L/NJ supports the following operating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 - OSF/1 3.2, DUX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- Irix 4.0.x, 5.x, 6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86 - Linux, Solaris, FreeBSD, NetBSD, Windows95, Windows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c - SunOS, Sol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/6000 - A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C - A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PA - HPUX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6386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file, run smlnj.exe, go through normal inst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5627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L/NJ was developed at Bell Laboratories and Princet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as a primary language at som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ogram is loaded into the mai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ad in the Standard ML of NJ, you use the reserved wo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“helloworld.sml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quit the SML/NJ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.Process.exit(OS.Process.succe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, real, bool, char,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so create your ow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le_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 randomint = 32 : i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 favcolour = blue : colou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test = 10 : 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test=10) then print “yes!\n” else print “no…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 it = () :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286000"/>
            <a:ext cx="4419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it 4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t = 16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it(4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t = 16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by 4 5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t = 20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by(4)(5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t = 20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itplyby 4 5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it = 20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nction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parameters…]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stuff you want the function to do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286000"/>
            <a:ext cx="35053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quareit x :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x*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multiplyby x y :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x*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3:20:08Z</dcterms:created>
  <dc:creator>Nathan Wilkinson</dc:creator>
  <dc:description/>
  <dc:language>en-US</dc:language>
  <cp:lastModifiedBy>Nathan Wilkinson</cp:lastModifiedBy>
  <dcterms:modified xsi:type="dcterms:W3CDTF">2005-12-01T15:21:00Z</dcterms:modified>
  <cp:revision>28</cp:revision>
  <dc:subject/>
  <dc:title>Nathan Wilkinson</dc:title>
</cp:coreProperties>
</file>