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8BF-42C2-4854-AC1C-04F0513E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E1E-8491-4433-8279-B1295B55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BA9-5E11-4AA9-B62B-A675B5D3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84A-CC39-443F-8E7E-9401F20B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35C-933D-4B29-BE8E-51E24BAC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F35-0460-44FA-8FFF-081D55BD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28C-4035-4D60-A355-0756F12A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AF8-0080-4B4E-AFF6-8FC85920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3DB-072B-4EDD-83F9-35AD954E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664-3961-4D51-88A4-B6B6BA7E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D26-AF0D-4849-B45B-7FEC0C4C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0E3-FE97-4417-AB92-0F01ED7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B517-354C-46C7-9F6A-800544993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h.umd.edu/~dcarrera/ruby/0.3/index.html" TargetMode="External"/><Relationship Id="rId2" Type="http://schemas.openxmlformats.org/officeDocument/2006/relationships/hyperlink" Target="http://www.ruby-doc.org/docs/ruby-doc-bundle/Manual/man-1.4/" TargetMode="External"/><Relationship Id="rId3" Type="http://schemas.openxmlformats.org/officeDocument/2006/relationships/hyperlink" Target="http://www.rubycentral.com/book/language.html" TargetMode="External"/><Relationship Id="rId4" Type="http://schemas.openxmlformats.org/officeDocument/2006/relationships/hyperlink" Target="http://www.brpreiss.com/books/opus8/html/page609.html" TargetMode="External"/><Relationship Id="rId5" Type="http://schemas.openxmlformats.org/officeDocument/2006/relationships/hyperlink" Target="http://www.ruby-lang.org/en/20020102.html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nguage Ruby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aradigm 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nctional, imperative, concurrent, object-oriented )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sen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mal Pd. Humaga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-53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6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y needs no variable declarations.  It has the conventions to denote the scope of variables. Examples: simple 'var' = local variable, '@var' = instance variable, '$var' = global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y features OS independent threading. Thus, for all platforms on which Ruby runs, you also have multithreading, regardless of if the OS supports it or not, even on MS-DO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: Himal Pd. Humagain Dec 6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65D-B25C-4FFB-A264-81141089C0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: Himal Pd. Humagain Dec 6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90B-018B-4CC2-8B8F-93B23D7D68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ful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.umd.edu/~dcarrera/ruby/0.3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uby-doc.org/docs/ruby-doc-bundle/Manual/man-1.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ubycentral.com/book/languag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brpreiss.com/books/opus8/html/page6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Ruby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ruby-lang.org/en/2002010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in XP: Just Click the .exe file. It sets up the path it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y editor to write the program and save the file in .rb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: Himal Pd. Humagain Dec 6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3B1-82CE-4669-B250-848478D46F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value of a method is the value of the last expression executed, or the result of an explici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-Length Argument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def varargs(arg1, *re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y provides only one parameter passing method-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ss-by-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: Himal Pd. Humagain Dec 6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336-C8B8-415F-ABB7-A5132EDE6E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p Range Example</a:t>
            </a:r>
            <a:br>
              <a:rPr sz="4000"/>
            </a:b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des in this example and in the hand out Is written by 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7543800" cy="181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7715520" cy="20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: Himal Pd. Humagain Dec 6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965-28D2-46D3-8B9E-7422F71128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iable-Length Argument Lis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7696440" cy="18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: Himal Pd. Humagain Dec 6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CD0-B7EB-46DE-8FCC-C30C1EE662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8153280" cy="16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: Himal Pd. Humagain Dec 6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2A1-D78D-4FED-AB45-B4B7FF2B46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2296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22960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: Himal Pd. Humagain Dec 6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36A-3A3B-473B-8892-6A654A52C6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Ru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kihiro Matsumoto ("Matz") Inv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y Programming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tarted to work on Ruby :1993 February,24 and it was released on 2003 August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ly developed for Object  Oriented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y is highly portable: it is developed mostly on Linux, but works on many types of UNIX, DOS, Windows 95/98/Me/NT/2000/XP, MacOS, BeOS, OS/2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: Himal Pd. Humagain Dec 6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7BC-FDB7-40D8-AE24-D54E36869F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Interesting Features of Ru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y has syntax, partially inspired by Eiffel and 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exception handling like Java or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y features blocks in its syntax (code surrounded by '{' ... '}' or 'do' ... 'end'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y features single inheritance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: Himal Pd. Humagain Dec 6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0B2-5361-4C9C-B3B2-B3BD1C1585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23:11:30Z</dcterms:created>
  <dc:creator>Gxxxx</dc:creator>
  <dc:description/>
  <dc:language>en-US</dc:language>
  <cp:lastModifiedBy>Gxxxx</cp:lastModifiedBy>
  <dcterms:modified xsi:type="dcterms:W3CDTF">2005-12-06T16:53:49Z</dcterms:modified>
  <cp:revision>10</cp:revision>
  <dc:subject/>
  <dc:title>Himal Pd.Humagain Language Ruby http://www.ruby-lang.org/en/ Multiparadigm programming language  (Functional, imperative, concurrent, object-oriented )</dc:title>
</cp:coreProperties>
</file>