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934-C99D-48AC-AEBE-3A000D8F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DFB-BDDC-4D7B-A617-49305380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C82-8B9D-466F-94B6-A5D63022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1A20-767F-40D3-826E-5AD951D8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444A-6A25-4ADA-A63A-66D4D0CA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71F2-B5BE-4D2C-AEED-80BC344F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78BA-9C2B-4ABE-A2BC-B5B3D4A7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67DA-807B-4459-A232-A624E9E9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BC8D-9A72-4246-A5B6-3F4B196B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FCF6-FCA0-43A6-994D-C88B21C1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C644-790A-4C44-BB53-92FAB597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85B0-A106-4BBC-BC16-9B6A620B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1EF6-0E94-425C-B862-D00E5D9E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8303-0036-4507-8B5C-BCC907D7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8938-C199-4582-9B47-71161E19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04EB-CE28-4203-85A7-349ED444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D7C5-99A2-4371-8D98-9B337088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771E-9652-41B0-B793-2AA3ECB9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5AD6-60BE-4965-A1A6-D68B6E78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FAE9-F7A8-4EAE-8A94-61014525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8A5D-1500-4CDC-8F79-05A495D0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BC8-5399-40B5-9D79-4893928F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2FD1-939A-4354-9AE4-93E3B604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FA1-2F50-47E5-8E41-64F0A9FA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87F6-1D09-468C-B3E6-0C9274DD9DA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2B0C-BD37-484C-A644-3626DD00230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ython.org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Jyth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jython.or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bject-Oriente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Ryan Lanma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 Loo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loops on the other hand are a little strang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ther than iterating through an arithmetic sequence of values, it iterates over the items of any sequence (list,string,etc) in the order that they appear in that sequence, for examp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=[‘dog’,’cat’,’kid’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x in 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 loops 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utput would b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story of Jyth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d by Jim Hugun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gins beginning in 199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rted as JPython, but in order to become open source had to be changed to Jyth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Why Jython?</a:t>
            </a:r>
            <a:br>
              <a:rPr sz="40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Why implement Python in Java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ows Embedded Scrip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active Experim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pid Application Develop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perating Syst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ython is compatible with any system that can run the Java Virtual Mach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04960" y="80496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stall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80773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ed Jav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&gt;&gt;&gt;win=swing.JFrame (“Welcome to Jython!”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&gt;&gt;&gt;win.size=(200,20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&gt;&gt;&gt;win.show(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419720" y="3505320"/>
            <a:ext cx="281916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bprogra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unction na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parameter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ment b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ameters not typ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ameters passed by val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f State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tatement seque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ython has no “case statement, so instead it uses the else-if clau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tatement seque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i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condit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tatement seque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tatement seque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ile Loo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le loop is the standard structure of a while loop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l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ondi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tatement sequ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3:16:49Z</dcterms:created>
  <dc:creator>Ryan Lanman</dc:creator>
  <dc:description/>
  <dc:language>en-US</dc:language>
  <cp:lastModifiedBy>profile</cp:lastModifiedBy>
  <dcterms:modified xsi:type="dcterms:W3CDTF">2005-12-01T19:50:36Z</dcterms:modified>
  <cp:revision>3</cp:revision>
  <dc:subject/>
  <dc:title>Jython</dc:title>
</cp:coreProperties>
</file>