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371-DB8F-4F29-BC4A-98F2E73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66B-2DF6-4516-A0DF-8B0EF9F7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7B5-6329-4EEE-AEB9-E11E5F54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4D8-CBEA-4389-ADCC-A526183F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458B-9AC9-479A-854F-58885D6C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38BB-B191-4A68-BC18-88435DF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C349-ADF4-4A1C-884D-B23D5A67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01C5-3B6A-4333-9FD0-67CAA7DB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31C9-6973-4F33-AFBF-E1C87D30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92C3-51A0-4095-A73B-E145F668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83F0-5EA9-4691-86B1-667364E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A33-FC92-4444-AEBA-B7FB89DB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DFE2-A028-4158-AD02-56D7C08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ECB-9390-48DE-A713-B0FD2A9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9905-FA8E-4FE5-BCB7-8466D841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E8C0-466A-45CA-853C-5E78DC00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49E8-C798-43A0-8C7B-B44DF4A6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4A0-3348-4475-9C46-0699A95D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992-4718-4FA2-A3EA-9A5796B3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166-8A45-47F2-90D6-DA6C8FDC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107-E72A-4D58-8219-EE15AF98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589-B4A5-4808-9CCA-53AC686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422-1763-4BEA-B8A9-4BAD67A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C39-1323-4D5B-8D6C-EC0ECE5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C66A-F97B-4015-B778-5929579FDC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0D02-23D5-4044-82D5-1FDDABFAF3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ABC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Alex Nazar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clarative languag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http://homepages.cwi.nl/~steven/abc/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/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 was developed by the CWI, founded in 1946 in Netherlands, the National Research Institute of Mathematics and Computer Sci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ven Pembert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umber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gt;&gt;&gt; WRITE root 2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41421356237309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("ha " ^^ 3) ^ ("ho " ^^ 3) IN laug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laug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 ha ha ho ho h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"Hello! "^^1000 IN greet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#gree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0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greeting|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l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greeting@4|3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gt;&gt;&gt; WRITE {1..10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{1; 2; 3; 4; 5; 6; 7; 8; 9; 10}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gt;&gt;&gt; PUT {1..10} IN 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gt;&gt;&gt; REMOVE 5 FROM 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gt;&gt;&gt; INSERT 4 IN 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gt;&gt;&gt; INSERT pi IN 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gt;&gt;&gt; WRITE 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{1; 2; 3; 3.141592653589793; 4; 4; 6; 7; 8; 9; 10}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ound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ounds are like records or structures, but without field nam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("Square root of 2", root 2) IN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"Square root of 2", 1.414213562373095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c IN name, val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nam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uare root of 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val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41421356237309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bles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s resemble array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{} IN te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4054 IN tel["Jennifer"]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4098 IN tel["Timo"]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PUT 4134 IN tel["Guido"]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gt;&gt;&gt; WRITE tel["Jennifer"]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05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nning the pro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03360" y="2500200"/>
          <a:ext cx="636120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2500200"/>
                    <a:ext cx="636120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8:03:42Z</dcterms:created>
  <dc:creator>Alex Nazari</dc:creator>
  <dc:description/>
  <dc:language>en-US</dc:language>
  <cp:lastModifiedBy>Alex Nazari</cp:lastModifiedBy>
  <dcterms:modified xsi:type="dcterms:W3CDTF">2005-11-30T01:58:17Z</dcterms:modified>
  <cp:revision>2</cp:revision>
  <dc:subject/>
  <dc:title>ABC</dc:title>
</cp:coreProperties>
</file>