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7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4A4-4BFE-4389-971C-A79FD26C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746-0D6D-4B95-9219-D991F86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008-B369-4009-8879-76CB18D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F8A-A30C-4E3E-9828-8A5AA606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9FC-DA8C-48A8-953E-09410E0C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CC5-058B-4C3D-B3EA-FE6B7EF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912-E7BB-4C4A-9B3F-1169738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D25-BECE-4F5A-A667-33145F63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4B5-1D5F-4E29-8B89-3C2569CA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22D-E853-437F-A08D-A14596E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325-8D8D-4A3E-9F47-80B77DC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65E-8319-4436-B7B6-3B9435D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42C80-192A-435E-ADC0-E60D427E72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dula2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celsior-usa.com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odula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Related to Pascal and Mod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mpil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eb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9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modula2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aradigm (para-dim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9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General Purpose Procedural Language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lnSpc>
                <a:spcPct val="9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Jim Ford-Fle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lnSpc>
                <a:spcPct val="9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CS 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lnSpc>
                <a:spcPct val="99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12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37160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447920"/>
            <a:ext cx="777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odula-2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4764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velop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Niklaus Wir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ETH in Zurich, Switzer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Late 70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Primary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Flexible enough to be used in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systems programming.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37160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447920"/>
            <a:ext cx="777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odula-2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omp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X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www.excelsior-us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ample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torial.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ource Website: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3399"/>
                </a:solidFill>
                <a:latin typeface="Century Gothic"/>
              </a:rPr>
              <a:t>www.engin.umd.umich.edu/CIS/course.des/cis400/modula2/fac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95280"/>
            <a:ext cx="838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37160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447920"/>
            <a:ext cx="777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Gothic"/>
              </a:rPr>
              <a:t>Modula-2 Sampl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95280"/>
            <a:ext cx="8382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447920"/>
            <a:ext cx="777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ODULE Factoria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InOut IMPORT WriteCard, WriteL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DURE Fact(n:CARDINAL):CARDINA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fact: CARDINA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: CARDINA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n &gt; 8 THEN RETURN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fact: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i:=n TO 1 BY -1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fact:=nfact*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TURN nfa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D Fa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:CARDINA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i:=0 TO 8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riteCard(i,3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riteCard(Fact(i),1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riteL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D Factor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Ford-Fleming</dc:creator>
  <dc:description/>
  <dc:language>en-US</dc:language>
  <cp:lastModifiedBy/>
  <cp:revision>0</cp:revision>
  <dc:subject/>
  <dc:title>Modula-2 http://www.modula2.org/</dc:title>
</cp:coreProperties>
</file>