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50B0-3FB4-403B-BD19-3D9C4E11C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56A8-762C-4D84-8476-5464389D8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269A-ED39-4289-8C2A-FA3642D3C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1F38-108E-4C22-9F38-D840FEB2B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16D4-0188-47FB-B1A1-E7012DC32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A372-1E52-4B90-8908-962E08E27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8C8E-2C25-4D39-A07A-44C831F4D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D425-E539-418C-A861-FBE0BA4BC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417F-CB26-4666-9563-0F3E92473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B32B-8689-4F70-A68E-47B7926A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7C7B-0049-4DAB-857F-D6442F6D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B667-C738-42F8-9C34-539380DE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066680" y="1474920"/>
            <a:ext cx="4368600" cy="5459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68B7D-AFAB-4FC0-BFA2-56A5805BA9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nswers.com/topic/eiffel-programming-language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marteiffel.loria.fr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730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Eiff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48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: Charles Crab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 Web Site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nswers.com/topic/eiffel-programming-languag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ed by Bertrand Meyer and his company which is now called “Eiffel Software Inc.” in 198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: To produce reliable and reusable softw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ely based on Object-Oriented Programm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ompi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d trouble with the first compiler I downloaded and instal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ditor did not seem to work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cond compiler called “smartEiffel” worked pretty easi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/S: Windows (98, 2000 / NT or XP) or Linux/Un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site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marteiffel.loria.fr/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perators, I/O, and Data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Boolean Operator Precedence: and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has precedence over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495680"/>
            <a:ext cx="82296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ata Types: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AL, INTEGER, CHARACTER, BOOLEAN, DOUBLE, and STR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eclaration: 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Variable Name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 Variable Type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ssignment: 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Variable Name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:=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 (What it equals)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2438280"/>
            <a:ext cx="37339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/O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o.put_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(Type)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“…”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o.read_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(Type)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(Name)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:= io.last_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(Type)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2438280"/>
            <a:ext cx="37339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/O Exampl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o.put_string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eger: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o.read_integer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yint := io.last_integer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lass Decla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dexing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- Tagged lines that describe vario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pects of the cla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- The name of the class. It’s in ca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bsolete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- What is obsolete from the new vers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herit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- The parent class that is be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heri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reate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- The name of the “main” program be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eature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- This is where variables are declar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global and local).  Also this is wh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 programs body and procedures 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rit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varian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- This is where true conditions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sertions about the class are mad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ou put in pre/post conditions in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eatures s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ello World”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47920" y="1981080"/>
            <a:ext cx="6476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ELLO_WOR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.put_string ("Hello, world!%N"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onditional and Loop Stat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-- Condition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If/Else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tatements are similar to ADA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nspec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Control Exp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when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Range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statement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when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Rang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statemen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statement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-- Loo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(initialization instruction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unti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(exit condition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(body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rocedures and Exce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-- Procedur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(Procedure Name)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Variab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 : (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Return Type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 is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What You Want To Be Done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29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--Excep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(Do What You Want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nsu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(Check To Make Su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It Is Correct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rescu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(If Not Then Error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Useful Web Sites/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ood Information About the Languag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answers.com/topic/eiffel-programming-langu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en.wikipedia.org/wiki/Eiffel_programming_langu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archive.eiffel.com/nice/language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ood Tutorial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gobosoft.com/eiffel/syntax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cs.rit.edu/~hpb/Lectures/98_CS1/all.htm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1T18:53:15Z</dcterms:created>
  <dc:creator>Charles Crabtree</dc:creator>
  <dc:description/>
  <dc:language>en-US</dc:language>
  <cp:lastModifiedBy>Charles Crabtree</cp:lastModifiedBy>
  <dcterms:modified xsi:type="dcterms:W3CDTF">2005-12-01T20:02:03Z</dcterms:modified>
  <cp:revision>20</cp:revision>
  <dc:subject/>
  <dc:title>Eiffel</dc:title>
</cp:coreProperties>
</file>