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BA4-BC1B-454C-B9FB-B0907492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79A-1D0B-4484-9C9F-966C5EA2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976-CD71-45B9-8B88-65F6D8E1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F74-0901-4C12-9E17-AAE57349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291-2E9E-4329-B12A-977C91B6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9B8-31E7-40EB-833B-15A655C0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CA6-633E-4581-B8A6-AFCEE184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455-DD67-4D7D-9C54-91AE2DF7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D23-432D-4DE8-B061-D593ABA1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33B-C6E9-4BB7-BB0C-BC3D5BB4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38D-1469-4677-9D96-1BDB51A1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F40-97A5-429B-8A40-24FA4478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99E4-1A2E-4C6C-8C4A-E63C5CE4D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earn.perl.org/library/beginning_perl/3145.zip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ownloads.activestate.com/ActivePerl/Windows/5.8/ActivePerl-5.8.7.815-MSWin32-x86-211909.zip" TargetMode="External"/><Relationship Id="rId2" Type="http://schemas.openxmlformats.org/officeDocument/2006/relationships/hyperlink" Target="http://downloads.activestate.com/ActivePerl/Windows/5.8/ActivePerl-5.8.7.815-MSWin32-x86-211909.zip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al, Functional, and Object 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3048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es Michael 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49040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14479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Program</a:t>
            </a:r>
            <a:br>
              <a:rPr sz="40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earn.perl.org/library/beginning_perl/3145.zi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!/usr/bin/perl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location of the perl on the mac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guessnum.pl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name of th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 $target = 12;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instantiation and declaration of $target to be the integer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 "Guess my number!\n";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prints an in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 "Enter your guess: ";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prints a pro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 $guess = &lt;STDIN&gt;;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 instantiation and declaration of guess to be a standard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$target == $guess) {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an if statement which checks to see if target equals gu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 "That's it! You guessed correctly!\n"; 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prints the output if this case is 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t;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exits th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Brackets block off code for certain operation just like j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$guess &gt; $target) {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an if statement that checks to see if the guess is bigger than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 "Your number is bigger than my number\n";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prints this output if this is the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t;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exits th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$guess &lt; $target){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an if statement that checks to see if the guess is smaller than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 "Your number is less than my number\n";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prints this output if that’s the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t; 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#exits th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r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.wikipedia.org/wiki/Perl_programming_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by Larry Wall in 19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son for its creation was that Wall was unhappy by the functionality that sed, C, awk and the Bourne Shell offered him. He looked for a language that will combine all of their best features, while having as few disadvantages of its 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r variables are simple variables containing only one element. An element can be an entire string, a number, or a reference. Strings may contain any symbol, letter, or number. Numbers may contain exponents, integers, or decimal values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myname = "some_value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ays are list type variables, they contain any number of elements desired. Arrays can also contain a number of other scalar variables as well. Arrays are defined using the at symbol (@) in PER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@array = ("value00","value01","value02")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denoted by % signs. A hash is comprised   a key and a corresponding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days = (0, Sunday, 1, Monda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sports = (Sunday, Football, Monday, Basebal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rout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NAME;                                           # A "forward" declaration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NAME(PROTO);                            #  same, but with prototyp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NAME : ATTRS;                            #  with attributes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NAME(PROTO) : ATTRS;             #  with attributes and prototyp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NAME BLOCK                               # A declaration and a definition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NAME(PROTO) BLOCK                #  same, but with prototypes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NAME : ATTRS BLOCK                #  with attributes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NAME(PROTO) : ATTRS BLOCK #  with prototypes and attrib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a file sub.pl which contains the subroutine su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summ($$)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($_[0]+$_[1]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a file containing the scrip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 "sub.pl"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 summ(5,2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!/usr/its/bin/per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ere perl is instal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"Hello, World!\n"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Input/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put = &lt;STDI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linput = &lt;STDI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$outpu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Input/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(infile, "/some/directory/file.i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(outfile, "&gt;/some/directory/file.ou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ust always close your outfile after writing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(outfi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$element ( @array ) {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  # do something with the elem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l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( conditional ) {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  statem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EXPR)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EXPR) BLOCK else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EXPR) BLOCK elsif (EXPR) BLOCK ... else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2:28:00Z</dcterms:created>
  <dc:creator> Tiffany Brooks</dc:creator>
  <dc:description/>
  <dc:language>en-US</dc:language>
  <cp:lastModifiedBy>Admin</cp:lastModifiedBy>
  <dcterms:modified xsi:type="dcterms:W3CDTF">2005-12-06T17:01:56Z</dcterms:modified>
  <cp:revision>6</cp:revision>
  <dc:subject/>
  <dc:title>Perl</dc:title>
</cp:coreProperties>
</file>