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F8F-6F27-4220-ADF3-C5054A8A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992-2BC3-4712-9201-5B847204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0B0-3241-42D9-9D78-EF54B7F0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226-80CB-4BF2-860A-52F8C263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0976-1551-4ACA-97E6-B0E60D7B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F9AC-EFA5-4965-988C-6259572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2E8-745D-42E1-BC98-1E6875C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9221-0C2E-4061-8733-8038AD8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1A7-F90A-4AE4-9126-49504B26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F1B-BF57-4CBD-971B-EBD2AF0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4431-F194-4C1D-9E0C-0071B92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31-978F-4BB4-9865-98348244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2D0-B434-43A1-A764-3CE3084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5D5A-C0C6-48BA-9103-1B365F9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0568-3F73-49DE-8695-9D4ED0B4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21A2-59A5-4775-A9E4-3CFB27B6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E27D-9431-45BE-A480-5FA420FA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DFA-85E3-4CDB-8900-8920B1A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756-B1F0-4392-9A14-2434973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2A8-E118-479F-877D-9F724D21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4F2-9220-47BA-95D7-DAE6C0CF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B6A-8D8A-4010-992B-63FAFDD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BBD-4AAC-4BAC-8775-2E9FC9FA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2FD-D418-4472-8501-38F1373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4A5-CB28-44C2-80D1-379D89512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DCD-36CD-483D-A6E6-831C50CDC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imi.au.dk/~beta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ck Cald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-Oriented Progra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daimi.au.dk/~beta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324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progra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script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declarations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&lt;parameters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&lt;imperatives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t &lt;parameters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bstraction Mechanis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ern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eneralization of classes, procedures, functions, coroutines, processes, exception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pattern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cla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pattern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late in C+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ern variable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ally change the behavior of an object after its gener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mployee patter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mployee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me: @tex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rthday: @date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pt: ^Departmen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talHours: @integer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gisterWork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noOfHours: @integ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ter noOfHou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 noOfHours + totalhours -&gt; totalHou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uteSalary:&l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salary: @integ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 inn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it sala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patter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bpatterns of employe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ker: employ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niority: @integer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uteSalary::&l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do totalHours*80+seniority*4-&gt;salary; 0-&gt;totalHours #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lesman: employ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OfSoldUnits: @integer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uteSalary::&l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# do totalHours*80+noOfSoldUnits*6-&gt;salary; 0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&gt;noOfSoldUnits-&gt;totalHou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Object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ry: @work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A Home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ww.daimi.au.dk/~be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ndinavian school of object-orientation where the first object-oriented language Simula was develop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t Bruun Kristensen, Birger Møller-Pedersen, Ole Lehrmann Madsen, and Kristen Nyga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ten Nygaard was one of the two original designers of the Simula languag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jolner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itial prototyp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-oriented modeling and desig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umentation and development of full applic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ML-based design diagram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UI constr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at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 Libr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c data structures such as text, file, container, list, set, and hash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153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291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Synta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a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: @intege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: ^integerObjec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&gt; 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,j) -&gt; (x,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Syntax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titions (arr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: R:[10] @integ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: M:[10] ^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[1] -&gt; 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.r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-&gt; R.ext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-&gt; R.n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siteTypes(Reco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:  (# x,y: @integer 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: @poi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.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Syntax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state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if &lt;expression&gt; th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statements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lt;statements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f &lt;expression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/ &lt;expression&gt; t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statements &gt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/ &lt;expression&gt; th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statements 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statements 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Syntax (con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tate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&lt;expression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 &lt;statements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&lt;variable&gt;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expression&gt; repeat &lt;statements&gt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2:21:02Z</dcterms:created>
  <dc:creator>Patrick Caldwell</dc:creator>
  <dc:description/>
  <dc:language>en-US</dc:language>
  <cp:lastModifiedBy>Patrick Caldwell</cp:lastModifiedBy>
  <dcterms:modified xsi:type="dcterms:W3CDTF">2005-12-01T16:45:48Z</dcterms:modified>
  <cp:revision>17</cp:revision>
  <dc:subject/>
  <dc:title>BETA</dc:title>
</cp:coreProperties>
</file>