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19F-10EE-4B86-9EE8-B643864E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76E-C05E-48A6-A693-5AA97D96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CD7-15CB-4FB2-84E0-251E1EAF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F44-7B36-49F4-827B-0644C50C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5EA-3F13-479A-8246-EC7F2E17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C30-C939-4A56-A388-A547440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C8D-DBD1-4D4B-B11D-B414503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800-DAF3-4AD4-93EC-C901D47C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4AC-CA91-4F4A-84C1-EE5CD5B1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F97-A284-436F-9000-C2A1204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F7E-9D74-43CD-A001-A848164B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69C-65E2-49E8-9C3F-B0F2FD9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CF61-0A0E-4233-A0BF-00DB6F629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ocs.python.org/tut/tut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ython.org/download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erg.org/python_slides/index.html" TargetMode="External"/><Relationship Id="rId2" Type="http://schemas.openxmlformats.org/officeDocument/2006/relationships/hyperlink" Target="http://www.strout.net/python/tidbits.html" TargetMode="External"/><Relationship Id="rId3" Type="http://schemas.openxmlformats.org/officeDocument/2006/relationships/hyperlink" Target="http://www.strout.net/python/tidbits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K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cs.python.org/tut/tu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preted, interactive, object-oriented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on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100 times slower than C++ 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for prototyp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used as to connect pieces of a complex solution, such as Web pages, databases, and Internet sock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- 12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– 12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- 1+3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– “hell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– ‘hell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– True,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[1, 2, 3, “hello”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[1] returns second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appe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el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insert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a[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lists, but size, elements are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= (2,3,4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turns element at inde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x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– slice from index1 to inde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maps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{ ‘x’:3, ‘y’: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– gets element represented b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has_key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checks if key is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keys() – returns all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&lt; b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 in [3, 5, 7, 20]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 in “Hello World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 in range (0,10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state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on sub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in separate files or s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ed when in different f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makes a namespace and executes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perations.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divide (a,b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= 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a – q*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q,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572000"/>
            <a:ext cx="73152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userfile.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b = operations.divide(42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on Library of Sub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System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Stud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__init__ (self, studentnam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.name = student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getname(sel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self.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Student(“Phi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.getnam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ython.org/downloa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on Windows XX, Unix, Mac 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 installation instr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for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in = open(“filetoread”,”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out = open(“filetowrite”,”w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= filein.read() – al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line = filein.readline() – one line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lines = filein.readlines() – all data a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out.write(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t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% operator for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 in range (0, 5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out.write(“1 plus %d = %d\n:” % (i, i+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 means decimal, i means integer, f means floating point, c means charac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erg.org/python_slides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rout.net/python/tidbit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1143000"/>
            <a:ext cx="475272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562720" y="5105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75272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48640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5640" y="1143000"/>
            <a:ext cx="475272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562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1143000"/>
            <a:ext cx="475272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70120" y="541008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for installation to comple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1143000"/>
            <a:ext cx="475272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5562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990s,created by Guido van Ros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ed a scripting language with syntax like ABC, high-level, very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 – continued work in VA, at the Corporation for National Research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– Python Software Foundation (PSF) formed, Zope Corporation is a sponsoring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 – 2.2.1 Release available, GPL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edit word documents and push them into spreadsheets through automation, and found ABC to be limited (because it did not support the IO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the BBC comedy series “Monty Python’s Flying Circ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16765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22:08:22Z</dcterms:created>
  <dc:creator>Ben Knear</dc:creator>
  <dc:description/>
  <dc:language>en-US</dc:language>
  <cp:lastModifiedBy>Ben Knear</cp:lastModifiedBy>
  <dcterms:modified xsi:type="dcterms:W3CDTF">2005-12-06T00:39:50Z</dcterms:modified>
  <cp:revision>42</cp:revision>
  <dc:subject/>
  <dc:title>Python</dc:title>
</cp:coreProperties>
</file>