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35492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240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104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276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104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276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76946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4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1044360"/>
            <a:ext cx="76946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76946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6240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435492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6240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2104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2760" y="228600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2104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2760" y="4354920"/>
            <a:ext cx="2477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4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1044360"/>
            <a:ext cx="76946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2400" y="435492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400" y="2286000"/>
            <a:ext cx="3754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354920"/>
            <a:ext cx="769464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044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2286000"/>
            <a:ext cx="7694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1360" indent="-27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0958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2072880"/>
            <a:ext cx="716148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holtsoft.com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frenchwr@jmu.edu" TargetMode="External"/><Relationship Id="rId3" Type="http://schemas.openxmlformats.org/officeDocument/2006/relationships/hyperlink" Target="http://www.holtsoft.com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917360"/>
            <a:ext cx="5943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a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758600" y="38005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iam Fren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digm: Object Orient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Website: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holtsoft.com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964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renchwr@jmu.ed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holtsoft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by Holt Software Associates I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in 1982,  and is very similar to Pa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extensively for teaching from eighth grade through graduate sch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ing as extended with graphics and I/O is supported on IBM PC compatibles.  OOT runs on Windows or UN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88640"/>
            <a:ext cx="5151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OT Synta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86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symbol goes before any comments.   % This is a com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gnment &amp; Decla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laration uses the : symb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ignment uses the := symb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st_name : string First_name := “Susan”  % This shows assignments and decla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/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output to the screen put is used.  % Put “Text” or Put (va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put uses Get.  % Get (variable nam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(x &gt; y) then put (“X is bigger”)  % IF statement else (do stuff) 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er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types: For, and lo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i:1..5   (do whatever)  end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op exits whenever an exit statement is reached.  Loop (do whatever)  exit if(whatever) end lo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ore OOT Syntax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791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bel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e as java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t "Choose from 1, 2: "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comm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command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bel 1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t “You picked one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bel 2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t “You picked two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ay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ndextype { , indexType)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ypeSpe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Var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s : array 1..100 of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 sum : int :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I : i..100 sum := sum + marks(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OT Subprogra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440" y="251460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 synt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dure “name” (var name1, var name2: var typ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“nam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 Syntax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unctionName (varName : varType): return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d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unction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460520"/>
            <a:ext cx="594360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OT has two types of subprogram a procedure and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OOT Featur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ient strings and input/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tatements with else if 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atements with otherwise 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p statements with ex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with import and 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arrays and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ore OOT Featur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93432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rtions (assert, pre, post and invari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transfer functions (such as string to re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number gene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n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 const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ample Program</a:t>
            </a: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464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 Roll a die until you get 6. (This line is a comment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e 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o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andint (die, 1, 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it wh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e = 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This roll is ", di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 loo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"Stopping with roll of 6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26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46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Sample Program (2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3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x, y, clr 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% The location and color of the st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fillbox (0, 0, maxx, maxy, black) % Make the window bla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line (0, 100, maxx, 100, white) % Draw the horiz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: 1 .. 40 randint (x, 0, maxx) % Set the x posi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int (y, 100, maxy) % Set the y posi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int (clr, 0, maxcolor) % Set the co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fillstar (x, y, x + 20, y + 20, clr) % Draw the st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 f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95760" y="3886200"/>
            <a:ext cx="5448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izabeth S. Adams</cp:lastModifiedBy>
  <dcterms:modified xsi:type="dcterms:W3CDTF">2005-12-23T20:15:41Z</dcterms:modified>
  <cp:revision>4</cp:revision>
  <dc:subject/>
  <dc:title>Object Orientated  Turing</dc:title>
</cp:coreProperties>
</file>