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174-3925-4081-AED0-A40396AC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11A-D429-432E-988D-F4828CAC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872-25B8-45D3-B820-A2E42907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47F-1463-46E8-B569-662805A6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B40-AE72-4430-B071-5980AC8F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00C-1E82-458E-846D-9B444CFA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C73-42EE-432F-938F-009C48AA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ADB-1117-4F4C-A7BF-111A29A7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6CB-D67C-49E8-AFC4-26A12951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A0E-1D4F-43BA-A6C4-56AC92F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D12-A84F-4411-8A5C-41359AF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BBB-31DE-499C-B2C4-DE54CE4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3787-A2D1-4CBD-AFD6-0ECF53C2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cl.tk/man/tcl8.5/" TargetMode="External"/><Relationship Id="rId2" Type="http://schemas.openxmlformats.org/officeDocument/2006/relationships/hyperlink" Target="http://www.tcl.tk/software/tcltk/" TargetMode="External"/><Relationship Id="rId3" Type="http://schemas.openxmlformats.org/officeDocument/2006/relationships/hyperlink" Target="http://en.wikipedia.org/wiki/Tcl" TargetMode="External"/><Relationship Id="rId4" Type="http://schemas.openxmlformats.org/officeDocument/2006/relationships/hyperlink" Target="http://en.wikipedia.org/wiki/Jac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O’Con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cl.tk/man/tcl8.5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cl.tk/software/tclt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J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 &amp;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Command Language (but usually pronounc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ck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l is a Scripting Language (batch langu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d in 1988 by John Ousterh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ipted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GI Scrip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ata types can be manipulated as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ing Interface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Java:   Jacl &amp; Tcl Bl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mand is terminated by semicolon or new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denoted with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s can be inside braces or double qu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types determined on-the-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s &amp;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s "Hello, World ";  #This is a comment after the comman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Y 1.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label "The value in Y is: 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s "$label $Y"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{$x == 2}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s "$x is 2“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s "$x is not 2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x "ON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$x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"MATCH ONE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"MATCH TWO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"$x is NOT A MATCH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{$x &lt; 5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"x is $x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x [expr $x + 1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{set i 0} {$i &lt; 10} {incr i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"I inside loop: $i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 sum {arg1 arg2}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x [expr {$arg1 + $arg2}]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$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x "a b c"     ;#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x {{a} {b} {c}}   ;#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x [split “item1.item2.item3” “.”]  ;#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x [list “item 1” “item 2” “item 3”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"Item 2 of the list {$x} is: [lindex $x 2]\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de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st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th item from the list. The first item is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the number of elements in a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6:12:18Z</dcterms:created>
  <dc:creator>Mike O'Connor</dc:creator>
  <dc:description/>
  <dc:language>en-US</dc:language>
  <cp:lastModifiedBy>Mike O'Connor</cp:lastModifiedBy>
  <dcterms:modified xsi:type="dcterms:W3CDTF">2005-12-06T21:45:50Z</dcterms:modified>
  <cp:revision>3</cp:revision>
  <dc:subject/>
  <dc:title>TCL</dc:title>
</cp:coreProperties>
</file>