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ADFE-C9B2-460A-B706-DB2A5B42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C1EA-264B-411C-A610-DA7DABCD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85A9-EBF4-4AE0-A5EF-BD357EBF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A302-9FDD-4A60-90E8-A878F0C3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BA46-926C-4013-B22F-7BC3B287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A6D1-ECC6-4CB8-AD60-97A64E70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8C9F-4D3A-4272-94B4-17FFBFEC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7EA2-934E-47C7-AF86-8BCB5AAD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256C-E5E8-4F8B-8752-0B0AE104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91ED-E565-4165-B654-AB248359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E1A7-57AC-4A4F-BCE2-883F9607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0F5D-518B-41A4-80B5-3D081D57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E801-C29A-4EFE-BEFA-4D0FF8D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6310-A289-4352-8B70-E4484E0A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CBA4-A5D0-4F47-B1BF-BCA5309E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2185-D7E8-4B11-B3FC-E653FF06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A539-AE36-444B-8806-693F4845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3389-30D3-444D-93D6-C2DBEA7A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F6F8-94D9-4DFF-A08B-2B1E8D22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6AAB-0E9D-49F9-AB2F-9390DC6D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6AD7-F436-44CA-BA56-860DB94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9404-AEF7-45E5-A17C-B9523E24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C75B-3E93-44C3-9A68-3BDCC260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16F3-2A6C-44AC-BA40-EF076468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7CE1-257F-490F-8A38-9937BC5EE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4483-716B-4707-842A-1E96023DB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480120" y="2746440"/>
            <a:ext cx="2326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ALG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att Grady – CS 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AMPLE: HELLO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# Prints ‘Hello World’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t x :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f x = 0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int ( “Hello World.”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int ( “You shouldn’t be here.”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AMPLE: EVE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# Prints all even numbers from 0 to 20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oc double = ( int x ): ( x = x * 2;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t 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or z from 0 to 10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int ( double ( z ), new line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ikipedia entry on ALGOL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http://en.wikipedia.org/wiki/ALG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nline book 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Programming ALGOL 68 Made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http://www.geocities.com/ernobe/pinid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LGOL 68 Genie, a 68 interpreter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http://www.xs4all.nl/~jmvdveer/algol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veloped by a combination of American and European scientist in mid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riginally known as IAL (International Algorithmic Langu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LGOL 58 saw little widespr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LGOL 60 became basis for imperative languages for next several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troduced the notion of statement blocks, using BEGIN and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LGOL-W was proposed as the successor to 60, but it was not implemented; it later served as Nicklaus Wirth’s basis for 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LGOL 68 became the successor to 60, adding built-in I/O facilities and more structured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68 gained popularity in European defense departments, though the US focused on the development of Ada inst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ypes include int, real, compl (complex), bool, and 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an be modified to be greater or lesser in scope by using 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long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ssignment is done via :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char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int z := 5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short compl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long long real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Boolea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not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mparativ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&lt;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&lt;=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&gt;=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&gt;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/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rithmeti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*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%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nly has one type of loop, the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teration variable must be declared before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oop continues until max value is surpassed, not just 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d;” acts as the closing bracket for th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for x from 1 to 10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[cod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Both If-Elif-Else and Case statements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f blocks are ended by “fi;” while case blocks are ended by “esac;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 default for cases is marked by “ou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if x = 0 then [code]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case x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elif x = 1 then [code]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(0): [code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else [code]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(1): [code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fi;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out [cod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NPUT &amp;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s the original ALGOL had no built-in I/O, implementation varies widely in successiv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utput can either be plain text or contain special formatting tags; use 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printf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instead of 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ore modern ALGOL implementations have simplified inpu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print ( “Hello”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printf ($2, “World”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read ( variabl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lways return the last value evaluated in the procedure, or nothing if 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void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is set as the retur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an be called anywhere by just using the procedure’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lared inside the main cod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proc [procedure name] = ( [parameters] ) [return type]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( [code]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proc increment = ( int x ) int: ( x := x + 1;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00:49:29Z</dcterms:created>
  <dc:creator>Matthew Grady</dc:creator>
  <dc:description/>
  <dc:language>en-US</dc:language>
  <cp:lastModifiedBy>Matthew Grady</cp:lastModifiedBy>
  <dcterms:modified xsi:type="dcterms:W3CDTF">2005-12-05T07:45:34Z</dcterms:modified>
  <cp:revision>71</cp:revision>
  <dc:subject/>
  <dc:title>Slide 1</dc:title>
</cp:coreProperties>
</file>