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ason Shifflett" initials="J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05-11-07T09:39:29.213000000" idx="1">
    <p:pos x="5376" y="1776"/>
    <p:text>if a type is not defined the *rest is looked at as an array of abject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FE2-8C90-4F32-8E10-55821068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414-5690-4CFA-BA09-F1B1579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8CD-65F7-42C5-A4B5-3A4375A5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434-013C-4BB2-A65B-8B19A997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60E-3A6D-44C9-BAF0-8C0BA325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967-499F-4036-B060-3DAE0B91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A5F-8A76-4D8D-941D-45DE5D1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212-103B-4448-B677-5CF9A5F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484-CD34-468C-AFBA-6E99E6AD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008-2939-4591-84F2-9701A29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63A-0DB1-4731-9B7F-FA6BF24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D7C-76C1-482C-BD1E-C9A8581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076-19DB-4500-B3DE-1E63C5FC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oo.codehaus.org/" TargetMode="External"/><Relationship Id="rId2" Type="http://schemas.openxmlformats.org/officeDocument/2006/relationships/hyperlink" Target="http://boo.codehaus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csharpcode.net/OpenSource/SD/Download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BOO</a:t>
            </a:r>
            <a:br>
              <a:rPr sz="40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o.codehaus.org/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son Shifflet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ated .Ne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36800" y="4292640"/>
            <a:ext cx="527040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e some normal function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 Interpo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Interp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insert the value of almost any valid boo expression inside a string by quoting the ex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$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("Now is ${date.Now}.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orm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"Right now it is {0}. Say hi to {1}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s % (date.Now, "Mary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(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"I am f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gon (temp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(te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te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("...${a()}....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("....${mugon (a())} dressed as mugon....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X = {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i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return { 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i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 return a + b 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 plusX(3)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I am foo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am f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I am foo dressed as mugon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Devel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ree .net developmen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pDevel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 .N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csharpcode.net/OpenSource/SD/Downloa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Rodrigo Barreti de Oliv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1.1 .net framework                      (dotnetfx.e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Boo-0[1].7.0.1-1921-b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{ } indents are used for function and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ally ty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a PDB file and exec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infer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as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 “B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 “B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docst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 decla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stat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members: class/enum/def decla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ode executed when script is r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 attribu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et a E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Ty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array("Eric", ) // string array with a single el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List["one", 2, 3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= { "spam" : "eggs"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16574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 as d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 “bo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 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I T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t change loop variables from inside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atements uses short circuit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ix mode arithme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/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peci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roperty(Name)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name as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ffy = Cat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ffy.Name = 'Fluffy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nam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la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by reference o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i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unknown number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unctions to be passed as arguments, return from functions calls, and bound to variabl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 function that takes multiple arguments and changes it in to a function that returns a functions to take the rest of th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876920" y="3962520"/>
          <a:ext cx="36576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962520"/>
                    <a:ext cx="36576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024160" y="2118240"/>
            <a:ext cx="293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byref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as i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04:27:32Z</dcterms:created>
  <dc:creator>Jason Shifflett</dc:creator>
  <dc:description/>
  <dc:language>en-US</dc:language>
  <cp:lastModifiedBy>Lab User</cp:lastModifiedBy>
  <dcterms:modified xsi:type="dcterms:W3CDTF">2005-12-01T16:39:55Z</dcterms:modified>
  <cp:revision>63</cp:revision>
  <dc:subject/>
  <dc:title>BOO</dc:title>
</cp:coreProperties>
</file>