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C8803-0AC5-4F7D-BDE7-AC944B3A3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D85C-7968-45A3-B029-D44801A1D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C5542-5C83-4081-BB27-17AA3341E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03477-FD3C-4617-ACC9-FF53B1607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4BC37-2B15-4083-8E87-7B2839142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14DC9-1FEE-460D-BAFF-9B04CC83E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DE61E-6F72-46A7-AEE1-3B7D0F1A3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C5D66-CC7A-4779-838C-A2AF9E49A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8A226-7CB9-4A0C-8F80-55F92864D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6AC2F-9B7E-42EC-8F47-779AD2789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405F5-CB59-4F2D-AC12-ACB088563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A450E-1CBC-4872-AF02-7D915B073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0D2FD-CA46-4902-BBAB-9191246EA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F9F9F-440F-4C1A-B0A6-9C4236D83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6DDED-0D3D-4D2A-BA39-1412ECC3A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50C01-A02C-4B8F-9126-A2023DF84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BA799-0D65-4F85-9CA6-0929FDD88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A19E-73B5-49DB-A900-F3322A58A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4257-27B1-46B7-9D52-839603DB5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053F2-70C6-42F6-B56B-185B03BB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46141-EC75-44B4-897E-0D7FC1219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54362-7C26-4614-95C9-0316B8211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09E3A-F2B1-4BA8-B2E7-7B1DD187A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9258E-ED28-4F82-90C5-692B871E2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A453-92D3-4EEF-BCBB-04551256595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9074-199D-451C-AA1C-69C831E448A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cs.wwc.edu/~cs_dept/KU/PR/SML.html" TargetMode="External"/><Relationship Id="rId2" Type="http://schemas.openxmlformats.org/officeDocument/2006/relationships/hyperlink" Target="http://www.csci.csusb.edu/dick/samples/ml.functions.html" TargetMode="External"/><Relationship Id="rId3" Type="http://schemas.openxmlformats.org/officeDocument/2006/relationships/hyperlink" Target="http://www.cs.jhu.edu/~scott/cw/lectures/sml-intro.html" TargetMode="External"/><Relationship Id="rId4" Type="http://schemas.openxmlformats.org/officeDocument/2006/relationships/hyperlink" Target="http://www.ps.uni-sb.de/~rossberg/SMLvsOcaml.html"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ML</a:t>
            </a:r>
            <a:endParaRPr b="1" lang="en-US" sz="6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tandard ML of New Jersey (SML)</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19" name="PlaceHolder 1"/>
          <p:cNvSpPr>
            <a:spLocks noGrp="1"/>
          </p:cNvSpPr>
          <p:nvPr>
            <p:ph/>
          </p:nvPr>
        </p:nvSpPr>
        <p:spPr>
          <a:xfrm>
            <a:off x="762120" y="2361960"/>
            <a:ext cx="82296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hlinkClick r:id="rId1"/>
              </a:rPr>
              <a:t>http://www.cs.wwc.edu/~cs_dept/KU/PR/SML.htm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hlinkClick r:id="rId2"/>
              </a:rPr>
              <a:t>http://www.csci.csusb.edu/dick/samples/ml.functions.html#A%20Quick%20List%20of%20Functions%20in%20SML/N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hlinkClick r:id="rId3"/>
              </a:rPr>
              <a:t>http://www.cs.jhu.edu/~scott/cw/lectures/sml-intro.htm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hlinkClick r:id="rId4"/>
              </a:rPr>
              <a:t>http://www.ps.uni-sb.de/~rossberg/SMLvsOcaml.html#i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ttp://64.233.161.104/search?q=cache:fI8_mhnqaJ4J:www.webber-labs.com/mpl/lectures/ppt-slides/05.ppt+ML+div+mod+operator&amp;hl=en&amp;client=firefox-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out ML</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 for Meta-Langu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L is often referred to as an </a:t>
            </a:r>
            <a:r>
              <a:rPr b="1" lang="en-US" sz="2800" spc="-1" strike="noStrike">
                <a:solidFill>
                  <a:srgbClr val="003366"/>
                </a:solidFill>
                <a:latin typeface="Arial"/>
              </a:rPr>
              <a:t>impure</a:t>
            </a:r>
            <a:r>
              <a:rPr b="0" lang="en-US" sz="2800" spc="-1" strike="noStrike">
                <a:solidFill>
                  <a:srgbClr val="003366"/>
                </a:solidFill>
                <a:latin typeface="Arial"/>
              </a:rPr>
              <a:t> functional language, because it permits side-eff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used primarily for theorem proving and to help make compliers/interpreter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ique Feature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operators can be created and existing operator precedence can be chang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lpful for the design of compil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L supports higher-order function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matic Garbage Collec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1" name="" descr=""/>
          <p:cNvPicPr/>
          <p:nvPr/>
        </p:nvPicPr>
        <p:blipFill>
          <a:blip r:embed="rId1"/>
          <a:stretch/>
        </p:blipFill>
        <p:spPr>
          <a:xfrm>
            <a:off x="1219320" y="4876920"/>
            <a:ext cx="6296040" cy="1504800"/>
          </a:xfrm>
          <a:prstGeom prst="rect">
            <a:avLst/>
          </a:prstGeom>
          <a:ln w="0">
            <a:noFill/>
          </a:ln>
        </p:spPr>
      </p:pic>
      <p:sp>
        <p:nvSpPr>
          <p:cNvPr id="102" name=""/>
          <p:cNvSpPr/>
          <p:nvPr/>
        </p:nvSpPr>
        <p:spPr>
          <a:xfrm>
            <a:off x="609480" y="62485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Features (Continued)</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ametric polymorphism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L is case sensi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ype Consistenc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5" name="" descr=""/>
          <p:cNvPicPr/>
          <p:nvPr/>
        </p:nvPicPr>
        <p:blipFill>
          <a:blip r:embed="rId1"/>
          <a:stretch/>
        </p:blipFill>
        <p:spPr>
          <a:xfrm>
            <a:off x="990720" y="4038480"/>
            <a:ext cx="6810120" cy="20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iling and Executing</a:t>
            </a:r>
            <a:endParaRPr b="1" lang="en-US" sz="3600" spc="-1" strike="noStrike">
              <a:solidFill>
                <a:srgbClr val="006666"/>
              </a:solidFill>
              <a:latin typeface="Arial"/>
            </a:endParaRPr>
          </a:p>
        </p:txBody>
      </p:sp>
      <p:sp>
        <p:nvSpPr>
          <p:cNvPr id="107" name="PlaceHolder 1"/>
          <p:cNvSpPr>
            <a:spLocks noGrp="1"/>
          </p:cNvSpPr>
          <p:nvPr>
            <p:ph/>
          </p:nvPr>
        </p:nvSpPr>
        <p:spPr>
          <a:xfrm>
            <a:off x="838080" y="2895480"/>
            <a:ext cx="7693200" cy="31910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compile and execute a predefined source file, source.sml:</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ype  use(“source.sml"); </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interact with a program in sml, type in an expression in response to the ML prompt (-). ML responds with the value and type of the expression.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eratio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achieved via recursion or a while do</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while true do </a:t>
            </a:r>
            <a:br>
              <a:rPr sz="2800"/>
            </a:b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print "HELLO!\n"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0" name="" descr=""/>
          <p:cNvPicPr/>
          <p:nvPr/>
        </p:nvPicPr>
        <p:blipFill>
          <a:blip r:embed="rId1"/>
          <a:srcRect l="0" t="0" r="60009" b="0"/>
          <a:stretch/>
        </p:blipFill>
        <p:spPr>
          <a:xfrm>
            <a:off x="2590920" y="3048120"/>
            <a:ext cx="3657600" cy="142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brarie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various libraries that offer useful built-in func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t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a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a:t>
            </a:r>
            <a:endParaRPr b="0" lang="en-US" sz="2400" spc="-1" strike="noStrike">
              <a:solidFill>
                <a:srgbClr val="003366"/>
              </a:solidFill>
              <a:latin typeface="Arial"/>
            </a:endParaRPr>
          </a:p>
        </p:txBody>
      </p:sp>
      <p:pic>
        <p:nvPicPr>
          <p:cNvPr id="113" name="" descr=""/>
          <p:cNvPicPr/>
          <p:nvPr/>
        </p:nvPicPr>
        <p:blipFill>
          <a:blip r:embed="rId1"/>
          <a:stretch/>
        </p:blipFill>
        <p:spPr>
          <a:xfrm>
            <a:off x="3581280" y="3886200"/>
            <a:ext cx="4278600" cy="12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rved vs. Keyword</a:t>
            </a:r>
            <a:endParaRPr b="1" lang="en-US" sz="3600" spc="-1" strike="noStrike">
              <a:solidFill>
                <a:srgbClr val="006666"/>
              </a:solidFill>
              <a:latin typeface="Arial"/>
            </a:endParaRPr>
          </a:p>
        </p:txBody>
      </p:sp>
      <p:sp>
        <p:nvSpPr>
          <p:cNvPr id="115" name="PlaceHolder 1"/>
          <p:cNvSpPr>
            <a:spLocks noGrp="1"/>
          </p:cNvSpPr>
          <p:nvPr>
            <p:ph/>
          </p:nvPr>
        </p:nvSpPr>
        <p:spPr>
          <a:xfrm>
            <a:off x="838080" y="2971800"/>
            <a:ext cx="7693200" cy="3114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L has reserved words but not keywor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ble Nam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RIABLE names can be specified as follow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irst character MUST be either an upper case or lower case LETTER.  After the first letter, the rest of the letters can be upper or lower case letters, the digits zero through nine, the underscore (_) and the apostrophe (‘).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J compiler allows an unlimited length for characters and all are significa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9:34:28Z</dcterms:created>
  <dc:creator>Rob</dc:creator>
  <dc:description/>
  <dc:language>en-US</dc:language>
  <cp:lastModifiedBy>Rob</cp:lastModifiedBy>
  <dcterms:modified xsi:type="dcterms:W3CDTF">2005-12-06T20:17:08Z</dcterms:modified>
  <cp:revision>4</cp:revision>
  <dc:subject/>
  <dc:title>ML</dc:title>
</cp:coreProperties>
</file>