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B46-C5BF-44A9-97FD-684A064F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74B-9D04-4F1F-8415-8C2D12A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2E0-566A-443C-941C-CB5F52DD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4C2-351C-48FF-B6CE-1F81BC25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22E6-1E4C-41FC-8D6B-7C1C9AE5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59EB-C758-48FD-9267-5F6EB93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AC5-D85D-48DF-95E2-F3C359C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3FDD-F75A-4A6E-AD8E-0284501F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CA32-6588-4E53-86C0-5DEF532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04B-D907-4431-946A-A6936B73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3843-986E-4F76-9907-D35DF75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DDC-3625-4170-827C-06A68EE3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78C7-4AA7-4291-B705-BB0BBE4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111-8373-47BB-9FAD-3D20220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DA76-554B-4617-8184-F31133C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CEC9-800B-49F3-BA06-80BD5FB9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AB1F-2641-4BAB-A072-983BC450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9680-0E62-4AF4-981B-2E473B01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EE66-402B-4FB0-9574-79519832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803F-5DF5-4F86-84EB-0EA36D0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84A0-7B08-460F-BCEE-0DAD8EB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6146-BD5C-4AE7-914C-815C4355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59E-0656-43A9-A58A-B9CBF476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2CAB-5E55-4A9D-B801-3DED92D4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FF94-F144-4DDD-A0A4-0B53060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A1ECB-CA10-4FE5-AF24-1E6351F5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6060F-1398-4F95-947A-2DED1D1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98FD-31E2-4EE9-A577-160990A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11B3-6202-4538-92AD-555D4C8C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ED4A-E644-4A6F-975C-FD6BD3C1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BF8-E50B-4174-8D02-8FB2315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A30-B358-4E1A-8728-D080266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996-0C69-4FC0-AD65-4CB11E21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31C-2E4D-4229-9F93-CDD1C27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9E0-B3C1-48E6-AC7B-B61131C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B26-E4BB-4BF2-BC4A-2E69878C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2156-269D-4AB7-A9D2-0604EE5AF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29D-53FB-43BB-9105-A338759D9B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63E8-C171-4877-AF01-FC7B432D0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ebol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rebol.net/cookbook/" TargetMode="External"/><Relationship Id="rId2" Type="http://schemas.openxmlformats.org/officeDocument/2006/relationships/hyperlink" Target="http://www.rebol.com/docs/core23/rebolcore.html" TargetMode="External"/><Relationship Id="rId3" Type="http://schemas.openxmlformats.org/officeDocument/2006/relationships/hyperlink" Target="http://www.rebol.com/docs/dictionary.html" TargetMode="External"/><Relationship Id="rId4" Type="http://schemas.openxmlformats.org/officeDocument/2006/relationships/hyperlink" Target="http://en.wikibooks.org/wiki/REBOL_Programmin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ebol.com/platforms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b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5809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ichael McLaughl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Official Website: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rebol.co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terpreted Scripting Languag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REBOL is a messaging language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Its main purpose is to provide a better approach to distributed computing and communication.”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Program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66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REBOL [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Title: "REBOL sample program"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Version: 1.0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Author: "Michael McLaughlin"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Purpose: {demonstrate how a script is run and to use the print command.}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]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;-- simple program that executes the print command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;-- see tutorial for more commands and more interesting things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loop 40 [prin "*"]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;-- prints 40 * on the same lin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print "“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;-- prints a blank line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print "Hello World!"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;-- calls print with a string literal argument 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loop 40 [prin "*"]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print ""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29"/>
                </a:solidFill>
                <a:latin typeface="Arial"/>
              </a:rPr>
              <a:t>print "...Now i can add Rebol to my resume"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0866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bol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Rebol scripts generally have the suffix “.r” however it is not necessary for a script file to have this extension for the interpreter to run it.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he interpreter will read the file specified and scans the contents for a valid Rebol script header, which only must contain REBOL [ Title: “Hello World”].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From the command prompt we can run scripts by typing the command REBOL &lt;filename&gt; i.e.-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REBOL example.txt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he example above examines the text file for a REBOL header, and if it is found, will run the REBOL code.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his file could also be run inside the Rebol interpreter by typing: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do %example.txt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The file could even be stored remotely: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29"/>
                </a:solidFill>
                <a:latin typeface="Arial"/>
              </a:rPr>
              <a:t>do http://www.example.com/test.html</a:t>
            </a: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assignment operator 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the col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562720" y="2286000"/>
          <a:ext cx="3200400" cy="4114800"/>
        </p:xfrm>
        <a:graphic>
          <a:graphicData uri="http://schemas.openxmlformats.org/drawingml/2006/table">
            <a:tbl>
              <a:tblPr/>
              <a:tblGrid>
                <a:gridCol w="1023840"/>
                <a:gridCol w="2176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Logical AND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Logical O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o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Logical Xor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hortcut to AND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ny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hortcut to OR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he negatio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794200" y="1828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gical Operator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rebol.com/docs/core23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rds are the symbols used by REBOL. A word may or may not be a variable, depending on how it is used. Words are also used directly as symbol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BOL has no keywords; there are no restrictions on what words are used or how they are used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You can define your own function called print and use it instead of the predefined func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rds are not case sensitive and can include hyphens and other special characters such as: + - ` * ! ~ &amp; ? |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rds are terminated by a space or: [ ] ( ) { } " : ; /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racters not allowed in words are: @ # $ % ^ 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rebol.com/docs/core23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7521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rds can be used as variables that refer to value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o define a word as a variable, follow the word with a colon (:), then the value to which the variable refers as shown in the following examples: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ge: 22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nack-time: 12:32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irthday: 20-Mar-1997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riends: ["John" "Paula" "Georgia"]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variable can refer to any type of value, including functions and objec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re is no type declarations used, just variables and val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rebol.com/docs/core23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Functions can be defined to be simple functions using </a:t>
            </a: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func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or more complex functions using </a:t>
            </a: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func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he variable sum is assigned to a function that has two arguments: a and b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sum: func [a b] [a + b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he first block in the function describes the arguments of the function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he second block is the block of code that gets evaluated when the function is used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 this example, the second block adds two values and returns the result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rint sum 2 3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For complex functions that need local variables and arguments we use 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function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verage: function [series] [total] [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total: 0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foreach value series [total: total + value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total / (length? series) 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rint average [37 1 42 108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47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 the above example, the word series is an argument and the word total is a local variable used by the function for calculation purposes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rebol.com/docs/core23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Objects are similar to classes in JAVA.  They are used as a data structure for managing multiple types of data.  They can attributes and function within them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ccount: make object! [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name: "James"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balance: $100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ss-number: #1234-XX-4321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deposit: func [amount] [balance: balance + amount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ithdraw: func [amount] [balance: balance - amount] ]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he words name, balance, ss-number, deposit, and withdraw are local variables of the account object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he deposit and withdraw variables are functions that are defined within the object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he variables of the account can be accessed with a path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rint account/balanc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$100.00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ccount/deposit $300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rint ["Balance for" account/name "is" account/balance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Balance for James is $400.00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Objects in Rebol, like classes can be inherited 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rebol.com/docs/core23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67652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locks are the main structural device in Rebo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locks are used for everything from denoting arrays and lists to providing scope for cod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[white red green blue yellow orange black]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[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d     ted@gw2.dom  #213-555-1010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ill      billg@ms.dom   #315-555-1234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eve  jobs@apl.dom  #408-555-4321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op 10 [print "hello"]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time &gt; 10:30 [send jim news]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7521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/O is accomplished using primarily these command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sk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rompts the user for d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Read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Reads in data from a non-user sour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Write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Writes data to a non-user destin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rint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utputs data to the user and a line break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rin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Outputs data to the user with no line break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y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bol was created by Carl Sassenrat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t was first released in 1998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BOL is a new type of language created specifically for the exchange and interpretation of information over the Internet.  Unlike other computer languages, REBOL was designed as both a programming language and a data exchange language. The result is an extremely powerful and flexible tool that remains lightweight and easy to use.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590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-El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rebol.com/docs/words/wif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6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f condition is TRUE, evaluates the block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92929"/>
                </a:solidFill>
                <a:uFillTx/>
                <a:latin typeface="Arial"/>
              </a:rPr>
              <a:t>Usage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if condition then-block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92929"/>
                </a:solidFill>
                <a:uFillTx/>
                <a:latin typeface="Arial"/>
              </a:rPr>
              <a:t>Arguments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ondition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- The condition argument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then-block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- The then-block argument. (must be: block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92929"/>
                </a:solidFill>
                <a:uFillTx/>
                <a:latin typeface="Arial"/>
              </a:rPr>
              <a:t>Refinements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/else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- If not true, evaluate this block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else-block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- The else-block argument. (must be: block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92929"/>
                </a:solidFill>
                <a:uFillTx/>
                <a:latin typeface="Arial"/>
              </a:rPr>
              <a:t>Description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kip the block if the value is FALSE. To select an alternate result (else) use the EITHER function. IF returns the value of the block it evaluated or NONE otherwise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ge: 4 if age &gt; 3 [print "wine is ready"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wine is read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rint if age &gt; 2 ["ready"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ad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print if age &lt; 2 ["not ready"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 common error is to add a block without specifying /else or without using the EITHER function. The extra block gets ignored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ttp://www.rebol.com/docs/words/wwhile.html)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7521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hile a condition block is TRUE, evaluates another bl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Usag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while cond-block body-bloc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Argument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nd-block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- The cond-block argument. (must be: block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body-block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- The body-block argument. (must be: block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Descriptio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first block will be executed each time, and if it returns true the second block will be executed. Both blocks can include any number of expressions.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str: "string"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hile [not tail? str: next str] [ print ["length of " str "is" length? str] ]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ength of tring is 5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most common mistake is to forget to provide a block for the first argument (the condition argument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EAK can be used to escape from the WHILE loop at any po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ttp://www.rebol.com/docs/words/wloop.ht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valuates a block a specified number of tim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Usage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oop count bloc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Argument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coun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- Number of repetitions (must be: integer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- Block to evaluate (must be: block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Descriptio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peatedly executes a block for the given number of times. When finished, the LOOP function returns the value of the final execution of the block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loop 40 [prin "*"] print ""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****************************************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BREAK function can be used to stop the loop at any time (but no value is returned)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REPEAT function is similar to LOOP, except that it keeps track of the current loop count with a variable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rec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ttp://www.rebol.com/docs/core23/rebolcore-2.html#section-2.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File Redire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 most systems, it is possible to redirect standard input and output from and to files. The exampl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ebol -w script.r &gt; output-file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directs output to a file. Similarly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rebol -w script.r &lt; input-file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directs input from a fi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When Redirecting File IO..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se the -w option to prevent the REBOL console window from opening, as it interferes with standard input and output redirec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ole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6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Console Math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100 + 20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== 120</a:t>
            </a: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now - 7-Dec-1944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== 20341</a:t>
            </a: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Multiple Line Input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If you begin a block on the command line and don't end it, the block is extended to the next line. This is indicated by a prompt that begins with a bracket and is followed by indentation. The line will be indented four spaces for each open block.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This is also true for multilined strings enclosed in braces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You can escape from input at any time by pressing the ESCAPE key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Interrupting a Script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A script can be interrupted by pressing the ESCAPE key, which returns immediately to the command prompt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During some types of operating system or network activity there may be a delay in responding to the ESCAPE interrupt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Word Completion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To help speed typing of long words and file names, the REBOL console has word and file name completion. After typing a few letters of a word, press the tab key. If the letters uniquely identify the word, the rest of the word is displayed. For example, typing: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sq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then pressing tab results in: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square-root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If the letters do not uniquely identify the word, you can press tab again to get a list of choices. For example, typing: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and you can type the rest of the word or enough of it to be unique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Completion works for all words, including user-defined words. It also works for files when they are preceded by a percent sign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print read %r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Pressing tab might produce: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print read %rebol.r </a:t>
            </a: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depending on your current directory.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Busy Indicator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When REBOL waits for a network operation to complete, a busy indicator appears to indicate that something is happening.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Network Connections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As network connections are initiated, a message appears on the console. For instance, typing: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92929"/>
                </a:solidFill>
                <a:latin typeface="Arial"/>
              </a:rPr>
              <a:t>&gt;&gt; read http://www.rebol.com 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92929"/>
                </a:solidFill>
                <a:latin typeface="Arial"/>
              </a:rPr>
              <a:t>connecting to: www.rebol.com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56600" y="1523880"/>
            <a:ext cx="45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ttp://www.rebol.com/docs/core23/rebolcore-2.html#section-2.8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ful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bol cookbook of code examp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rebol.net/cookbook/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BOL/Core Users Gu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://www.rebol.com/docs/core23/rebolcore.htm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unction Dictionar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://www.rebol.com/docs/dictionary.htm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ki book on Reb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tp://en.wikibooks.org/wiki/REBOL_Programm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REBOL/Core is lightweight in its system requirements and does not require anything special to run. A system with these minimum capabilities will work fine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CPU Speed:   100 MHz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Main Memory: 32 MB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Disk Space:  1 MB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Networking:  TCP/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Operating Systems: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Windows XP, NT, 2K, ME, 98, 95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Macintosh OS X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Linux x86 Libc6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Linux x86 Libc5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Sun Solaris Sparc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Free BSD x86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(many more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UNIX and Linux systems do not require X Windows operation in order to run REBOL/Core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REBOL/Core is easy to install (no installation) and use with Apache and other web servers to perform CGI script processing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rebol.com/platforms.ht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587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465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llation…..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w to get into Rebol and play with it just double click the rebol031.exe ic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s opens up the shell / interpreter and we up and ru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3048120"/>
            <a:ext cx="12859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1695600"/>
            <a:ext cx="619128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Program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661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&gt;&gt; help d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AG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O value /args arg /nex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SCRIPTION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valuates a block, file, URL, function, word, or any other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O is a native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RGUMENTS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value -- Normally a file name, URL, or block (Type: any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INEMENTS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/args -- If value is a script, this will set its system/script/arg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rg -- Args passed to a script. Normally a string. (Type: any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/next -- Do next expression only.  Return block with result and new position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&gt;&gt; do words.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* Script Error: words.r has no valu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* Near: do words.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&gt;&gt; do %words.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ript: "REBOL Function Summary" (non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View words.html with your web browser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== n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&gt;&gt; print "it works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t work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&gt;&gt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4:56:41Z</dcterms:created>
  <dc:creator>Mike</dc:creator>
  <dc:description/>
  <dc:language>en-US</dc:language>
  <cp:lastModifiedBy>Mike</cp:lastModifiedBy>
  <dcterms:modified xsi:type="dcterms:W3CDTF">2005-12-06T12:12:04Z</dcterms:modified>
  <cp:revision>20</cp:revision>
  <dc:subject/>
  <dc:title>Rebol</dc:title>
</cp:coreProperties>
</file>