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D59-DFCD-4AAE-8D2B-5CDE683D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563-4E51-4EA2-B3A5-D45B78CA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2BC-B37B-462D-A99D-BEA0723B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A82-FC56-4B71-BABE-EE8BA555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F3FD-8EC4-42E4-8B05-F249A4E5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6E9F-3EE6-4A20-845F-642372BF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D242-D0C0-46B2-9136-CF12A51D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62AD-D887-4087-8F04-C5A444C6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FB0A-0F2F-4F93-9D5A-F30F117A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7806-1CCA-45D7-B944-57275D41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FF7C-5976-42AE-9D1F-657AD7A1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3B2-719E-46C3-9B31-DEA66CEC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45B6-700F-4932-988D-175ED44C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6D65-3745-44E3-A4C8-B5103C03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3561-547D-49DA-8A86-9C0D8F4A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8024-1261-4D75-A43F-82DF1092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E0B2-0A00-4BC9-9D51-4078F459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F54-6777-4E5A-B299-574920B7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CA8-246D-4285-8A14-2E0B96DF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9EB-8DB8-4C68-86C3-77A57770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421-B365-4D76-B29B-801EC9C9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F82E-4BFE-48AF-8972-8E30689A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7D3-2010-4AA5-9A49-7EB91C42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E6F-5A39-4379-B208-6B4D374E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9B05-1C20-4CD9-9330-C41449B9677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5DCD-2726-4756-9D91-02815F8FD8B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virginia.edu/~lcc-win32/" TargetMode="External"/><Relationship Id="rId2" Type="http://schemas.openxmlformats.org/officeDocument/2006/relationships/hyperlink" Target="http://gcc.gnu.org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 programm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Wellson Fu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S 430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ction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s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 program devised in 1970 for Uni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me from the typeless language BCP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olved a type 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d on a machine as a tool to improve a programming enviro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 become one of the more dominant language tod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nnis Ritch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tages of 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Object Oriented but can do object oriented programm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functional but can do functional programm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lso do list processing but not very eas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ganiz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ten in one or several text files called source modu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module is composed of fun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 function is where the execution of the program begi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import common definitions using the #include type.h preprocessor direc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14680" y="1119240"/>
            <a:ext cx="7818840" cy="7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Pro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22860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main()   /* Program introduces the for statement, counts to ten */</a:t>
            </a:r>
            <a:br>
              <a:rPr sz="1200"/>
            </a:b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{</a:t>
            </a:r>
            <a:br>
              <a:rPr sz="1200"/>
            </a:b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int  count;</a:t>
            </a:r>
            <a:br>
              <a:rPr sz="1200"/>
            </a:b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ouble *a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a = 21.3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for( count = 1; count &lt;= 10; count = count + 1 )</a:t>
            </a:r>
            <a:br>
              <a:rPr sz="1200"/>
            </a:b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printf("%d ", count 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count = 2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if(count == 20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printf(count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printf(“wrong”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printf(a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ortant part of C because libraries are consisted of fun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turns a value and may change values if passed in as a poin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neral for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type&gt;&lt;Name&gt;(&lt;type of arg&gt;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urn value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of the great ideas of 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ow you to pass the location of the data instead of the data itsel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st passing the add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teration constru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lo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While lo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le lo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cs.virginia.edu/~lcc-win32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gcc.gnu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8:00:25Z</dcterms:created>
  <dc:creator>Wellson Fung</dc:creator>
  <dc:description/>
  <dc:language>en-US</dc:language>
  <cp:lastModifiedBy>Wellson FUng</cp:lastModifiedBy>
  <dcterms:modified xsi:type="dcterms:W3CDTF">2005-12-08T18:00:19Z</dcterms:modified>
  <cp:revision>3</cp:revision>
  <dc:subject/>
  <dc:title>C programming</dc:title>
</cp:coreProperties>
</file>