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41A9A-4196-4C1A-A336-A7B88DB07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B0CAC-89F8-4456-B486-DA4D29B7B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6C7A0-5DF2-447C-B1AE-C530E637B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90817-4065-4314-8866-AFAC040B3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00BBA-75F6-4AC5-9D5F-F6BE11792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EAB93-608A-48D5-A583-189CE8B4B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B170E-4B86-46BE-9451-4273B2650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06ACC-1D01-4405-9F74-16B21F587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F5CD5-ED83-4B27-A08D-D26E1A383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57B84-B6A0-42B8-A59A-BEFFC10D6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A05A6-BECF-46ED-A991-F6CA92FF4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C3CB1-FC68-47BD-974F-F1B000214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10D6C-08B8-4021-839C-48A74C00A8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5289480"/>
            <a:ext cx="1077840" cy="1568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python.org/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yth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240" y="3352680"/>
            <a:ext cx="6553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Multi-Paradigm Langu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marily From: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python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t Kes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5289480"/>
            <a:ext cx="1077840" cy="15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st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d by  Guido van Rossum at Stichting Mathematisch Centrum (CWI) in the Netherlands as a successor to AB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ntually moved to the Corporation for National Research Initiatives (CNRI) in Reston, Virgin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ython 2.4.2 is now available from python.or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me is from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onty Python’s Flying Circ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5289480"/>
            <a:ext cx="1077840" cy="15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-paradigm: rather than force coders to adapt to one style, Python allows ma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ct orientation, structured programming, functional programming, aspect-oriented programming, and more recently, design by contract are all suppor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preted language, significant parallels to Lis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ynamically typ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rately type-check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licit conversion for numerics but not str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Whitespace Thing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entation is used to delimit bloc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{ } and BEGIN/END are not u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ces good indentation and read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sible problem when mixing spaces and tabs, as they are both currently accepted as ind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stal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alled on both Windows XP and Mac OSX 10.4.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y simple with help of instal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th can be set on Windows us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th=%path%; 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our python fold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5289480"/>
            <a:ext cx="1077840" cy="15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30T16:09:26Z</dcterms:created>
  <dc:creator>Matt Kesler</dc:creator>
  <dc:description/>
  <dc:language>en-US</dc:language>
  <cp:lastModifiedBy>Matt Kesler</cp:lastModifiedBy>
  <dcterms:modified xsi:type="dcterms:W3CDTF">2005-11-30T17:17:42Z</dcterms:modified>
  <cp:revision>5</cp:revision>
  <dc:subject/>
  <dc:title>Python</dc:title>
</cp:coreProperties>
</file>