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D8E-AF31-4898-BC2B-27EDDF29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7A2-531B-4581-BAD0-40611D84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00C-538F-4DE1-B5A8-F54CFC08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66C-D028-4163-941C-3A16811E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04C0-A518-40F9-AD0C-2DC13E87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E13C-D1F5-4484-96D3-EFF99C49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8FEE-EFE9-4DB2-8E63-3124590D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024A-E4BE-403F-96EE-F62942BA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9920-FE33-4733-97BB-19EA2FC9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1CDD-9E80-47E1-B726-9679ABFD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3081-EC7B-447F-A0AA-86175368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017-294B-45DA-9A9E-C4AC6A2D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C0F1-5081-4433-B60A-A75B3117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0903-B8D4-4211-8225-D02E6E2D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D4A6-4D31-4CA7-8F14-6D44B930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462E-A0B4-4792-B66A-A1DCD0B7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DAD5-9036-4D30-89AD-300F375C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D44-EBD9-4800-A195-59F50367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19A-EBD5-4E4C-9AE5-08CC5AB4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379-7161-4E01-8F82-00A821F8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D36-F756-4BFC-A59F-66FAE146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9FE-885C-451F-A5F1-0BB99531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0F4-EFA0-4C55-B428-E2645FC8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709-31FC-4586-9884-8E6DBBD6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FF58-3A8E-408B-A4EB-A574224B410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02D8-C220-4338-AD86-B965F885FB1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malltalk.org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bitwisemag.com/copy/other/download/download_dolphin_smalltalk.html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malltalk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 Object-Oriented Langua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y: Sandra Saab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S 43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r. Adam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cember 6, 200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ssignment Stateme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eft side is the variable nam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operator is specified with a colon and an equal sig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total := 2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sum :=tota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lock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nnamed literal object that contains a sequence of express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pecified in brackets with its expression components separated by period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y have paramet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ass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malltalk objects are instances of class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class has four part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A class na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A superclass na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A declaration of the local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variabl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The method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ne-Line Code Exampl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ello World’ revers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'dlroW olleH'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0 factorial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62880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'My name is Sandra'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'My name is Sandra‘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0 + 40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ibliograph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besta, Robert W (1993).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Concepts of Programming Languages Second Edition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  Colorado Springs: The Benjamin/Cummings Publishing Company,Inc. pgs 83-86 &amp; 521-530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ourne, John R (1992).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Object-Oriented Engineering: Building Engineering Systems using Smalltalk-80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  Ilinois: Richard D. Irwin, Inc., and Aksen Associates, Inc. pg 96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ebsites and Install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malltalk Website: </a:t>
            </a: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www.Smalltalk.or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piler: Dolphin Smalltalk 5.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ownloaded from: </a:t>
            </a: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http://www.bitwisemag.com/copy/other/download/download_dolphin_smalltalk.htm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aved DVESetup51.exe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o a file then I installed it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d to enter key to unlock the software: PY4K5YY-9MQDPDF-TA8DZ6I-69R89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seful Tutoria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://www.bitwisemag.com/copy/programming/smalltalk/dolphintutorial.htm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://www.engin.umd.umich.edu/CIS/course.des/cis400/smalltalk/smalltalk.htm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ttp://www.csci.csusb.edu/dick/samples/smalltalk.syntax.html#Interactive%20User%20Inpu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istor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concepts that led to the development of Smalltalk originated in the Ph.D. dissertation work of Alan Kay in the late 1960s at the University of Utah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nly runs on Windows Operating Syste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yntax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 kinds of expression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Literal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Variable nam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Message express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Block express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itera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ypes of literals ar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Numb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String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Charact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Symbol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Array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Variabl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quence of letters and/or digits that begin with a lett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wo type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Private -&gt; local to an object; names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must begin with a lowercase lett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Shared -&gt; visible outside the object in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which they are declared; names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must begin with an Uppercase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lett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re all pointers, they can only refer to objects or class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essa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rrespond in many ways to procedure calls in languages like Pascal and 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ree categorie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Una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Bina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Keywor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ethod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fines the operations an instance of the class will execute when a message corresponding to the method is receiv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re similar to function definitions complete with parameters and the capability of returning values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3:20:44Z</dcterms:created>
  <dc:creator>Sandra Saab</dc:creator>
  <dc:description/>
  <dc:language>en-US</dc:language>
  <cp:lastModifiedBy>Sandra Saab</cp:lastModifiedBy>
  <dcterms:modified xsi:type="dcterms:W3CDTF">2005-12-06T04:10:08Z</dcterms:modified>
  <cp:revision>6</cp:revision>
  <dc:subject/>
  <dc:title>Smalltalk An Object-Oriented Language</dc:title>
</cp:coreProperties>
</file>