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8CF-1411-4F19-A107-CBD31236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795-B98D-4C06-B69C-A6BDF29E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003-BD9E-4EFD-AB80-A240AB16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8D7-9894-4EF0-91A9-1D75231A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247A-FA4B-46C1-810D-4E31ED23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BC52-E4ED-46C1-9F0F-C3E4B9FF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FA06-5E5E-44A9-8341-BD31956E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12CE-9229-49FB-A2D8-BACF097B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2E7A-365A-44A6-89C5-EB94777D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26C5-C135-4AAC-B1D2-F7165A5F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351F-46CE-49FE-9BA5-28FD88A8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E49-7A25-436E-8CDD-3A5EC912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D395-321C-4F49-8CD3-B7EBCE23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1853-FD73-4374-BCDE-54DBC0E5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8A63-EB98-4CB1-83E8-66368017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FB96-A304-448C-8D9F-2BEB0DAD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B967-FB09-4152-AD3B-F792D257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ED3-1A52-4692-8747-337F0CB2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F9A-C3C9-4C1A-B00C-B21E83CB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47D-8BAE-4EC5-A8B3-9F035C26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5C2-6CC4-468F-B02B-92810C11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D7F-18EC-4540-B6C8-B171E511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84A-471A-4B46-A5DC-242764E4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D76-C7C9-4995-B688-66E22A3A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32CD-F523-42B0-A56F-4CDD4F78640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0665-C0E9-49CF-892F-9B2186B22F9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sdn.microsoft.com/library/default.asp?url=/library/en-us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sdn03.e-academy.com/elms/Storefront/Home.aspx?campus=jmu_cs" TargetMode="External"/><Relationship Id="rId2" Type="http://schemas.openxmlformats.org/officeDocument/2006/relationships/hyperlink" Target="https://users.cs.jmu.edu/bernstdh/web/common/help/cpp_mingw-inthelabs.php?CS240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Difference Between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, C++ and C#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28600" y="2860560"/>
            <a:ext cx="86868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ris Ashwor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msdn.microsoft.com/library/default.asp?url=/library/en-us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al and Object Orien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arameter Passing Mod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 has pass by value only (can imitate pass by refere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++ value or by reference (&amp; operat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Reference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Output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Parameter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ra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ynamic Memor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 has none, can use malloc() to change variable s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+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e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reserved w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# new reserved word, automatic memory collection up exit of current 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19320" y="259092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Which Language is Bett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ferenc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javaworld.com/javaworld/jw-08-2000/jw-0804-itw-csharp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cppreference.com/stdio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cplusplus.com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msdn.microsoft.com/library/default.asp?url=/library/en-us/vcedit/html/vcorivisualcmainnode.as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msdn.microsoft.com/library/default.asp?url=/library/en-us/vcedit/html/vcorivisualcmainnode.as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ompilers on CS Lab Computer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# - Visual Studio .NET 200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msdn03.e-academy.com/elms/Storefront/Home.aspx?campus=jmu_c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++ - MinGW, g++ comm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 – MinGW, gcc comm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s://users.cs.jmu.edu/bernstdh/web/common/help/cpp_mingw-inthelabs.php?CS2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istor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1973 Bell Labs (Dennis Ritch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Used to write the Unix ker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1983 Bell Labs (Stroustru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Combination of C and Simu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#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Microsoft (Hejls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Built for Rapid Application Development (R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nput Stateme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566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single charac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whole 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formatted 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s vs. ifstream vs. StreamRea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++ &gt;&gt; operator, char* vs. st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utput Stateme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single charac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whole 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formatted 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s vs. ofstream vs. StreamWri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++ &lt;&lt; opera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teration Stateme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hav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oo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# include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eac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oop used to traverse arrays or colle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nge loop control in a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mp into loop for C/C++ not for C#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lection Stateme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witc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does not requir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tatements, all cases executed withou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++ ? Opera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# jump-statement is REQUI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ception Handl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 has none, used function return val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+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t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#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nal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nal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nal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lock executes whether or not an exception was throw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ubprogra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use standard type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++ ha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lin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un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written inside main(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cannot be recursive or include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witc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tatements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13:24:33Z</dcterms:created>
  <dc:creator>Christopher Ashworth</dc:creator>
  <dc:description/>
  <dc:language>en-US</dc:language>
  <cp:lastModifiedBy>Christopher Ashworth</cp:lastModifiedBy>
  <dcterms:modified xsi:type="dcterms:W3CDTF">2005-12-06T14:17:33Z</dcterms:modified>
  <cp:revision>12</cp:revision>
  <dc:subject/>
  <dc:title>The Difference Between  C, C++ and C#</dc:title>
</cp:coreProperties>
</file>