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5357-4746-4866-9390-97D2D0B08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D061-55C8-4CF4-B894-B8F9EA71B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4994-2424-40E9-9273-3BD52E303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45F0-B946-41CC-A246-B8DA62187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9436-B0B0-46F5-9867-650CD8554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EDC6-D902-47AC-8D4C-0823565E4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E586-94D2-455B-BBE6-1FBDEE281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9882-E750-4466-93BC-4F19E38D0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FD60-98EC-4B69-AE4F-93E553033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C56B-1D3A-4EEF-93D0-90FB282E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7D9D-34D0-4663-BDC4-8F1B64F5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69BB-759F-434A-B0F5-65038AE1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849EF-CC1D-4ACD-B29F-518618A83E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queak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minnow.cc.gatech.edu/squeak/377" TargetMode="External"/><Relationship Id="rId2" Type="http://schemas.openxmlformats.org/officeDocument/2006/relationships/hyperlink" Target="http://www.cosc.canterbury.ac.nz/~wolfgang/cosc205/smalltalk1.html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queak.org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5280" y="2882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an Si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squeak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-Oriented Paradig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340080" y="1054080"/>
            <a:ext cx="2324160" cy="18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ful Sit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minnow.cc.gatech.edu/squeak/37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osc.canterbury.ac.nz/~wolfgang/cosc205/smalltalk1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286000" y="2743200"/>
            <a:ext cx="4581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nd Of Slide Show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download Squeak from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squeak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available in many platforms such as: Macs, Windows, Linux, FreeBS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ill download as a ZIP file ‘namedSqueak3.8-current-win-full.zip’, so extract the files and open Squeak.ex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Inf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ueak is driven by a programming language called Smalltal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talk was the first object oriented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ntroduced the concepts of objects, classes, and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initially intended to be used for the Dynabook, a notebook sized comp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s: the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3520" y="1828800"/>
            <a:ext cx="6095880" cy="24382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1371600"/>
            <a:ext cx="152640" cy="457200"/>
          </a:xfrm>
          <a:prstGeom prst="line">
            <a:avLst/>
          </a:prstGeom>
          <a:ln w="2232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9907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is is a workspace window.  It is used to create your own scripts, which are written in Smalltal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114480"/>
            <a:ext cx="82296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743200" y="2438280"/>
            <a:ext cx="6095880" cy="243864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267080" y="4876920"/>
            <a:ext cx="609840" cy="761760"/>
          </a:xfrm>
          <a:prstGeom prst="line">
            <a:avLst/>
          </a:prstGeom>
          <a:ln w="2232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57150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is is a transcript window. The output of the script in the workspace is displayed 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 flipV="1">
            <a:off x="2057400" y="4724280"/>
            <a:ext cx="1447920" cy="914400"/>
          </a:xfrm>
          <a:prstGeom prst="line">
            <a:avLst/>
          </a:prstGeom>
          <a:ln w="2232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590920"/>
            <a:ext cx="4647960" cy="2057400"/>
          </a:xfrm>
          <a:prstGeom prst="rect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33920" y="2819520"/>
            <a:ext cx="4267080" cy="1600200"/>
          </a:xfrm>
          <a:prstGeom prst="rect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571500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e surrounding icons are called the object’s halo.  They appear when you hold alt and click on an object, or if you use the middle mouse button. There is a wide variety of functions they’ll perform, depending on which object they surrou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8229600" cy="51436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715000" y="2590920"/>
            <a:ext cx="2286000" cy="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10080" y="4876920"/>
            <a:ext cx="2590920" cy="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19920" y="228600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ethod Fi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72200" y="45720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534520" y="1828800"/>
            <a:ext cx="304560" cy="4572000"/>
          </a:xfrm>
          <a:custGeom>
            <a:avLst/>
            <a:gdLst>
              <a:gd name="textAreaLeft" fmla="*/ 0 w 304560"/>
              <a:gd name="textAreaRight" fmla="*/ 109800 w 304560"/>
              <a:gd name="textAreaTop" fmla="*/ 303480 h 4572000"/>
              <a:gd name="textAreaBottom" fmla="*/ 4268520 h 457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292"/>
                  <a:pt x="10800" y="4583"/>
                </a:cubicBezTo>
                <a:lnTo>
                  <a:pt x="10800" y="4583"/>
                </a:lnTo>
                <a:cubicBezTo>
                  <a:pt x="10800" y="6875"/>
                  <a:pt x="16200" y="9166"/>
                  <a:pt x="21600" y="9166"/>
                </a:cubicBezTo>
                <a:cubicBezTo>
                  <a:pt x="16200" y="9166"/>
                  <a:pt x="10800" y="11458"/>
                  <a:pt x="10800" y="13749"/>
                </a:cubicBezTo>
                <a:lnTo>
                  <a:pt x="10800" y="17017"/>
                </a:lnTo>
                <a:cubicBezTo>
                  <a:pt x="10800" y="19309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39680"/>
            <a:ext cx="8305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ese are the window tools provided to you by Squeak.  Each is a different window for a different task, such as the two selected below.  The Method Finder is a tool for discovering methods by providing sample values for arguments and results. The Browser is a tool that allows you to view all the code of all of the classes in the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534520" y="762120"/>
            <a:ext cx="431640" cy="3047760"/>
          </a:xfrm>
          <a:custGeom>
            <a:avLst/>
            <a:gdLst/>
            <a:ahLst/>
            <a:rect l="l" t="t" r="r" b="b"/>
            <a:pathLst>
              <a:path w="272" h="1872">
                <a:moveTo>
                  <a:pt x="192" y="1872"/>
                </a:moveTo>
                <a:cubicBezTo>
                  <a:pt x="232" y="1260"/>
                  <a:pt x="272" y="648"/>
                  <a:pt x="240" y="336"/>
                </a:cubicBezTo>
                <a:cubicBezTo>
                  <a:pt x="208" y="24"/>
                  <a:pt x="104" y="12"/>
                  <a:pt x="0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809880" y="990720"/>
            <a:ext cx="457200" cy="16761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895480" y="3808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is is an object named ‘sketch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391520" y="1066680"/>
            <a:ext cx="152280" cy="7621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81280" y="2743200"/>
            <a:ext cx="1752840" cy="8380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34320" y="1828800"/>
            <a:ext cx="1752480" cy="23623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228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ese are the methods and properties of the object ‘sketch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2362320" y="1066680"/>
            <a:ext cx="304560" cy="5335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114800" y="914400"/>
            <a:ext cx="2819520" cy="1752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1600200"/>
            <a:ext cx="1752480" cy="8380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152280"/>
            <a:ext cx="27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ese buttons are programmed to run this particular scrip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934320" y="2590920"/>
            <a:ext cx="1752480" cy="2286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52680" y="4114800"/>
            <a:ext cx="2133720" cy="11430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648320"/>
            <a:ext cx="9144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42670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is is the code for the scrip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30T05:02:09Z</dcterms:created>
  <dc:creator>Brian Singer</dc:creator>
  <dc:description/>
  <dc:language>en-US</dc:language>
  <cp:lastModifiedBy>Brian Singer</cp:lastModifiedBy>
  <dcterms:modified xsi:type="dcterms:W3CDTF">2005-12-06T02:23:37Z</dcterms:modified>
  <cp:revision>6</cp:revision>
  <dc:subject/>
  <dc:title>Slide 1</dc:title>
</cp:coreProperties>
</file>