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388D-6927-4D35-8040-2ECA809AA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DC0E-D911-486B-BE2C-A5520FDB9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92DE-3B3D-4179-9010-6952DD350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9789-5400-44B2-8819-75CE79E3C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156A-DBED-4DD2-9EAF-8E3A334C8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DE9A-95B9-4B44-BE92-9DF04DB4A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FE4F-3F49-49A8-A15C-9C12F392D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43A0-1056-4B3B-B4C5-CA29A7388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F14F-04E8-405F-A5E5-EB24C6C85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0F1E-9028-4A20-8DB4-B2E306AB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B425-128A-4FCA-88FD-AF016C63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9573-FE58-4CBD-A0F2-19C61E38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8B894-3F96-4344-BBC9-FC76F33E27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cm.bell-labs.com/cm/cs/who/dmr/chist.html" TargetMode="External"/><Relationship Id="rId2" Type="http://schemas.openxmlformats.org/officeDocument/2006/relationships/hyperlink" Target="http://en.wikipedia.org/wiki/C_programming_language" TargetMode="External"/><Relationship Id="rId3" Type="http://schemas.openxmlformats.org/officeDocument/2006/relationships/hyperlink" Target="http://www.physics.drexel.edu/courses/Comp_Phys/General/C_basics/c_tutorial.html" TargetMode="External"/><Relationship Id="rId4" Type="http://schemas.openxmlformats.org/officeDocument/2006/relationships/hyperlink" Target="http://www.google.com/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 Programm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tt Casb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4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- Arr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ays start with index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array[] = {11,2,0,-14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*array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ay = (int *) malloc(5*sizeof(int)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ay[0] = 11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ay[1] = 2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ay[4] = -1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“Strings”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include &lt;string.h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mai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{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string[ ] = “hello world”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*s1, *s2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py(s1,"hello"); /* copy "hello" into s1 */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py(s2,s1); /* copy s1 into s2 */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0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}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-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 studen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 char *first;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char *last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 student student_a, student_b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cpy(student_a.first, “Brett")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cpy(student_b.last, “Casbeer”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s Of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velopment of the C Language – paper by Dennis M. Ritchi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cm.bell-labs.com/cm/cs/who/dmr/chist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kipedia.org – C Programming Language</a:t>
            </a:r>
            <a:br>
              <a:rPr sz="2800"/>
            </a:b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n.wikipedia.org/wiki/C_programming_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Language Tutorial</a:t>
            </a:r>
            <a:br>
              <a:rPr sz="2800"/>
            </a:b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physics.drexel.edu/courses/Comp_Phys/General/C_basics/c_tutorial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google.c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ype in: C Tutor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 Of 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ed by Dennis Ritchie at AT&amp;T, early 70s, for DEC PDP-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x written in, closely associated with,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ily of langu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PL, Martin Rich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(typeless), Ken Thompson, 19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++, Bjarne Stroustrup, Bell Labs, 8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, James Gosling Sun, 19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#, Microsoft, rec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++, Java, C# conserve (much) C syn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 Of C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1983, the American National Standards Institute (ANSI) formed a committee to establish a standard for  C. The standard was completed in 1989 and ratified as ANSI X3. This version of the language is referred to as ANSI C or C8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fter the ANSI standardization process, the C language specification remained relatively static for some time, whereas C++ continued to evolve. However, the standard underwent revision in the late 1990s, leading to the publication of ISO 9899:1999 in 1999. This standard is referred to as "C99". It was adopted as an ANSI standard in March 200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new features in C99 inclu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lin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iables can be declared anywhere (as in C++), rather than only after another declaration or the start of a compound stat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new data types, including long long int (to reduce the pain of the looming 32-bit to 64-bit transition), an explicit boolean data type, and a complex type representing complex numb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iable-length arr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ort for one-line comments beginning with //, like in BCPL or C++, and which many C compilers have previously supported as an exten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new library functions, such as snprintf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new header files, such as stdint.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ription Of 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-purpose language: used for drivers, parallel computing, operating sys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-level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ural: functions/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erative: list of com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C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 to C, two broad types of langu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-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BOL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table but ineffic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s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-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 but not por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of C: fast and por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: abstract above hardware arch, but not fa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Not C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: C is procedural (impera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mi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ncaps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s = algorithms, data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programs hard to maintain/underst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memory management is entirely man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memory 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tim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ust request right number of bytes, interpret correc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finished, must remember to free that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tle error-chec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[-2] or ar[100000] doesn’t throw an exception (doesn’t support exception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types for boolean (just ints), string (just char arrays)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thing in same namespace (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aming collis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arg-passing is pass-by-value; mus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mul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ss-by-reference with poi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- #inclu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for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in(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unction, we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ls compiler where to look for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f(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to Java’s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m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include line replaced with contents of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eader fi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s as an interface describing the publicly available functions in the .c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– Variables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 types determine what sort of value a variable can ta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variable typ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(integ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 (large integ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at (rational numb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uble (larger, higher precision floa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-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for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return-type name (parameter-list) {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// declare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//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//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//optionally return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1T05:37:34Z</dcterms:created>
  <dc:creator>Brett</dc:creator>
  <dc:description/>
  <dc:language>en-US</dc:language>
  <cp:lastModifiedBy>profile</cp:lastModifiedBy>
  <dcterms:modified xsi:type="dcterms:W3CDTF">2005-12-01T20:23:57Z</dcterms:modified>
  <cp:revision>7</cp:revision>
  <dc:subject/>
  <dc:title>C Programming Language</dc:title>
</cp:coreProperties>
</file>