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66C-55FA-4A55-BFF5-693871B3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E5E-5ACA-4520-A9C3-5A8E9F8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7E6-45A2-44B7-97AB-D0E23852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6EB-2A42-40D0-8EAD-1A75D930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4DD-AC6B-4A50-B710-9DEFE4A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8D4-FFAC-4239-A742-69127228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C94-8C69-4010-A8BA-210EF6D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8D5-224C-4F87-ABE1-3C6651A4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A24-F0CF-4745-9FDD-CED035EB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009-F8D6-40F5-8E62-05906377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0AD-E230-4ED6-81A8-3E38771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BC2-F421-45A3-ADB8-CB73E5D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9D1-12D8-4601-8F85-809EAE230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erver.berkeley.edu/Berkeley/Buildings/campanile.htm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icsi.berkeley.edu/~sather/" TargetMode="External"/><Relationship Id="rId4" Type="http://schemas.openxmlformats.org/officeDocument/2006/relationships/hyperlink" Target="http://www.icsi.berkeley.edu/~sather/" TargetMode="External"/><Relationship Id="rId5" Type="http://schemas.openxmlformats.org/officeDocument/2006/relationships/hyperlink" Target="http://www.icsi.berkeley.edu/~sather/" TargetMode="External"/><Relationship Id="rId6" Type="http://schemas.openxmlformats.org/officeDocument/2006/relationships/hyperlink" Target="http://www.gnu.org/software/sather/" TargetMode="External"/><Relationship Id="rId7" Type="http://schemas.openxmlformats.org/officeDocument/2006/relationships/hyperlink" Target="http://groups.google.com/group/comp.lang.sather" TargetMode="External"/><Relationship Id="rId8" Type="http://schemas.openxmlformats.org/officeDocument/2006/relationships/hyperlink" Target="http://groups.google.com/group/comp.lang.sather" TargetMode="Externa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Sua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430, Programming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her - Object Oriented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609480"/>
            <a:ext cx="733320" cy="257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762120" y="541008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ww.icsi.berkeley.edu/~sather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http://www.gnu.org/software/sather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groups.google.com/group/comp.lang.s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outine Argument Mod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argument also ha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determines how that argument is treated when the routine is call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mode is explicitly stated, the argument mode i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{in, out, inout, once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505880"/>
            <a:ext cx="4432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wap(inout x, inout y:INT)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mp:INT := x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:= 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y := t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:INT := 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b:INT := 10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a &amp; b have an initial va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wap(inout a,inout b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 + “a=“ + a + “ b=“ + b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Prints a=10 b=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 basic numbers and strings enjoy some special language support, they are defined as regular classes, and are a part of the standard libr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:STR := "foo"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:STR := "bar"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:STR := a + b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-- ‘+’ concats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-- c is "foobar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:INT := 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:INT := 7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:INT := e+f; -- g is 1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mpare:BOOL := e &gt; f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-- compare is fal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ypes (cont.)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8320" y="152352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RAY{T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y indexing starts at ze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2096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: ARRAY{INT}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:= | 3, 4, 5 |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:ARRAY{ARRAY{INT}} := ||1,2,3|,|3,4,5|,|5,6,7||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6160" y="476892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: TUP{INT, FLT, BOOL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:= TUP{INT, FLT, BOOL}::create(2, 2.5, tru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083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P{T1, T2, ...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ples can have up to four el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ndard parametrized class is the array class, ARRAY{T}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n array is actually used to hold objects, the type parameter must be instantiated to indicate the kind of objects being he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1800" y="3521160"/>
            <a:ext cx="827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:ARRAY{INT} := |2,5,7|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Special syntax for initializing array with values 2,5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+a[1]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Return the second element of the arr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4400" y="5045040"/>
            <a:ext cx="690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main(args:ARRAY{STR})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+args[0]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On unix, args[0] is the name of the progr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ditional Execution - </a:t>
            </a:r>
            <a:r>
              <a:rPr b="0" i="1" lang="en-US" sz="4400" spc="-1" strike="noStrike">
                <a:solidFill>
                  <a:srgbClr val="e3ebf1"/>
                </a:solidFill>
                <a:latin typeface="Arial"/>
              </a:rPr>
              <a:t>i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2640" y="1692360"/>
            <a:ext cx="388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:INT :=-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i &lt; 0 then i:=-i e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 + i;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--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ints out 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j:INT :=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j &lt; 0 then j:=-j e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 + j;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--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ints out 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1320" y="3837240"/>
            <a:ext cx="470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x &lt; 0 then y:=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x &lt; 100 then y := 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x &lt; 200 then y := 200 - 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e y := 0 en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63720" y="1692360"/>
            <a:ext cx="45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EXAMPL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x &lt; 0 then y := 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if x &lt; 100 then y := 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if x &lt; 200 then y := 200 - 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e y := 0 e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ditional Execution - </a:t>
            </a:r>
            <a:r>
              <a:rPr b="0" i="1" lang="en-US" sz="4400" spc="-1" strike="noStrike">
                <a:solidFill>
                  <a:srgbClr val="e3ebf1"/>
                </a:solidFill>
                <a:latin typeface="Arial"/>
              </a:rPr>
              <a:t>ca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0056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:INT := 7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switch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n 1,2,3 then j := 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n 4,5,6 then j :=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n 7,8,9 then j :=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e j := 10 e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+j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Prints out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e3ebf1"/>
                </a:solidFill>
                <a:latin typeface="Arial"/>
              </a:rPr>
              <a:t>typecas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Stat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metimes necessary to bypass the abstraction and make use of information about the actual type of the object to perform a particular a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24382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:$OB := 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.. some other co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:ST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ypecase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en INT then -- of type INT in this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OUT + "Integer result: " + 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en FLT then – of type FLT in this bran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OUT + "Real result: " + 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en $STR then -- 'a' is $STR; supports '.str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OUT + "Other printable result: " + a.str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OUT + "Non printable result"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hort Circuit Boolean Expression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160" y="1387080"/>
            <a:ext cx="44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Consider the 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:POI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p.x &gt; 3 then #OUT+p.x; 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Runtime error if p is vo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5480" y="2682720"/>
            <a:ext cx="635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Short circuit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~void(p) and p.x &gt; 3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--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e ~ symbol indicates logical neg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OUT+p.x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8640" y="4280040"/>
            <a:ext cx="662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Another example but with ‘o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:INT := 1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:POI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a&gt;10 or p.x &lt; 10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-- Since a&gt;10 is true, the second expr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-- is not evaluated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perator Redefini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ossible to define operators such as + and * to work with objects of arbitrary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possible with other operators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2120" y="327636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lass POIN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adonly attr x,y:I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reate(x,y:INT):SAME is ... -- same as bef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lus(s:POINT):POIN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turn #POINT(x + s.x, y + s.y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rowing Excep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s are explicitly raised b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aise stat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1160" y="2743200"/>
            <a:ext cx="566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dd_if_positive(i:INT)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f i &lt; 0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aise "Negative value:" + i + "\n"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istory of Sa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itial Sather compiler (for ‘Version 0’ of the language) was written in Sather (bootstrapped by hand-translating to C) over the summer of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SI made the language publicly available (version 0.1) June of 199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versions of the language are most indebted to Stephen Omohundro, Chu-Cheow Lim, and Heinz Schmidt. pSather co-evolved with primary early contributions by Jerome Feldman, Chu-Cheow Lim, and Franco Mazzant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pSather compiler was implemented by Chu-cheow Lim on the Sequent Symmetry, workstations and the CM-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atching Exceptions with </a:t>
            </a:r>
            <a:r>
              <a:rPr b="0" i="1" lang="en-US" sz="4000" spc="-1" strike="noStrike">
                <a:solidFill>
                  <a:srgbClr val="e3ebf1"/>
                </a:solidFill>
                <a:latin typeface="Arial"/>
              </a:rPr>
              <a:t>protec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s are passed to higher contexts until a handler is found and the exception is caught. Exceptions are caught using protect stateme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7152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rot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o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n $STR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ERR + "An error in foo!:" + exception.str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hen INT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ERR + "INT error=" + exceptio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'exception' of type 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-- Some other error handl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istory of Sath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her 1.0 was a major language change, introducing bound routines, iterators, proper separation of typing and code inclusion, contravariant typing, strongly typed parameterization, exceptions, stronger optional runtime checks and a new library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her has adopted ideas from a number of other languages. Its primary debt is to Eiffel, designed by Bertrand Meyer, but it has also been influenced by C, C++, Cecil, CLOS, CLU, Common Lisp, Dylan, ML, Modula-3, Oberon, Objective C, Pascal, SAIL, School, Self, and Smalltal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rating Systems Support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ha, DEC OSF/1 V2.0, V3.0, V3.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BSD 1.1.5.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UX 8.07, 9.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/2 EMX 0.8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STEP 3.2, 3.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(Metrowerks v4.5, PP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y UNICOS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C/os 5.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orn RISC 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OS 4.1.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OS 5.3, 5.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ix 4.3, 4.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BSD 1.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BSD/i386 1.0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1.0.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 Unix 3.2.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GI IRIX 4.0.5, 5.2, 5.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y NEWSOS 4.1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PS RISC os 4.53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tructures constructed from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bage collection and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mplicit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ion of subtyping and code i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table and Referenc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ther; data pla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can be compiled into C code and can link with C object fi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her can interface with both  ANSI C and FORT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her attempts to be as efficient as C, C++, or Fortran, as elegant and safe as Eiffel or CLU, and to support higher-order functions as well as Common Lisp or Sc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bian Install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 Debian (http://www.debian.org/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pkg –install 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her-browser_1.2.1-1_i386.d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her-doc_1.2.1-1_all.d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her-elisp_1.2.1-1_all.d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her-lwp_1.2.1-1_i386.d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her_1.2.1-1_i386.d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guarantee; good 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outin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havior of a class is specified by routines in the class body. Routines may take arguments and may return a val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1800" y="1601280"/>
            <a:ext cx="443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lass CALCULATOR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ttr running_sum:I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reate:CALCULATOR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s:CALCULATOR := new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s.running_sum := 0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turn re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dd(x:INT):IN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s:INT := running_sum + 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eturn re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outine Argumen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guments to a routine are specified as a comma-separated lis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argument must provide a name and ty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s of consecutive arguments may be declared with a single type specifi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94120" y="16138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reate(x,y:INT):POINT 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1:37:21Z</dcterms:created>
  <dc:creator>John Suarez</dc:creator>
  <dc:description/>
  <dc:language>en-US</dc:language>
  <cp:lastModifiedBy>John Suarez</cp:lastModifiedBy>
  <dcterms:modified xsi:type="dcterms:W3CDTF">2005-12-01T20:05:58Z</dcterms:modified>
  <cp:revision>16</cp:revision>
  <dc:subject/>
  <dc:title>Slide 1</dc:title>
</cp:coreProperties>
</file>