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3F3-D33B-496E-B764-CD3EFA69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1F1-100B-4279-8B68-B7106040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D53-4ED3-4979-BB3F-0A1EB1A2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DCE-F465-4649-B0DC-ED2F4499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F5F-3342-46CD-9E52-45809318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741-AF1A-4756-AC79-56C9CD33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9E6-931A-49E0-9D3A-4A78A5E3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27A-34FC-46EC-94B8-98A9AE31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A82-4FE4-4449-8DBF-2C604601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B9E-FFB8-45FB-A877-E0412032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C9C-C503-497A-ABFF-6F8CB141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C5C-8F47-4145-9D20-A05FD861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edfe"/>
            </a:gs>
            <a:gs pos="50000">
              <a:srgbClr val="33ccff"/>
            </a:gs>
            <a:gs pos="100000">
              <a:srgbClr val="bde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4B3F-5D9D-4329-9AFF-5CEE5D0DF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arizona.edu/icon" TargetMode="External"/><Relationship Id="rId2" Type="http://schemas.openxmlformats.org/officeDocument/2006/relationships/hyperlink" Target="http://www.cs.arizona.edu/icon" TargetMode="External"/><Relationship Id="rId3" Type="http://schemas.openxmlformats.org/officeDocument/2006/relationships/hyperlink" Target="http://www.cs.arizona.edu/icon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s.arizona.edu/icon/" TargetMode="External"/><Relationship Id="rId2" Type="http://schemas.openxmlformats.org/officeDocument/2006/relationships/hyperlink" Target="http://www.tools-of-computing.com/tc/CS/iconprog.pdf" TargetMode="External"/><Relationship Id="rId3" Type="http://schemas.openxmlformats.org/officeDocument/2006/relationships/hyperlink" Target="http://www.cs.arizona.edu/icon/v93w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s.arizona.edu/icon/v93w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edfe"/>
            </a:gs>
            <a:gs pos="50000">
              <a:srgbClr val="33ccff"/>
            </a:gs>
            <a:gs pos="100000">
              <a:srgbClr val="bde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con Programming Languag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vid Marti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rocedural and Imperative Languag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s.arizona.ed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3581280" y="2362320"/>
            <a:ext cx="221004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edfe"/>
            </a:gs>
            <a:gs pos="50000">
              <a:srgbClr val="33ccff"/>
            </a:gs>
            <a:gs pos="100000">
              <a:srgbClr val="bde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tor/? i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486080"/>
            <a:ext cx="9144000" cy="5371920"/>
            <a:chOff x="0" y="1486080"/>
            <a:chExt cx="9144000" cy="537192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0" t="4190" r="40281" b="35028"/>
            <a:stretch/>
          </p:blipFill>
          <p:spPr>
            <a:xfrm>
              <a:off x="0" y="1486080"/>
              <a:ext cx="9144000" cy="53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0" y="1486080"/>
              <a:ext cx="9144000" cy="537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edfe"/>
            </a:gs>
            <a:gs pos="50000">
              <a:srgbClr val="33ccff"/>
            </a:gs>
            <a:gs pos="100000">
              <a:srgbClr val="bde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2778" t="9400" r="15740" b="62433"/>
          <a:stretch/>
        </p:blipFill>
        <p:spPr>
          <a:xfrm>
            <a:off x="0" y="1219320"/>
            <a:ext cx="9524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edfe"/>
            </a:gs>
            <a:gs pos="50000">
              <a:srgbClr val="33ccff"/>
            </a:gs>
            <a:gs pos="100000">
              <a:srgbClr val="bde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tor/? i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Every works like a for loop.  It will continue to 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through each result until there are none left.  Ev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is considered a generator since it can produce mult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results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i := 1 to count do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( genpasswd()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i := 1 to 8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|| signifies string concatenation, while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signifies string scanning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:= s || ?ucalnu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edfe"/>
            </a:gs>
            <a:gs pos="50000">
              <a:srgbClr val="33ccff"/>
            </a:gs>
            <a:gs pos="100000">
              <a:srgbClr val="bde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tput of mkpasswd.ic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59261" b="52863"/>
          <a:stretch/>
        </p:blipFill>
        <p:spPr>
          <a:xfrm>
            <a:off x="457200" y="1600200"/>
            <a:ext cx="76201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edfe"/>
            </a:gs>
            <a:gs pos="50000">
              <a:srgbClr val="33ccff"/>
            </a:gs>
            <a:gs pos="100000">
              <a:srgbClr val="bde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ful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s.arizona.edu/icon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Home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ools-of-computing.com/tc/CS/iconprog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ON Hand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s.arizona.edu/icon/v93w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Install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edfe"/>
            </a:gs>
            <a:gs pos="50000">
              <a:srgbClr val="33ccff"/>
            </a:gs>
            <a:gs pos="100000">
              <a:srgbClr val="bde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story of 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at the University of Ariz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developer was Ralph Griswold, one of the inventors of SNOBOL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began in late 8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edfe"/>
            </a:gs>
            <a:gs pos="50000">
              <a:srgbClr val="33ccff"/>
            </a:gs>
            <a:gs pos="100000">
              <a:srgbClr val="bde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ON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reminisc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C and Pa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con is a very high-level imperative language with a rich repertoire of string and structure processing facilit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JCON is based upo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edfe"/>
            </a:gs>
            <a:gs pos="50000">
              <a:srgbClr val="33ccff"/>
            </a:gs>
            <a:gs pos="100000">
              <a:srgbClr val="bde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s of I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Used as an agile language, like Perl, Python, and Ruby.  Good for short progra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Runs on all major Oper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Used i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ed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format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ificial intellig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bolic mathema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aund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edfe"/>
            </a:gs>
            <a:gs pos="50000">
              <a:srgbClr val="33ccff"/>
            </a:gs>
            <a:gs pos="100000">
              <a:srgbClr val="bde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y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s.arizona.edu/icon/v93w.ht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wnload Zip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zip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low Wizard to Ins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edfe"/>
            </a:gs>
            <a:gs pos="50000">
              <a:srgbClr val="33ccff"/>
            </a:gs>
            <a:gs pos="100000">
              <a:srgbClr val="bde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 Basic Statemen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identifier&gt; := &lt;expression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(“…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s(“…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edfe"/>
            </a:gs>
            <a:gs pos="50000">
              <a:srgbClr val="33ccff"/>
            </a:gs>
            <a:gs pos="100000">
              <a:srgbClr val="bde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 Basic Statemen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xpr1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xpr2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xpr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ase expr0 of {expr1:expr2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..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[default:exprn]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xpr1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[d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xpr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xpr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[d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xpr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ea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xp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ry i := 1 to 10 d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xp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edfe"/>
            </a:gs>
            <a:gs pos="50000">
              <a:srgbClr val="33ccff"/>
            </a:gs>
            <a:gs pos="100000">
              <a:srgbClr val="bde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on’s Unique A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Non-Mandatory ‘;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ypeless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ly values have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Ex:  x := “Something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x := 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xpression-Oriented Synta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edfe"/>
            </a:gs>
            <a:gs pos="50000">
              <a:srgbClr val="33ccff"/>
            </a:gs>
            <a:gs pos="100000">
              <a:srgbClr val="bde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on’s Unique A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String Processing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? op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Genera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e many results, not ju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re flexible than for lo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er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expr1 [do expr2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r2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exp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8:59:26Z</dcterms:created>
  <dc:creator> </dc:creator>
  <dc:description/>
  <dc:language>en-US</dc:language>
  <cp:lastModifiedBy>profile</cp:lastModifiedBy>
  <dcterms:modified xsi:type="dcterms:W3CDTF">2005-12-08T15:47:29Z</dcterms:modified>
  <cp:revision>4</cp:revision>
  <dc:subject/>
  <dc:title>The Icon Programming Language David Martin http://www.cs.arizona.edu/icon A General Purpose Language</dc:title>
</cp:coreProperties>
</file>