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5D37-419F-4D60-943D-864A5753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00A-5B27-4674-AAD7-A4E1BF50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C05-323D-4FA6-BEB3-362FB42E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D614-A795-4589-82F8-8D286CBB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1814-D96E-426D-B4EC-6FCBACC6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259-B90C-4291-A169-E9358E0B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6141-3CC1-4E47-9808-EE4D5BA1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DDE-0B06-4FFE-B9CA-A0F08946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031F-4990-41F4-98F2-A7E880B3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1467-80E5-46E9-B7EF-7E1DA3DA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B70-12BE-4592-8F70-9A33D626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A274-B1BD-409A-82EB-E83EA907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A446-8A45-43C0-8025-26B7E565F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mithna@jmu.edu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odula2.org/" TargetMode="External"/><Relationship Id="rId2" Type="http://schemas.openxmlformats.org/officeDocument/2006/relationships/hyperlink" Target="http://www.arjay.bc.ca/Modula-2/m2faq.html" TargetMode="External"/><Relationship Id="rId3" Type="http://schemas.openxmlformats.org/officeDocument/2006/relationships/hyperlink" Target="http://www.excelsior-usa.com/home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xcelsior-usa.com/home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dula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352680"/>
            <a:ext cx="91440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han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smithna@jm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715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modula2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dula2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rjay.bc.ca/Modula-2/m2faq.html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xcelsior-usa.com/hom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ve XDS-x86 for Windows from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xcelsior-usa.com/hom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with Microsoft Windows NT, 2000, 95, or 98, also a Linux ver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lso works on my machine running XP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the .ex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nd follow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Modula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by Niklaus Wirth in Zurich, Switzerland in the late 70'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le f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programm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projects written and maintained in the fashion of professional software engin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embedded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, expressive, easy to learn and to 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s some of the deficiencies of Standard Pas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-2 vs. Standard Pas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ly compiled library modu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less use of bloc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rs are case sensi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goto lab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/O is in libraries rather than built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tatement is more versat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ies for concurrent programming via corout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l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M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Ou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Out.WriteString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"Hello World!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601992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 by Nathan Sm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ps and Control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: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LE x &lt;= 10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:= x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Out.WriteInt(x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 Loop (Infin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:= 0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x # 10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Out.WriteInt(x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IF x = 10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:= x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200" y="1599840"/>
            <a:ext cx="312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..UNTIL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: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:= x+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Out.WriteInt(x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TIL x =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x := 1 TO 10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Out.WriteInt(x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x:= 1 TO 10 BY 2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Out.WriteInt(x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601992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 by Nathan Sm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E grade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1..100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    InOut.WriteString(“You got an A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Out.WriteL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Out.WriteString(“CONGRATULATIONS”);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..90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    InOut.WriteString(“You got a B”);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1..80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    InOut.WriteString(“You got a C”);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1..70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    InOut.WriteString(“You got a D”);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Out.WriteString(“You got a F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724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|” symbol acts as a break.  You can execute as many statements for each case as you would like as long as the last one ends with a “|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601992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 by Nathan Sm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dure square (VAR num : INTEG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squNum : INTEG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uNum := num * nu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Out.WriteInt(squNum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quar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-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dure square (num : INTEGER) : INTEG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(num*nu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quar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426708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first example, the reserved word VAR is included before the variable in the parameter list.  This signifies a “pass by reference”.  Leaving out the word VAR signifies a “pass by valu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601992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 by Nathan Sm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22:16:42Z</dcterms:created>
  <dc:creator>Nathan Smith</dc:creator>
  <dc:description/>
  <dc:language>en-US</dc:language>
  <cp:lastModifiedBy>Nathan Smith</cp:lastModifiedBy>
  <dcterms:modified xsi:type="dcterms:W3CDTF">2005-12-06T15:19:27Z</dcterms:modified>
  <cp:revision>3</cp:revision>
  <dc:subject/>
  <dc:title>MODULA-2</dc:title>
</cp:coreProperties>
</file>