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238-AFB4-4612-9F58-4E07083E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A59-5918-4909-A4E5-6155871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B0A-1130-4E59-BFE2-17EFE87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BF4-CA82-40D7-8394-5BDAD077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9F4-F8C7-4922-A090-45D101CF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06D-5159-4259-9404-BB8A376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327-77C7-4FB4-BCA6-C9CD0026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02D-E572-4236-BCF1-49BBF59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ECB-5AD6-4980-BDF3-3788830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C98-A883-40E4-8FEE-7FFE5E0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C86-9889-4093-B356-B139C1D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737-FE57-4FD6-B212-94F6853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DFF-5037-439B-8677-BCFDCA94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h.uwaterloo.ca/apl_archives/apl/apl-plus/index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aqs.org/faqs/apl-faq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pl2000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ogramming Language (AP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 is a dynamic programming language for processing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loca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uwaterloo.ca/apl_archives/apl/apl-plus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Justin 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ogram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ogram -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APLSE 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lot line, bar, and pie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ort C and Fortran DOS executables and use them as functions with the for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FunctionName (alt + “[“)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Executable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a 1991, could remotely connect to anothe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Websi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qs.org/faqs/apl-faq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xt website is part of the ACM, enter your JMU username and password to g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igapl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rexswain.com/aplinf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bio.leidenuniv.nl/~batenburg/wekAPL.html#s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moz.org/Computers/Programming/Languages/AP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instru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odecomments.com/APL/message50453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AP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designed by Kenneth E. Iverson in 1960 at IBM and called “Iverson Not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reated to overcome confusion with standard mathematical no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escribed in Iverson’s book 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nterpreter was developed at IBM in mid-196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 has changed little throughout it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sion being demonstrated today is APL Plus Special Edition (APLSE), written for DOS in 1991 by Manugistic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95 Manugistics sold APLSE to LEX2000 Financial Reporting Software, which created a subsidiary called APL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2000 is sold for commercial applications and is locat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pl2000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wo files necessary are aplse.zip and PLUSDEMO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zip them each into their own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 uses fonts, or special characters, for almost 100 primitiv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rder to make the fonts display correctly, you must take the following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Open Dos window, select Properties, Options, Displ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, Full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type at the prompt: MODE CON COLS=80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=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Change directory to the aplse f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enter the executable named: APL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 enter the executable named: AP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DEMO is a demonstration of APLSE with a limited functionality interpreter.  It contains essentially the only documentation available for AP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un PLUSDEMO, follow steps 1 and 2, change directory to the PLUSDEMO folder and type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ly, skip steps 1 and 2, and the fonts will display incorrectly, but will still have the same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amples shown today are with the incorrect fonts because, unfortunately, Windows does not support graphical screen captures of DOS in full scree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 is interactive and interpreted, like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re saved as part of a workspace, which can contain hundreds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L can be used like a calculator to immediately evaluate expressions, or functions can be invoked by typing the function name with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gram I Wr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ssentially Programming Assignment 2, with two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s are assigned to the 5x7 array by a random numb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mensional arrays are row major in APL, so the individual rows are sorted, and not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the workspace typ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Load MY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ew the code, type: control - / to access the pull down menus, select Open, Function  and enter p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ecute the code: exit the function editor by pressing control - /, select session, Clear WS  and type pa2 at th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ogram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rogram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4:29:29Z</dcterms:created>
  <dc:creator>justin</dc:creator>
  <dc:description/>
  <dc:language>en-US</dc:language>
  <cp:lastModifiedBy>justin</cp:lastModifiedBy>
  <dcterms:modified xsi:type="dcterms:W3CDTF">2005-12-01T07:02:56Z</dcterms:modified>
  <cp:revision>9</cp:revision>
  <dc:subject/>
  <dc:title>A Programming Language (APL)</dc:title>
</cp:coreProperties>
</file>