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6EA6-A47F-46A5-B8E3-5BEC2D4C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081F-1266-4AF6-8D77-9D6B3682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12D4-333F-4988-ACD6-7EC988E4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43E8-B644-4433-B300-45BEBEE0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5CF96-D1E3-4271-9B51-440BC1A4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0BD76-CEE8-46DD-915A-C1E7AD3E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1EAEA-CB8C-47BF-B98F-3D7FDAFD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429FE-4ED6-4359-96A9-DA5AF838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67CC5-7A3C-40BE-BF24-0C61E049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970B9-4938-4CBB-9463-A9944DF1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24B07-2977-4401-8375-74975CD8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06DB-0E1F-4CEA-935D-6516AA3A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174F8-DA54-4197-88F5-0EFB5518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E87F2-BCB7-4DD2-AC68-E1041BFE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8B16E-5C19-4CDE-9416-F49240CE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6D92C-28A7-4C1D-B613-C06F56FE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F9BAA-B50D-467B-9517-F78465DB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599C-CA6F-4E1E-BF97-61081CF6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0615-25AA-48E3-891C-5E4D0140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F1DD-E103-4D18-91BA-DFB4F201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A4FB-D885-455F-BFE2-53CC6374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70A-E953-4710-88F7-51E9C27E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2419-B1F2-4C5B-9F59-4870A0B0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5B68-0E6C-49DC-897A-3FFC6E25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451D-52AA-4A0E-A979-068ECE9B7E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88CC-3392-4D7E-9D33-D9667FF5C8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nobol4.org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naugler.cs.semo.edu/classes/f05/webercs390/vanilla/DEMO.TXT" TargetMode="External"/><Relationship Id="rId3" Type="http://schemas.openxmlformats.org/officeDocument/2006/relationships/hyperlink" Target="http://www.snobol4.com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NOBOL4+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t Ker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www.snobol4.or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elpful si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dnaugler.cs.semo.edu/classes/f05/webercs390/vanilla/DEMO.TX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www.snobol4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NOBOL4+ is a StriNg Oriented symBOlic Langu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used for text processing and pattern match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as developed by Bell Laboratories Inc. in the 1970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ux/Unix/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stall and Ru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wnload Snobol4 for 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code in notepad and save with the extension .s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Ru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nobol4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ilen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put/Outpu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put/Output can be a variable or fun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Vari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r = input                  *from keyboard on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utput = ‘Hello world’   *to scre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Fun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PUT('variable', unit, length, 'file') *synta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turns the null string if the file was found and successfully ope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example, to open file TEXT.IN for input as unit 1, and associate variable READLINE with it, we would sa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PUT('READLINE', 1, , 'TEXT.IN')    :S(OK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UTPUT = 'Could not find file'          :(END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K . . 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UTPUT('variable', unit, length, 'file'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O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(label)   -execution resumes at the referenced state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S(label)  -transfer occurs only if the statement has succeed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F(label)  -transfer occurs only if the statement has fail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S(label1) F(label2) -transfer is made to label1 if the statement succeeded, or to label2 if it fail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bprogra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('Fname(arg1,...,argn)local1,...,localn'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name   Function 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name_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ta Typ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ings can have up through 32768 characters in them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nge -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31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rough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31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Range 8.43*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37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rough 3.37*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ra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 of elements indexed by integ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 of elements indexed by any data ty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imals = table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imals[“dog”] = “bark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ttern Match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tern matching examines a "subject" string for some combination of characters, called a "pattern."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attern match requires a subject string and a pattern. The pattern match succeeds or fai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tax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labe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ubject patte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'BLUEBIRD' 'BIRD'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   B = ‘BLUEBIRD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 ‘BLUE’  ‘BIRD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sc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need to declare variable ty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ore = 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ore = “30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aten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ore = “Max” “Frank” N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 chec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ore = Score + "30"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dit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T 'DOGS' = 'MICE'    :F(END)S(GO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00:17:28Z</dcterms:created>
  <dc:creator>Matthew John Kerster</dc:creator>
  <dc:description/>
  <dc:language>en-US</dc:language>
  <cp:lastModifiedBy>profile</cp:lastModifiedBy>
  <dcterms:modified xsi:type="dcterms:W3CDTF">2005-12-06T15:55:47Z</dcterms:modified>
  <cp:revision>8</cp:revision>
  <dc:subject/>
  <dc:title>SNOBOL4+</dc:title>
</cp:coreProperties>
</file>