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21E6-528F-4EFB-9EFE-64974A87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B3BD-2AAC-4D02-91BE-A593E1CC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D520-BDB2-4E63-BB25-0298C311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28F-BAD2-4041-B7CA-78636E7C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092A-633D-446F-8E4C-D147D818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0128-E57A-40C4-83F6-AA1DCC2C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1026-E61C-42C1-9AE6-265C5B5C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7229-FFB5-47B8-AE3B-623E7F83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6FD7-DFD2-412B-9F3E-E9D68105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4C89-0503-4258-876E-AE9F63A7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6C57-2A6D-4603-A207-0BD16BBC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EFF5-8B4F-41AB-946E-6711A4CE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A914-1858-4766-AF43-8878D724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3DCA-FDCA-4BA6-A6F7-324F55F2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EE0B-B78C-4423-AF57-BF42BE00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E342-28B4-4781-9CE1-337BB72F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8779-3546-4A00-A539-B7D26339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0049-3A96-4F54-A016-956FC12D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250E-E065-4491-8E0C-8C6BCB8B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DEF-6BD8-4C83-9313-CCBBD7F1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A0F2-5049-422A-AD44-49F0F98B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38E9-BCE0-4B88-89EE-A700B0EF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B35C-C8E6-430A-A27F-A632D836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6E45-4C2B-4C7E-BD4E-0F859F0D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363C-CFF9-4941-8BB7-FF2CDBD357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814C-1D82-40C9-90DD-8364813432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lgol_programming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John_Backus" TargetMode="External"/><Relationship Id="rId2" Type="http://schemas.openxmlformats.org/officeDocument/2006/relationships/hyperlink" Target="http://en.wikipedia.org/wiki/Backus_normal_for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gol /Algol 68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hdi TabdiliAz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website: ANGOL 68 GEN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si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tional Information/Sourc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fficult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y Hard To Find Compiler/Interpret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 to find the right set of rules for that Compiler/Interpr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that many updated online sourc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ther Sour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kipedia: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en.wikipedia.org/wiki/Algol_programm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ing Languages: Robert W. Sebesta. Pages 57, 8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y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ed out in 1950’s, first Algol 58 progressed to Algol 60 at 1960 and AlGOL 68 at 1969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  level programming language designed by  for scientific computations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John Backu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developed the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Backus normal for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method of describing programming languages specifically for ALGOL 58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rst time an international group attempted to design a programming languag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rst language design to be machine independen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commercially successful as Fortran or COBOL but very important because of its influence on other languag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uch as C, Pascal, Ada , C++ and jav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bprograms in ALG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GOL6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dures are the only subprogram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meters passed by value or nam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GOL68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ures are the only subprogram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meters passed by value or referenc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assed by valu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 max of real = (real a, b) real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assed by reference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  max of real=(ref  real a, b) real: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Of ALGOL 68 Syntax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t of program begin //body of the program// e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 This is a Commend #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 Decla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re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pi, twice pi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ment State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ice pi := 2 * ( spi := 3.1415926 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ion Statemen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&gt; b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rative Statemen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1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um := sum+1 od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Of ALGOL 68 Synta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itch Stateme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as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:print( “one”),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:print(“two”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:print("compl:"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a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Sample Oper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tional operators:&lt;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l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&lt;=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&gt;=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&gt;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g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operators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e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/=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GOL 60  Featur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Structure was introduced in ALGOL 6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 passing by name or value allow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fine data types allow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 Words: The symbols used for keywords are not allowed to be used by the program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 of dynamic array , called “flex arrays” in ALGOL68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:  flex [1:0] int li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:=(3,5,6,2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gative Features Of ALGOL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atures Too flexible which increased complexi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ck of input/output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orporated BNF too ear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ck of support from IBM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7T18:38:12Z</dcterms:created>
  <dc:creator>Junjiper Networks</dc:creator>
  <dc:description/>
  <dc:language>en-US</dc:language>
  <cp:lastModifiedBy>Junjiper Networks</cp:lastModifiedBy>
  <dcterms:modified xsi:type="dcterms:W3CDTF">2005-12-01T00:33:17Z</dcterms:modified>
  <cp:revision>10</cp:revision>
  <dc:subject/>
  <dc:title>         Algol /Algol 68 </dc:title>
</cp:coreProperties>
</file>