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00C-AE31-4658-9DD4-4EAF37E7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913-3B4A-4753-9962-CC3EDFEB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F3C-04FB-4A8D-8587-C65F343C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85E-8241-4939-9780-ABA30497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C6C4-52F6-4AD7-9A8B-89AF8E74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2C02-3176-4CB8-9BC0-55FFDF2B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87DC-E1C5-4B62-9AA1-B1718C2C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14E8-318F-4431-BB28-099E0311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7ECC-08F2-4716-A2D3-243D7B20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96C8-F667-4A8B-8DCB-D34500C6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2E4-583C-461C-A225-2D8C389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8BD-52FD-4C62-B162-5E951DC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55CC-3CA1-49C0-9DD6-BBBCB88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F573-9666-460D-A6F5-B23B589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113C-10C4-478F-B317-81E9BAE9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ECEF-D3ED-403D-BF31-0C3803CF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2BFB-4AFB-45F1-82DA-C3BE1C1A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8A8-CC12-4359-A467-E1787C0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1FA-93D1-4E43-BA27-7D82CDCD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6FB-9A3C-4853-A551-9B89E7E2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92E-4E7E-4DB6-9371-28F32DB5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50F-F86E-4528-AFAE-5DE4724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2FC-40EF-4299-B36A-3ACD8B4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E3D-8BD5-4A52-8CF2-B0EC1F5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4e9a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4e9a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24F9-8960-4A01-9653-C09ABD4725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4e9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1866-CA01-47DB-BD9F-B8FB5BED01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askell.org/" TargetMode="External"/><Relationship Id="rId2" Type="http://schemas.openxmlformats.org/officeDocument/2006/relationships/hyperlink" Target="http://www.cs.uu.nl/~afie/haskell/tourofsyntax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cs.wm.edu/~noonan/cs312/syllabus/haskell/table8-1.pd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askel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hristine Jones</a:t>
            </a:r>
            <a:br>
              <a:rPr sz="2800"/>
            </a:b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S 530-Adam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3:30pm clas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unctional paradig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63868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www.haskell.org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Factorial Program Outpu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haskell.or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cs.uu.nl/~afie/haskell/tourofsyntax.html</a:t>
            </a:r>
            <a:br>
              <a:rPr sz="1800"/>
            </a:b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ttp://www.cs.wm.edu/~noonan/cs312/syllabus/haskell/ch08c.pdf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ttp://www.mta.ca/~rrosebru/oldcourse/371199/haskell/paper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ed by a Committee in 1987 to create a language that had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high level of abstraction 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high level of maintainabilit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kell was an attempt to create ‘the’ standard, non-strict, higher order functional language to achieve a consistent base for research (e.g. by providing uniform identifiers for common functions).”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haskell.org/haskell-history.html#hask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ilar to ML and Mir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Abou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ctional paradig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iled AND interpre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gs is an example of a Haskell interpre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HC (Glasgow Haskell Compiler) is an example of a Haskell compiler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marily used in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ll suited for use in programs tha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need to be highly modifiable and maintainabl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ompilers and Interpreters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riptions of available compilers and interpreters:</a:t>
            </a:r>
            <a:br>
              <a:rPr sz="24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http://www.haskell.org/implementations.html</a:t>
            </a:r>
            <a:br>
              <a:rPr sz="22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used Hugs from:</a:t>
            </a:r>
            <a:br>
              <a:rPr sz="2400"/>
            </a:b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http://cvs.haskell.org/Hugs/pages/hugsman/basics.html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Operating Systems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ording to www.haskell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cinto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used Windows X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Syntax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, Float, Ch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r-Defin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u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 Forma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ule &lt;Name&gt; where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Expressions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Operators and Precedence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648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62485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cs.wm.edu/~noonan/cs312/syllabus/haskell/table8-1.pd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Subprograms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progr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t squareOfX = x*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meter pas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ss-by-Need (Lazy-Evalu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of Pass-by-Na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ameters passed to functions can never be changed and are only evaluated when the value of the parameter is needed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mta.ca/~rrosebru/oldcourse/371199/haskell/paper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59436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Sample Program—Factorial 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ule Fact wh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ct  :: Integer -&gt; Inte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ct n = product [1..n]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3:55:30Z</dcterms:created>
  <dc:creator>Ashley Shirer</dc:creator>
  <dc:description/>
  <dc:language>en-US</dc:language>
  <cp:lastModifiedBy>CSGA</cp:lastModifiedBy>
  <dcterms:modified xsi:type="dcterms:W3CDTF">2005-12-06T19:19:57Z</dcterms:modified>
  <cp:revision>13</cp:revision>
  <dc:subject/>
  <dc:title>Haskell</dc:title>
</cp:coreProperties>
</file>