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0B2-42B5-4184-B1E7-592B8CD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926-0BF6-4CC6-869C-DB9A555C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E6A-732C-42BD-9305-883E3CFE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BAA-E20A-47EF-AFBD-A166DB22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6EE-52A8-4C03-A6CA-3856CF7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487-4E0F-45E3-95B3-C53CEB2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6A2-00FE-443F-9954-9FD5A86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9A5-E6D9-4B40-AA52-96A6EF14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F52-2080-491E-B068-C8567F6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889-4AAF-47AF-9D1C-6085B3F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2E2-A1F1-4935-823C-6A844394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763-B600-4CE5-A473-6244611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E9E9-FFD4-4268-BCE6-0B99D66A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tefani 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ming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rarchica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ec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e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ming language that’s powerful, easy to learn, and a lot more fun than other languag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, power, safety, flexibility, ease of development,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eleased in 1993 by Euphoria; since then Rapid Deployment Software has been improv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velop Windows GUI programs, high-speed DOS games, and Linux X Windows programs; also useful for CGI (Web-based)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s (either 31-bit integer or 64-bit IEEE floa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of elements (much like an array in other langu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X[3][2] refers to the second element contained in the sequence that is the third element of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 are represented by a sequence of inte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” = (‘A’, ‘B’, ‘C’) = (65, 66, 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form of atom, restricted to 31-bit integer values in the range -1073741824 to 10737418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ic data type that can contain any of the above, and can be changed during run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of a sequence is actually an ob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 Pa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-by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d by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is is a com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ve Common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gets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getc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umber representing the keyboard or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This is an example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Number is %s.”,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umber representing the screen, error, or a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ve Common Statement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ve Common Statement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is ‘=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x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bine the operator with + - / *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x = x + 1 becomes x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ve Common Statement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ote 1: default increment value i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2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lso be floating poi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apideuphoria.com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ficial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Euphoria_programming_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21:26:47Z</dcterms:created>
  <dc:creator>Stefani A. Ryan </dc:creator>
  <dc:description/>
  <dc:language>en-US</dc:language>
  <cp:lastModifiedBy>Stefani A. Ryan </cp:lastModifiedBy>
  <dcterms:modified xsi:type="dcterms:W3CDTF">2005-12-01T03:37:16Z</dcterms:modified>
  <cp:revision>42</cp:revision>
  <dc:subject/>
  <dc:title>By Stefani Ryan</dc:title>
</cp:coreProperties>
</file>