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448-790C-43D4-BAF5-089D87FF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193-267C-4F23-8C62-ECD0BE95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92D-776F-430B-BC6F-26BC7CE1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3DA-1BE7-4896-A649-003F679A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193-04DE-4C30-BCB7-F0038197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95F3-E9EC-42E8-8462-A5C3955F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7DB2-AB4B-46A1-829A-CDFA628E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2A95-C0EE-4DAB-AFFF-89A25B67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EED-00DD-4D86-BC99-2B6D6F90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8BEF-CCAE-46FB-BB7A-423D92A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1497-AC6A-4E76-AD58-49110011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4E1-F92B-41C6-A0CD-FC03DE5A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61FB-D6DD-4B75-B8F1-EB132A4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83E4-3EE9-4199-9462-DFBC3B80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D029-A88D-4633-964F-CB7EAB10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63D8-4258-47C8-92A0-F26F9A47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7ECD-ECF9-4FF4-B95B-B24DB100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438-261E-494F-AFDE-3C91A984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AE1-AB3B-460C-9845-0487C8EA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809-3475-4F41-B31D-D99ADB85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C1B-0773-47CA-A7E0-FB4ED74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BDF-78A7-4036-8461-BDC58D3B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8AA-825F-4712-BF47-CC945F3E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023-DB8A-408A-A015-32B06CDA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8FAC-3288-432F-8F2C-4801FAF0DF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9DD8-32D6-4BCB-9EC4-213451ECF7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ttheory.com/" TargetMode="External"/><Relationship Id="rId2" Type="http://schemas.openxmlformats.org/officeDocument/2006/relationships/hyperlink" Target="http://cs1.cs.nyu.edu/bacon/setl-doc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tp://cs.nyu.edu/pub/languages/setl2/binaries-3.0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T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SETL" descr=""/>
          <p:cNvPicPr/>
          <p:nvPr/>
        </p:nvPicPr>
        <p:blipFill>
          <a:blip r:embed="rId1"/>
          <a:stretch/>
        </p:blipFill>
        <p:spPr>
          <a:xfrm>
            <a:off x="3352680" y="0"/>
            <a:ext cx="2210040" cy="2089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sed on Set Theory (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guag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level langu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s of Consta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inte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14159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re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.45E+1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real (scientific not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c’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st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’t’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st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rogram primes; --based on a program by Robert B.K. Dewar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 This program prints out a list of prime numbers which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 Includes all primes less than a parameter value which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 is specified as input data.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read(inputParam);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read input parameter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rimes := { };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construct an empty set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 := 2;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construct an integer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loop to test successive values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oop while p &lt; inputParam do --loop as long as p is less than inputParam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 | is read 'such that'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 notexists t in primes | p mod t = 0 then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rint(p);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no divisors so it's prime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rimes with := p;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nd if;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 := p + 1;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--move to next value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nd loop;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nd program primes;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other Exam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--by Robert B.K. Dew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ogram quadratic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--function declaration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nput_data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olve_equation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Output_results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--function defini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nput_data::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ad(a,b,c)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int(a,b,c)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heck_eof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olve_equation::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x := (-b + sqrt(b:b-4:a:c))/2*a)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13640" y="1981080"/>
            <a:ext cx="4234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Output_results::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int(‘root is’,x)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heck_eof::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f eor then print(‘improper data’)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top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d program quadratic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urc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ETL Programming Language” by Robert B.K. Dew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settheory.com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cs1.cs.nyu.edu/bacon/setl-doc.htm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ttp://en.wikipedia.org/wiki/SET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ython’s predecessor ABC was inspired by SET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veloped by Jack Schwartz at the NYU Courant Institute of Mathematical Scie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stall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ftp://cs.nyu.edu/pub/languages/setl2/binaries-3.0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files to install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tlInstaller.ms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eTcl8.4.1.0-2-win32-ix86.ex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th use standard wizard installer proc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available for linux, but the link was brok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imitive Data Typ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M (undefined valu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ggregate Data Typ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ordered Set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ke a “bag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 := { exp1, exp2 … exp3 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quences (tuples)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ke a lisp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 := [1,9, ‘abc’, [1,5]]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ps (tuples of length 2)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ke a “hash table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 := { [1,1], [4,2], [9,3], [16,4] }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per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t membership (i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ion (+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section (-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one member to a set (wit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move an element from a set (les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me Tuple Oper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rom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s the 1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element of a tuple and assigns it to the left opera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wit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ows a tuple to be used as a st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17040" y="3581280"/>
            <a:ext cx="60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 := [11, 26, 37, 17];  --assign the unordered set to 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B fromb A;      --b = 11, a = [26, 37, 17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 fromb A;      --c = 26, a = [37, 17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3640" y="5257800"/>
            <a:ext cx="3274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Q := []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Q with:= 5;  --q = [5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Q with := 7; --q = [5,7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 fromb Q;   --e = 5, q = [7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me Set Oper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th and l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or remove an element from a s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ects an arbitrary member of the s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1600" y="3124080"/>
            <a:ext cx="615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TA := {1,2,3}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TB := SETA with 7; -- SETA = {1,2,3}, SETB = {1,2,7,3}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TA with := 6; -- SETA = {1,6,2,3}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TA less := 2; -- SETA = {1,6,3}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TA less := 0; -- SETA = {1,6,3}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87120" y="5361120"/>
            <a:ext cx="28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 := {1,5};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B := arb A; -- b = 1 or 5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me Map Oper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ss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s pairs for one domain val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main and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turns a set of values representing the domains/ranges in this m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1360" y="3200400"/>
            <a:ext cx="292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A := { [1,2], [1,5],[2,3] }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A lessf := 1; -- A = { [2,3] }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87320" y="5181480"/>
            <a:ext cx="283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A := { [1,2], [1,5], [2,2] }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B := domain a; -- B = {1,2}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C := range a; -- C = {2,5}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4:23:21Z</dcterms:created>
  <dc:creator>Karl Ridgeway</dc:creator>
  <dc:description/>
  <dc:language>en-US</dc:language>
  <cp:lastModifiedBy>Karl Ridgeway</cp:lastModifiedBy>
  <dcterms:modified xsi:type="dcterms:W3CDTF">2005-12-06T16:46:02Z</dcterms:modified>
  <cp:revision>25</cp:revision>
  <dc:subject/>
  <dc:title>SETL</dc:title>
</cp:coreProperties>
</file>