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AA42-A793-4556-8B35-AD146C36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EA44-A897-45A5-944D-BA90CECC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CD97-B085-41A5-8D40-78E1CC07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8378-AC14-4159-8325-408BD113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32D9-5F80-4F3F-B27E-E1B16BEE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3908-8D46-4FBA-B2DC-33FFC657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C922-568A-4731-BE16-59BED558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4CB-3A1F-492E-A4C6-7AB1FC3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ED36-524B-41FA-8664-D959D9C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D948-0454-4A36-8C1F-7F84BABF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B8A1-CA31-4708-B899-C4D8215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FAE8-E5DE-4D16-AAA8-FC139BBB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351C-F63B-420B-A7A6-B1D68DB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517A-05C8-4103-A8F9-1F55D9C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598F-E826-4A34-99D1-6A3564DC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420E-5DB4-40C6-B22E-A6111F37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F35D-599C-4725-B8D8-7E22F50E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722E-16DF-4DC6-990A-EDF9BC07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7C4A-51F6-4A13-9C6C-6DDA20A9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7578-11D7-47C1-9D40-62047DCA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70AC-9A3D-4317-9EEE-14EE6810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2478-140C-4FD8-9A32-89071CF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62AD-E436-44F3-B468-9A793EB2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8CA2-6AF5-4775-A240-94A02F4E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67A-CF90-4863-9A20-E8C82E294F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424F-398C-40C9-ACF4-677BA9FCD6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malltalk.org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MALLTAL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: Jason Schul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malltalk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bject Oriented Paradig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ehler, Ted, Dave Patterson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TAS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 SMALLTA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New York: W. 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on &amp; Company, Inc., 19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talk.org.” 2004. Smalltalk.org. 3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 200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malltalk.org/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eak.”  30 Nov 200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queak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learn to the language http://www.smalltalk.org/smalltalk/learn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books and tutorials http://www.iam.unibe.ch/~ducasse/FreeBook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Research Group and Xer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n K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treatment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Object Orien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523880"/>
            <a:ext cx="876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Tower: height from: fromPin to: toPin using: using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Recursive procedure to move the disk at a height from one pin to another pin using a third pi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eight &gt; 0) ifTrue: 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moveTower: (height-1) from: fromPin to: usingPin using: toP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moveDisk: fromPin to: toP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moveTower: (height-1) from: usingPin to: toPin using: fromPi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is comment gives an example of how to run this program. Select the following and choose 'do it' from the middle-button menu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ject new) moveTower: 3 from: 1 to: 3 using: 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er: Squ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isg.cs.uni-magdeburg.de/~raab/squeak/imag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eak.3.0.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ystem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477120" cy="409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182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182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Sel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62120" y="2138400"/>
            <a:ext cx="5819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990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er of Hanoi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9:32:21Z</dcterms:created>
  <dc:creator>Gateway_User</dc:creator>
  <dc:description/>
  <dc:language>en-US</dc:language>
  <cp:lastModifiedBy>Gateway_User</cp:lastModifiedBy>
  <dcterms:modified xsi:type="dcterms:W3CDTF">2005-12-01T19:47:15Z</dcterms:modified>
  <cp:revision>6</cp:revision>
  <dc:subject/>
  <dc:title>SMALLTALK</dc:title>
</cp:coreProperties>
</file>