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A7F-B7E5-48E0-9FBC-7F485D4B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340-E9C8-4F73-89FE-DF254F16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597A-B788-414A-A274-A9BB682B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D0F-248E-4DB3-BF22-593FC8AD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3E3A-29F5-42E2-9E0B-D034E58D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515-7307-48BE-94F4-2BDE8697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580-1D70-4A98-A118-35F7A740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27C-21BD-4011-85CB-9EF84803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74E-6804-4A0A-BFA3-CC249D9A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2E7-5F75-4B7C-B1D1-D90F7250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10C-1301-4DDA-9639-8C5225E2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D0D-D547-4E64-A868-DF1A6063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F44A-DD85-416C-8721-6B45C8110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uby-lang.org/en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uterbody.com/ruby/ruby-man-1.4/syntax.html" TargetMode="External"/><Relationship Id="rId2" Type="http://schemas.openxmlformats.org/officeDocument/2006/relationships/hyperlink" Target="http://rubyinstaller.rubyforge.org/wiki/wiki.pl" TargetMode="External"/><Relationship Id="rId3" Type="http://schemas.openxmlformats.org/officeDocument/2006/relationships/hyperlink" Target="http://rubyinstaller.rubyforge.org/wiki/wiki.pl" TargetMode="External"/><Relationship Id="rId4" Type="http://schemas.openxmlformats.org/officeDocument/2006/relationships/hyperlink" Target="http://rubyinstaller.rubyforge.org/wiki/wiki.pl" TargetMode="External"/><Relationship Id="rId5" Type="http://schemas.openxmlformats.org/officeDocument/2006/relationships/hyperlink" Target="http://www.rubycentral.com/book" TargetMode="External"/><Relationship Id="rId6" Type="http://schemas.openxmlformats.org/officeDocument/2006/relationships/hyperlink" Target="http://www.rubycentral.com/book" TargetMode="External"/><Relationship Id="rId7" Type="http://schemas.openxmlformats.org/officeDocument/2006/relationships/hyperlink" Target="http://www.rubycentral.com/book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hn Blackma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by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ruby-lang.org/en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n object-oriented scripting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e Input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ints each byte (character) in a file to the standard output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author John Black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 fileEcho (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tell the input stream to cycle through the file byte-by-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.each_byte {|ch| putc ch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ile = File.open("fact.rb", "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Echo(a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 &amp; Basic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rs available for Unix and Windows mach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stall on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installer and execute it (shouldn’t have any probl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denoted by ‘#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atement is on its own line (no separa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y is interpretted (no executab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is an object (has proper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no variable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outerbody.com/ruby/ruby-man-1.4/synta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mmary of Ruby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ubyinstaller.rubyforge.org/wiki/wiki.p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l-in-one Ruby installer (with editors &amp; s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rubycentral.com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nline version of a Ruby text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Basic Statements (examp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– standar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gets  # reads a line from standard input; x refers to th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chomp  # returns x without the newline character from the line of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x.chomp!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erates on x in-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x.to_f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ats x to be a float (if 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– file input (see fileEcho.rb in code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pen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cycle through the file in one of several ways: (each word, each byte, each character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– standar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s “This is on a separate line.”   # writes the string literal to standar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#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s x   # writes x to the standar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Basic Statements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here are no variable declarations – memory is allocated  as it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8       # assigns the value of 8 to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5 self-assignment operators: +=, -=, *=, /=, %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%= 2    # this is equivalent to x = x %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Basic Statements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y has ‘if’ statements, ‘unless’ statements, and ‘case’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‘===‘ operator in control statements to test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‘case’ statement uses a different operator to test for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or cases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&lt;condi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‘if’ statement can be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ingle_statement&gt; if &lt;condi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Basic Statements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y provides 4 loop struc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’ loops continue until their test condition become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’ loops continue while their test condition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’ loops execute for a fixed number of times (a counted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’ loops are translated by the interpreter into a ‘do’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the syntax for all 4 loop structures is essentially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&lt;condi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tatement_block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/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are defined started with the ‘def’ reserved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 &lt;method_name&gt; (arg_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tatement block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support multiple length parameter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 &lt;method_name&gt; (arg1, *arg2, …)  # arg2 is op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 can have default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 &lt;method_name&gt; (arg1=“NO_ARG”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starting with the ‘class’ reserved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defined within a class are methods of that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attributes denoted by the ‘@’ pre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s become visible outside of the class by using the attr_reader function, which takes any number of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“constructor” implemented in the ‘initialize’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&lt;class_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lass_name&gt; initialize (&lt;parameter_list&gt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tatement_block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tatement_block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7:11:42Z</dcterms:created>
  <dc:creator>Lab User</dc:creator>
  <dc:description/>
  <dc:language>en-US</dc:language>
  <cp:lastModifiedBy>profile</cp:lastModifiedBy>
  <dcterms:modified xsi:type="dcterms:W3CDTF">2005-11-30T23:40:21Z</dcterms:modified>
  <cp:revision>26</cp:revision>
  <dc:subject/>
  <dc:title>John Blackman Ruby www.ruby-lang.org/en An object-oriented scripting language</dc:title>
</cp:coreProperties>
</file>