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5934-3559-45CD-BE2A-25C183F9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3AE-DFFB-4504-A5A6-F40EC448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76D-3BE8-48B0-91EF-8704E3AD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F8A7-005A-4F8A-A4C8-24EA2F1C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D264-D824-48C7-A6BC-0D1F3CC5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4BED-A391-41B3-A574-43DF4E16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012E-8D4F-47B5-A3AC-17818D49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33E7-B12E-40B6-ACA5-5D58BEA3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CBFD-3007-4D5A-82BF-6B677768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06A6-0CB2-4D65-8068-B7DFCD17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36AA-C77B-4398-90B6-78102148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F872-6373-4F21-B294-FDADF036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70DA-13C8-44CE-88AF-54C3BDB8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573B-CAAA-4B1A-B177-6F5DBDAD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79E2-7E0A-4E3E-845A-D34C1CCC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01E9-1BC7-4CDE-8FAF-67F4C8AB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21F0-324B-457B-BE44-6BF44A73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3B7E-D671-4217-AB03-B313361F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F33A-04BE-40BD-94B7-B13D59CB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34A-2F32-43CF-B863-394CD713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5FA8-1149-4B81-98E3-0EE460FD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5980-3A85-41A0-BB4C-E4CB6A7A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4C2-D2DF-45E1-AC21-F767B137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896-402F-491A-A398-6DC36FFC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3262-DD24-46AA-B5A6-FFCF09F3403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D4C0-A62E-4BDB-8A57-F53F3D9B136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BETA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y Adam Mathew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3429000"/>
            <a:ext cx="739152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ETA websit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http://www.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daimi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.au.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dk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/~beta/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487692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ETA paradigm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bject Orient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bpattern Exam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#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onkey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# banana : @integer; --paramet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nter(banana);        --determines which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           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--parameters take inpu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o             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anana -&gt;putint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it banana;           --return state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#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/O, where are you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one of the BETA tutorials had anything solid on I/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Y!? *grumbles*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ound three output statements in program examples: putline; (text), putint; (integers),  and newline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utput is done the same as assignment and parameter pass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x: 5 -&gt; putint;         (*Outputs 5*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‘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bc’ -&gt; putline; (*Outputs abc*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newline;             (*Brings output to new line*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lection Exam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if (x &gt; 4) th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oo’ -&gt; putline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ls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o’ -&gt; putline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f)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ther Selection (basically like a case stateme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-&gt; money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f mone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// 0 then  -- // means equa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Poor broke fool' -&gt; putline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// 100 th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'You\'re rich!' -&gt; putline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'Meh, whatever' -&gt; putline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)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Poor broke foo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te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or i:5 repe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Why me?' -&gt; putline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-&gt; putin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line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)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e?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e?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e?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e?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e?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or 5 repe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Why me?' -&gt; putline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)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e?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e?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e?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e?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e?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TA is an object oriented language that resolves around the Pattern, which makes up most of its basic construc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razy Scandinavians do assignment backwards and use assignment for parameter pass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m…yep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32000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n!!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143000" y="4191120"/>
            <a:ext cx="1704960" cy="24001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895480" y="4419720"/>
            <a:ext cx="5943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y Scandinavians portrayed in this presentation may or may not represent the Scandinavian peopl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ven like pillage and rape! Rawr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tting Start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oogle: BETA Programming Languag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http://www.daimi.au.dk/~beta/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ownload the Mjolner System (BETA compiler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tting Started: Ah, cra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h noes! Tried to compile a program and get the message: ld: cannot find –lole3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illed out contact form on website with little hopes of receiving hel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922680" indent="-194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o my surprise, received an email with possible problems and was given link to place to download other things that are needed by the compiler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214280" indent="-1940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http://www.daimi.au.dk/~beta/mjolner_system/gnu-software.html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922680" indent="-194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ownloaded and installed various packages (see link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922680" indent="-194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rom command line enter: PATH=C:\GCC-2.95.2\BIN;%PATH% so that the compiler will be able to find the correct packages for the compilation, linking, ect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rom command line: beta program_name.be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22680" indent="-194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reates an executable file (very nifty for portability of programs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perating System Compatibilit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Versions for download for Windows, Linux, and Mac platfor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orked fine on Windows XP syste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o Made BETA?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600200" y="2133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candinavian School of object- orient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ere Simula was first developed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1704960" cy="24004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057400" y="13716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32767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ven like object-orientation almost as much as Sven like pillaging and rap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BETA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veloped BETA as a modern language in the Simula tradition. The resulting language was smaller than Simula in spite of being considerably more expressive*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65530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*Information found at http://www.daimi.au.dk/~beta/mjolner_system/beta.html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 Orientation: The Patter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Pattern is GOD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seriously, folks, the pattern is the ultimate abstraction mechanism that generalizes class, procedure, function, coroutine, process, exception, etc.*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etty much looks like a method, except these methods do everyth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65530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*Information found at http://www.daimi.au.dk/~beta/mjolner_system/beta.html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ple Pattern Exam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#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uff : @integer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0-&gt;stuff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uff -&gt;putin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6324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utput: 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895120" y="3581280"/>
            <a:ext cx="6248520" cy="762120"/>
            <a:chOff x="2895120" y="3581280"/>
            <a:chExt cx="6248520" cy="762120"/>
          </a:xfrm>
        </p:grpSpPr>
        <p:sp>
          <p:nvSpPr>
            <p:cNvPr id="315" name=""/>
            <p:cNvSpPr/>
            <p:nvPr/>
          </p:nvSpPr>
          <p:spPr>
            <a:xfrm>
              <a:off x="3962160" y="358128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WTF? Assignment is done backwards?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895120" y="3809880"/>
              <a:ext cx="1066680" cy="5335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657600" y="4191120"/>
            <a:ext cx="5867280" cy="837720"/>
            <a:chOff x="3657600" y="4191120"/>
            <a:chExt cx="5867280" cy="837720"/>
          </a:xfrm>
        </p:grpSpPr>
        <p:sp>
          <p:nvSpPr>
            <p:cNvPr id="318" name=""/>
            <p:cNvSpPr/>
            <p:nvPr/>
          </p:nvSpPr>
          <p:spPr>
            <a:xfrm>
              <a:off x="4495680" y="4191120"/>
              <a:ext cx="5029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WTF</a:t>
              </a:r>
              <a:r>
                <a:rPr b="0" lang="en-US" sz="2400" spc="-1" strike="noStrike" baseline="30000">
                  <a:solidFill>
                    <a:srgbClr val="003366"/>
                  </a:solidFill>
                  <a:latin typeface="Comic Sans MS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? Output is done the same as assignment?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3657600" y="4419360"/>
              <a:ext cx="914400" cy="6094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bpatter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subpattern covers subclasses as in most other object-oriented languages. In addition, procedures may be organized in a subprocedure hierarchy in the same way as classes may be organized in a subclass hierarchy. Since patterns may also be used to describe functions, coroutines, concurrent processes, and exceptions, these may also be organized in a pattern hierarchy.*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asically, there can be as many subprograms as you want in any given subprogram, creating a large hierarchy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9480" y="65530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*Information found at http://www.daimi.au.dk/~beta/mjolner_system/beta.html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0:57:26Z</dcterms:created>
  <dc:creator>Adam Mathews</dc:creator>
  <dc:description/>
  <dc:language>en-US</dc:language>
  <cp:lastModifiedBy>profile</cp:lastModifiedBy>
  <dcterms:modified xsi:type="dcterms:W3CDTF">2005-12-01T20:27:53Z</dcterms:modified>
  <cp:revision>5</cp:revision>
  <dc:subject/>
  <dc:title>Beta</dc:title>
</cp:coreProperties>
</file>