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870-9DFC-47DA-BDDC-13F86AB3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9D2-F93E-4CC5-99FA-48EB1EB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506-C511-45F5-88A5-C9FE1C74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7B7-3BC0-48C8-8FD6-90CEC681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0407-0B3C-4215-861C-B3AA349F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4EA2-E47B-4F71-8A01-1574980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582-3ACB-4253-BEE4-DFAB8630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D0C-9CA2-4B1C-AC90-2574175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757-C0C9-4A41-A2E7-BC5B4B7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6FF9-C868-404E-A9A7-FD267CC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B13-0EE1-4DDF-A71D-C0386C4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BFA-C114-4D6E-92E6-99D3AB09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186E-EB5D-4194-B11A-E46B2E0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BA36-9858-40FC-9490-9E987DE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B84-60D0-45E2-B6C4-171ABF6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465-4DBC-4689-9CEF-058B649E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B37-0CB2-4514-B1A7-6AD0B106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252-78C9-473C-AA1D-935B8783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8A7-B542-463F-9FCD-945D7EFF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B1-6462-42F4-9453-6EBAD58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0F2-9B61-4573-9C0E-4AF7F8C2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22-34ED-4071-B959-4ABF431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39D-58EA-4B1A-823E-A6633CF6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DEF-340D-47D1-8508-ED4DD06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936-2FE7-4B2E-852B-00DC49E60E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8BC6-9D89-4BE2-9E9C-01133EDFF9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tp://ftp.snobol4.com/vanilla.zip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indspring.com/~viktors/ref3.htm" TargetMode="External"/><Relationship Id="rId2" Type="http://schemas.openxmlformats.org/officeDocument/2006/relationships/hyperlink" Target="http://www.snobol4.com/" TargetMode="External"/><Relationship Id="rId3" Type="http://schemas.openxmlformats.org/officeDocument/2006/relationships/hyperlink" Target="http://www.snobol4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triNg Oriented symBOlic Language 4</a:t>
            </a:r>
            <a:br>
              <a:rPr sz="24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NOBOL4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sh Madag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Interpr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nilla SNOBOL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ftp://ftp.snobol4.com/vanilla.zi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n VSNOBOL4.exe from Command Windo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SNOBOL4.exe filename” will check a file for syntax err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SNOBOL4.exe CODE” will allow you to enter statements and have them checked in real-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mindspring.com/~viktors/ref3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snobol4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snobol4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nilla SNOBOL4 Demo – included in vanilla.z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His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in the 1960s at Bell Labs by David Farber, Ralph Griswold, and Ivan Polons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ed a powerful, concis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dn’t care if it took extra computatio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ly called it String EXpression Interpreter - SE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 purpos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ed (or compiled – SPITBO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O-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cal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erativ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Bas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operators and arithm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-Defined Functions – Pass b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ment syntax is u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Label]  [statement]  [:goto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Data Ty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– String, Integer, Real, Arr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so 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le – Automatically grows, holds any type, can use any type as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ally ty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type con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Stat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[label] [statement] [:goto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s labels, similar to FORTR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or | label indicate com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goto has several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(labe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S(labe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F(labe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S(label1)F(label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Statement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Trims exterior white space from INPUT fr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the keyboard and assigns it to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If this fails goto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= TRIM(INPUT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F(E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OUTPUT the length of S in characters and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to the screen and then goto 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= SIZE(S) ' ' 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(LOO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86728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Code taken from Vanilla SNOBOL4 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Patter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 matching is si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pat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s = “gold” | “purpl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the pattern to a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 is valuable” Colors .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” stored in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mbine patterns and specify types of characters, similar to regular 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OBOL4 Patterns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Create a pattern, Vowel which matches 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Letter in a, e, i, o, or 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wel = any(“aeiou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DoubleVowel matches two Vowels in a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ubleVowel = Vowel Vow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Find a DoubleVowel in “vacuum” and put 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cuum” DoubleVowel .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will store “uu” in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86728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Code taken from Vanilla SNOBOL4 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6:20:38Z</dcterms:created>
  <dc:creator>Josh</dc:creator>
  <dc:description/>
  <dc:language>en-US</dc:language>
  <cp:lastModifiedBy>Josh</cp:lastModifiedBy>
  <dcterms:modified xsi:type="dcterms:W3CDTF">2005-12-06T18:51:04Z</dcterms:modified>
  <cp:revision>21</cp:revision>
  <dc:subject/>
  <dc:title>StriNg Oriented symBOlic Language 4 SNOBOL 4</dc:title>
</cp:coreProperties>
</file>