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1D2-C112-4C47-A0DC-444D19F4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785-077C-4357-9011-20F4072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CED-7867-4C19-B594-F93BE593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87C-7D98-4353-BBBC-D50EE10B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F985-2DD3-41BC-8935-9ECA4D82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B474-45CB-4067-9968-AF3E189C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A637-EEAD-43FC-A9E8-15FCBD9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6BC-A14D-4C2B-9840-EB9BECC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087-5627-4B50-80F4-9B9B9550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39F-84C0-4664-993C-0AC38780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C1C8-20F6-4523-ABFE-BC74240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AC8-E2D2-4EF0-8146-B325F284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816-C3CD-4603-AE4F-0F17D71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B118-4D5D-45FD-A775-6F5263F1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6708-62B6-4060-A567-6078E04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F949-CBB3-47CC-89B0-ACFF02C7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E15-E6E0-4E5F-94A5-CEB2719B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909-E158-4580-9DC1-578C179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C9E-8D4C-49F6-A8A1-64946E8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8B8-6A30-4EF1-AA20-4A029701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589-9662-438A-BF97-94034E2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CB7-182B-4C72-9657-0E7F7C1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127-38AA-4AF8-B2A1-BAA8D2E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5F1-4919-4FBE-B8AC-6327073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5CE-17F4-4F90-98CC-32D4DE1BC4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DE4-2CDF-45A5-9744-4086CEA3E7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itanium.cs.berkeley.edu/src/INSTA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itanium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rallel Dialect of Jav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bout Titaniu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Titanium language is a Java dialect for high-performance parallel scientific comput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tanium’s main additions to Java includ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ulti-dimensional arr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mutable clas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-based memory manage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stalling Titaniu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Gabe Beltran from the 12:30 section installed Titanium this way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wnload and install a copy of VMWare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From there install a copy of Knoppix Linux into the VMWare system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ownload the latest release of Titanium and follow the directions on this page: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titanium.cs.berkeley.edu/src/INSTALL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Unpack the .tar file and then go into a console and type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/configur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mak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d runtime/backend make tlib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NOTE:  On some of the commands its necessary to have root access to execute the command.  Just  prepend "sudo" to the command it will work  (ie: sudo ./configure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he whole thing is a long process and took about 4 hours for the entire compiler installation, not including the time it took to set up VMWare and Knoppix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You have to be in the directory the tcbuild executable is in and run any code from there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The directions for installing on a windows machine did not work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ultidimensional array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tanium arrays, which are distinct from Java arrays, are multi-dimension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are constructed using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domai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which specify their index se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are indexed by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instead of explicit lists of intege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 are tuples of integers and domains are sets of poin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tanium arrays also have special array operators (foreach, copy, shrink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See Reference Shee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mory Manag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tanium incorporates zone-based memory manage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ach allocation can be placed in a specific zon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tire zones can be deleted at o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neficial in 2 way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y placing objects that are referenced together in the same zone, it allows for explicit programming for locali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orms better than garbage collection on distributive-memory machi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mutable Clas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Titanium immutable class feature provides language support for defining application-specific primitive typ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tead of being stored as Objects, entities are stored by value, which saves system resourc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places method calls with overloaded operato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See Reference Shee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ttp://www.cs.berkeley.edu/projects/titanium/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Titanium Homepag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ttp://www.cs.berkeley.edu/Research/Projects/titanium/doc/lang-ref.pd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Language Reference Manua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ttp://www.cs.umd.edu/class/fall2005/cmsc714/Readings/titanium-hpj98.pd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ttp://bit.csc.lsu.edu/lcpc05/papers/lcpc05-paper-46.pdf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used for slides 2, 4-6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4:49:33Z</dcterms:created>
  <dc:creator>Justin Garcia</dc:creator>
  <dc:description/>
  <dc:language>en-US</dc:language>
  <cp:lastModifiedBy>Justin Garcia</cp:lastModifiedBy>
  <dcterms:modified xsi:type="dcterms:W3CDTF">2005-12-06T14:48:18Z</dcterms:modified>
  <cp:revision>27</cp:revision>
  <dc:subject/>
  <dc:title>Slide 1</dc:title>
</cp:coreProperties>
</file>