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4D6-5EA5-4117-85F9-E36CBDA1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F1A-EE7C-4913-90BE-F37691A2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4CC-1EF4-424E-A478-07807F7B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35A-3452-4F56-ABF1-B6B7D4C0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DA7D-5C94-457B-B42E-8FD0356B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99A6-284F-4AAD-90BD-6EB7213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2795-2B67-47D3-BFE0-F18A38B6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DD05-30B4-4A32-AAA9-ED3C02C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A9AD-F7C3-4190-BD8E-CBF77AA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C4C9-16BA-44B7-B779-0E46D3C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BC2E-3538-44E9-913C-A26E1A6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1D8-DECC-4D7A-ADF7-6774CCE4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056E-3AFA-4D04-ACC2-5188D9D7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3B0F-ED20-46BB-8B35-389CC34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04FE-9049-4A4E-86A3-0F30D530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EC0A-CA5E-43D4-89C6-A097B6FA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5D62-D669-45FC-B5C2-0B4DA523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92A-1501-4899-B41E-C7664551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A4B-C7FA-464C-BC87-A28B5479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685-A826-4F4F-9F09-2AFF614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9F5-D098-44A4-84B9-A955943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2AF-0BC2-40FE-9CD4-9F45DF6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E30-FF57-44FE-BF21-5BCA300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685-F56C-45FB-B68F-C95E194A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5CC0-370C-43CB-A838-7D111EE83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310-EAE6-4B7C-A7E6-8555DB7B9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uby-lang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uby-doc.org/" TargetMode="External"/><Relationship Id="rId3" Type="http://schemas.openxmlformats.org/officeDocument/2006/relationships/hyperlink" Target="http://www.math.umd.edu/~dcarrera/ruby/0.3/index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by - An Object Oriented Langu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259092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uby-lang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Wor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 Pr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Array = [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i &lt;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Array = myArray + [i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+=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ts “Contents of Array”.center(2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 myArr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868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tput from Handou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0010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ous No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ts of documentation can be found a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uby-doc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nice tutorial on the languag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math.umd.edu/~dcarrera/ruby/0.3/index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web development, make sure to have a Ruby handler installed on the webserv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Little About Rub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preted scripting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 applications incl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stem Administration Scrip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xt Process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b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atible with many platfor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n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ndows 95/98/Me/NT/2000/X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OS, OS/2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ation on a Windows Syst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rubyinstaller.rubyforge.org/wiki/wiki.p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76720" y="2141640"/>
            <a:ext cx="5715000" cy="4462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25146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installer installs the base Ruby files along with helpful documentation, IDE’s, and various libra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uby Progra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ram structure consists of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es/Modu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 execution c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variables are objects in Ruby.  Ruby automatically detects types of variables so there’s no type declar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s begin with a lowercase letter, constants with an upperc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cuting Ruby Progra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rams can be executed from the command prompt by us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uby fileName.r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uby was installed using the “One Click Installer”, programs can be run by double clicking on them as you would a normal execu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eful To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active Ruby – IR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RB allows you to execute Ruby statements step by st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68961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eful To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xri – Interactive Ruby Help &amp; Conso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853452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 Sample Progra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e: The maximum integer size in Ruby depends on the amount of free memory in your system, however, mathematical calculations aren’t the quick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f fib(n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f n&lt;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n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fib(n-2)+fib(n-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rint fib(20).to_s +  "\n"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53:47Z</dcterms:created>
  <dc:creator>Daniel Worley</dc:creator>
  <dc:description/>
  <dc:language>en-US</dc:language>
  <cp:lastModifiedBy>Daniel Worley</cp:lastModifiedBy>
  <dcterms:modified xsi:type="dcterms:W3CDTF">2005-12-01T18:54:36Z</dcterms:modified>
  <cp:revision>18</cp:revision>
  <dc:subject/>
  <dc:title>Ruby - An Object Oriented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