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C1C-B9A0-4824-B80F-8858F23F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F49-12B3-4078-BB98-DD08DCDC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EE8-D0E7-4A45-AFC5-4BE315D2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AC9-0AF2-4419-B156-EC7A1030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D94-1B00-41B1-A961-7C68918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9CE-9475-4CD0-A26E-9E06DC6D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D21-87DE-47CB-B463-F54AB75A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9EE-FA2D-41FF-9682-2DEBAA46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800-6818-4DAB-BB0D-3F9DFF4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4E1-F5D0-4B1C-B01A-D7D8D41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87E-62CB-4CEA-A86C-AF06E9E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A1C-83B1-458A-B8C4-5DF86FB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7E0A-F72F-4E08-B758-AB46BF911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gibin.erols.com/ziring/cgi-bin/cep/cep.pl?_key=SETL" TargetMode="External"/><Relationship Id="rId2" Type="http://schemas.openxmlformats.org/officeDocument/2006/relationships/hyperlink" Target="ftp://cs.nyu.edu/pub/languages/setls/" TargetMode="External"/><Relationship Id="rId3" Type="http://schemas.openxmlformats.org/officeDocument/2006/relationships/hyperlink" Target="http://www.settheory.com/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ttheory.com/" TargetMode="External"/><Relationship Id="rId2" Type="http://schemas.openxmlformats.org/officeDocument/2006/relationships/hyperlink" Target="http://cgibin.erols.com/ziring/cgi-bin/cep/cep.pl?_key=SETL" TargetMode="External"/><Relationship Id="rId3" Type="http://schemas.openxmlformats.org/officeDocument/2006/relationships/hyperlink" Target="http://www.cs.nyu.edu/~bacon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00"/>
                </a:solidFill>
                <a:latin typeface="Times New Roman"/>
              </a:rPr>
              <a:t>SETL</a:t>
            </a:r>
            <a:br>
              <a:rPr sz="60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Set Language</a:t>
            </a:r>
            <a:br>
              <a:rPr sz="6000"/>
            </a:br>
            <a:r>
              <a:rPr b="0" lang="en-US" sz="3000" spc="-1" strike="noStrike">
                <a:solidFill>
                  <a:srgbClr val="808000"/>
                </a:solidFill>
                <a:latin typeface="Times New Roman"/>
              </a:rPr>
              <a:t>Programming with Set Theory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poorl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le 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 is structurally similar to Pascal in a few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eclare a program name at the top and pre-declare any procedures(SETL only supports procedures) right after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upports command blocks, choosing to buffer them with key words rather than {}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data types in SETL are real, integer, string, and bool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ata structures, SETL uses thre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of unordered, non-uniqu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(Sequences) of ordered, uniqu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; sets of ordered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work done in SETL involves set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 provides a large amount of unary and binary operators for sets, tuples, and maps to assist the programmer in quickly determining concepts such as membership intersection, and union between these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ings to no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de from inside string variables, SETL is completely case insen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in SETL are denoted by “--”.  In SETLS, however, they are denoted by “$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data types are implicit:  the compiler looks at the value contained in the variable and uses it to determine the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ings to no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S does not support the “real” variable type (thus, no decimal points allowed) and a few other features of the SETL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 technically different language from SETL, SETLS has different syntax for some of its code.  Due to this, the grammars applying to SETL may not always ap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ings to no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L supports string arithmetic (such as &gt; and =), but much of it is implementation dependant.  “String” may &gt; “string” on one compiler, but &lt; it on another, for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ves room for a fair amount of confusion with set arithmetic involving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he .EXE file is created, however, that program will behave the same across all plat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ings to no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’s use of implicit data types and auto-self-managing data structures lighten the load greatly on the programmer.  However, this comes at a significant cost in machine computing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n’t as much of a concern now as it was 35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nippet – Procedure Co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gram proccall;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</a:rPr>
              <a:t>$Procedure Call 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proc add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</a:rPr>
              <a:t>$Procedure Pre-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 := 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:= </a:t>
            </a: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add(x, y);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</a:rPr>
              <a:t>$The call is ma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procedure add(x, y);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</a:rPr>
              <a:t>$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sum := x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return sum;      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</a:rPr>
              <a:t>$Retur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urier New"/>
              </a:rPr>
              <a:t>end proc;           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</a:rPr>
              <a:t>$Appropriat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 pro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ocedure points of interes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must be pre-declared at the top of the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are not and can not be separately compi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code is bounded by the “procedure &lt;name&gt; ;” line and the “end proc;”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nippet – Loop struc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gram wloop;  </a:t>
            </a:r>
            <a:r>
              <a:rPr b="0" lang="en-US" sz="2800" spc="-1" strike="noStrike">
                <a:solidFill>
                  <a:srgbClr val="339933"/>
                </a:solidFill>
                <a:latin typeface="Courier New"/>
              </a:rPr>
              <a:t>$Whil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Tuple := [1, 2, 3, 4, 5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 :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Courier New"/>
              </a:rPr>
              <a:t>(while count &lt; 5) </a:t>
            </a:r>
            <a:r>
              <a:rPr b="0" lang="en-US" sz="2800" spc="-1" strike="noStrike">
                <a:solidFill>
                  <a:srgbClr val="339933"/>
                </a:solidFill>
                <a:latin typeface="Courier New"/>
              </a:rPr>
              <a:t>$The loo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Courier New"/>
              </a:rPr>
              <a:t>print(count*elTuple(count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Courier New"/>
              </a:rPr>
              <a:t>count +: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Courier New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 pro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is Set Theory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ory is a fundamental mathematical field based on approaching problems in terms of “sets” – collections of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a subset of “Fruits” is {Apples, Oranges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arts simple, but can get really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nippet – Set Arithmetic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gram prime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({x:x in [2..200] | (notexists k in [2..x-1] | x mod k = 0)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 progra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Courier New"/>
              </a:rPr>
              <a:t>$This code demonstrates why I don’t understand set the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ve code included with the SETLS compiler (prime2.st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nippet – If state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gram main;  </a:t>
            </a:r>
            <a:r>
              <a:rPr b="0" lang="en-US" sz="2200" spc="-1" strike="noStrike">
                <a:solidFill>
                  <a:srgbClr val="339933"/>
                </a:solidFill>
                <a:latin typeface="Courier New"/>
              </a:rPr>
              <a:t>$ If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c fac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:=4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:=fact(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(n,' factorial is: ',n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c fact(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ourier New"/>
              </a:rPr>
              <a:t>if n=1 then return 1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339933"/>
                </a:solidFill>
                <a:latin typeface="Courier New"/>
              </a:rPr>
              <a:t>$ “if then” pat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ourier New"/>
              </a:rPr>
              <a:t>else return n*fact(n-1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33cc"/>
                </a:solidFill>
                <a:latin typeface="Courier New"/>
              </a:rPr>
              <a:t>end i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 pro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 pro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de included with SETLS compil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nippet – Bloody confus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ogram topsort1;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Demonstrates a map and so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oc tsort1;     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set arithmetic.  Sorts the map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:= {[1,4],[1,2],[2,4],[3,4],[2,3]};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 MAP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odes := domain g + range g;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orted := tsort1(g,nodes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nt('Sorted list: ',sorted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ocedure tsort1(g,nodes);  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 Recursive Proced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 This seems to be a return block..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exists n in nodes | n notin range g th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[n]+tsort1(g lessf n,nodes less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[]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end; 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End of mysterious return blo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end proc;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I have no idea how this code work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end prog; </a:t>
            </a:r>
            <a:r>
              <a:rPr b="0" lang="en-US" sz="1900" spc="-1" strike="noStrike">
                <a:solidFill>
                  <a:srgbClr val="339933"/>
                </a:solidFill>
                <a:latin typeface="Courier New"/>
              </a:rPr>
              <a:t>$Code included with SETLS compile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SETL: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cgibin.erols.com/ziring/cgi-bin/cep/cep.pl?_key=SET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S compiler: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ftp://cs.nyu.edu/pub/languages/setl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 Textbook (without figures):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http://www.settheory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above code:  Came with the SETLS compiler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L Grammar handout:  Came with the SETLS compiler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presentation’s information: 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www.settheo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t of it: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http://cgibin.erols.com/ziring/cgi-bin/cep/cep.pl?_key=S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LS compiler and presumably the examples within by Robert Dewar and Julius VandeKo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not by Dewar or VandeKopple then presumably by David Bacon at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http://www.cs.nyu.edu/~bac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et Theory and SET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et Theory begins to get complicated, working with it can be greatly assisted with a programming language centered entirely around it:  SET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 allows for large amounts of set, tuple (what we normal people call “sequences”), and map arithme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 was first developed by Jacob Schwartz in 1969, and released by Courant Institute in 197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wartz developed it since he felt that programming languages were lacking in their abilities to handle sets and sequ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imary Us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 has two primary 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first, as I said already, is assisting mathematicians in their Set Theory stu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e second, more mainstream use is writing compilers.  SETL lets programmers take a very high-level abstract approach with the algorithms involved, greatly simplifying th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vailabil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d from the Programming Language Diction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ullshit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848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vailabil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compiler for actual SETL available.  However, it doesn’t work – it’s missing the library that contains the actual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functional compiler I found is for SETLS (SETL Subset) at ftp://cs.nyu.edu/pub/languages/setl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stall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S comes in a self-extracting .exe file.  Simply create the folder you want SETLS in (C:\SETLS, for example), place the .exe there, and run it.  All the files will be dumped into that fo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hat folder to your path (Control Panel, System, Environmental Var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perating System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LS is configured to run on Linux, Windows, and Macintosh operat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r versions of SETL functioned on other OS’s such as Sun, Solaris, DOS, HP9000, and Un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1:11:13Z</dcterms:created>
  <dc:creator>Kyle</dc:creator>
  <dc:description/>
  <dc:language>en-US</dc:language>
  <cp:lastModifiedBy>Kyle</cp:lastModifiedBy>
  <dcterms:modified xsi:type="dcterms:W3CDTF">2005-12-01T18:32:15Z</dcterms:modified>
  <cp:revision>5</cp:revision>
  <dc:subject/>
  <dc:title>SETL Set Language</dc:title>
</cp:coreProperties>
</file>