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373-DA23-4E76-9363-87B6FE72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91F-5565-4517-9366-A7BD9CD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4F3-B8F5-4856-A1CB-F04DC378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E2F-8598-4A60-A1F2-0BEE8D67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6A0-7AAD-4A9A-BD23-89A4C0F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C0F-067A-4B56-8011-D097EF3F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EB3-ECB5-40BC-B79D-2F54E391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504-6167-4238-9324-3BCDEC45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FB5-2BA4-49ED-A421-F8B65D6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ACF-465B-47C2-8603-F0E8833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781-1918-45AD-9E60-9159B34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890-A5CC-4762-BB86-C88F2A0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875-7EBE-485D-8103-17940936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ke.oav.net/7.1/tutorial_frame.html" TargetMode="External"/><Relationship Id="rId2" Type="http://schemas.openxmlformats.org/officeDocument/2006/relationships/hyperlink" Target="http://pike.ida.liu.se/download/pub/pike/all/7.2.197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ke Programming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pike.ida.liu.se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yan Hou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438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ily designed for Unix/Linux but has been ported for Win32 machines (Win64 in the wor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wned from LPC (Lars Pensjo C) geared toward writing adventure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called µLPC and used by InformationsVävarna AB for programming a web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picked up by Roxen (then called Spinner) who is the primary user of Pike now for web-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sites and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other useful site on the web: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ike.oav.net/7.1/tutorial_fram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rs mostly for Unix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ort found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ke.ida.liu.se/download/pub/pike/all/7.2.197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installation script, give “C:/” as the “Installation Prefix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‘C:\pike\7.2.197\bin’ to your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pr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(similar to C and Ja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is just like in C (including static, final, public, private, protected ta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after the main program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unction overloading, but can use the data-typ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x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n ambiguous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rguments passed by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 operator creates only other references to original object, does not make a 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de Sni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st_records(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record_names=sort(indices(records)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write("Records:\n"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=0;i&lt;sizeof(record_names);i++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write(sprintf("%3d: %s\n", i+1, record_names[i])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in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gc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rgv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rgc &lt;= 1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list_records(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}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show_record(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rgv[1]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}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dd_record(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rd_name=Stdio.Readline()-&gt;read("Record name: "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records[record_name]=({}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write("Input song names, one per line. End with '.' on its own line.\n"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{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ng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song=Stdio.Readline()-&gt;read(sprintf("Song %2d: "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sizeof(records[record_name])+1)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ong=="."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 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strlen(song)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     records[record_name]+=({song})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}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57:12Z</dcterms:created>
  <dc:creator>Ryan Houston</dc:creator>
  <dc:description/>
  <dc:language>en-US</dc:language>
  <cp:lastModifiedBy>Ryan Houston</cp:lastModifiedBy>
  <dcterms:modified xsi:type="dcterms:W3CDTF">2005-11-30T20:06:45Z</dcterms:modified>
  <cp:revision>3</cp:revision>
  <dc:subject/>
  <dc:title>Pike Programming Language</dc:title>
</cp:coreProperties>
</file>