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2080-3309-472D-B187-D468BC30C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has been designed iteratively, and the present version is the 4th iteration. The previous versions were called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mmended to save under c:\Program Files\AB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: unbounded leng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s (strings): also unbounded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s: records (name, v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: sorted collections of any one type of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s: generalized arrays with any one type of keys, any one type of items (finite mapping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sting is very significant, because there are no BEGINs or ENDs or {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ful environment, where you only need to type a letter of the command intended and the system will ma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ct programs typically one fourth or one fifth the size of the equivalent Pascal or 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47A32-71B3-46F6-8E5F-6DD67D6F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8C6EB-7560-44E8-9B1F-148D8002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872B1-FB98-44D3-87A9-DEAEFC35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11939-9080-4D88-B8C7-6A8B0CDF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2180-C48A-4696-B91A-EC1174DF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01C9-3431-4800-9C87-CD47E6DF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F36E-B602-45D1-A714-5B5C4A3F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D0D0-B9E0-48B7-BB6A-7E4AB9D3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1CE4-474B-44F7-91AF-8AA2A05E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A8FC-31FF-41DC-B116-3DC608D8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EAD5-63D2-4E75-94D4-88A00D5D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5E38A-811C-4601-8FF5-59FA343C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7AFA-243E-40F9-8F99-01097F10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E200-EFC9-4F61-9173-968C0980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7CD8-9DF5-4BA8-9B39-C17A482D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A42D-8516-49B4-BC64-4311EB12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F324-382E-4358-A384-DB611FC3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F8A66-FA97-4813-B9D0-61B61EC1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AE8C5-2054-4887-B375-0AD5FA26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1ECB3-1D00-45FE-B52B-372A8586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7B882-0A72-4A79-9AD0-57C2FE83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15030-3022-4F96-9BD2-7CAFA38C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458E4-EC5A-44B1-B344-78C88EA2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516B6-91F7-4A9A-BBBD-36C9C82A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D32D-8D96-4351-8D06-E1FC68A27C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EED6-51A1-41AB-931B-0072E370AC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028880"/>
            <a:ext cx="7924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hmed Kare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C Programming Langu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440" y="4952880"/>
            <a:ext cx="743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Tahoma"/>
              </a:rPr>
              <a:t>URL:</a:t>
            </a:r>
            <a:r>
              <a:rPr b="0" lang="sv-SE" sz="2800" spc="-1" strike="noStrike">
                <a:solidFill>
                  <a:srgbClr val="ffffff"/>
                </a:solidFill>
                <a:latin typeface="Tahoma"/>
              </a:rPr>
              <a:t> http://homepages.cwi.nl/~steven/abc/</a:t>
            </a:r>
            <a:br>
              <a:rPr sz="2800"/>
            </a:br>
            <a:r>
              <a:rPr b="1" lang="sv-SE" sz="2800" spc="-1" strike="noStrike">
                <a:solidFill>
                  <a:srgbClr val="ffffff"/>
                </a:solidFill>
                <a:latin typeface="Tahoma"/>
              </a:rPr>
              <a:t>Paradigm:</a:t>
            </a:r>
            <a:r>
              <a:rPr b="0" lang="sv-SE" sz="2800" spc="-1" strike="noStrike">
                <a:solidFill>
                  <a:srgbClr val="ffffff"/>
                </a:solidFill>
                <a:latin typeface="Tahoma"/>
              </a:rPr>
              <a:t> algorithm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tact inform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hmed M. Kare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areemam@jmu.ed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troduction to ABC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ed at the Center of Mathematics and Computer Science in Amsterdam by Leo Geurts, Lambert Meertens and Steven Pembert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C is an interpreted langu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C was intended to replace BAS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C is a useful language as a teaching to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BC’s official site and download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ABC official website i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2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&lt;http://homepages.cwi.nl/~steven/abc/&gt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rpreter download step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261800" indent="-420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ick on “Implementations”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61800" indent="-420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ick “New Windows/DOS”, save at C:\Program Files\ABC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61800" indent="-420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 run, navigate to the ABC folder in Dos and type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ab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BC runs on Windows, Unix and Ma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ABC site contains clear documentation and very useful exampl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"The ABC Programmer's Handbook"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y Leo Geurts, Lambert Meertens and Steven Pembert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eatures of the ABC language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C language only has five data typ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umber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xts (string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oun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ab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sting by inden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iendly 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act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BC Data-type Ex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mb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T 7 IN 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xt (string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T “This is a text” IN 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oun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T ("Square root of 2", root 2) IN 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st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T {1..10} IN listNam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bl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T {} IN te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HOW TOs In AB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ands are created using HOW T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. of HOW TO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TO functionName param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a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TO RETURN functionNam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a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URN returnValu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BC Program Exampl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Note: the following examples are taken from the official ABC websit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\This uses the table data-type. Note that a table is very similar to an array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&gt;&gt;&gt; PUT {} IN tel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&gt;&gt;&gt; PUT 4054 IN tel["Jennifer"]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&gt;&gt;&gt; PUT 4098 IN tel["Timo"]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&gt;&gt;&gt; PUT 4134 IN tel["Guido"]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&gt;&gt;&gt; WRITE tel["Jennifer"]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054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\You can write all values out, and tables are kept sorted by the keys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&gt;&gt;&gt; WRITE tel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{["Guido"]: 4134; ["Jennifer"]: 4054; ["Timo"]: 4098}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\The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key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function returns a list of the keys in the table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&gt;&gt;&gt; WRITE keys tel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{"Guido"; "Jennifer"; "Timo"}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BC program examples (cont.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&gt;&gt;&gt; FOR name IN keys tel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RITE name, ":", tel[name] /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Guido: 4134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Jennifer: 4054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mo: 4098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\You can define your own commands in ABC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OW TO DISPLAY t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R name IN keys t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RITE name&lt;&lt;10, t[name] /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&gt;&gt;&gt; DISPLAY tel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Guido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134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Jennifer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054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mo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098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\you can find the user of a given number by using IF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&gt;&gt;&gt; IF SOME name IN keys tel HAS tel[name] = 4054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RITE name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Jennifer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BC program examples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\you can create the inverse table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&gt;&gt;&gt; PUT {} IN subscriber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&gt;&gt;&gt; FOR name IN keys tel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UT name IN subscriber[tel[name]]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&gt;&gt;&gt; WRITE subscriber[4054]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Jennifer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&gt;&gt;&gt; WRITE subscriber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{[4054]: "Jennifer"; [4098]: "Timo"; [4134]: "Guido"}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6:23:11Z</dcterms:created>
  <dc:creator> ahmed</dc:creator>
  <dc:description/>
  <dc:language>en-US</dc:language>
  <cp:lastModifiedBy> ahmed</cp:lastModifiedBy>
  <dcterms:modified xsi:type="dcterms:W3CDTF">2005-12-06T13:33:16Z</dcterms:modified>
  <cp:revision>16</cp:revision>
  <dc:subject/>
  <dc:title>ABC Programming Language</dc:title>
</cp:coreProperties>
</file>