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677-301F-4A6E-AA19-0C66E949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55E-C0C1-4FE4-9E9E-BF5D29DF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661-9A9B-4460-A7B3-BF5C955C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20F-8F9B-4FD7-99BD-5253A578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7888-0F9E-4721-B61E-72960167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8598-A183-4DDF-86DA-5AE480EF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DAB7-6823-4D15-BC17-DB18691A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B22B-5DAF-422E-833F-30EF9245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CE5D-1019-460B-95FE-F358CFD5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89C9-FFEE-4F17-99FF-D00E3670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C765-CA6E-4B32-AC40-DD028E5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665-D3D5-4C8C-8E06-6B8C3E20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2C7-2313-47A4-83D3-C102813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C0D5-CE85-47E7-96F2-E18F13C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B445-76D0-4053-9867-EFDA17A0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4FFC-2581-4446-BF3C-F5B5B43D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F71C-1B62-4409-A699-0CE7113D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E65-1396-45DB-BCB2-C05E933B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C28-B355-4D00-8B1F-D68D51EB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98C-2A24-4C86-B997-B05A73DE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9AA-71AF-4A71-87AC-EE531AB7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B82-DD0C-4EFE-8689-0417C2E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7B0-5332-45C6-BC51-9430BD0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378-87E0-49CD-8B6F-29669F1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50E7-E2DF-43DB-8E8C-CD7DFB57B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179A-86BE-4D19-B023-2AA51E615A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6781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opher San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: Cu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site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http://www.informatik.uni-kiel.de/~curry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digm: Multi-Paradigm langu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-Paradig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eclar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er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-ori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-t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Haskell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initiative intended to provide a common platform for the research, teaching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application of integrated functional logic language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ttp://www.informatik.uni-kiel.de/~curry/papers/report.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development done by Portland State University and University of Kiel (Germa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: Munster Cur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http://danae.uni-muenster.de/~lux/curry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available for Solaris, Linux and Mac OS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a Haskell98 compiler installed before instal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stal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Download and unpack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un configure command on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configu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Make install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insta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Haskell98 compiler must be installed correc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make files won’t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ax s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begin with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ule &lt;program name&gt; where &lt;body of program&gt;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- This is a com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- This too is a form of comment -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&lt;type&gt; &lt;variable name&gt; = &lt;appropriate valu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ion Statem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TRUE then x else y =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uare x = x *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quare” is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” is arg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*x” becomes bound to “x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: square (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onymous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= (\x -&gt; x*x)(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hen function is only referred to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ean value, True or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as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as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ine version of compiler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http://www-ps.informatik.uni-kiel.de/~mh/pakcs/curryinput_c2p.c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7:40:34Z</dcterms:created>
  <dc:creator>Christopher Sanford</dc:creator>
  <dc:description/>
  <dc:language>en-US</dc:language>
  <cp:lastModifiedBy>Christopher Sanford</cp:lastModifiedBy>
  <dcterms:modified xsi:type="dcterms:W3CDTF">2005-12-06T09:12:51Z</dcterms:modified>
  <cp:revision>3</cp:revision>
  <dc:subject/>
  <dc:title>PowerPoint Presentation</dc:title>
</cp:coreProperties>
</file>