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27E-6C8E-4008-80FB-86F783E1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1C2-4339-4337-9919-A1DB9158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121-161E-4047-95D1-91B63CD5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B40-09CF-4C88-9433-769160B6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77A-B078-41BF-8B60-62B0F2FD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BA8-AA2E-433D-B298-FC3042A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A10-C963-418B-A498-19AE9127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24E-B2BF-47D5-BAEC-FEA97E34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CC5-833A-4AF1-9293-0EA44EFB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B38-B909-45F0-A12F-203303FD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974-1BCF-4C35-B337-2557732D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12B-CBA9-49BF-ADA5-EF57A5E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C2CE-C4C0-44FA-8A9F-BB7E104B0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arizona.edu/icon/" TargetMode="External"/><Relationship Id="rId2" Type="http://schemas.openxmlformats.org/officeDocument/2006/relationships/hyperlink" Target="http://www.cs.arizona.edu/icon/book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Icon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io Be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4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a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s.arizona.edu/ic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ief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veloped in 1977 at the University of Ariz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unded largely by the National Science Found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alph E. Griswold, Lead Desig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sidered a successor to the SNOBOL fami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con is still in use today but its acceptance can only be considered marg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con has been ported across many platforms including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ndows, Unix, OSX, Amiga, VAX/VMS, MS-DOS, Archimedes, JAVA (Jcon)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guage High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milar look and feel to Pascal and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utomatic garbage col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ility to be compiled or interpr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mi colons are op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andles mixed mode arithmetic automatic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rol is “goal-oriented” on success or failure instead of Boolean based constr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ccess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cedures and Conditional statements return success or fail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x &lt; y &lt;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o Ber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 := find("or",line) then write(i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.arizona.edu/icon/docs/ipd266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ile line := read() do write(lin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.arizona.edu/icon/docs/ipd266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ic Synt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signment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ariable :=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ariable := “hell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ariable1 :=: variable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tera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1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o {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1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o {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peat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will run infinitely, must use break to en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[else]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ic Syntax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lection cont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se (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 of  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ressio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N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ressio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default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ression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ead()  #a := read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File := open(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filenam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upu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rite() #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rints to current line and carriage retur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rites() #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rints to the current l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#this is a com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$defin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global variables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ocedur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[args][args]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return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ocedure main([args]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ll parameter passing is pass by value, unless glob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on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on homep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s.arizona.edu/ic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pedi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en.wikipedia.org/wiki/Icon_programming_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 on I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. Griswald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cs.arizona.edu/icon/book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 Christopher: http://www.tools-of-computing.com/tc/CS/iconprog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1:43:10Z</dcterms:created>
  <dc:creator>Goldman</dc:creator>
  <dc:description/>
  <dc:language>en-US</dc:language>
  <cp:lastModifiedBy>Goldman</cp:lastModifiedBy>
  <dcterms:modified xsi:type="dcterms:W3CDTF">2005-12-08T03:53:53Z</dcterms:modified>
  <cp:revision>87</cp:revision>
  <dc:subject/>
  <dc:title>Icon</dc:title>
</cp:coreProperties>
</file>