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55E2E-A4A9-49DA-BFEF-D5FC6A0FF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2B767-578B-4953-A8EA-355E62C3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F4FD8-E50D-412F-9A7F-626C74550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320E6-66B3-4AF4-A28D-362B6E4B1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7030-80F0-41EB-AAAA-9807268E2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7D8F-3F8C-4581-9A1C-5C2E9479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3FC0-68A2-4E98-A1B0-7DE8AB87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5DF5-96B6-4923-A927-4FA1CB90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8D73-E9F3-4848-8FD4-CE6350DB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E8CD-FE87-402A-855D-8E8ABAE2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3C7D-8B75-40C3-85C9-0EFFCE52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837E1-336D-41EC-80E8-29BA993E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20E3-1994-4F73-B806-C3F33B90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1D8F-EE96-4CE5-B126-528845CC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2D72-BB28-4824-B6AD-7B8783CE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94B0-35B0-46E2-9BB2-7ADA2BFB7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3269-8F6F-4ED8-8996-D510547F7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3AF02-760A-49BB-A3CF-77285B1D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D8972-80EE-4FEE-95CA-70DA7527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C7144-8A1E-4772-9A3A-33D2E6C0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F14DA-3561-4040-A0DF-854188B1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0501B-AD4F-40A8-91CC-22D48E20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01790-D7B6-4D07-B7BD-25E0A99D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5F6CE-4923-40B2-95EA-547CE4A4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15FC-ABCD-4079-A813-ECFE7A27DE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0F45-2EC8-46BC-94F1-A4A40E49EB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danae.uni-muenster.de/~lux/curry/" TargetMode="External"/><Relationship Id="rId2" Type="http://schemas.openxmlformats.org/officeDocument/2006/relationships/hyperlink" Target="http://danae.uni-muenster.de/~lux/curry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Garamond"/>
              </a:rPr>
              <a:t>C</a:t>
            </a: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5400" spc="-1" strike="noStrike">
                <a:solidFill>
                  <a:srgbClr val="0000ff"/>
                </a:solidFill>
                <a:latin typeface="Garamond"/>
              </a:rPr>
              <a:t>U</a:t>
            </a: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5400" spc="-1" strike="noStrike">
                <a:solidFill>
                  <a:srgbClr val="ff3300"/>
                </a:solidFill>
                <a:latin typeface="Garamond"/>
              </a:rPr>
              <a:t>R R Y</a:t>
            </a:r>
            <a:br>
              <a:rPr sz="5400"/>
            </a:br>
            <a:r>
              <a:rPr b="0" lang="en-US" sz="3200" spc="-1" strike="noStrike">
                <a:solidFill>
                  <a:srgbClr val="e5e5ff"/>
                </a:solidFill>
                <a:latin typeface="Garamond"/>
              </a:rPr>
              <a:t>A Truly Integrated Functional Logic Language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Paradigm: Functional / Logical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Paul Rutschk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ttp://www.informatik.uni-kiel.de/~curry/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put / Outpu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etLin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etCha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etI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ri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utStr “….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utStrLn “….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utInt 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utChar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lection State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x==0 then y = 1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else if x==1 then y = 2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else y = 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ample Co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- Concatenating two lists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ppend :: [t] -&gt; [t] -&gt; [t]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ppend [  ] x = x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ppend (x:s) ys = x : append xs y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- Reverse the order of elements in a list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v :: [t] -&gt; [t]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v [ ] = []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v (x:xs) = append (rev xs) [x]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oal1 = append [1,2] [3,4]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oal2 = rev [1,2,3,4]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oal3 = rev [1,2,3,4,5,6,7,8,9,10]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- end of program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6400800"/>
            <a:ext cx="304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www.informatik.uni-kiel.de/~curry/papers/report.pdf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ample Progra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057400" y="1362240"/>
            <a:ext cx="5886360" cy="54957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095880" y="6643800"/>
            <a:ext cx="304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www.informatik.uni-kiel.de/~curry/papers/report.pdf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urry can replicate different programming type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sp : logical language, lists, function implementa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log : relational programming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ava : object oriented, concurren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http://www.informatik.uni-kiel.de/~curry/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tensive report about Curr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collection of tutoria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lementations and applications of Cur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st of compilers and environ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talogue of FLP design patter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isto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rr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n experimental functional logic programming language, or FLP, based on the Haskell languag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was created by Michael Hanus and a the group he is currently working with.  (1997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urry was developed for research puposes; to test ideas and theories in subjects such as unifications, narrowing and non-determinis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stall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28954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upported OS’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nux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tBSD i386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reeBS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lari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c OS X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62160" y="1600200"/>
            <a:ext cx="4647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Window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ust have a linux shell program to (EX: CygWi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stall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stall Haskell compil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ype ./configure in curry directory to compi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using Window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stall CygW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stall Haskell compil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ing CygWin, then use the ./configu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-----------------------------------------------------------------------------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process should be automatic and create all of the necessary files to use the compiler and languag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nstallation (using CygWin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 could not get the process to work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ways got a [depend-dir] Error 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40384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il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wnload and install Münster Curry from     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danae.uni-muenster.de/~lux/curry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Key Wor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8288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as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hoic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at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ls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tern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re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iding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mpor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4864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fix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fix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fix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du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f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alified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igid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yp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ata Declar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ta Int a = 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ta Float b = 2.392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ta String c = “Hello All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ta Bool d = TRU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ta Char e = ‘+’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ta List f = [] | f : List 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ta Tree g = Leaf g | Node (Tree g) g (Tree g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ta Tuple h i j =Tuple h i 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unc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Functions : Can be call on, or for assignment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square :: [Int] -&gt; [Int]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square x = x * x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Modules : These are functions, however, they are external to the program. 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03:58:51Z</dcterms:created>
  <dc:creator>Paul Rutschky</dc:creator>
  <dc:description/>
  <dc:language>en-US</dc:language>
  <cp:lastModifiedBy>Paul Rutschky</cp:lastModifiedBy>
  <dcterms:modified xsi:type="dcterms:W3CDTF">2005-12-06T16:45:18Z</dcterms:modified>
  <cp:revision>14</cp:revision>
  <dc:subject/>
  <dc:title>C U R R Y Programming Language</dc:title>
</cp:coreProperties>
</file>