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017-FE2F-46B2-BDFD-D9BBFC7F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B02-5008-462A-B481-81B75CF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7CE-4370-4ACB-AC91-8386CFEC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FE2-8CBD-40CB-BC36-A6D004E8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06AF-FC65-40FA-9F87-B48A0E7F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1CB9-5355-451D-AB5C-60BB5EE9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0FFA-BD53-4D4A-A136-0D8C4DA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2266-DDCB-4930-892B-34B98CF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961C-B9BD-4656-A94F-46936741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5418-74BE-4B59-B901-4F23B856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834B-FBEB-429D-BDCE-F8AB9015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4D1-65C5-42CC-B27E-9DA8767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6079-4D6D-4FFD-9950-B8B3F7D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E6F-502C-41CC-823B-4B994CB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AE52-FAFE-41F9-AD9D-DFEB799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9D93-E62D-4A72-AFC4-0557496E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A82-B73B-4170-A1A3-4FBBBFDE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E4A-173A-4835-AD21-0C3FD610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BEF-0DED-49E2-AC76-8DB00A0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C54-D256-4BF7-B696-932DC8E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E40-7C03-4E87-8EAF-A66BF5A4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762-4DC7-4288-A881-B287CA2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39E-FB06-4D6A-A5AD-04787929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BCB-7C87-44CA-B510-A2E0AE5D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4A1-B493-4D01-BA76-C2F64FB372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9EF2-40EA-4FFA-B42E-F8BB165228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queak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que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squeak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on Windows X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Windows platfo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decided Smalltalk was not goo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Squ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is written in Small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talk-to-C translator to create an execu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23:29:15Z</dcterms:created>
  <dc:creator>Stephen Potter</dc:creator>
  <dc:description/>
  <dc:language>en-US</dc:language>
  <cp:lastModifiedBy>Stephen Potter</cp:lastModifiedBy>
  <dcterms:modified xsi:type="dcterms:W3CDTF">2005-12-01T02:14:42Z</dcterms:modified>
  <cp:revision>4</cp:revision>
  <dc:subject/>
  <dc:title>Squeak</dc:title>
</cp:coreProperties>
</file>