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840-17E4-4679-A133-C2992B1D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78DC-4FE2-4F1F-8783-D219B132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DE1B-B53A-488A-9640-27391A67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FF5-469C-461D-AB19-A46E6125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7BC4B-8DEF-4225-A462-515F837C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D207B-886B-461D-8AB9-E028E7C8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F913D-C1A7-4EF4-AC7D-6BB862DB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79C31-012F-422C-8822-C809802B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F52DD-615B-4D7F-AFF3-F2A29882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BDAD0-AFFE-45C3-858F-E1592C55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28654-7868-4D17-B6FC-7900E7F1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1C7F-238D-4144-A7AB-7375DDD9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87C11-3913-4287-9A22-B011A2AB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90CEB-9276-4F09-A802-8581ABC7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250C4-F8F3-4DDD-9ED8-2B55EDEF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CE753-BB04-4195-88DB-76CF493A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DBDC3-7F27-4E03-A73C-D1F1D21E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BCF0-7E52-4431-AFC2-9A9C9FE5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2E3-EAF9-4941-994C-839FD331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FC9-1DA7-4E01-85A3-8E746E44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A85F-4370-4B03-A651-279F78FC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8BBF-4546-441B-9B13-1F9BC008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4EB5-8356-4BCE-9C54-32BAD38E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A157-8700-4D18-8E31-E9E5E9F9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A14F-3CC8-48BC-8137-6CE4DDD3E2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FD1E-37A6-4100-BD1E-CF96F442C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pideuphoria.com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pideuphoria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uphoria v2.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ed by Joseph Crib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digm: Functional Langu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www.rapideuphoria.co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bprogra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preted language, so not compiled at 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ly placed BEFORE main part of prog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 sure if they can be placed after main program or not, but I believe n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 by value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dure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&lt;parameters&gt;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&lt;parameters&gt;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ossible Euphoria Resour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rapideuphoria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guage developer’s webs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an online user’s manual tha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 printed and distributed FRE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Euphoria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gramming with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erarchical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jects for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ust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terprete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by Robert Craig for Rapid Deployment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1.0 released in July 199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uphoria runs on four different platforms, WIN32, DOS32, Linux, and FreeBS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ted on Windows X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uphoria was primarily used by hobbyists for utility and computer game programm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s of using Euphor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preter i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0 tim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ster than interpreters for Perl and Pyth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ynamic storage al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s of any size can assigned to an element of a Euphoria sequ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tines are naturally gener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nly TWO object types in Euphor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qu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to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gl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umeri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val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have any integer or floating point val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ge: approx. -1e300 to 1e300 with 15 decimal digits of accur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)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) 1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) 98.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) -1e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individual character (like ‘B’) is an at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’ is ASCII notation equivalent to the atom 6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quen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ction of numeric val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it’s not an atom, it’s a sequ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{2, 3, 5, 7, 11, 13, 17, 19}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{1, 2, {3, 3, 3}, 4, {5, {6}}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{{"jon", "smith"}, 52389, 97.25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{}           &lt;-- the 0-element seque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haracter string is a sequence of charac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ther programming featur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 is used for comme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ational Operators: &gt;, &lt;, &lt;=, &gt;=, =, !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gical Operators: and, or, xor, n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ithmetic Operators: +, -, *, /, unary minus, unary pl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tions on Sequenc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={4, 5, 6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=5*y   -- w is {20, 25, 30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 = {{1, 2}, {3, 4}, {5}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 = w * y    -- w is {{4, 8}, {15, 20}, {30}}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icing of Seque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erved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05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sei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29040" y="1905120"/>
            <a:ext cx="205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1905120"/>
            <a:ext cx="2057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ob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1905120"/>
            <a:ext cx="213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2578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4 Words To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/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put: print(), pretty_print(), ?, puts, 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tty_print(1, x, {})” or “? x” -- these do the same thing, output “x” to the scr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? (“Hello World!”)  --will display “Hello World!” t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the scr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put: gets(), getc(), prompt_string(), 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puts(1, “How old are you?\n"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ne = gets(0) --reads standard input (keyboard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6:18:33Z</dcterms:created>
  <dc:creator>Joseph Cribbs</dc:creator>
  <dc:description/>
  <dc:language>en-US</dc:language>
  <cp:lastModifiedBy>Joseph Cribbs</cp:lastModifiedBy>
  <dcterms:modified xsi:type="dcterms:W3CDTF">2005-12-08T08:16:45Z</dcterms:modified>
  <cp:revision>10</cp:revision>
  <dc:subject/>
  <dc:title>Euphoria v2.5</dc:title>
</cp:coreProperties>
</file>