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8FC30-A9B7-467D-9D04-4AE2C1ADA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D1F41-DE72-4BE0-A945-7616857A1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1AA37-4DCF-4754-938A-819E0EED1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433E2-2834-42D9-B467-07F486F59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6BBD0-083F-4989-82C3-44B27293D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06A3A-E8DC-42BF-83D3-62CF66407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6721B-7F48-4D25-8629-3636A74E4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D1E3D-3D20-42C2-B0FF-90F3EF852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4FF6A-495C-4EB6-BC1A-B644EA425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7EE90-B37E-49A0-AA55-E07AFBB2C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C3341-8A36-475A-B227-90BD2584F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14BD4-2011-4743-B46D-29EE55C24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F703E-3FCB-4F7B-8AF0-B19A0D142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4E539-B134-4B3F-8DAA-79E32C56F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7F836-13E7-4E24-8A3D-D78557BDF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1FD2E-8101-4A8A-A15B-73A7EDBE1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AFCF7-5C6A-4B0E-8745-30923854B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97FD3-28D7-42E1-AD96-9530A5C3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37536-55F5-4327-932A-D4BD0E43F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69ABD-E05E-402B-8935-8A864A9E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6933-1C1F-4FFB-9376-D45BDC4DB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4AA84-3DD8-4733-9B29-AA45305D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6B3E1-A15E-4A39-B8E8-0DE23F7A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F240F-1A9E-4D08-A10A-D348765E0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5147-F69E-4575-B0CE-46037D36F25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1CCC-2854-4A85-9F29-435E4D9DDC0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amanoir.ece.uci.edu/projects/sisal/sisaltutorial/00.Contents.html" TargetMode="External"/><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sourceforge.net/project/showfiles.php?group_id=16959"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tamanoir.ece.uci.edu/projects/sisal/sisaltutorial/04.More.syntax.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tamanoir.ece.uci.edu/projects/sisal/sisaltutorial/04.More.syntax.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ndsey Buranych</a:t>
            </a:r>
            <a:br>
              <a:rPr sz="4400"/>
            </a:br>
            <a:br>
              <a:rPr sz="4400"/>
            </a:br>
            <a:r>
              <a:rPr b="0" lang="en-US" sz="4400" spc="-1" strike="noStrike">
                <a:solidFill>
                  <a:srgbClr val="ffffcc"/>
                </a:solidFill>
                <a:latin typeface="Tahoma"/>
              </a:rPr>
              <a:t>Sisal</a:t>
            </a:r>
            <a:br>
              <a:rPr sz="4400"/>
            </a:br>
            <a:r>
              <a:rPr b="0" lang="en-US" sz="4400" spc="-1" strike="noStrike">
                <a:solidFill>
                  <a:srgbClr val="ffffcc"/>
                </a:solidFill>
                <a:latin typeface="Tahoma"/>
              </a:rPr>
              <a:t>(Streams and Iteration in a Single Assignment Language)</a:t>
            </a:r>
            <a:br>
              <a:rPr sz="4400"/>
            </a:br>
            <a:r>
              <a:rPr b="0" lang="en-US" sz="1400" spc="-1" strike="noStrike" u="sng">
                <a:solidFill>
                  <a:srgbClr val="ffcc66"/>
                </a:solidFill>
                <a:uFillTx/>
                <a:latin typeface="Tahoma"/>
                <a:hlinkClick r:id="rId1"/>
              </a:rPr>
              <a:t>http://tamanoir.ece.uci.edu/projects/sisal/sisaltutorial/00.Contents.html</a:t>
            </a:r>
            <a:br>
              <a:rPr sz="1400"/>
            </a:br>
            <a:br>
              <a:rPr sz="1400"/>
            </a:br>
            <a:r>
              <a:rPr b="0" lang="en-US" sz="4400" spc="-1" strike="noStrike">
                <a:solidFill>
                  <a:srgbClr val="ffffcc"/>
                </a:solidFill>
                <a:latin typeface="Tahoma"/>
              </a:rPr>
              <a:t>Functional Programming Languag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piler</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sourceforge.net/project/showfiles.php?group_id=16959</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ported Operating Systems:  All POSIX (Linux/BSD/UNIX-like OS)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sal</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al: To write programs for concurrent execution on multiple processor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sal programs are determinate, regardless of platform or environment.</a:t>
            </a:r>
            <a:r>
              <a:rPr b="0" lang="en-US" sz="2800" spc="-1" strike="noStrike">
                <a:solidFill>
                  <a:srgbClr val="ffffff"/>
                </a:solidFill>
                <a:latin typeface="Tahoma"/>
              </a:rPr>
              <a:t> This means that a Sisal program will produce the same answers, regardless of what computer it executes on, or how many processors (how much parallelism) it uses. This is because the Sisal language is based on mathematical principles that give syntactically correct Sisal programs very definite formal meaning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sal code can be mixed with C or Fortran.</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riable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age is not important in Sis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bles names refer to values, not loca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have a value assigned to them once and only onc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b = a + 1, instead of a = a + 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O</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 general topic of I/O in functional programs is one of hot debate and current research. This is because reading and writing are inherently non-functional. These operations are in fact supposed to have side-effects, so they cannot be done within a progra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serve functional semantics, the I/O that can be done in Sisal is either a bit stiff or a bit uncerta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 Example</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sal expressions can return multiple values. The number of values returned by an expression is called its "arit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OOT1, ROOT2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f DISCRIM &gt; 0.0 the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sqrt( DISCRIM ) / DENO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sqrt( DISCRIM ) / DENOM;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s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0.0, 0.0;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d if;</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u="sng">
                <a:solidFill>
                  <a:srgbClr val="ffcc66"/>
                </a:solidFill>
                <a:uFillTx/>
                <a:latin typeface="Tahoma"/>
                <a:hlinkClick r:id="rId1"/>
              </a:rPr>
              <a:t>http://tamanoir.ece.uci.edu/projects/sisal/sisaltutorial/04.More.syntax.html</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In Statement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s the programmer to associate a name with the value of an express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et one := sin(x)*sin(x) + cos(x)*cos(x);</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wo := sqrt( one+one+one+on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three := one + tw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 one, two, three, sqrt(tw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d le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is shows the names "one", "two", and "three" being assigned values in the let-clause, and demonstrates the utility of the let-in statemen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1800" spc="-1" strike="noStrike" u="sng">
                <a:solidFill>
                  <a:srgbClr val="ffcc66"/>
                </a:solidFill>
                <a:uFillTx/>
                <a:latin typeface="Tahoma"/>
                <a:hlinkClick r:id="rId1"/>
              </a:rPr>
              <a:t>http://tamanoir.ece.uci.edu/projects/sisal/sisaltutorial/04.More.syntax.html</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02:21:59Z</dcterms:created>
  <dc:creator>Lindsey K Buranych</dc:creator>
  <dc:description/>
  <dc:language>en-US</dc:language>
  <cp:lastModifiedBy>Lindsey K Buranych</cp:lastModifiedBy>
  <dcterms:modified xsi:type="dcterms:W3CDTF">2005-12-06T18:51:38Z</dcterms:modified>
  <cp:revision>7</cp:revision>
  <dc:subject/>
  <dc:title>Lindsey Buranych  Sisal (Streams and Iteration in a Single Assignment Language) http://tamanoir.ece.uci.edu/projects/sisal/sisaltutorial/00.Contents.html  Functional Programming Language</dc:title>
</cp:coreProperties>
</file>