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AF2-FAC4-4583-8EB2-0F644F1D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1D3F-B18E-48AB-A8B7-89F0D738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2E01-46FD-476B-818A-82CB0325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FF2B-F059-42C6-A3E7-37865D4A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4F43-CE1D-44FE-AD77-2366556A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3B7F-B72B-4C45-9660-E04CD662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CF97-5D85-4339-9C39-751980D3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C2A1-F2C3-42ED-B31A-D16593FE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8BBA-68B9-4932-817D-53CB39E7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27AF-9A58-4181-AA8D-17CFAFB4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1BCC-CCD1-455D-BEA6-95F1AFFE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36CF-C57B-4563-BB42-50EDA48A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6028-F41B-4376-A31A-053AEF64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9E48-1394-4A14-AD45-D4C9F2BF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224B-76FA-46AD-9199-921F22E5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C1F2-2711-4F31-B404-2354BBFF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6F9C-A64B-413B-BA5A-4C0BE1BE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339-6E97-43E0-9C2E-4E4511B7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3FA-F8AD-4FEC-8099-0E959F47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9EF-DB84-42CD-87EB-56F06AD6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9B3-5B18-4669-99EA-7B4B32AB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FB10-38F0-40DD-B5DB-085ED9CB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C1D8-B453-409A-AA74-2ABA0F59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3132-2124-4934-8FE0-31FB835D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40AE-AA00-4799-A878-C42DDEBE7C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3B1F-1F9A-4910-A164-F880D71075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Oberon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ug Robe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53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. Ad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Th 12:30-1:4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xford compiler: http://spivey.oriel.ox.ac.uk/mike/obc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eron language report (including full EBNF, as prepared by Niklaus Wirth): http://www.oberon.ethz.ch/oreport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kipedia's entry: http://en.wikipedia.org/wiki/Oberon_programming_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fa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eron project was launched in 1985 by Niklaus Wirth and Jürg Gutknech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eron is the name of a modern integrated software environment. It is a single-user, multi-tasking system that runs on bare hardware or on top of a host operating syst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ong with being an integrated software environment, Oberon is the name of a programming language in the Pascal/Modula trad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www.oberon.ethz.ch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main of the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-Oriented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es the imperative features of Pascal and Modula with additional object-oriented functionality. Objects in Oberon are known as Modules, discussed short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ilarities to Pas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of the same reserved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statements (x := 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declaration (count : INTEGER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e declar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E GetSecondStudent(): SPointe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 declaration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pn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GetSecondStude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ces from Pas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use of BEGIN and END in iterative and conditional stat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expression) 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ne of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eron: MODULE RecordWrite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cal: program Writer(input, output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of import stat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Procedures can be publicly or privately accessed, depending on their defi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public: PROCEDURE a*(): INTEGE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private: PROCEDURE a(): INTEGE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IMPORT Module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The compiler will search through the local classpath for a compiled interface with a matching name. If it finds it, all public variables and procedures are available to that modu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ordWri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ULE RecordWrit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ORT Ou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ointer = POINTER TO Stude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udent = RECOR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me : ARRAY 20 OF CHA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ge : INTEG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pa : REA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 : SPoin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ad, temp : SPoint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nt : INTEG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ordWriter, continu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DURE WriteStats(pnew: SPoin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.String("Name: 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.String(pnew^.name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.L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.String("Age: "); Out.Int(pnew^.age, 0); Out.L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.String("GPA: "); Out.Real(pnew^.gpa); Out.L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.L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D WriteStat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DURE String*(s-: ARRAY OF CHA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.WriteString(Files.stdout, 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D String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tallation Proced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spivey.oriel.ox.ac.uk/mike/obc/obc2-5-1.ex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Once downloaded to desktop, run program, continue clicking next and install until d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compile within the Oxford Oberon-2 compil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obc [opt] “executable" "source fil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ie. obc -o record.exe RecordWriter.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16:06:17Z</dcterms:created>
  <dc:creator>Doug Roberts</dc:creator>
  <dc:description/>
  <dc:language>en-US</dc:language>
  <cp:lastModifiedBy>Doug Roberts</cp:lastModifiedBy>
  <dcterms:modified xsi:type="dcterms:W3CDTF">2005-12-06T16:57:21Z</dcterms:modified>
  <cp:revision>5</cp:revision>
  <dc:subject/>
  <dc:title>Oberon</dc:title>
</cp:coreProperties>
</file>