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3DF-543F-4804-AF02-DCBC88C0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789-FB79-4855-A134-244109C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D1A-2A55-4486-8060-9B46FD93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B14-4AB5-4BB5-BA4F-F291C1E8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11C-EE1C-4602-BB39-0034FF7C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67A-0AA4-4263-9968-6A8096B0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35B-DCB9-4C5F-BD3E-E5D4F7C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11E-5899-40A2-95A6-72934AF7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548-FC91-4EB8-8541-4A9EDB28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5D7-E725-47F4-AF98-600ADE7C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0A9-5591-4678-9D13-6AF71D9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979-9B3E-40FC-A4C4-4D54F91D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9037-7120-43A0-ABD8-6CAE4F88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29000" y="4419720"/>
            <a:ext cx="2349360" cy="223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238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vid Maroi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kell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ww.haskell.or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programming paradig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vit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two to ten times sh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 re-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reusab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ing functions</a:t>
            </a:r>
            <a:br>
              <a:rPr sz="44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xahlee.org/haskell/factoria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:: (Float -&gt; Float-&gt; Float) -&gt; (Float, Flo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s (a,b,c) = (x1, x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1 = e + sqrt d / (2 *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2 = e - sqrt d / (2 *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= b * b - 4 * a *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- b / (2 *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sort in Haskell</a:t>
            </a:r>
            <a:br>
              <a:rPr sz="44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haskell.org/aboutHaskel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ort [ ] = [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ort (x:xs) = qsort elts_lt_x ++ [x] ++ qsort elts_greq_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ts_lt_x = [y | y &lt;- xs, y &lt; x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ts_greq_x = [y | y &lt;- xs, y &gt;= x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for Haskell brooks C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un on any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verloa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://www.haskell.org/learn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p://ftp.geoinfo.tuwien.ac.at/navratil/HaskellTutorial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6:47:05Z</dcterms:created>
  <dc:creator>David</dc:creator>
  <dc:description/>
  <dc:language>en-US</dc:language>
  <cp:lastModifiedBy>David</cp:lastModifiedBy>
  <dcterms:modified xsi:type="dcterms:W3CDTF">2005-12-01T10:52:17Z</dcterms:modified>
  <cp:revision>2</cp:revision>
  <dc:subject/>
  <dc:title>David Marois  Haskell www.haskell.org  Functional programming paradigm</dc:title>
</cp:coreProperties>
</file>