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422-1D2C-4193-9EEF-981C1B6E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897-B355-4234-833F-2FC47E1E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307-66E3-428B-8FD4-90726D08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0C6-B0AD-47F0-817E-3AFDD819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BC14-830A-4953-9864-BD82A087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FDB7-3BBB-40BA-923C-EF9F21AF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F62F-D5C5-443F-8E70-5FC42E27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90F7-3440-4A07-A9DB-A1ABC56D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0520-ACC2-440A-BA66-B2AA7C00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393A-1049-4B23-850A-56F9FFC3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AA06-4483-4CD1-BD3B-43829A7F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769-7417-410A-8D54-AA5BC024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EA5C-F714-4079-8324-8669F62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13C9-304B-482A-8E4E-DF365E6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C764-6E89-46F0-BD56-B824EBAA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AA04-4580-4A7A-9EB0-0A3E8A39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81FA-177D-4FA9-8E8F-7A834CBB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906-8EF5-4BAE-A164-E40B5A5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330-D5DB-4EDF-BEE0-4B3DA33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693-7FB9-441D-933F-9CA2F358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BDB-6357-4E39-8743-A83CB436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94D-769C-47EA-8119-DE4A76B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E27-5A43-4A96-BA57-C1599465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217-FDF0-446B-AACB-F5F1FE35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C5DA-C301-4678-AC8C-8FC238EAC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A65-3BC7-49C3-9119-467000F27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ilowattsoftware.com/tutorial/rexx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ilowattsoftware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Rexx Programming Language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primary website: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kilowattsoftware.com/tutorial/rexx/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paradigm:</a:t>
            </a:r>
            <a:br>
              <a:rPr sz="32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yle H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xx Downloads for Linux / Ma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regina-rexx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xx/i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users.comlab.ox.ac.uk/ian.collier/Rexx/rexximc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/ Linu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bnv.home.cernVasilis Vlachoudis.ch/bnv/softwar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re Sites on Rex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kilowattsoftware.com/tutorial/rexx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users.comlab.ox.ac.uk/ian.collier/Docs/rexx_info/whol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en.wikipedia.org/wiki/RE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by IBM from March 20, 1979 to mid 198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work was done on the language by Mike Cowlisha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ly used as a scripting language for IBM operat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ader Se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thing needed at the beginning of a program is a comment.  The comment should contain the file name at the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* Example_Name.rex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riable Typ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xx has no Char or Boolean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xx has no Arrays, Types, or Sub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_var = “This is an examp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_var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_var = 1.12121212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ction / Procedure Head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Name :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s no variables in 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Name : procedure expos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in main is exposed and can be changed in the internal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Name: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cedure expose (varlis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ariables exp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Nam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 main are exp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unction &amp; Procedure Ca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 = Ex_func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functions are called the sam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rocedure_ex  [var1], [var2],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rray Alterna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have 3 different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 variable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x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ound variable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m variable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anted the equivalent of a length 10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o i = 1 to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tem.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Pr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 i = 1 to 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m.i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 exFun stem.1 stem.2 stem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y stem.1 stem.2 stem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 exFun1 stem.1 stem.2 stem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y stem.1 stem.2 stem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Fun : proced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se arg stem.1, stem.2, stem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m.1 = line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m.2 = line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m.3 = linein(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Fun1 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se arg stem.1, stem.2, stem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m.1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m.2 =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m.3 =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xx (R4) Download for Window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www.kilowattsoftwar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Rexx 4.0 click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click her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ownload and save to a fo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zip the file to a fo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cmd prompt go to the folder you saved the unzipped files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un a Rexx file typ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4 fileName.r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40:16Z</dcterms:created>
  <dc:creator>User</dc:creator>
  <dc:description/>
  <dc:language>en-US</dc:language>
  <cp:lastModifiedBy>User</cp:lastModifiedBy>
  <dcterms:modified xsi:type="dcterms:W3CDTF">2005-12-01T14:59:14Z</dcterms:modified>
  <cp:revision>8</cp:revision>
  <dc:subject/>
  <dc:title>Rexx Programming Language</dc:title>
</cp:coreProperties>
</file>