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FF9-143B-4B0D-9189-21A64EC5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8DB-012E-47AD-BC35-F0776B0F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748-B8DC-4945-A1FA-D30176D8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345-3153-49B3-9E8F-55DF15F6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93CB-94B3-46C5-94A2-BC6A3312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C20D-3F4C-488B-B541-394454C0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E3A1-F973-4467-A65D-76F8E9DE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79DE-5737-4EF8-996A-7A57EF19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B6E2-6913-4FAB-990F-926F0588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7F14-4714-428F-8853-47CFD49C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3D6A-9BF5-4DE2-8C3A-7574DC60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232-6C49-48C8-95C9-B4C326AC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C1C5-5B09-4EBF-A1D3-95A674E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C79B-AB04-485C-9D39-F22D1F6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4F78-6034-4724-A438-DA8E58B9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3D67-1E4D-4A06-90FA-E3040FDE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60F0-DB2F-4368-90A7-5453AC66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E14-216C-443B-8628-B445E1BF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458-92A4-44F3-8278-BAFD1A6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270-4445-4B4F-A170-71413B8C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C21-42A8-4797-99E0-C38769B3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377-73DF-4F8B-B09D-96613134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6DF-DD7A-43A6-A880-8BC97243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835-9C6E-4915-B155-708E7149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968E-8268-4028-9D9E-78A5F9F64E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8D48-EE60-4180-B8EB-A7874F4390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.rit.edu/~hpb/Lectures/98_CS1/all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arteiffel.loria.fr/" TargetMode="External"/><Relationship Id="rId2" Type="http://schemas.openxmlformats.org/officeDocument/2006/relationships/hyperlink" Target="http://smarteiffel.loria.fr/" TargetMode="External"/><Relationship Id="rId3" Type="http://schemas.openxmlformats.org/officeDocument/2006/relationships/hyperlink" Target="http://smarteiffel.loria.fr/" TargetMode="External"/><Relationship Id="rId4" Type="http://schemas.openxmlformats.org/officeDocument/2006/relationships/hyperlink" Target="http://www.eiffel.com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2133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e Stor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guage: Eiffe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eiffel.com/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ject Oriented Software Paradig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progra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tion: Returns RESU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umof( a: INTEGER; b: INTEGER ) : INTEGER i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o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ESULT := a + b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end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dure: Does not return any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printInteger( a: INTEGER) i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o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io.put_integer(a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end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ra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rays are objects in Eiff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l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Array :ARRAY[INTEGER]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!!anArray.make(1,100)   - makes an array with places from 1-10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unt, lower, uppe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er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Array.put(&lt;value&gt;, &lt;index&gt;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Array.item(&lt;index&gt;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Useful Webs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cs.rit.edu/~hpb/Lectures/98_CS1/all.htm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ttp://www-staff.socs.uts.edu.au/~rist/eiffel/book/ch01/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language was developed starting in 1985 by Bertrand Meyer and his company Interactive Software Engineering, which has since been renamed Eiffel Software, Inc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iffel’s was primarily designed to be an OOP with high reada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med after Gustav Eiffel (designer of Eiffel Towe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ing Fea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rts Multiple Inheritances meaning a class can inherit from multiple par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a statically typed language so errors are caught at compile time not run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need for semicolons or any other symbol after an expres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martEiffe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smarteiffel.loria.fr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runs in 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iffelStudio 5.6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www.eiffel.c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Is very similar to MS Visual Studi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used SmartEiffel which was very easy t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tall and r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pported Operating Syste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ndow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nu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c OS 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eration Stat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op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o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-initial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ti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ne -- BOOLEAN condi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o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- executable state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om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 := 1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ti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 = 10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op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o.put_int (i)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 := i + 1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nta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condition th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- state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seif condition the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- statements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- state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x &gt; 0 the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o.put_string(“x is positive”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seif x &lt; 0 the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o.put_string(“x is negative”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o.put_string(“x is 0”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ection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yntax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nspect control_expression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when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rang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th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... state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when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range2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... state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... if no match is foun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ges can consist of a single value, a list of values, or a sequence of values (indicated by the first and last values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pect intV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1 th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io.put_string(“intVal is 1”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2 th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io.put_string(“intVal is 2”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3 .. 8 the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io.put_string(“intVal is  between 3 and 8”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io.put_string(“???”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put &amp; Outpu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tput Exampl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o.put_string( “Any string "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o.put_integer(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put 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o.read_integ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umber := io.last_integ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iffel uses two part input.  The input is read then the value can be retrieved by using io.last_integ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2:15:34Z</dcterms:created>
  <dc:creator>Mike</dc:creator>
  <dc:description/>
  <dc:language>en-US</dc:language>
  <cp:lastModifiedBy>Mike</cp:lastModifiedBy>
  <dcterms:modified xsi:type="dcterms:W3CDTF">2005-12-06T16:51:10Z</dcterms:modified>
  <cp:revision>9</cp:revision>
  <dc:subject/>
  <dc:title>Slide 1</dc:title>
</cp:coreProperties>
</file>