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3CDE-1D1C-43DE-94FC-7781A7AB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C4EF-3D6E-4303-A80C-83B55FE3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00F9-A61D-46F1-9DBB-46CB564E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FD5D-4ED7-451D-8035-53D8B1D0E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0E4E-AC3D-423D-90C2-F615D998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D2AB-2F8E-4871-84F6-02269384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B04B-71F8-4215-96D6-C420A979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16E8-A2E7-446C-9B47-70427408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1B71-7AB0-4AE0-965E-D1AEBF9A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80EF-A863-4E24-B152-B1F84AAC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24E5-2871-4646-B2EA-E62282BC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2845-A18B-4E89-B43A-D62EA255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4B10-C21D-4989-A028-A06D6EE0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1ABB-226C-47BA-8A3B-9E446092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D555-C3DC-4CAB-BBD8-C27B4DB7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1F40-F691-4406-A97D-3005E0A7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75C7-D3D5-48CC-AB6D-B9BC003F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6770-EA80-4B6D-8408-4A1FFF9C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39FB-3427-46B3-A40B-16FB3C7A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068B-61FE-44DE-940B-1A2D6994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3133-1EAB-4E13-9B3D-4A6BECFA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E227-F51F-4E2B-8934-C1909F71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A82F-C536-4AFD-A6AE-29349FCB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1CE5-0B77-4BCA-B0DB-B531CCA8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B8C2-80EE-4DCC-8290-8A802004362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3963-BCCC-4EF2-BF07-0E80C3B27E1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ebol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ebol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Relative Expression Based Object Language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resented by: Jon Butle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S430 3:30pm Sectio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rofessor Adam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d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BOL Technologies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rebol.co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BOL Essentials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ttp://www.plain.at/vpavlu/REBOL/tutorial/REBOL%20Essentials%2337-09-jan-2003.pd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REB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igned by Carl Sassenrath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pre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a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flec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oss Platfor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EE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REBOL 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56320" y="3178080"/>
            <a:ext cx="37749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ersion of REB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ginn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BOL Core: The system-independent kernel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BOL View: Extends REBOL/Core with graphics, a GUI, and a shared desktop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fession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BOL Command: Adds database access, libraries, encryption, shell acces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BOL SDK: Get more control over your REBOL program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BOL Basics in 3’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ilt from 3 thing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al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loc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lues, Words, Bloc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s: Strings, literals, any word (no reserv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lock: a list essential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alue: various data types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ger, decimal, etc…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r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wit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t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nc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with everything else in REBOL, functions are merely the assignment of a block to a wor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&lt;any word&gt; : [ code ] (block is optiona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ditional Featu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BOL uses simple math as any other langua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arison is the same as wel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+ - = * / ** /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&lt;= &lt;&gt; =  ==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Worl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good language doesn’t have Hello Wor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nt “Hello World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’s just that simple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04:21:05Z</dcterms:created>
  <dc:creator>Jon Butler</dc:creator>
  <dc:description/>
  <dc:language>en-US</dc:language>
  <cp:lastModifiedBy>Jon Butler</cp:lastModifiedBy>
  <dcterms:modified xsi:type="dcterms:W3CDTF">2005-12-01T18:40:32Z</dcterms:modified>
  <cp:revision>4</cp:revision>
  <dc:subject/>
  <dc:title>Relative Expression Based Object Language </dc:title>
</cp:coreProperties>
</file>