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573A-6F52-4F9B-B151-7911774A3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BB3A-BE3F-4D0D-82CC-7CB4B3DC0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B178-8EF7-460B-B624-06E5E47C1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B419-3F80-4A52-9055-606A3AAB9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09D5-2B2D-452C-928D-4CCBDF162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874E-D72A-4048-AAA4-B153171DC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754D-3224-47EB-A528-DB895EC60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0195-D60D-4199-ACE0-D3FE1BC5D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33B9-BFF7-4FAC-8859-DAF95B3F1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324F-3E90-4800-BA1D-7CC58C4EC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6D60-D33A-45BD-8BB7-89F69F30D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86E4-6D68-436A-93B1-ED161B6DE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–</a:t>
            </a:r>
            <a:fld id="{3F7FECD8-5260-4C57-903B-7D4C5870455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Bindings, Type Check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05-01" descr=""/>
          <p:cNvPicPr/>
          <p:nvPr/>
        </p:nvPicPr>
        <p:blipFill>
          <a:blip r:embed="rId2"/>
          <a:stretch/>
        </p:blipFill>
        <p:spPr>
          <a:xfrm>
            <a:off x="1574640" y="685800"/>
            <a:ext cx="60087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C756-14CC-4893-ACBB-D30048A7E385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5-02" descr=""/>
          <p:cNvPicPr/>
          <p:nvPr/>
        </p:nvPicPr>
        <p:blipFill>
          <a:blip r:embed="rId2"/>
          <a:stretch/>
        </p:blipFill>
        <p:spPr>
          <a:xfrm>
            <a:off x="914400" y="1943280"/>
            <a:ext cx="7315200" cy="297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301F-0CD1-484C-B494-20D8BBAD4558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5-03" descr=""/>
          <p:cNvPicPr/>
          <p:nvPr/>
        </p:nvPicPr>
        <p:blipFill>
          <a:blip r:embed="rId2"/>
          <a:stretch/>
        </p:blipFill>
        <p:spPr>
          <a:xfrm>
            <a:off x="647640" y="1523880"/>
            <a:ext cx="7848720" cy="351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D6F5-0170-4E35-91AD-5D0D8E6C0315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05-04" descr=""/>
          <p:cNvPicPr/>
          <p:nvPr/>
        </p:nvPicPr>
        <p:blipFill>
          <a:blip r:embed="rId2"/>
          <a:stretch/>
        </p:blipFill>
        <p:spPr>
          <a:xfrm>
            <a:off x="914400" y="2108160"/>
            <a:ext cx="7315200" cy="265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2C96-2DE6-4C56-85A2-FED428D8598E}" type="slidenum">
              <a:t>5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6:00:25Z</dcterms:modified>
  <cp:revision>23</cp:revision>
  <dc:subject/>
  <dc:title>PowerPoint Presentation</dc:title>
</cp:coreProperties>
</file>