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6D011-2B7B-4911-A19B-3BEBAD6E61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50F95-E76A-4CEB-8B7E-1A71CE81F9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87345-F4C7-4BB4-8ED8-AD640E1321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3AF1A-AD18-414B-9B91-F46AB99041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F7A7C-A4DB-4438-A69D-4A930FD125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4CD30-3B38-4494-84FB-97AF4B7730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937EF-6CBB-45AF-9C47-6E65C06B18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CB592-028C-4C8A-BA54-386DE42884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A0204-F09F-42A0-8CA2-99FDBA896B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A9A5B-8921-48A6-895C-B3B8E84F82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E537A-D541-45C5-BD1A-1820105102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605B9-1175-4B22-B057-AE3F66EB51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8240" y="636264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opyright © 2006 Pearson Addison-Wesley. All rights reserved. 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102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2–</a:t>
            </a:r>
            <a:fld id="{D6413AE7-7CF9-4DE5-BAD5-7DFA4850A8F8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 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04920" y="2209320"/>
            <a:ext cx="3657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ution of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Programming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f02-09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7315200" cy="304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91ED9-70AD-44F2-BF1C-9509FAE3D2B8}" type="slidenum">
              <a:t>10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f02-10" descr=""/>
          <p:cNvPicPr/>
          <p:nvPr/>
        </p:nvPicPr>
        <p:blipFill>
          <a:blip r:embed="rId2"/>
          <a:stretch/>
        </p:blipFill>
        <p:spPr>
          <a:xfrm>
            <a:off x="1778040" y="685800"/>
            <a:ext cx="559764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C8C51-17C6-4FB5-BFBF-753822E7EC2C}" type="slidenum">
              <a:t>11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f02-11" descr=""/>
          <p:cNvPicPr/>
          <p:nvPr/>
        </p:nvPicPr>
        <p:blipFill>
          <a:blip r:embed="rId2"/>
          <a:stretch/>
        </p:blipFill>
        <p:spPr>
          <a:xfrm>
            <a:off x="1714680" y="1600200"/>
            <a:ext cx="5715000" cy="398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85BD0-7FAF-490E-AC5B-5AC7239877B6}" type="slidenum">
              <a:t>12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f02-12" descr=""/>
          <p:cNvPicPr/>
          <p:nvPr/>
        </p:nvPicPr>
        <p:blipFill>
          <a:blip r:embed="rId2"/>
          <a:stretch/>
        </p:blipFill>
        <p:spPr>
          <a:xfrm>
            <a:off x="2049480" y="1523880"/>
            <a:ext cx="5045040" cy="4313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236C8-1CAB-4634-94AF-B2049AF45F4F}" type="slidenum">
              <a:t>13</a:t>
            </a:fld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f02-13" descr=""/>
          <p:cNvPicPr/>
          <p:nvPr/>
        </p:nvPicPr>
        <p:blipFill>
          <a:blip r:embed="rId2"/>
          <a:stretch/>
        </p:blipFill>
        <p:spPr>
          <a:xfrm>
            <a:off x="1333440" y="1514520"/>
            <a:ext cx="6477120" cy="382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43AE9-6A7E-47BA-AECB-8C676B290DA8}" type="slidenum">
              <a:t>14</a:t>
            </a:fld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f02-14" descr=""/>
          <p:cNvPicPr/>
          <p:nvPr/>
        </p:nvPicPr>
        <p:blipFill>
          <a:blip r:embed="rId2"/>
          <a:stretch/>
        </p:blipFill>
        <p:spPr>
          <a:xfrm>
            <a:off x="914400" y="1181160"/>
            <a:ext cx="7315200" cy="4491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2BC5B-3F28-4DA8-B190-757BAEB074D2}" type="slidenum">
              <a:t>15</a:t>
            </a:fld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f02-15" descr=""/>
          <p:cNvPicPr/>
          <p:nvPr/>
        </p:nvPicPr>
        <p:blipFill>
          <a:blip r:embed="rId2"/>
          <a:stretch/>
        </p:blipFill>
        <p:spPr>
          <a:xfrm>
            <a:off x="914400" y="1244520"/>
            <a:ext cx="7315200" cy="4381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3B723-58AA-42BD-99F4-EC4C01B21BE1}" type="slidenum">
              <a:t>16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f02-01" descr=""/>
          <p:cNvPicPr/>
          <p:nvPr/>
        </p:nvPicPr>
        <p:blipFill>
          <a:blip r:embed="rId2"/>
          <a:stretch/>
        </p:blipFill>
        <p:spPr>
          <a:xfrm>
            <a:off x="2004840" y="685800"/>
            <a:ext cx="5158080" cy="5791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E79AE-704A-4545-87E3-EE1C48FF2A7E}" type="slidenum">
              <a:t>2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f02-02" descr=""/>
          <p:cNvPicPr/>
          <p:nvPr/>
        </p:nvPicPr>
        <p:blipFill>
          <a:blip r:embed="rId2"/>
          <a:stretch/>
        </p:blipFill>
        <p:spPr>
          <a:xfrm>
            <a:off x="914400" y="1523880"/>
            <a:ext cx="7315200" cy="3811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A1FDC-AC99-48BB-8E06-34B7B2644FEC}" type="slidenum">
              <a:t>3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f02-03" descr=""/>
          <p:cNvPicPr/>
          <p:nvPr/>
        </p:nvPicPr>
        <p:blipFill>
          <a:blip r:embed="rId2"/>
          <a:stretch/>
        </p:blipFill>
        <p:spPr>
          <a:xfrm>
            <a:off x="914400" y="2603520"/>
            <a:ext cx="7315200" cy="165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A9ECE-2489-41DF-A1A6-8B7DB44F5528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f02-04" descr=""/>
          <p:cNvPicPr/>
          <p:nvPr/>
        </p:nvPicPr>
        <p:blipFill>
          <a:blip r:embed="rId2"/>
          <a:stretch/>
        </p:blipFill>
        <p:spPr>
          <a:xfrm>
            <a:off x="1104840" y="2406600"/>
            <a:ext cx="6934320" cy="2044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8971A-B7D5-423A-9279-2FB3A001897A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f02-05" descr=""/>
          <p:cNvPicPr/>
          <p:nvPr/>
        </p:nvPicPr>
        <p:blipFill>
          <a:blip r:embed="rId2"/>
          <a:stretch/>
        </p:blipFill>
        <p:spPr>
          <a:xfrm>
            <a:off x="914400" y="1231920"/>
            <a:ext cx="7315200" cy="441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DEBE6-D131-4307-84EF-3C4CDF3FE0D8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f02-06" descr=""/>
          <p:cNvPicPr/>
          <p:nvPr/>
        </p:nvPicPr>
        <p:blipFill>
          <a:blip r:embed="rId2"/>
          <a:stretch/>
        </p:blipFill>
        <p:spPr>
          <a:xfrm>
            <a:off x="914400" y="2349360"/>
            <a:ext cx="7315200" cy="2157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87334-DA99-43ED-8235-1DC8BD171FA7}" type="slidenum">
              <a:t>7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f02-07" descr=""/>
          <p:cNvPicPr/>
          <p:nvPr/>
        </p:nvPicPr>
        <p:blipFill>
          <a:blip r:embed="rId2"/>
          <a:stretch/>
        </p:blipFill>
        <p:spPr>
          <a:xfrm>
            <a:off x="914400" y="1739880"/>
            <a:ext cx="7315200" cy="3371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DEC69-8430-4D59-AEDA-B3B3FF456078}" type="slidenum">
              <a:t>8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f02-08" descr=""/>
          <p:cNvPicPr/>
          <p:nvPr/>
        </p:nvPicPr>
        <p:blipFill>
          <a:blip r:embed="rId2"/>
          <a:stretch/>
        </p:blipFill>
        <p:spPr>
          <a:xfrm>
            <a:off x="1523880" y="2362320"/>
            <a:ext cx="6096240" cy="2493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C2A4C-107D-45D6-BED1-29821B45B742}" type="slidenum">
              <a:t>9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6T20:11:54Z</dcterms:created>
  <dc:creator>Copyright ©2006 Pearson Addison-Wesley</dc:creator>
  <dc:description/>
  <dc:language>en-US</dc:language>
  <cp:lastModifiedBy>AnnMarie</cp:lastModifiedBy>
  <dcterms:modified xsi:type="dcterms:W3CDTF">2005-06-02T15:57:05Z</dcterms:modified>
  <cp:revision>21</cp:revision>
  <dc:subject/>
  <dc:title>PowerPoint Presentation</dc:title>
</cp:coreProperties>
</file>