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B095-5A8C-4A6E-9E0F-27C2F28EE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5514-56F1-4E28-B429-CD2A05695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8592-BB7D-48EE-A9F2-CAA976162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703E-ECC2-4B03-8A0F-E56870F41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33F9-7E8D-4276-96D1-115E9A033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5414-4FE0-4260-B36B-C4C2179A4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1072-8193-44AF-B951-7CA1CB0AD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2AC6-1444-42B1-84DE-44A5C41C9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96DD-489A-4375-814D-0CE6BA853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3395-3D8D-4A7A-A627-81AE43C48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8881-BC9A-4E33-9E15-1FD5859C6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B08E-9FCA-41A4-ABE7-90B6C4172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–</a:t>
            </a:r>
            <a:fld id="{278D7E46-2D29-412D-B334-820606CCB68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Sub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10-08b" descr=""/>
          <p:cNvPicPr/>
          <p:nvPr/>
        </p:nvPicPr>
        <p:blipFill>
          <a:blip r:embed="rId2"/>
          <a:stretch/>
        </p:blipFill>
        <p:spPr>
          <a:xfrm>
            <a:off x="914400" y="1282680"/>
            <a:ext cx="7315200" cy="429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A0BA-00E3-4477-9716-46D1029DCF96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10-09" descr=""/>
          <p:cNvPicPr/>
          <p:nvPr/>
        </p:nvPicPr>
        <p:blipFill>
          <a:blip r:embed="rId2"/>
          <a:stretch/>
        </p:blipFill>
        <p:spPr>
          <a:xfrm>
            <a:off x="2214720" y="609480"/>
            <a:ext cx="4424040" cy="58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54BF-8A2E-4D0B-8804-202DBAC4CBB7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10-10" descr=""/>
          <p:cNvPicPr/>
          <p:nvPr/>
        </p:nvPicPr>
        <p:blipFill>
          <a:blip r:embed="rId2"/>
          <a:stretch/>
        </p:blipFill>
        <p:spPr>
          <a:xfrm>
            <a:off x="2425680" y="685800"/>
            <a:ext cx="4309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2DB6-C136-411C-AA5D-B15F458578B1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10-11" descr=""/>
          <p:cNvPicPr/>
          <p:nvPr/>
        </p:nvPicPr>
        <p:blipFill>
          <a:blip r:embed="rId2"/>
          <a:stretch/>
        </p:blipFill>
        <p:spPr>
          <a:xfrm>
            <a:off x="2324160" y="685800"/>
            <a:ext cx="4511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7362-3F38-4F61-962C-36764D6EC2AD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10-12" descr=""/>
          <p:cNvPicPr/>
          <p:nvPr/>
        </p:nvPicPr>
        <p:blipFill>
          <a:blip r:embed="rId2"/>
          <a:stretch/>
        </p:blipFill>
        <p:spPr>
          <a:xfrm>
            <a:off x="914400" y="1994040"/>
            <a:ext cx="7315200" cy="287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175A-1E2C-40C7-A953-996F624F1952}" type="slidenum">
              <a:t>14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10-01" descr=""/>
          <p:cNvPicPr/>
          <p:nvPr/>
        </p:nvPicPr>
        <p:blipFill>
          <a:blip r:embed="rId2"/>
          <a:stretch/>
        </p:blipFill>
        <p:spPr>
          <a:xfrm>
            <a:off x="914400" y="2146320"/>
            <a:ext cx="7315200" cy="257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E143-C502-49AB-9A8B-BC124F6B6904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10-02" descr=""/>
          <p:cNvPicPr/>
          <p:nvPr/>
        </p:nvPicPr>
        <p:blipFill>
          <a:blip r:embed="rId2"/>
          <a:stretch/>
        </p:blipFill>
        <p:spPr>
          <a:xfrm>
            <a:off x="2247840" y="685800"/>
            <a:ext cx="466416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69F5-4EAC-43DE-94E4-2FC496B35C1C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10-03" descr=""/>
          <p:cNvPicPr/>
          <p:nvPr/>
        </p:nvPicPr>
        <p:blipFill>
          <a:blip r:embed="rId2"/>
          <a:stretch/>
        </p:blipFill>
        <p:spPr>
          <a:xfrm>
            <a:off x="914400" y="2006640"/>
            <a:ext cx="7315200" cy="28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C4DA-825A-4287-B2CB-407DF6B6608C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10-04" descr=""/>
          <p:cNvPicPr/>
          <p:nvPr/>
        </p:nvPicPr>
        <p:blipFill>
          <a:blip r:embed="rId2"/>
          <a:stretch/>
        </p:blipFill>
        <p:spPr>
          <a:xfrm>
            <a:off x="1333440" y="685800"/>
            <a:ext cx="648648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412C-7E6A-464F-8539-FC21AA55846E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10-05" descr=""/>
          <p:cNvPicPr/>
          <p:nvPr/>
        </p:nvPicPr>
        <p:blipFill>
          <a:blip r:embed="rId2"/>
          <a:stretch/>
        </p:blipFill>
        <p:spPr>
          <a:xfrm>
            <a:off x="914400" y="939960"/>
            <a:ext cx="7315200" cy="49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B7CBE-AC37-49B8-9EF0-704D1ECEC108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10-06" descr=""/>
          <p:cNvPicPr/>
          <p:nvPr/>
        </p:nvPicPr>
        <p:blipFill>
          <a:blip r:embed="rId2"/>
          <a:stretch/>
        </p:blipFill>
        <p:spPr>
          <a:xfrm>
            <a:off x="914400" y="1816200"/>
            <a:ext cx="7315200" cy="324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0C52-FFA6-4C7F-8531-E5068CAC6A00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10-07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610236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5DA3-52AC-4C58-8394-F7BE1841D4C6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10-08a" descr=""/>
          <p:cNvPicPr/>
          <p:nvPr/>
        </p:nvPicPr>
        <p:blipFill>
          <a:blip r:embed="rId2"/>
          <a:stretch/>
        </p:blipFill>
        <p:spPr>
          <a:xfrm>
            <a:off x="914400" y="939960"/>
            <a:ext cx="7315200" cy="4989240"/>
          </a:xfrm>
          <a:prstGeom prst="rect">
            <a:avLst/>
          </a:prstGeom>
          <a:ln w="0">
            <a:noFill/>
          </a:ln>
        </p:spPr>
      </p:pic>
      <p:pic>
        <p:nvPicPr>
          <p:cNvPr id="88" name="f10-08b" descr=""/>
          <p:cNvPicPr/>
          <p:nvPr/>
        </p:nvPicPr>
        <p:blipFill>
          <a:blip r:embed="rId3"/>
          <a:srcRect l="0" t="85481" r="0" b="0"/>
          <a:stretch/>
        </p:blipFill>
        <p:spPr>
          <a:xfrm>
            <a:off x="914400" y="5715000"/>
            <a:ext cx="7315200" cy="6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9E5C-4270-4EE2-A7DA-593BFB080024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4:53Z</dcterms:modified>
  <cp:revision>28</cp:revision>
  <dc:subject/>
  <dc:title>PowerPoint Presentation</dc:title>
</cp:coreProperties>
</file>