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0037-1D03-4AA2-8C3E-E784AA6AA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ECAB-D2B4-4316-8819-25975FB60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807B-F0A3-43AC-930B-AC3460F79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C06A-D532-4D32-A24F-DB534F7D6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40D8-1964-472C-9577-2B96B8642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3CB9-E2B0-4670-BCB0-2380DF714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D4D0-DFCC-4EFB-9E27-BA60C221D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CAB0-06B8-45DA-A49C-FC2173821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AACE-0C2F-41F4-A6B7-8EA1ABEB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DAA6-5930-48BC-844D-2D18F70E6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37F9-ACD0-4BB7-BE9E-EF1132C6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7192-FF6A-412B-9A87-B33DC47AB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–</a:t>
            </a:r>
            <a:fld id="{1B8F6DFF-CB12-4365-B5FA-C9C4EDDBE34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2-01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315200" cy="258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E431-CE5D-401F-960F-AAD887974E3B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12-02" descr=""/>
          <p:cNvPicPr/>
          <p:nvPr/>
        </p:nvPicPr>
        <p:blipFill>
          <a:blip r:embed="rId2"/>
          <a:stretch/>
        </p:blipFill>
        <p:spPr>
          <a:xfrm>
            <a:off x="914400" y="1130400"/>
            <a:ext cx="7315200" cy="459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2458-53DC-4F9F-A126-46EAC9CD7AE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12-03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7315200" cy="258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8B10-F5DA-422B-BE78-AB871E9652A8}" type="slidenum">
              <a:t>4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5:47Z</dcterms:modified>
  <cp:revision>28</cp:revision>
  <dc:subject/>
  <dc:title>PowerPoint Presentation</dc:title>
</cp:coreProperties>
</file>