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7CB5-7156-49E8-9D30-48E78E21E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C9F2-7A0A-4CE0-A61E-DCD9A8837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5926-FB9C-43B2-9AEB-1C9EB1C83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55A6-850F-4BD5-9A90-AF29326AA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B8CB-DFE9-4873-A683-5ACD1167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F8D1-05BD-4F8B-BAC9-51AC3CC38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2627-0A59-4405-9C60-91F6DDEDA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BCDA-44FF-4282-B58C-2E0A47BC7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A9DE-DBC9-47BA-8106-0D4707FAF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1739-029D-41A4-8A2B-43CD1301D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A666-49FF-4216-AC95-27EED7A6A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440A-0D44-4510-8809-64C8CFD42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–</a:t>
            </a:r>
            <a:fld id="{E1FC0C16-A67D-4882-82F8-6D2244F8B20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Syntax a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03-05" descr=""/>
          <p:cNvPicPr/>
          <p:nvPr/>
        </p:nvPicPr>
        <p:blipFill>
          <a:blip r:embed="rId2"/>
          <a:stretch/>
        </p:blipFill>
        <p:spPr>
          <a:xfrm>
            <a:off x="1257480" y="685800"/>
            <a:ext cx="664344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E192-59BA-480C-9768-16E8A6F6E700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e03-05" descr=""/>
          <p:cNvPicPr/>
          <p:nvPr/>
        </p:nvPicPr>
        <p:blipFill>
          <a:blip r:embed="rId2"/>
          <a:stretch/>
        </p:blipFill>
        <p:spPr>
          <a:xfrm>
            <a:off x="914400" y="1346040"/>
            <a:ext cx="7315200" cy="41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75A0-4407-44D2-8684-DB757E03DB43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03-06" descr=""/>
          <p:cNvPicPr/>
          <p:nvPr/>
        </p:nvPicPr>
        <p:blipFill>
          <a:blip r:embed="rId2"/>
          <a:stretch/>
        </p:blipFill>
        <p:spPr>
          <a:xfrm>
            <a:off x="914400" y="1244520"/>
            <a:ext cx="7315200" cy="436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223B-2B59-4B6D-BD7D-55BCDD132EAC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03-06" descr=""/>
          <p:cNvPicPr/>
          <p:nvPr/>
        </p:nvPicPr>
        <p:blipFill>
          <a:blip r:embed="rId2"/>
          <a:stretch/>
        </p:blipFill>
        <p:spPr>
          <a:xfrm>
            <a:off x="914400" y="1486080"/>
            <a:ext cx="7315200" cy="38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E39D-CA9B-4C86-8584-864D7EC1E29F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03-07" descr=""/>
          <p:cNvPicPr/>
          <p:nvPr/>
        </p:nvPicPr>
        <p:blipFill>
          <a:blip r:embed="rId2"/>
          <a:stretch/>
        </p:blipFill>
        <p:spPr>
          <a:xfrm>
            <a:off x="914400" y="1473120"/>
            <a:ext cx="7315200" cy="392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D496-AC4E-46E6-B3D0-81D35CDEDEA9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03-08" descr=""/>
          <p:cNvPicPr/>
          <p:nvPr/>
        </p:nvPicPr>
        <p:blipFill>
          <a:blip r:embed="rId2"/>
          <a:stretch/>
        </p:blipFill>
        <p:spPr>
          <a:xfrm>
            <a:off x="571680" y="1836720"/>
            <a:ext cx="8001000" cy="31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2860-1072-41CE-9AC4-F0143B98B08C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3-09" descr=""/>
          <p:cNvPicPr/>
          <p:nvPr/>
        </p:nvPicPr>
        <p:blipFill>
          <a:blip r:embed="rId2"/>
          <a:stretch/>
        </p:blipFill>
        <p:spPr>
          <a:xfrm>
            <a:off x="914400" y="1498680"/>
            <a:ext cx="7315200" cy="38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1E51-10D5-44A0-9EA5-570B3AFA66FE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03-10" descr=""/>
          <p:cNvPicPr/>
          <p:nvPr/>
        </p:nvPicPr>
        <p:blipFill>
          <a:blip r:embed="rId2"/>
          <a:stretch/>
        </p:blipFill>
        <p:spPr>
          <a:xfrm>
            <a:off x="914400" y="1473120"/>
            <a:ext cx="7315200" cy="39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DEDF-1D24-4A20-B695-6C8BB60061AA}" type="slidenum">
              <a:t>17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03-01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26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8B5F-904E-45A6-98C7-692B038BA30A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03-02" descr=""/>
          <p:cNvPicPr/>
          <p:nvPr/>
        </p:nvPicPr>
        <p:blipFill>
          <a:blip r:embed="rId2"/>
          <a:stretch/>
        </p:blipFill>
        <p:spPr>
          <a:xfrm>
            <a:off x="571680" y="2057400"/>
            <a:ext cx="8001000" cy="209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32D4-A847-4D0C-B09D-D6AD4100F506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3-01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142B-3A32-46B4-BB9B-458083E17ED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e03-03" descr=""/>
          <p:cNvPicPr/>
          <p:nvPr/>
        </p:nvPicPr>
        <p:blipFill>
          <a:blip r:embed="rId2"/>
          <a:stretch/>
        </p:blipFill>
        <p:spPr>
          <a:xfrm>
            <a:off x="457200" y="2354400"/>
            <a:ext cx="8229600" cy="21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6F87-D101-4C37-870D-5019BF3959B8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03-02" descr=""/>
          <p:cNvPicPr/>
          <p:nvPr/>
        </p:nvPicPr>
        <p:blipFill>
          <a:blip r:embed="rId2"/>
          <a:stretch/>
        </p:blipFill>
        <p:spPr>
          <a:xfrm>
            <a:off x="609480" y="1712880"/>
            <a:ext cx="7925040" cy="343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55E0-C86A-4FFC-B015-AA78DDE90EC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03-0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26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A717-2842-4034-8443-E1F49D9DB16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3-03" descr=""/>
          <p:cNvPicPr/>
          <p:nvPr/>
        </p:nvPicPr>
        <p:blipFill>
          <a:blip r:embed="rId2"/>
          <a:stretch/>
        </p:blipFill>
        <p:spPr>
          <a:xfrm>
            <a:off x="1181160" y="685800"/>
            <a:ext cx="679140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0676-598C-48EB-8454-4C84465EF313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03-04" descr=""/>
          <p:cNvPicPr/>
          <p:nvPr/>
        </p:nvPicPr>
        <p:blipFill>
          <a:blip r:embed="rId2"/>
          <a:stretch/>
        </p:blipFill>
        <p:spPr>
          <a:xfrm>
            <a:off x="1879560" y="685800"/>
            <a:ext cx="53848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AD28-4CDA-4347-B0E0-F6F6D47567F3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5:58:09Z</dcterms:modified>
  <cp:revision>22</cp:revision>
  <dc:subject/>
  <dc:title>PowerPoint Presentation</dc:title>
</cp:coreProperties>
</file>