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C0FA-F4E4-4D7F-9E8E-4910E9D99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10FC-1735-4A2F-A1C1-B500EA801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C6A7-AF50-4B02-A955-5C2D59D52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1D14-6BC3-4180-9B79-53BE087C9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0DE2-52C8-40C2-A994-7504DADF8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6318-36FE-448A-BB03-C565BA3AF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EF6A-5EB8-4112-9362-FBEECE137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6D97-6655-44AA-9D3B-9F4FCFE1E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1DF6-0686-4138-A70F-8B961F523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76AF-294F-474C-8DD4-09E936869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98FD-10D6-4A87-B160-72BD4E875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1C7E-75CD-4902-BEEF-E11FC77BE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5–</a:t>
            </a:r>
            <a:fld id="{BCE94BD2-4D74-48A7-833B-962EF2E498C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15-01" descr=""/>
          <p:cNvPicPr/>
          <p:nvPr/>
        </p:nvPicPr>
        <p:blipFill>
          <a:blip r:embed="rId2"/>
          <a:stretch/>
        </p:blipFill>
        <p:spPr>
          <a:xfrm>
            <a:off x="914400" y="1308240"/>
            <a:ext cx="7315200" cy="424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1FD9-B217-4438-B01D-54F6A73475CB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15-02" descr=""/>
          <p:cNvPicPr/>
          <p:nvPr/>
        </p:nvPicPr>
        <p:blipFill>
          <a:blip r:embed="rId2"/>
          <a:stretch/>
        </p:blipFill>
        <p:spPr>
          <a:xfrm>
            <a:off x="1574640" y="685800"/>
            <a:ext cx="600876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9A36-B637-4038-B5C9-4D0DB344B53C}" type="slidenum">
              <a:t>3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8:36Z</dcterms:modified>
  <cp:revision>32</cp:revision>
  <dc:subject/>
  <dc:title>PowerPoint Presentation</dc:title>
</cp:coreProperties>
</file>