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4D14C9-3262-4F2A-8204-6E7E29EF4F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86F08E-50DC-4A8A-848F-06763F749E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07E901-6842-4C5E-AE55-068746FBEB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DDC51C-661E-46ED-A3D6-E5B70513CC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1D2FA4-52A3-4BC5-8740-567942C067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375F95-B679-4E0A-8805-43AC5B5F47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871752-AC51-4159-AFA5-948FA3A159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B2BD41-AE53-49DC-972A-3A8DDF20C6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1E49CD-4EAF-4760-9998-06094459F1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920EC3-5A6D-4A8E-92AE-4AEE0CD3C2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442BBA-CA7B-4C97-A104-708ECEFC48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B793CB-979B-439C-B717-9CEA543C0F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228240" y="6362640"/>
            <a:ext cx="4343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Copyright © 2006 Pearson Addison-Wesley. All rights reserved. </a:t>
            </a: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010280" y="63817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4–</a:t>
            </a:r>
            <a:fld id="{2575271E-3625-4855-9F8B-78558D4A21ED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04920" y="1218960"/>
            <a:ext cx="36576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1218960"/>
            <a:ext cx="36576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hapter  4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304920" y="2209320"/>
            <a:ext cx="36576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xical a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ntax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f04-01" descr=""/>
          <p:cNvPicPr/>
          <p:nvPr/>
        </p:nvPicPr>
        <p:blipFill>
          <a:blip r:embed="rId2"/>
          <a:stretch/>
        </p:blipFill>
        <p:spPr>
          <a:xfrm>
            <a:off x="914400" y="1727280"/>
            <a:ext cx="7315200" cy="3400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0B5211-C231-44EA-8C3B-F116C923AFCC}" type="slidenum">
              <a:t>2</a:t>
            </a:fld>
          </a:p>
        </p:txBody>
      </p: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f04-02" descr=""/>
          <p:cNvPicPr/>
          <p:nvPr/>
        </p:nvPicPr>
        <p:blipFill>
          <a:blip r:embed="rId2"/>
          <a:stretch/>
        </p:blipFill>
        <p:spPr>
          <a:xfrm>
            <a:off x="914400" y="1739880"/>
            <a:ext cx="7315200" cy="3379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084E83-1C2D-48D1-B31D-AC30A47BD1AA}" type="slidenum">
              <a:t>3</a:t>
            </a:fld>
          </a:p>
        </p:txBody>
      </p: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f04-03" descr=""/>
          <p:cNvPicPr/>
          <p:nvPr/>
        </p:nvPicPr>
        <p:blipFill>
          <a:blip r:embed="rId2"/>
          <a:stretch/>
        </p:blipFill>
        <p:spPr>
          <a:xfrm>
            <a:off x="914400" y="1778040"/>
            <a:ext cx="7315200" cy="33051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BF593B-830B-4FCC-A1C6-95C31FB80981}" type="slidenum">
              <a:t>4</a:t>
            </a:fld>
          </a:p>
        </p:txBody>
      </p:sp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f04-04" descr=""/>
          <p:cNvPicPr/>
          <p:nvPr/>
        </p:nvPicPr>
        <p:blipFill>
          <a:blip r:embed="rId2"/>
          <a:stretch/>
        </p:blipFill>
        <p:spPr>
          <a:xfrm>
            <a:off x="914400" y="2070000"/>
            <a:ext cx="7315200" cy="2714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83D85A-11DF-40B6-BC3D-BF4CA0E1CA49}" type="slidenum">
              <a:t>5</a:t>
            </a:fld>
          </a:p>
        </p:txBody>
      </p:sp>
    </p:spTree>
  </p:cSld>
  <p:transition spd="med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f04-05" descr=""/>
          <p:cNvPicPr/>
          <p:nvPr/>
        </p:nvPicPr>
        <p:blipFill>
          <a:blip r:embed="rId2"/>
          <a:stretch/>
        </p:blipFill>
        <p:spPr>
          <a:xfrm>
            <a:off x="914400" y="1155600"/>
            <a:ext cx="7315200" cy="4543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AD7173-01C1-432B-9433-0A8168E92CB9}" type="slidenum">
              <a:t>6</a:t>
            </a:fld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6T20:11:54Z</dcterms:created>
  <dc:creator>Copyright ©2006 Pearson Addison-Wesley</dc:creator>
  <dc:description/>
  <dc:language>en-US</dc:language>
  <cp:lastModifiedBy>AnnMarie</cp:lastModifiedBy>
  <dcterms:modified xsi:type="dcterms:W3CDTF">2005-06-02T15:59:10Z</dcterms:modified>
  <cp:revision>24</cp:revision>
  <dc:subject/>
  <dc:title>PowerPoint Presentation</dc:title>
</cp:coreProperties>
</file>