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DA68-BF1E-4C88-917C-949A3BA8F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09DC-2130-4665-B7DE-29ABB4B5E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4628-D83D-4EF9-AFC1-1127851B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BEFD-A933-46AE-B07D-45EB32D4C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8769-70FD-41C1-9969-3FCB77F52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4139-47EB-47C1-B7B3-C9E0ECBBB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386B-24EB-4BD2-8B7C-B6DE0768B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46A5-C36C-462E-8753-C853DBD46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8795-956A-4727-B27A-1227058C1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EF34-2CDF-4201-8BAB-477A5E666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1CE7-744C-4493-8E49-18A677EFE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D314-5606-4B20-A535-481684887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–</a:t>
            </a:r>
            <a:fld id="{B0EDAFCD-8667-49BF-BEBD-7ED0B4AE959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01-01" descr=""/>
          <p:cNvPicPr/>
          <p:nvPr/>
        </p:nvPicPr>
        <p:blipFill>
          <a:blip r:embed="rId2"/>
          <a:stretch/>
        </p:blipFill>
        <p:spPr>
          <a:xfrm>
            <a:off x="914400" y="1486080"/>
            <a:ext cx="7315200" cy="38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0BCE-637F-4B02-B042-A316A331EF47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01-01" descr=""/>
          <p:cNvPicPr/>
          <p:nvPr/>
        </p:nvPicPr>
        <p:blipFill>
          <a:blip r:embed="rId2"/>
          <a:stretch/>
        </p:blipFill>
        <p:spPr>
          <a:xfrm>
            <a:off x="914400" y="1574640"/>
            <a:ext cx="7315200" cy="37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0A2E-8BD0-4B3A-99FE-AC1B60D34D3B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01-02" descr=""/>
          <p:cNvPicPr/>
          <p:nvPr/>
        </p:nvPicPr>
        <p:blipFill>
          <a:blip r:embed="rId2"/>
          <a:stretch/>
        </p:blipFill>
        <p:spPr>
          <a:xfrm>
            <a:off x="1028880" y="685800"/>
            <a:ext cx="709740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8A20-3F23-4AF7-A568-4FBC2308BFB1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01-03" descr=""/>
          <p:cNvPicPr/>
          <p:nvPr/>
        </p:nvPicPr>
        <p:blipFill>
          <a:blip r:embed="rId2"/>
          <a:stretch/>
        </p:blipFill>
        <p:spPr>
          <a:xfrm>
            <a:off x="1841400" y="685800"/>
            <a:ext cx="547704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7028-354D-4406-AECC-A90F4CA765D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01-04" descr=""/>
          <p:cNvPicPr/>
          <p:nvPr/>
        </p:nvPicPr>
        <p:blipFill>
          <a:blip r:embed="rId2"/>
          <a:stretch/>
        </p:blipFill>
        <p:spPr>
          <a:xfrm>
            <a:off x="965160" y="685800"/>
            <a:ext cx="722016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8A77-3D71-49A1-8632-6E252566C603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01-05" descr=""/>
          <p:cNvPicPr/>
          <p:nvPr/>
        </p:nvPicPr>
        <p:blipFill>
          <a:blip r:embed="rId2"/>
          <a:stretch/>
        </p:blipFill>
        <p:spPr>
          <a:xfrm>
            <a:off x="2870280" y="685800"/>
            <a:ext cx="34066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FC86-7B68-4F18-A4D8-A592BF37A816}" type="slidenum">
              <a:t>7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02T15:55:53Z</dcterms:modified>
  <cp:revision>18</cp:revision>
  <dc:subject/>
  <dc:title>PowerPoint Presentation</dc:title>
</cp:coreProperties>
</file>