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A0A7-A646-4BA5-8DB0-E909951B5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96D2-EBD2-4DC9-8405-9D014F820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1D1EE-54C7-453C-AF88-2B2A8884D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9552E-FE8F-4EFD-A95F-F7F56958C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18DD-377A-432A-A24B-CF2C60CDF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E92B-0394-4F9E-8A1A-8A4DAE1EB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8479E-DC0A-407A-B2AF-C455B7526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A87C-B36A-4BEC-8AB6-8B19B31F5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DBA3-A5A7-4273-965D-7DF1C683D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DF281-0EED-4FA3-9C1D-0D92DDDD8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4A44-1273-4290-84BA-019D39338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21B0-E5B7-4296-8F69-5C6C9693A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4–</a:t>
            </a:r>
            <a:fld id="{43DDCEB2-C9DB-41AE-8B3C-F6CCE084E75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 Handling and Event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14-01" descr=""/>
          <p:cNvPicPr/>
          <p:nvPr/>
        </p:nvPicPr>
        <p:blipFill>
          <a:blip r:embed="rId2"/>
          <a:stretch/>
        </p:blipFill>
        <p:spPr>
          <a:xfrm>
            <a:off x="914400" y="1092240"/>
            <a:ext cx="7315200" cy="468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21CBD-F225-4265-BA6C-600953E4FB23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14-01" descr=""/>
          <p:cNvPicPr/>
          <p:nvPr/>
        </p:nvPicPr>
        <p:blipFill>
          <a:blip r:embed="rId2"/>
          <a:stretch/>
        </p:blipFill>
        <p:spPr>
          <a:xfrm>
            <a:off x="914400" y="939960"/>
            <a:ext cx="7315200" cy="498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2E5A-410C-4A7D-8E13-C85E2E14B0AC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14-02" descr=""/>
          <p:cNvPicPr/>
          <p:nvPr/>
        </p:nvPicPr>
        <p:blipFill>
          <a:blip r:embed="rId2"/>
          <a:stretch/>
        </p:blipFill>
        <p:spPr>
          <a:xfrm>
            <a:off x="914400" y="2552760"/>
            <a:ext cx="7315200" cy="177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1056C-AD54-4A44-92BE-7F6C7E7FCAFC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14-02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7925040" cy="117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84B61-0E75-48E4-B334-CD4AE4D3FCF4}" type="slidenum">
              <a:t>5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02T16:07:35Z</dcterms:modified>
  <cp:revision>32</cp:revision>
  <dc:subject/>
  <dc:title>PowerPoint Presentation</dc:title>
</cp:coreProperties>
</file>