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554EE-A785-49BF-B79F-F2BDBD50A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ECE65-7F34-4708-A599-02DDBFD73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D732F-1B01-4D1A-B0A2-74AC5347F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E970-DB9B-4F8D-9F96-4B8ADB9617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DF0DE-0FB0-4F32-9C8E-88EF62CC4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605ED-C93A-4549-8F58-70560C401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0D559-60C1-4CC5-94C8-AD4A30589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FCC56-3E05-4956-9912-D0DBD55CD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06668-CFE4-4726-B58E-B6D164B6C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11893-DE2C-430C-AF97-82F547C59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D5186-AADE-4BCF-BE73-41536EB7E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0D31-CB81-471F-8452-945124AD4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3–</a:t>
            </a:r>
            <a:fld id="{5DB51200-F934-42E0-A51F-41B3EF43A67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1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92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13-01" descr=""/>
          <p:cNvPicPr/>
          <p:nvPr/>
        </p:nvPicPr>
        <p:blipFill>
          <a:blip r:embed="rId2"/>
          <a:stretch/>
        </p:blipFill>
        <p:spPr>
          <a:xfrm>
            <a:off x="914400" y="2222640"/>
            <a:ext cx="7315200" cy="242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BB192-330C-4C98-992A-8516A95F6377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13-02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315200" cy="382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EC288-81EA-4138-8499-74FC4A612B98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13-03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315200" cy="487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8F04B-FD37-41D4-8D43-2DB5AAAAC91C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13-04" descr=""/>
          <p:cNvPicPr/>
          <p:nvPr/>
        </p:nvPicPr>
        <p:blipFill>
          <a:blip r:embed="rId2"/>
          <a:stretch/>
        </p:blipFill>
        <p:spPr>
          <a:xfrm>
            <a:off x="914400" y="1434960"/>
            <a:ext cx="7315200" cy="39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3F079-2EC9-4BB4-8EDD-3367B742BDCE}" type="slidenum">
              <a:t>5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02T16:06:33Z</dcterms:modified>
  <cp:revision>30</cp:revision>
  <dc:subject/>
  <dc:title>PowerPoint Presentation</dc:title>
</cp:coreProperties>
</file>