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81C00-10F1-4928-8AE0-CDAC99603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A0013-3E25-4AE1-A4FB-98409B0C8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0BF28-6266-4A57-A5BD-0A18CA7FC6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1931D-AAEF-4176-A258-5C1829FD87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44BA6-5B0C-4789-BDB8-A91508A5A6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D20AE-DFD6-4747-BD0C-C4C52243F8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810ED-E146-42F0-B103-5B0849C49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E1BA2-A876-45E3-8309-2A7213CF2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63A27-0237-44FD-9915-D095E431A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8B2F6-088B-4E68-B691-4116D2038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DEE65-3AAD-4035-9681-F23969DFBA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F9ECB-DA26-4B73-AA68-16B2B9DCA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8–</a:t>
            </a:r>
            <a:fld id="{9C291186-0A70-4C21-9803-40BE801EAF5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92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-Level Control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f08-01" descr=""/>
          <p:cNvPicPr/>
          <p:nvPr/>
        </p:nvPicPr>
        <p:blipFill>
          <a:blip r:embed="rId2"/>
          <a:stretch/>
        </p:blipFill>
        <p:spPr>
          <a:xfrm>
            <a:off x="1574640" y="685800"/>
            <a:ext cx="600876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B85AA-01D6-407E-822E-CC87AB473C0C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f08-02" descr=""/>
          <p:cNvPicPr/>
          <p:nvPr/>
        </p:nvPicPr>
        <p:blipFill>
          <a:blip r:embed="rId2"/>
          <a:stretch/>
        </p:blipFill>
        <p:spPr>
          <a:xfrm>
            <a:off x="2666880" y="609480"/>
            <a:ext cx="3629160" cy="57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968AC-CC04-410F-AB79-990087D84387}" type="slidenum">
              <a:t>3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02T16:02:28Z</dcterms:modified>
  <cp:revision>26</cp:revision>
  <dc:subject/>
  <dc:title>PowerPoint Presentation</dc:title>
</cp:coreProperties>
</file>