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F9613-A032-4565-AA49-8D4AA565A9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856D8-4719-418D-A840-2C3912376B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43A9E-735D-4263-95E7-75D6D850EF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64A33-703C-4B9E-8BBF-5074A3826C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54BC1-6944-4A27-9BFA-BC4B54152D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58797-C361-4B66-8EAB-81C9C16A12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7F9EF-01D3-4A27-BC90-29A5474733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D0842-7B53-40EE-A44D-00DBB791C8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589F6-D42E-46C3-81DE-F28548413F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422E2-9CA5-44B6-92FD-54F4AAFF63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CE9D4-16BB-4AD7-9600-75CC109DFB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57211-BA68-4737-A276-A41EA8AA33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8240" y="636264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opyright © 2006 Pearson Addison-Wesley. All rights reserved.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102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6–</a:t>
            </a:r>
            <a:fld id="{1AB570DD-55E4-4935-A22D-143DE5764F9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 1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04920" y="2209320"/>
            <a:ext cx="3657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 Programming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f16-01" descr=""/>
          <p:cNvPicPr/>
          <p:nvPr/>
        </p:nvPicPr>
        <p:blipFill>
          <a:blip r:embed="rId2"/>
          <a:stretch/>
        </p:blipFill>
        <p:spPr>
          <a:xfrm>
            <a:off x="1693800" y="1074600"/>
            <a:ext cx="5754600" cy="470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2B5DE-1B7A-4434-A642-4F3AD6DC68FD}" type="slidenum">
              <a:t>2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20:11:54Z</dcterms:created>
  <dc:creator>Copyright ©2006 Pearson Addison-Wesley</dc:creator>
  <dc:description/>
  <dc:language>en-US</dc:language>
  <cp:lastModifiedBy>AnnMarie</cp:lastModifiedBy>
  <dcterms:modified xsi:type="dcterms:W3CDTF">2005-06-02T16:09:30Z</dcterms:modified>
  <cp:revision>33</cp:revision>
  <dc:subject/>
  <dc:title>PowerPoint Presentation</dc:title>
</cp:coreProperties>
</file>