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596E2-458E-453D-877E-DF1AE558D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ECCF3-8651-434A-B410-AC3432582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2CED9-A75F-4EF1-98CF-A0B8797DD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39EBE-E3FF-4A5E-99BF-D890978AB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02659-3C1D-46E5-9BE9-718A02EEB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D6B52-C8BE-4C9A-A1BE-98E9784C5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D77DE-DD70-42B1-A495-EF87F535A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C249B-9CA3-4323-BBD9-9C60608F3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7C43F-F3F7-4DDD-9123-07FC758C1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3DEB1-A07A-48BE-8558-43AD9B456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F710D-DE7C-42E8-91F5-471B799CA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07738-49B0-4AAE-9A8F-C9F10E76D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–</a:t>
            </a:r>
            <a:fld id="{1C0ED0D3-21F0-477A-A6C0-425B5641699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92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f06-09" descr=""/>
          <p:cNvPicPr/>
          <p:nvPr/>
        </p:nvPicPr>
        <p:blipFill>
          <a:blip r:embed="rId2"/>
          <a:stretch/>
        </p:blipFill>
        <p:spPr>
          <a:xfrm>
            <a:off x="914400" y="2120760"/>
            <a:ext cx="7315200" cy="261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62A30-FC61-446E-8099-F2108DDD7730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f06-10" descr=""/>
          <p:cNvPicPr/>
          <p:nvPr/>
        </p:nvPicPr>
        <p:blipFill>
          <a:blip r:embed="rId2"/>
          <a:stretch/>
        </p:blipFill>
        <p:spPr>
          <a:xfrm>
            <a:off x="914400" y="2184480"/>
            <a:ext cx="7315200" cy="249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E5FBC-0FDA-4F1F-B378-1341D4002E8F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f06-11" descr=""/>
          <p:cNvPicPr/>
          <p:nvPr/>
        </p:nvPicPr>
        <p:blipFill>
          <a:blip r:embed="rId2"/>
          <a:stretch/>
        </p:blipFill>
        <p:spPr>
          <a:xfrm>
            <a:off x="914400" y="1841400"/>
            <a:ext cx="7315200" cy="318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77215-1B10-437C-9AC4-BF26922CF9DC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f06-12" descr=""/>
          <p:cNvPicPr/>
          <p:nvPr/>
        </p:nvPicPr>
        <p:blipFill>
          <a:blip r:embed="rId2"/>
          <a:stretch/>
        </p:blipFill>
        <p:spPr>
          <a:xfrm>
            <a:off x="914400" y="1409760"/>
            <a:ext cx="7315200" cy="405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37495-AC8F-4EEE-A47F-2AEF19693C38}" type="slidenum">
              <a:t>13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06-01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306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B5958-074A-497C-AFF5-0379A6767CB8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06-02" descr=""/>
          <p:cNvPicPr/>
          <p:nvPr/>
        </p:nvPicPr>
        <p:blipFill>
          <a:blip r:embed="rId2"/>
          <a:stretch/>
        </p:blipFill>
        <p:spPr>
          <a:xfrm>
            <a:off x="914400" y="2146320"/>
            <a:ext cx="7315200" cy="256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FAADD-149A-4C8D-9878-F5302C922A4E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f06-03" descr=""/>
          <p:cNvPicPr/>
          <p:nvPr/>
        </p:nvPicPr>
        <p:blipFill>
          <a:blip r:embed="rId2"/>
          <a:stretch/>
        </p:blipFill>
        <p:spPr>
          <a:xfrm>
            <a:off x="914400" y="1879560"/>
            <a:ext cx="7315200" cy="310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3E7DC-3A55-4FC7-AB30-94CAD5CFE6EE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f06-04" descr=""/>
          <p:cNvPicPr/>
          <p:nvPr/>
        </p:nvPicPr>
        <p:blipFill>
          <a:blip r:embed="rId2"/>
          <a:stretch/>
        </p:blipFill>
        <p:spPr>
          <a:xfrm>
            <a:off x="914400" y="977760"/>
            <a:ext cx="7315200" cy="489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47F91-1B19-44FD-8923-E00CA678FB48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f06-05" descr=""/>
          <p:cNvPicPr/>
          <p:nvPr/>
        </p:nvPicPr>
        <p:blipFill>
          <a:blip r:embed="rId2"/>
          <a:stretch/>
        </p:blipFill>
        <p:spPr>
          <a:xfrm>
            <a:off x="1600200" y="1465200"/>
            <a:ext cx="5715000" cy="392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8365D-6D38-4F82-983A-3CBC026E8A05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f06-06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7315200" cy="443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FF012-6F91-4F5E-938B-EBEF54D56CD1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06-07" descr=""/>
          <p:cNvPicPr/>
          <p:nvPr/>
        </p:nvPicPr>
        <p:blipFill>
          <a:blip r:embed="rId2"/>
          <a:stretch/>
        </p:blipFill>
        <p:spPr>
          <a:xfrm>
            <a:off x="914400" y="1066680"/>
            <a:ext cx="7315200" cy="471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2059C-D35A-4AED-A98B-0EBFC828EB1E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f06-08" descr=""/>
          <p:cNvPicPr/>
          <p:nvPr/>
        </p:nvPicPr>
        <p:blipFill>
          <a:blip r:embed="rId2"/>
          <a:stretch/>
        </p:blipFill>
        <p:spPr>
          <a:xfrm>
            <a:off x="1346040" y="685800"/>
            <a:ext cx="645480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0EB03-F2D4-4AEC-B639-7491C3F2EC70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02T16:01:37Z</dcterms:modified>
  <cp:revision>24</cp:revision>
  <dc:subject/>
  <dc:title>PowerPoint Presentation</dc:title>
</cp:coreProperties>
</file>