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295-4431-4F5D-9245-29845F05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1563-9853-4157-942B-EC3D1C04F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A4D8-93AB-4406-BEC2-51C2F1C47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BC8D-10FE-4B8B-9431-C7FF046C7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A22F-0E60-48D4-9920-CEF8B351E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A6A7-2415-472A-B813-0C9DAE3A1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0B28-3CCF-4AAB-BA06-BBCA444D3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2CD6-2986-4AD9-892B-A0CA0F4CA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63F8-B8E3-4D95-AFDA-EA3A22A06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5B55-8685-4E67-B240-FAE0EE2AE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40A8-794C-4294-972B-C233DD523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5BB2-7860-4846-B82B-259306944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–</a:t>
            </a:r>
            <a:fld id="{B8F3798C-1B95-4A24-8D06-75F32D94F28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09-01" descr=""/>
          <p:cNvPicPr/>
          <p:nvPr/>
        </p:nvPicPr>
        <p:blipFill>
          <a:blip r:embed="rId2"/>
          <a:stretch/>
        </p:blipFill>
        <p:spPr>
          <a:xfrm>
            <a:off x="914400" y="1612800"/>
            <a:ext cx="7315200" cy="36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3C9D-E878-465C-BEC8-B385288E1DC1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9-02" descr=""/>
          <p:cNvPicPr/>
          <p:nvPr/>
        </p:nvPicPr>
        <p:blipFill>
          <a:blip r:embed="rId2"/>
          <a:stretch/>
        </p:blipFill>
        <p:spPr>
          <a:xfrm>
            <a:off x="914400" y="1638360"/>
            <a:ext cx="7315200" cy="357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5643-6880-4BAA-8E54-84BC7965F00E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9-03" descr=""/>
          <p:cNvPicPr/>
          <p:nvPr/>
        </p:nvPicPr>
        <p:blipFill>
          <a:blip r:embed="rId2"/>
          <a:stretch/>
        </p:blipFill>
        <p:spPr>
          <a:xfrm>
            <a:off x="1790640" y="685800"/>
            <a:ext cx="55753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15FE-818A-4CE5-B210-A3D4CE12BB7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09-04" descr=""/>
          <p:cNvPicPr/>
          <p:nvPr/>
        </p:nvPicPr>
        <p:blipFill>
          <a:blip r:embed="rId2"/>
          <a:stretch/>
        </p:blipFill>
        <p:spPr>
          <a:xfrm>
            <a:off x="914400" y="1994040"/>
            <a:ext cx="7315200" cy="28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F318-3A1F-401B-BE34-C01FAB8257CA}" type="slidenum">
              <a:t>5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3:28Z</dcterms:modified>
  <cp:revision>27</cp:revision>
  <dc:subject/>
  <dc:title>PowerPoint Presentation</dc:title>
</cp:coreProperties>
</file>