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D2657-B5B3-4D6A-ACE2-E557E395D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C168-DC26-4E74-A626-4B52CF386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41AA-21C2-4A23-B836-E3B7548F3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B78FE-F495-4E85-A165-057C92EB7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F36B-1D05-4747-9580-AD0E76A35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B417-5061-450F-8A16-5EEC0FCE2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95F3A-830F-494F-BC87-AADFFC5AE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3C1B-A5E0-4CE7-80B2-DAB689FDB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3E3A-89A7-4000-BCDC-DA6966653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434E-5BAD-4078-8C39-CFBBDC207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79D8-2E12-420E-B9A2-4691C91B2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C9280-88D7-4D2F-8C3D-AED78D3AD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5B07DC9-DD8A-41C7-8D47-FAA0836BF5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43" name=""/>
          <p:cNvSpPr/>
          <p:nvPr/>
        </p:nvSpPr>
        <p:spPr>
          <a:xfrm>
            <a:off x="5798520" y="65833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BN 0-321-33025-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91120" y="304920"/>
            <a:ext cx="4771800" cy="6172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ctr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Lucida Sans Unicod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Lucida Sans Unicode"/>
              </a:rPr>
              <a:t>Chapter 2</a:t>
            </a:r>
            <a:endParaRPr b="1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Evolution of the Major Programming Languages</a:t>
            </a: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Pseudocodes: Speedcoding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eedcoding developed by Backus in 1954 for IBM 70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seudo ops for arithmetic and math fun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ditional and unconditional branch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uto-increment registers for array acc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low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nly 700 words left for user progra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9D91-A8C0-41B3-A329-6FD605A10D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Pseudocodes: Related System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UNIVAC Compiling Syst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veloped by a team led by Grace Hopp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seudocode expanded into machine cod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avid J. Wheeler (Cambridge University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veloped a method of using blocks of re-locatable addresses to solve the problem of absolute address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8A73-8E69-4C82-B15A-60C4933AF6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2.3 IBM 704 and Fortra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rtran 0: 1954 - not implement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rtran I:1957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signed for the new IBM 704, which had index registers and floating point hardwa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vironment of develop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mputers were small and unreliabl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pplications were scientif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No programming methodology or too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Machine efficiency was most importa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FB1A-FEFF-48A4-A3CE-A17FC1B2ED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Design Process of Fortra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mpact of environment on design of Fortran 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 need for dynamic stor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ed good array handling and counting loop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 string handling, decimal arithmetic, or powerful input/output (commercial stuff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A6C5-BCD8-498C-B09E-5012730A17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Fortran I Overview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rst implemented version of Fortr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ames could have up to six charact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st-test counting loop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matted I/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r-defined subprogra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ree-way selection statement (arithmet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 data typing statem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CDE45-6019-4C1F-915C-159BDC0A91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Fortran I Overview (continued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rst implemented version of FORTRA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 separate compil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piler released in April 1957, after 18 worker-years of effor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grams larger than 400 lines rarely compiled correctly, mainly due to poor reliability of 704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de was very fa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Quickly became widely us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9911-6C3D-472E-88F3-47DA568508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Fortran II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istributed in 1958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dependent compil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xed the bug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AE39-1BF4-4555-9392-E2071EA4C7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Fortran IV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olved during 1960-6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plicit type declar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ogical selection stat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bprogram names could be paramet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SI standard in 1966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05B2-2D04-4B19-8EE5-DC50AC2A1B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Fortran 77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came the new standard in 1978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aracter string handl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ogical loop control stat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-THEN-ELS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A428F-32E6-459F-8B1B-E5F5DEEE10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Fortran 90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ost significant changes from Fortran 77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ynamic array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int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rameter type check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D75DB-1931-4CE4-A308-408E1A16C7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hapter 2 Topic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Zuse’s Plankalku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inimal Hardware Programming: Pseudocod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IBM 704 and Fortr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unctional Programming: LIS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First Step Toward Sophistication: ALGOL 60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uterizing Business Records: COBO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Beginnings of Timesharing: BAS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5A2A-3BCE-4F33-8560-3254498A58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Fortran Evaluatio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ighly optimizing compilers (all versions before 90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ypes and storage of all variables are fixed before run tim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ramatically changed forever the way computers are us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haracterized as the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lingua franc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the computing worl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B0E5-2C98-448C-80D2-B5E4D1BF54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2.4 Functional Programming: LISP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ISt Processing langua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signed at MIT by McCarth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I research needed a language t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cess data in lists (rather than array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ymbolic computation (rather than numeric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nly two data types: atoms and lis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yntax is based on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lambda calculu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93AED-5A36-4869-A013-37AF7CDE1C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Representation of Two LISP List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28840" y="1444680"/>
            <a:ext cx="7257960" cy="48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17EF-49C7-4A47-B5BF-1291A924C6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LISP Evaluatio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ioneered functional programm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 need for variables or assign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trol via recursion and conditional express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ill the dominant language for A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MON LISP and Scheme are contemporary dialects of LIS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L, Miranda, and Haskell are related languag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5046-2F97-4190-A77B-698CB4CDA4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Scheme</a:t>
            </a: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veloped at MIT in mid 1970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tensive use of static scop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unctions as first-class entit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mple syntax (and small size) make it ideal for educational applica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1B0B0-70CD-4281-92D1-A62300E054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OMMON LISP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 effort to combine features of several dialects of LISP into a single langua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rge, complex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684F-233F-4207-9774-B089D82D46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2.5 The First Step Toward Sophistication: ALGOL 60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vironment of develop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TRAN had (barely) arrived for IBM 70x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ny other languages were being developed, all for specific machin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 portable language; all were machine-              depend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 universal language for communicating algorith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GOL 60 was the result of efforts to design a universal langua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2922-7726-46E6-86FC-4241F11153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Early Design Proces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CM and GAMM met for four days for design (May 27 to June 1, 1958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oals of the langua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ose to mathematical not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ood for describing algorith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ust be translatable to machine cod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2A786-115C-44D2-AB65-FD5500045B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ALGOL 58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cept of type was formaliz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ames could be any lengt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rrays could have any number of subscrip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rameters were separated by mode (in &amp; out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bscripts were placed in bracke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pound statements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 ... en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micolon as a statement separat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ssignment operator was :=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had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-i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 I/O - “would make it machine dependent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C13C-C423-4913-AF62-99D9D7703B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ALGOL 58 Implementatio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t meant to be implemented, but variations of it were (MAD, JOVIAL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hough IBM was initially enthusiastic, all support was dropped by mid 1959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2B69A-E73D-4D09-A0DA-8C71ACE4F2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hapter 2 Topics (continued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erything for Everybody: PL/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wo Early Dynamic Languages: APL and SNOBO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Beginings of Data Abstraction: SIMULA 67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rthogonal Design: ALGOL 68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me Early Desscendants of the ALGO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gramming Based on Logic: Prolo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isotry’s Largest Design Effort: Ad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0BC3-3674-4116-82B3-DE87FD6CB7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ALGOL 60 Overview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odified ALGOL 58 at 6-day meeting in Par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ew featu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lock structure (local scop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wo parameter passing metho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bprogram recur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ack-dynamic array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ill no I/O and no string handl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0A62-FF45-49D7-9F27-896EB99317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ALGOL 60 Evaluatio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uccess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was the standard way to publish algorithms for over 20 yea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l subsequent imperative languages are based on i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rst machine-independent langu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rst language whose syntax was formally defined (BNF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BF7FC-2A01-4ECA-8697-11A8BAC015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ALGOL 60 Evaluation (continued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ver widely used, especially in U.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as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ack of I/O and the character set made programs non-portabl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oo flexible--hard to imple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ntrenchment of Fortr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rmal syntax descrip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ack of support from IBM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E705-FB76-4062-AC2F-A2C77407B0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Computerizing Business Records: COBOL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vironment of develop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IVAC was beginning to use FLOW-MATI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AF was beginning to use AIMAC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BM was developing COMTRA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7027-7DB6-4624-9B76-A268C99288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OBOL Historical Background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ased on FLOW-MAT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LOW-MATIC featu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ames up to 12 characters, with embedded hyphe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glish names for arithmetic operators (no arithmetic expression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ata and code were completely separa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bs were first word in every stat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31CA-38BD-4F9A-9897-9D5C7C3BD3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OBOL Design Proces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rst Design Meeting (Pentagon) - May 195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sign goa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ust look like simple Englis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ust be easy to use, even if that means it will be less powerfu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ust broaden the base of computer us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ust not be biased by current compiler proble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sign committee members were all from computer manufacturers and DoD branch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sign Problems: arithmetic expressions? subscripts?  Fights among manufactur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2BFD-423C-4C51-82D3-2CE137D307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OBOL Evaluatio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tribu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rst macro facility in a high-level langu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ierarchical data structures (record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sted selection statem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ong names (up to 30 characters), with hyphe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parate data divi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76CBF-8FAF-43FC-9D1A-040F91D69CE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OBOL: DoD Influence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rst language required by Do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ould have failed without Do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ill the most widely used business applications langua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E781-CFE7-4401-8BB9-DDD430FBE88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2.7 The Beginning of Timesharing: BASIC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signed by Kemeny &amp; Kurtz at Dartmout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sign Goal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asy to learn and use for non-science stud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ust be “pleasant and friendly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ast turnaround for homewor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ree and private acc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r time is more important than computer tim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urrent popular dialect:  Visual BASIC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rst widely used language with time sharing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EB88-7F5A-40BC-A1AA-0047F3999AB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2.8 Everything for Everybody: PL/I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signed by IBM and SHA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uting situation in 1964 (IBM's point of view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cientific compu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BM 1620 and 7090 compute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RTR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HARE user group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usiness compu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BM 1401, 7080 compute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BO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GUIDE user group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6539-DD43-4366-8916-87426520A3C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hapter 2 Topics (continued)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bject-Oriented Programming: Smalltal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bining Imperative ad Object-Oriented Features: C++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 Imperative-Based Object-Oriented Language: Jav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cripting Languages: JavaScript, PHP, and Pyth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C-Based Language for the New Millennium: C#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rkup/Programming Hybrid Languag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5AA5-7031-4819-9D4B-E5D1F54EF1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PL/I: Background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y 1963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cientific users began to need more elaborate I/O, like COBOL had;  business users began to need floating point and array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looked like many shops would begin to need two kinds of computers, languages, and support staff--too costl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obvious solu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uild a new computer to do both kinds of applic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sign a new language to do both kinds of applic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EC914-4350-43E7-BE66-099CE362C11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PL/I: Design Proces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signed in five months by the 3 X 3 Committe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ree members from IBM, three members from SHA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itial concep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 extension of Fortran IV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itially called NPL (New Programming Languag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ame changed to PL/I in 196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1348-A34B-4DB4-8E27-0DD8FE413D3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PL/I: Evaluatio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L/I contribu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rst unit-level concurrenc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rst exception handl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witch-selectable recur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rst pointer data typ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rst array cross se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cer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ny new features were poorly design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oo large and too complex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4CDBB-E7C7-4D9E-ADFA-6CAA3DCCD7F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2.9: Two Early Dynamic Languages: APL and SNOBOL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haracterized by dynamic typing and dynamic storage alloc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ariables are untyp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variable acquires a type when it is assigned a valu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orage is allocated to a variable when it is assigned a valu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07844-C2E7-46A4-A395-C852FE3D370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APL: A Programming Language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signed as a hardware description language at IBM by Ken Iverson around 1960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ighly expressive (many operators, for both  scalars and arrays of various dimension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grams are very difficult to rea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ill in use; minimal chang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9A3F-28E2-43F0-8CEB-7D1358E93F8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SNOBOL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signed as a string manipulation language at Bell Labs by Farber, Griswold, and Polensk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werful operators for string pattern match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lower than alternative languages (and thus no longer used for writing editor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illed used for certain text processing task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7EA62-6CF3-4EF8-A3FB-6F8F2FD9552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2.10 The Beginning of Data Abstraction: SIMULA 67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signed primarily for system simulation in Norway by Nygaard and Dah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ased on ALGOL 60 and SIMULA 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imary Contribu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-routines - a kind of subprogra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mplemented in a structure called a cla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asses are the basis for data abstrac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asses are structures that include both local data and functiona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75D8-E6E9-48E0-B0F8-D6F100BE298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2.11 Orthogonal Design: ALGOL 68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rom the continued development of ALGOL 60 but not a superset of that langua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urce of several new ideas (even though the language itself never achieved widespread us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sign is based on the concept of orthogonal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few principle concepts, few combining mechanis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E0AF-10F9-411A-8BFB-F0AD8C26D0F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ALGOL 68 Evaluatio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tribu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r-defined data struct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ference typ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ynamic arrays (called flex array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ss usage than ALGOL 6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ad strong influence on subsequent languages, especially Pascal, C, and A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2510-16F0-4422-BE5E-F6DE9D2C0D2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2.12 Early Descendants of ALGOL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GOL languages impacted all imperative languag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sc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dula/Modula 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ber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++/Jav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rl (to some extent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0978-C9F3-4055-BC02-FD401857162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Genealogy of Common Language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5105160" cy="480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AFCF-55C2-42C9-B589-AFCBA034D0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Pascal - 1971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veloped by Wirth (a member of the ALGOL 68 committe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signed for teaching structured programm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mall, simple, nothing really new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rgest impact on teaching programm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rom mid-1970s until the late 1990s, it was the  most widely used language for teaching programm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9323-5EA0-4864-8A43-30DC07057EF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 - 1972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signed for systems programming (at Bell Labs by Dennis Richi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volved primarily from BCLP, B, but also ALGOL 68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werful set of operators, but poor type check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itially spread through UNIX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ny areas of applic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53006-414D-4FEE-BF88-67D1D89AE5F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Perl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lated to ALGOL only through 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scripting langu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script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(file) contains instructions to be execut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ther examples: sh, awk, tcl/t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veloped by Larry Wal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rl variables are statically typed and implicitly declar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ree distinctive namespaces, denoted by the first character of a variable’s nam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werful but somewhat dangerou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dely used as a general purpose langu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EAE10-24C6-47FE-ACA5-F900DA44BFD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2.13 Programming Based on Logic: Prolog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veloped, by Comerauer and Roussel (University of Aix-Marseille), with help from Kowalski ( University of Edinburgh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ased on formal log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n-procedur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n be summarized as being an intelligent database system that uses an inferencing  process to infer the truth of given que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ighly inefficient, small application are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112C2-B6D0-41B3-9FB7-076040C8EE5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2.14 History’s Largest Design Effort: Ada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uge design effort, involving hundreds of people, much money, and about eight yea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rawman requirements (April 1975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oodman requirements (August 1975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inman requirements (1976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ronman equipments (1977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eelman requirements (1978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amed Ada after Augusta Ada Byron, known as being the first programm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9B16-D7A9-4AE0-B8E3-94EED351E8C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Ada Evaluatio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tribu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ackages - support for data abstra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ception handling - elaborat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eneric program uni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ncurrency - through the tasking mod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mpetitive desig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luded all that was then known about software engineering and language desig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rst compilers were very difficult; the first really usable compiler came nearly five years after the language design was complet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02CB-E500-48FE-BD40-28E039FD2EE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Ada 95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da 95 (began in 1988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pport for OOP through type deriv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tter control mechanisms for shared da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w concurrency feat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re flexible librar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pularity suffered because the DoD no longer requires its use but also because of popularity of C++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83D83-130E-41AA-9506-DAB8ABD3A80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2.15 Object-Oriented Programming: Smalltalk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veloped at Xerox PARC, initially by Alan Kay, later by Adele Goldber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rst full implementation of an object-oriented language (data abstraction, inheritance, and dynamic type binding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ioneered the graphical user interface desig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moted OO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45E7B-5576-48F6-A049-7D5099372AF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2.16 Combining Imperative and Object-Oriented Programming: C++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veloped at Bell Labs by Stroustrup in 198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volved from C and SIMULA 67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acilities for object-oriented programming, taken partially from SIMULA 67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vides exception handl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large and complex language, in part because it supports both procedural and OO programm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apidly grew in popularity, along with OO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SI standard approved in November 1997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crosoft’s version (released with .NET in 2002): Managed C++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legates, interfaces, no multiple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0AE66-9B58-4F4B-9CD0-B4458698CEC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Related OOP Language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iffel (designed by Bertrand Meyer - 199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t directly derived from any other langu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maller and simpler than C++, but still has most of the pow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acked popularity of C++ because many C++ enthusiasts were already C programm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lphi (Borlan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scal plus features to support OO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re elegant and safer than C++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42A95-67BA-4230-B0D6-60E70B04E16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2.1 Zuse’s Plankalkül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ever implement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dvanced data structu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loating point, arrays, recor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varia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FD64D-AA01-4F44-B577-1FF2B69BE0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2.17 An Imperative-Based Object-Oriented Language: Java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veloped at Sun in the early 1990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 and C++ were not satisfactory for embedded electronic de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ased on C++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gnificantly simplified (does not includ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uct, union, enu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pointer arithmetic, and half of the assignment coercions of C++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pport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OO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as references, but not point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cludes support for applets and a form of  concurrenc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7C25-EC8F-4B8B-8E76-2E5E841A0A7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Java Evaluatio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liminated unsafe features of C++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currency featu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ibraries for applets, GUIs, database ac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rtable: Java Virtual Machine concept, JIT compil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idely used for WWW pag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for other areas increased faster than any other langua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ost recent version, 5.0, released in 2004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71C8-009A-4555-AE7D-DFD54C72B07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2.18 Scripting Languages for the Web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joint venture of Netscape and Sun Microsyste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d in Web programming (client side) to create dynamic HTML docu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lated to Java only through similar syntax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H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HP: Hypertext Preprocess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d for Web applications (server side); produces HTML code as outp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yth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n OO interpreted scripting languag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ype checked but dynamically typ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upports CGI and form process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05E1-189C-4231-AF1C-AE0C1A24D8C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2.19 A C-Based Language for the New Millennium: C#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t of the .NET development platfor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ased on C++ , Java, and Delph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vides a language for component-based software develop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l .NET languages (C#, Visual BASIC.NET, Managed C++, J#.NET, and Jscript.NET) use Common Type System (CTS), which provides a common class librar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ikely to become widely us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70FF-2BE0-41B2-851A-F966C8C6EC0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2.20 Markup/Programming Hybrid Languages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SL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tensible Markup Language (XML): a metamarkup languag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tensible Stylesheet Language Transformation (XSTL) transforms XML documents for displa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ogramming constructs (e.g., looping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JS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Java Server Pages: a collection of technologies to support dynamic Web docu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rvlet: a Java program that resides on a Web server; servlet’s output is displayed by the brows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728F7-B051-4D2B-ADB9-A9E716B63CF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Summary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velopment, development environment, and evaluation of a number of important programming languag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erspective into current issues in language desig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2B209-DCC0-421E-BFE0-B0AE04D0A80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Plankalkül Syntax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 assignment statement to assign the expression A[4] + 1 to A[5]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|   A + 1 =&gt; 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    |   4              5               (subscript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   |   1.n           1.n             (data type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76F06-18FD-4770-B377-EE2A1EF12D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2.2 Minimal Hardware Programming: Pseudocodes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at was wrong with using machine cod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or readab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or modifiab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pression coding was tediou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chine deficiencies--no indexing or floating poi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D28A-8578-4150-B517-CEFC914431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Pseudocodes: Short Code 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hort Code developed by Mauchly in 1949 for BINAC computers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pressions were coded, left to righ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ample of operation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 – 06 abs value 1n (n+2)nd pow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2 ) 07 +         2n (n+2)nd roo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3 = 08 pause     4n if &lt;= 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 / 09 (         58 print and tab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7C0A-70F3-4AA3-A351-4B62461F57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29:19Z</dcterms:created>
  <dc:creator>David Garrett</dc:creator>
  <dc:description/>
  <dc:language>en-US</dc:language>
  <cp:lastModifiedBy>Ideen</cp:lastModifiedBy>
  <dcterms:modified xsi:type="dcterms:W3CDTF">2005-05-11T13:02:11Z</dcterms:modified>
  <cp:revision>17</cp:revision>
  <dc:subject/>
  <dc:title>Chapter 1</dc:title>
</cp:coreProperties>
</file>