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C105-36EC-4110-8F28-ADF84E5C2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6101-05C8-455B-AD1D-AE103870A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D504-CAF8-4978-8E72-63A1FE245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DA0D-C528-4614-AD14-DDBCC845B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7B52-B70F-464B-9D0F-5CA576EDC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F56F-37EA-411A-BDCA-AD5128099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11E1-63C6-4B33-9A81-FB578D1DE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03E5-76D2-467F-BAA7-96D18274E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66FB-09FD-41C9-9032-1EDD6291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52C2-2A1F-4348-9AC9-2136DA1D5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FD4D-E56B-4B64-933E-9EB37263D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CF92-C51F-4182-9DC6-C35BCF97E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3AF4FD1-D3EA-48D9-BE62-B77D396CB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5798520" y="65833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BN 0-321-33025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771800" cy="6172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hapter 5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Names, Bindings, Type Checking, and Scopes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3 Variabl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an abstraction of a memory ce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s can be characterized as a sextuple of attribut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name, address, value, type, lifetime, and scop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- not all variables have them (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onymou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ADA0-3601-4FDB-B509-01C3A3EEE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3 Variabl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- the memory address with which it is associated (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valu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variable may have different addresses at different times during exec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variable may have different addresses at different places in a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wo variable names can be used to access the same memory location, they are called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ia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iases are harmful to readability (program readers must remember all of the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B7E5-EC7B-4DB0-80FF-E0727AEA3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3 Variabl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aliases can be created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inters, reference variables, C and C++ unions, (and through parameters - discussed in Chapter 9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me of the original justifications for aliases are no longer valid; e.g. memory reuse in FORTRA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lace them with dynamic allo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B68B-A0AA-44B3-90C6-E918F5223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3 Variabl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- determines the range of values of variables and the set of operations that are defined for values of that type; in the case of floating point, type also determines the precis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- the contents of the location with which the variable is associ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bstract memory cel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- the physical cell or collection of cells associated with a variable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5358-057B-4C9F-B04E-4886B1FC34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valu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a variable is its addr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valu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a variable is its valu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an association, such as between an attribute and an entity, or between an operation and a symb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inding tim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time at which a binding takes plac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D374-2B3F-4976-ADE0-64F1E0E30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ssible binding tim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 design ti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e.g., bind operator symbols to ope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 implementation ti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e.g., bind floating point type to a repres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e.g., bind a variable to a type in C or Ja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e.g., bind a FORTRAN 77 variable to a memory cell (or a 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riabl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ti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e.g., bind a nonstatic local variable to a memory ce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1849-2975-48E8-809C-1B599E5EE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 binding is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it first occurs before run time and remains unchanged throughout program execu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 binding is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it first occurs during execution or can change during execution of the progra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5ECF-8F1A-4B7B-B309-ABDFA004A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ype Binding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is a type specifi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does the binding take plac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static, the type may be specified by either an explicit or an implicit declar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2618-16DA-44F9-83CB-86D3D4960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n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licit declar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a program statement used for declaring the types of vari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n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licit declar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a default mechanism for specifying types of variables (the first appearance of the variable in the progra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TRAN, PL/I, BASIC, and Perl provide implicit declar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: writ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: reliability (less trouble with Per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14A6-1320-448D-82FE-574E8B2BA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ynamic Type Binding (JavaScript and PHP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fied through an assignment statement         e.g., JavaScript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 = [2, 4.33, 6, 8]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 = 17.3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: flexibility (generic program unit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igh cost (dynamic type checking and interpretatio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ype error detection by the compiler is difficul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4BF0-D1C5-4CE1-82B4-652AEEC64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5 Topic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a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ncept of Bind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rong Typ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ype Compati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5998-972F-43A8-A1AD-9297A4431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ype Inferencing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ML, Miranda, and Haskell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ather than by assignment statement, types are determined from the context of the refer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rage Bindings &amp; Life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getting a cell from some pool of available ce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alloc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putting a cell back into the po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Th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a variable is the time during which it is bound to a particular memory ce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8818-5359-44AA-82EC-0C57294FF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tegories of variables by lifeti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bound to memory cells before execution begins and remains bound to the same memory cell throughout execu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all FORTRAN 77 variables, C static variab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efficiency  (direct addressing), history-sensitive subprogram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lack of flexibility  (no recurs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C46E-3898-4BA0-8981-C088A282E6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tegories of variables by lifeti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ck-dynamic--Storage bindings are created for variables when their declaration statements are elaborat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scalar, all attributes except address are statically b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local variables in C subprograms and Java metho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: allows recursion; conserves stor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verhead of allocation and dealloc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ubprograms cannot be history sensitiv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2720" indent="-21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efficient references (indirect addressin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6E92-CA08-4CD5-97EB-C0AB6D766A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tegories of variables by lifeti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licit heap-dynami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Allocated and deallocated by explicit directives, specified by the programmer, which take effect during exec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d only through pointers or referen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dynamic objects in C++ (via new and delet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objects in Ja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provides for dynamic storage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inefficient and unrelia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D4E5-7B5A-4A6D-9782-E86B87D9D2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4 The Concept of Bind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tegories of variables by lifeti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icit heap-dynami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-Allocation and deallocation caused by assignment state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all variables in APL; all strings and arrays in Perl and JavaScrip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flexi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efficient, because all attributes are dynam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oss of error detec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17F5-12A2-4775-8C3D-F1C4EB0541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5 Type Check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eneralize the concept of operands and operators to include subprograms and assign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ype checking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the activity of ensuring that the operands of an operator are of compatible typ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mpatible typ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one that is either legal for the operator, or is allowed under language rules to be implicitly converted, by compiler- generated code, to a legal type.  This automatic conversion is called a coerc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ype error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s the application of an operator to an operand of an inappropriate typ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649A-7D8A-4315-934C-1BC5C5232F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5 Type Check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all type bindings are static, nearly all type checking can be stat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type bindings are dynamic, type checking must be dynam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A programming language is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rongly typed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type errors are always detec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CCB1-6FBF-433C-B591-29E483F7AF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6 Strong Typ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antage of strong typing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allows the detection of the misuses of variables that result in type err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examp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TRAN 77 is not: parameter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IVAL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scal is not: variant reco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 and C++ are not: parameter type checking can be avoided; unions are not type check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a is, almos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CHECKED CONVERS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loophol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Java is simil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9857-29DA-4001-A96D-83165D5392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6 Strong Typ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ercion rules strongly affect strong typing--they can weaken it considerably (C++ versus Ad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hough Java has just half the assignment coercions of C++, its strong typing is still far less effective than that of A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37E7-98B7-47BC-A89F-5C9F1F7A9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7 Type Compatibilit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ur concern is primarily for structured typ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ame type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eans the two  variables have compatible types if they are in either the same declaration or in declarations that use the same type na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sy to implement but highly restrictiv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branges of integer types are not compatible with integer typ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al parameters must be the same type as their corresponding actual parameters (Pasc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CF60-565F-42DA-8CE3-58A8CF8B31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5 Topics (continued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cope and Lifeti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ferencing Environ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ABF5-D070-478E-AF3C-E92B92E34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7 Type Compatibility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ructure type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ans that two variables have compatible types if their types have identical struct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re flexible, but harder to impl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442A-EEE5-4977-A89B-E82D6FB3A1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7 Type Compatibility 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sider the problem of two structured typ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e two record types compatible if they are structurally the same but use different field name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e two array types compatible if they are the same except that the subscripts are differ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e.g. [1..10] and [0..9]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e two enumeration types compatible if their components are spelled differentl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ith structural type compatibility, you cannot differentiate between types of the same structure      (e.g. different units of speed, both float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BD6C-2C91-45F3-8AD8-5352396CB1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7 Type Compatibility 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examp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scal: usually structure, but in some cases name is used (formal parameter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: structure, except for reco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a: restricted form of na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rived types allow types with the same structure to be differ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onymous types are all unique, even in: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, B : array (1..10) of INTEGER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6583-CE51-4282-A41A-50DE862246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a variable is the range of statements over which it is visi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nlocal variabl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a program unit are those that are visible but not declared the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scope rules of a language determine how references to names are associated with vari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B40F-6A6A-483B-800D-859CADB4AF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c scop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sed on program tex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 connect a name reference to a variable, you (or the compiler) must find the declar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arch 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search declarations, first locally, then in increasingly larger enclosing scopes, until one is found for the given na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closing static scopes (to a specific scope) are called it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tic ancest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the nearest static ancestor is called 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tic par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1090-55D5-4B72-B0C5-A170924E17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s can be hidden from a unit by having a "closer" variable with the same na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++ and Ada allow access to these "hidden" vari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Ada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t.na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C++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_name::na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18C9-FCCD-440C-858C-9887352F4D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ck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method of creating static scopes inside program units--from ALGOL 6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 and C++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...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ndex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a: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lare LCL : FLOA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D194-5856-46FA-930A-A58085A6C1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aluation of Static Scop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sider the exampl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ume MAIN calls A and 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alls C and 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 calls A and 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957C-1EA0-4E6A-BF35-FCD9805562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tatic Scope Exampl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7" name=""/>
          <p:cNvSpPr/>
          <p:nvPr/>
        </p:nvSpPr>
        <p:spPr>
          <a:xfrm>
            <a:off x="2889360" y="276084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9829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57388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2590920"/>
            <a:ext cx="67320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940360" y="2895480"/>
            <a:ext cx="106992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5960" y="2913120"/>
            <a:ext cx="7495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46560" y="298944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3545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720600" y="35164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7440" y="35226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382104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20600" y="404964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7440" y="4056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27824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39720" y="46594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46560" y="466560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54975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20600" y="5192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27440" y="5199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42124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406840" y="3827520"/>
            <a:ext cx="46980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77000" y="3827520"/>
            <a:ext cx="44460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58080" y="3827520"/>
            <a:ext cx="6372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590920"/>
            <a:ext cx="672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7560" y="49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888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756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756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52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89360" y="27432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88080" y="3505320"/>
            <a:ext cx="260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3505320"/>
            <a:ext cx="22860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343400"/>
            <a:ext cx="260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343400"/>
            <a:ext cx="260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4343400"/>
            <a:ext cx="24804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64F8-7774-4311-B205-65D78E14F1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934320" y="3886200"/>
            <a:ext cx="45720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200400"/>
            <a:ext cx="45720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3200400"/>
            <a:ext cx="45720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4495680"/>
            <a:ext cx="45720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4419720"/>
            <a:ext cx="45720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tatic Scope Exampl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537000"/>
            <a:ext cx="390240" cy="390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3240" y="3505320"/>
            <a:ext cx="492120" cy="422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3880" y="3529080"/>
            <a:ext cx="390600" cy="3888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16640" y="4249800"/>
            <a:ext cx="390600" cy="3888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95880" y="4249800"/>
            <a:ext cx="390600" cy="388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4249800"/>
            <a:ext cx="390240" cy="388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9440" y="3537000"/>
            <a:ext cx="388800" cy="390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44200" y="3048120"/>
            <a:ext cx="84636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846440" y="3732120"/>
            <a:ext cx="203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43040" y="393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4560" y="3833640"/>
            <a:ext cx="81288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1760" y="3019320"/>
            <a:ext cx="61128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86080" y="3935520"/>
            <a:ext cx="2034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1760" y="3019320"/>
            <a:ext cx="60984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34040" y="3019320"/>
            <a:ext cx="71136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711760" y="393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39355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48440" y="3833640"/>
            <a:ext cx="50976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7846920" y="3935160"/>
            <a:ext cx="61128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6680" y="4240080"/>
            <a:ext cx="406440" cy="4064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812920" y="3630600"/>
            <a:ext cx="183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3280" y="3732120"/>
            <a:ext cx="1044720" cy="53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711400" y="3833640"/>
            <a:ext cx="111924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31000" y="4240080"/>
            <a:ext cx="406440" cy="4064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915160" y="4443480"/>
            <a:ext cx="9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19720" y="2612880"/>
            <a:ext cx="1017720" cy="509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55920" y="2612880"/>
            <a:ext cx="1017360" cy="509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7440" y="4240080"/>
            <a:ext cx="407880" cy="40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59400" y="2108160"/>
            <a:ext cx="4241880" cy="2158920"/>
          </a:xfrm>
          <a:custGeom>
            <a:avLst/>
            <a:gdLst/>
            <a:ahLst/>
            <a:rect l="l" t="t" r="r" b="b"/>
            <a:pathLst>
              <a:path w="2672" h="1360">
                <a:moveTo>
                  <a:pt x="2600" y="1360"/>
                </a:moveTo>
                <a:cubicBezTo>
                  <a:pt x="2620" y="1300"/>
                  <a:pt x="2640" y="1240"/>
                  <a:pt x="2648" y="1168"/>
                </a:cubicBezTo>
                <a:cubicBezTo>
                  <a:pt x="2656" y="1096"/>
                  <a:pt x="2672" y="1040"/>
                  <a:pt x="2648" y="928"/>
                </a:cubicBezTo>
                <a:cubicBezTo>
                  <a:pt x="2624" y="816"/>
                  <a:pt x="2584" y="608"/>
                  <a:pt x="2504" y="496"/>
                </a:cubicBezTo>
                <a:cubicBezTo>
                  <a:pt x="2424" y="384"/>
                  <a:pt x="2296" y="320"/>
                  <a:pt x="2168" y="256"/>
                </a:cubicBezTo>
                <a:cubicBezTo>
                  <a:pt x="2040" y="192"/>
                  <a:pt x="1904" y="152"/>
                  <a:pt x="1736" y="112"/>
                </a:cubicBezTo>
                <a:cubicBezTo>
                  <a:pt x="1568" y="72"/>
                  <a:pt x="1384" y="24"/>
                  <a:pt x="1160" y="16"/>
                </a:cubicBezTo>
                <a:cubicBezTo>
                  <a:pt x="936" y="8"/>
                  <a:pt x="576" y="0"/>
                  <a:pt x="392" y="64"/>
                </a:cubicBezTo>
                <a:cubicBezTo>
                  <a:pt x="208" y="128"/>
                  <a:pt x="112" y="288"/>
                  <a:pt x="56" y="400"/>
                </a:cubicBezTo>
                <a:cubicBezTo>
                  <a:pt x="0" y="512"/>
                  <a:pt x="40" y="640"/>
                  <a:pt x="56" y="736"/>
                </a:cubicBezTo>
                <a:cubicBezTo>
                  <a:pt x="72" y="832"/>
                  <a:pt x="96" y="912"/>
                  <a:pt x="152" y="976"/>
                </a:cubicBezTo>
                <a:cubicBezTo>
                  <a:pt x="208" y="1040"/>
                  <a:pt x="336" y="1104"/>
                  <a:pt x="392" y="1120"/>
                </a:cubicBezTo>
                <a:cubicBezTo>
                  <a:pt x="448" y="1136"/>
                  <a:pt x="468" y="1104"/>
                  <a:pt x="488" y="1072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55627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97320" y="3611880"/>
            <a:ext cx="120960" cy="92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412240" y="4480560"/>
            <a:ext cx="72000" cy="46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0000" y="4116240"/>
            <a:ext cx="6120" cy="152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253360" y="4429080"/>
            <a:ext cx="106560" cy="1000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840800" y="3353040"/>
            <a:ext cx="17280" cy="151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4000" y="2743200"/>
            <a:ext cx="67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97920" y="2743200"/>
            <a:ext cx="67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1000" y="35812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35812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2670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42670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4267080"/>
            <a:ext cx="248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7200" y="35812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42670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96080" y="35812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4267080"/>
            <a:ext cx="248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4267080"/>
            <a:ext cx="26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F317-EC78-4E34-8C68-D283E148F3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1 Introduc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mperative languages are abstractions of von Neumann archite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s characterized by attribu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ype: to design, must consider scope, lifetime, type checking, initialization, and type compati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62EB-E552-4914-A219-C43E3412C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tatic Scop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pose the spec is changed so that D must now access some data in 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t D in B (but then C can no longer call it and D cannot access A's variable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ve the data from B that D needs to MAIN (but then all procedures can access the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ame problem for procedure ac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all: static scoping often encourages many glob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912B-A735-4CC6-95CE-CA1775F5B0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8 Scope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ynamic Scop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sed on calling sequences of program units, not their textual layout (temporal versus spati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s to variables are connected to declarations by searching back through the chain of subprogram calls that forced execution to this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5ADC-627B-4EFF-A41B-4142E3453B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cope Exampl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eclaration of x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eclaration of x -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SUB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ference to x -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SUB1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…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"/>
          <p:cNvSpPr/>
          <p:nvPr/>
        </p:nvSpPr>
        <p:spPr>
          <a:xfrm>
            <a:off x="2701080" y="5246640"/>
            <a:ext cx="22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286000" y="152388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92480" y="15303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8600" y="5791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42840" y="20574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9680" y="206388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55800" y="35053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9680" y="374004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558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55800" y="37339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3480" y="2806560"/>
            <a:ext cx="25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calls SU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1 calls SU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2 use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10AB-8C98-4210-8145-AAD2C37032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cope Exampl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c scop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to x is to MAIN's 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ynamic scop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to x is to SUB1's 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aluation of Dynamic Scoping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conveni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poor read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2DE9-2F6E-4AF6-9D74-AC4DACD0B4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9 Scope and Lifetim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cope and lifetime are sometimes closely related, but ar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p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sider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variable in a C or C++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6908-320C-4C54-B00F-8B27DF306F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10 Referencing Environment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The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erencing environmen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f a statement is the collection of all names that are visible in the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a static-scoped language, it is the local variables plus all of the visible variables in all of the enclosing scop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ubprogram i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f its execution has begun but has not yet termin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a dynamic-scoped language, the referencing environment is the local variables plus all visible variables in all active sub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623C-EE3B-4BD7-A2DB-BFAE7A6A33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11 Named Constant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d constan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variable that is bound to a value only when it is bound to stor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readability and modifi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d to parameterize 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binding of values to named constants can be either static (called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nifest constant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or dynam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scal: literals onl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TRAN 90: constant-valued express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da, C++, and Java: expressions of any ki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9AEA-BA6D-4DDD-B3DB-997A1FFA45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Variable Initializ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: The binding of a variable to a value at the time it is bound to storage is called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ization is often done on the declaration stat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.g., Ja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7152-A7F4-4106-94D9-C5BAE369A0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se sensitivity and the relationship of names to special words represent design issues of na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riables are characterized by the sextuples: name, address, value, type, lifetime, sco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nding is the association of attributes with program ent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alar variables are categorized as: static, stack dynamic, explicit heap dynamic, implicit heap dynam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rong typing means detecting all type err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E51D-08E5-4431-96E9-6BF3535E59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2 Nam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 issues for nam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ximum length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connector characters allow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names case sensiti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special words reserved words or keyword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4A4B-CE87-49A8-9454-1DA1229E9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2 Nam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oo short, they cannot be connotati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 examp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TRAN I: maximum 6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BOL: maximum 3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TRAN 90 and ANSI C: maximum 31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a and Java: no limit, and all are significa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++: no limit, but implementors often impose o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F0BA-7FB0-4BDA-9947-46F9D30BFE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2 Nam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ne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scal, Modula-2, and FORTRAN 77 don't allo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thers 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5BB2-6602-424B-945F-8F8828E8E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2 Nam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se sensit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: readability (names that look alike are differ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orse in C++ and Java  because predefined  names are mixed case  (e.g.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, C++, and Java names are case sensiti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ames in other languages are no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84FA-349C-4EAB-9CA2-CA89FDD4F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5.2 Name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wor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 aid to readability; used to delimit or separate statement clau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word that is special only in certain contexts i.e. in Fortran:                           Real VarName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Real is data type followed with a name, therefore Real is a keywor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l = 3.4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Real is a variable)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: poor read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served wor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special word that cannot be used as a user-defined na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FA91-9C22-4294-9B04-BDFCD941F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Ideen</cp:lastModifiedBy>
  <dcterms:modified xsi:type="dcterms:W3CDTF">2005-05-11T13:21:33Z</dcterms:modified>
  <cp:revision>10</cp:revision>
  <dc:subject/>
  <dc:title>Chapter 1</dc:title>
</cp:coreProperties>
</file>