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9392-A100-4F86-9B85-A75DA071C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6DF4-1E46-46F7-954E-167F3597A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2F40-433E-4D0A-82B6-78DAB5A5C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4766-7052-46A0-89DB-0BD4F835D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251F-B91C-4ADB-8B2B-2458BC195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C03D-8FB9-4B90-BC0D-7D5255B5B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4786-299B-442F-BA7B-1D4EB510C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D675-E832-415D-BDF9-B4E37520E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65B3-FB78-47FD-8C63-FAA1AC321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9E90-636F-4783-A057-2A021D8E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47DF-9225-4953-A99E-9743C3FF6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0CD5-AB64-4C7C-90BE-B8EC672F9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497ABF-2C4C-4F5C-86D7-73B4987DD1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43" name=""/>
          <p:cNvSpPr/>
          <p:nvPr/>
        </p:nvSpPr>
        <p:spPr>
          <a:xfrm>
            <a:off x="5798520" y="65833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BN 0-321-33025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771800" cy="6172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524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Lucida Sans Unicode"/>
              </a:rPr>
              <a:t>Chapter 1</a:t>
            </a:r>
            <a:endParaRPr b="1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Preliminaries</a:t>
            </a:r>
            <a:endParaRPr b="0" lang="en-US" sz="28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valuation Criteria: Other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ease with which programs can be moved from one implementation to anoth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enera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pplicability to a wide range of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ll-definedn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mpleteness and precision of the language’s official defin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7B3A-1571-4C65-B9F1-5027191BE8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4 Influences on Language Desig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uter Architec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s are developed around the prevalent computer architecture,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on Neuman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rchitect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ming Methodolo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w software development methodologies (e.g., object-oriented software development) led to new programming paradigms and by extension, new programming langu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11B8-3519-4999-814E-C834DCCCB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mputer Architecture Influenc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ell-known computer architecture: Von Neuman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erative languages, most dominant, because of von Neumann compu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ta and programs stored in mem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mory is separate from CP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structions and data are piped from memory to CP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asis for imperative langua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Variables model memory cel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Assignment statements model pip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eration is effici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F145-3D57-45B8-8064-ACD08BF887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The von Neumann Architectur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866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90D0-B93D-4706-A525-49878BF33D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Programming Methodologies Influence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950s and early 1960s: Simple applications; worry about machine efficie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te 1960s: People efficiency became important; readability, better control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ructured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p-down design and step-wise refin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te 1970s: Process-oriented to data-ori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ta abstr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ddle 1980s: Object-oriented programm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ta abstraction + inheritance + polymorphis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9C3D-8FFD-450F-A4FA-C9297CB6C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5 Language Categorie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mperati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entral features are variables, assignment statements, and iter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amples: C, Pasc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ain means of making computations is by applying functions to given paramet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amples: LISP, Schem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ule-based (rules are specified in no particular order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ample: Prolo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bject-orien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ata abstraction, inheritance, late bind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amples: Java, C++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up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ew; not a programming per se, but used to specify the layout of information in Web docume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amples: XHTML, X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FA62-B6F5-4F23-8910-549820AAC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6 Language Design Trade-Off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iability vs. cost of execu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flicting criter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Java demands all references to array elements be checked for proper indexing but that leads to increased execution cos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ability vs. writ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other conflicting criter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APL provides many powerful operators (and a large number of new symbols), allowing complex computations to be written in a compact program but at the cost of po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dabi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ability (flexibility) vs. reli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other conflicting criter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C++ pointers are powerful and very flexible but not reliably us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A350-7B01-46E1-8472-93F27D7A9C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7 Implementation Method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mpil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s are translated into machine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ure Interpret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s are interpreted by another program known as an interpret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ybrid Implementation Sys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ompromise between compilers and pure interpre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F99E-049D-4072-84B3-A256ED354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Layered View of Computer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728960" cy="503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133668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9960" y="141300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99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9960" y="1260360"/>
            <a:ext cx="321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operating system and language implementation are layered 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chine interface of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3159-813E-4B09-BE47-B57B1B380C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ompil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late high-level program (source language) into machine code (machine languag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low translation, fast exec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ilation process has several phase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exical analysis: converts characters in the source program into lexical un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yntax analysis: transforms lexical units in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parse trees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ich represent the syntactic structure of progra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mantics analysis: generate intermediate co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de generation: machine code is gener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C86C-D48F-4002-961B-54A881B0AD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Chapter 1 Topic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sons for Studying Concepts of Programming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ming Domai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Evaluation Cri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uences on Language Desig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Catego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Design Trade-Off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mplementation Metho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ming Environ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F8E1-F477-4B89-A74B-5C3B8595D3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4771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The Compilatio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40273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B4F6-D16A-40DE-8DF7-74D3E68C9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Additional Compilation Terminologie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oad modu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executable image): the user and system code togeth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inking and loading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the process of collecting system program and linking them to user progr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63E8-D72B-4AD0-B444-BFAD5FD7C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xecution of Machine Code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etch-execute-cycle (on a von Neumann architectu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itialize the program coun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orev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the instruction pointed by the coun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the count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ode the i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ecute the i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repe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95AE-9299-4AF1-A993-89E6BD2A06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Von Neumann Bottleneck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nection speed between a computer’s memory and its processor determines the speed of a comput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 instructions often can be executed a lot faster than the above connection speed; the connection speed thus results in 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nown as von Neumann bottleneck; it is the primary limiting factor in the speed of compu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F6B1-FFB9-43C5-8D66-0D04EDC28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ure Interpretation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 transl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sier implementation of programs (run-time errors can easily and immediately displaye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lower execution (10 to 100 times slower than compiled program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ten requires more spa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coming rare on high-level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gnificant comeback with some Web scripting languages (e.g., JavaScrip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47E4-A18A-49FF-8109-2BE5D62DDB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ure Interpretatio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37321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FD70-7FA7-4E22-8D6B-0B4C54CBAD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Hybrid Implementation System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ompromise between compilers and pure interpre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high-level language program is translated to an intermediate language that allows easy interpre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ster than pure interpre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erl programs are partially compiled to detect errors before interpre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itial implementations of Java were hybrid; the intermediate form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yte cod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provides portability to any machine that has a byte code interpreter and a run-time system (together, these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Java Virtual Machin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2CA9-C88B-45CC-9839-03CD05563E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Hybrid Implementation Proces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181944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009D-B0F7-4E2F-83DB-9C8B70A96B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Just-in-Time Implementation System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itially translate programs to an intermediate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n compile intermediate language into machine co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chine code version is kept for subsequent cal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JIT systems are widely used for Java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NET languages are implemented with a JIT syst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0F85-544F-4F50-8BAA-BEB60323F3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Preprocessor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rocessor macros (instructions) are commonly used to specify that code from another file is to be inclu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preprocessor processes a program immediately before the program is compiled to expand embedded  preprocessor macr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well-known example: C preprocess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pa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include, #def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and similar macr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E9A4-6460-42F8-9EA5-5159855B8D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Lucida Sans Unicode"/>
              </a:rPr>
              <a:t>1.1 Reasons for Studying Concepts of Programming Languages</a:t>
            </a:r>
            <a:endParaRPr b="0" lang="en-US" sz="32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ed ability to express ide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mproved background for choosing appropriate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ed ability to learn new languag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tter understanding of significance of implem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verall advancement of compu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9ABD-2C0B-4C42-9A47-DC512185B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8 Programming Environment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llection of tools used in software develo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 older operating system and tool colle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wadays often used through a GUI (e.g., CDE, KDE, or GNOME) that run on top of UNIX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rland JBuild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 integrated development environment for Ja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crosoft Visual Studio.NE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large, complex visual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d to program in C#, Visual BASIC.NET, Jscript, J#, or C++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4143-2A4C-4A49-B6B4-58A20263F1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tudy of programming languages is valuable for a number of reason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e our capacity to use different construc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able us to choose languages more intelligentl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kes learning new languages easi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st important criteria for evaluating programming languages includ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adability, writability, reliability, co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jor influences on language design have been machine architecture and software development methodolog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ajor methods of implementing programming languages are: compilation, pure interpretation, and hybrid imple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402F-6588-4906-B17A-8ED9A51291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2 Programming Domains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ientific applic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arge number of floating point comput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rtra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siness applic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duce reports, use decimal numbers and characte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ymbols rather than numbers manipulat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IS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ystems programm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eed efficiency because of continuous us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eb Softw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clectic collection of languages: markup (e.g., XHTML), scripting (e.g., PHP), general-purpose (e.g., Java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0D6D-9466-4319-A962-3C4F7A354E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1.3 Language Evaluation Criteria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ada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the ease with which programs can be read and understoo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rita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the ease with which a language can be used to create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conformance to specifications (i.e., performs to its specifications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 the ultimate total co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5EAB-7C5B-432C-9798-5852867D46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valuation Criteria: Readabilit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verall simplic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 manageable set of features and construc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ew feature multiplicity (means of doing the same ope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inimal operator overload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thogonalit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 relatively small set of primitive constructs can be combined in a relatively small number of way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very possible combination is leg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rol state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presence of well-known control structure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statemen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ta types and struct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presence of adequate facilities for defining data structur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yntax consider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dentifier forms: flexible compositi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pecial words and methods of forming compound stateme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rm and meaning: self-descriptive constructs, meaningful keyword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B81C-9F8A-4FA6-9E8C-BCABBC149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valuation Criteria: Writabilit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mplicity and orthogona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ew constructs, a small number of primitives, a small set of rules for combining th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port for abstr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ability to define and use complex structures  or operations in ways that allow details to be igno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ressiv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et of relatively convenient ways of specifying ope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ample: the inclu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tatement in many modern langu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27B9-BBEF-44E9-B654-53BBD02C0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valuation Criteria: Reliability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ype chec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sting for type err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eption handl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cept run-time errors and take corrective measu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esence of two or more distinct referencing methods for the same memory lo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ability and writ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language that does not support “natural” ways of expressing an algorithm will necessarily use “unnatural” approaches, and hence reduced reliabi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CBCB-24D4-42B9-A298-AA9814087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Lucida Sans Unicode"/>
              </a:rPr>
              <a:t>Evaluation Criteria: Cost</a:t>
            </a:r>
            <a:endParaRPr b="0" lang="en-US" sz="3600" spc="-1" strike="noStrike">
              <a:solidFill>
                <a:srgbClr val="0099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ining programmers to use langua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ing programs (closeness to particular application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iling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ecuting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implementation system: availability of free compil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iability: poor reliability leads to high cos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intaining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9FA0-386B-442F-B006-100AA21330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Ideen</cp:lastModifiedBy>
  <dcterms:modified xsi:type="dcterms:W3CDTF">2005-05-10T23:03:47Z</dcterms:modified>
  <cp:revision>16</cp:revision>
  <dc:subject/>
  <dc:title>Chapter 1</dc:title>
</cp:coreProperties>
</file>