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9293-CB32-4E53-885E-20696E20D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4CD7-9688-4BBE-95D7-FD8598916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337A-2D19-4F64-9EC3-956E453C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77F0-6A9C-4B94-9961-4D3BF91B5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5477-5B35-4ABB-A203-769733E85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723F-3EBC-40E3-8182-A05D2DBFF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C5B0-BB91-4ED9-B645-5232BE32D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09D6-B10E-41B3-8C03-026B571AE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5723-5097-42B3-8B46-1D792F360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F245-6889-4A58-8C62-6EA8EA6FA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A195-7FD6-4D9C-AAF0-4136A525D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6518-71A0-4E29-A8FC-3BFB7F65A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0A0482-BB01-4488-BA79-D3FB62695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3" name=""/>
          <p:cNvSpPr/>
          <p:nvPr/>
        </p:nvSpPr>
        <p:spPr>
          <a:xfrm>
            <a:off x="5798520" y="65833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BN 0-321-33025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771800" cy="6172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hapter 4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Lexical and Syntax Analysis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 many cases, transitions can be combined to simplify the state diagr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recognizing an identifier, all uppercase and lowercase letters are equival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 a character class that includes all lett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n recognizing an integer literal, all digits are equivalent - use a digit cla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5D38-B1AC-4184-9AC6-72AAD621E8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served words and identifiers can be recognized together (rather than having a part of the diagram for each reserved wor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a table lookup to determine whether a possible identifier is in fact a reserved wor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E50B-B8A2-4E9D-B79F-B642F9E93C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venient utility subprogram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Ch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gets the next character of input, puts it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Ch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determines its class and puts the clas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Cla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Ch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puts the character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Ch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to the place the lexeme is being accumulat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xe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okup - determines whether the string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xem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reserved word (returns a cod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DFDE-002B-4D26-B95B-07E158963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tate Diagram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3440" y="1609560"/>
            <a:ext cx="758196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FCF1-590C-467F-A760-311B338888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lementation (assume initialization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x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Char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charClass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LETTER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Char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Char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charClass == LETTER || charClass == DIGI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Char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Char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lookup(lexeme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765D-3460-4E50-8C9B-24D01F77E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371240"/>
            <a:ext cx="7239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DIGIT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Char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har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harClass == DIGIT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Char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har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INT_LIT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/* End of switch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/* End of function lex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C50E-F22E-4F51-9F40-0BD523F512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3 The Parsing Problem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oals of the parser, given an input program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d all syntax errors; for each, produce an appropriate diagnostic message, and recover quick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duce the parse tree, or at least a trace of the parse tree, for the 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17B9-3F66-4BC4-81FC-83318582CD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3 The Parsing Problem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categories of pars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op dow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produce the parse tree, beginning at the roo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rder is that of a leftmost deriv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races or builds the parse tree in preord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ottom up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produce the parse tree, beginning at the lea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rder is that of the reverse of a rightmost deriv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sers look only one token ahead in the inp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9C26-8136-4C7F-B445-BA2DC2D115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3 The Parsing Problem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p-down Pars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n a sentential form, x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, the parser must choose the correct A-rule to get the next sentential form in the leftmost derivation, using only the first token produced by 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most common top-down parsing algorithm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ursive descent - a coded imple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L parsers - table driven imple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9FC2-1F3A-4280-9EC6-E2CA47024D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3 The Parsing Problem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ottom-up pars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n a right sentential for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determine what substring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the right-hand side of the rule in the grammar that must be reduced to produce the previous sentential form in the right deriv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ost common bottom-up parsing algorithms are in the LR fami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FC84-67CB-48A2-84A3-CC8132A82F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4 Topic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Parsing 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ursive-Descent Pars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EA98-42DB-4311-84F2-FE4BE5D1D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3 The Parsing Problem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xity of Pars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ers that work for any unambiguous grammar are complex and inefficient (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, where n is the length of the input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ilers use parsers that only work for a subset of all unambiguous grammars, but do it in linear time ( O(n), where n is the length of the input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CAC9-FDCB-497D-86EC-D1F6330411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4 Recursive-Descent Pars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cursive Desc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 is a subprogram for each nonterminal in the grammar, which can parse sentences that can be generated by that non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BNF is ideally suited for being the basis for a recursive-descent parser, because EBNF  minimizes the number of nontermina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BAC3-0E5F-432C-9569-70437EFC7B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grammar for simple express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pr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term&gt; {(+ | -) &lt;term&gt;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rm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factor&gt; {(* | /) &lt;factor&gt;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actor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| ( &lt;expr&gt; 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E8E6-2046-4398-A925-33B838BC15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ume we have a lexical analyzer nam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x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which puts the next token cod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xtTok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ding process when there is only one RH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each terminal symbol in the RHS, compare it with the next input token; if they match, continue, else there is an err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each nonterminal symbol in the RHS, call its associated parsing sub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9AE8-E2AC-4079-93C5-32461E5EC3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Function exp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ses strings in the 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ated by the ru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expr&gt; → &lt;term&gt; {(+ | -) &lt;term&gt;}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expr() {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Parse the first term *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rm(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8767-A166-40E9-A2C8-02398DE12E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s long as the next token is + or -, cal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x to get the next token, and parse th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 term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nextToken == PLUS_CODE ||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Token == MINUS_CODE)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x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rm();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particular routine does not detect err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vention: Every parsing routine leaves the next token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To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6E87-9647-4C16-BC20-4BC8013D58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nonterminal that has more than one RHS requires an initial process to determine which RHS it is to par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rect RHS is chosen on the basis of the next token of input (the lookahea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next token is compared with the first token that can be generated by each RHS until a match is f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no match is found, it is a syntax err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C473-71B9-4BAA-8E81-37B3E3DFE4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Function fac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ses strings in the langu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d by the rule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actor&gt; -&gt; id  |  (&lt;expr&gt;) 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acto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Determine which RHS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extToken) == ID_CO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For the RHS id, just call lex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 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x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49A5-98D0-4CFB-ADEA-179EF8B3F4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If the RHS is (&lt;expr&gt;) – call lex to pas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 the left parenthesis, call expr, a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 for the right parenthesis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nextToken == LEFT_PAREN_CODE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x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r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  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extToken == RIGHT_PAREN_CO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x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/* End of else if (nextToken == ... 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error(); /* Neither RHS matches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FBBC-C658-4777-8139-8BEF3E216F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LL Grammar Cla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Left Recursion Probl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f a grammar has left recursion, either direct or indirect, it cannot be the basis for a top-down pars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 grammar can be modified to remove left recurs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9E73-2A00-4869-BABB-9D3FFEA109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1 Introduc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implementation systems must analyze source code, regardless of the specific implementation 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arly all syntax analysis is based on a formal description of the syntax of the source language (BNF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E591-0967-405A-9CDF-6A8A6045AE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other characteristic of grammars that disallows top-down parsing is the lack of pairwise disjointn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inability to determine the correct RHS on the basis of one token of lookahea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FIRS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 = {a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&gt;*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=&gt;*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in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683D-8A6A-40C7-B842-AEF5A6E9F1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irwise Disjointness Test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each nonterminal, A, in the grammar that has more than one RHS, for each pair of rules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it must be true tha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 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  |  bB  |  cAb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  |  aB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66A7-A59A-411A-B5E2-2C55152EBD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4.4 Recursive-Descent Parsing (cont.)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ft factoring can resolve the probl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variable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dentifier  |  identifier [&lt;expression&gt;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variable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dentifier &lt;new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new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|  [&lt;expression&gt;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&lt;variable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dentifier [[&lt;expression&gt;]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the outer brackets are metasymbols of EBNF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C4D6-5F6C-460D-AFDF-89E6BAEFF0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parsing problem is finding the correct RHS in a right-sentential form to reduce to get the previous right-sentential form in the deriv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57F7-2088-4B1C-B306-25D643D6E1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uition about hand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and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f the right sentential form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 if and only if S =&gt;*r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w =&gt;r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hras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f the right sentential form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and only if S =&gt;*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=&gt;+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mple phras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f the right sentential for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if and only if S =&gt;*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1D88-40D4-49E5-9DBE-22EB04EA5E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uition about hand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handle of a right sentential form is its leftmost simple phra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ven a parse tree, it is now easy to find the hand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ing can be thought of as handle pru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5B2C-D5D5-4D3A-AAE9-5F6310277A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ift-Reduce Algorith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duce is the action of replacing the handle on the top of the parse stack with its corresponding L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ift is the action of moving the next token to the top of the parse st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BB2B-5129-4224-9FA7-B0EF928CAF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vantages of LR parse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y will work for nearly all grammars that describe programming languag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y work on a larger class of grammars than other bottom-up algorithms, but are as efficient as any other bottom-up pars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y can detect syntax errors as soon as it is poss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LR class of grammars is a superset of the  class parsable by LL pars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15BD-8ADE-45A4-BB80-2F54D425A2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R parsers must be constructed with a to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nuth’s insight: A bottom-up parser could use the entire history of the parse, up to the current point, to make parsing decis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re were only a finite and relatively small number of different parse situations that could have occurred, so the history could be stored in a parser state, on the parse st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DBA1-59F8-4F36-8E63-4A493C8E82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LR configuration stores the state of an LR pars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+1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6A03-4236-43B2-B6B2-BF2A2354C4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1 Introduction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syntax analysis portion of a language processor nearly always consists of two part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low-level part called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exical analyz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mathematically, a finite automaton based on a regular gramma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high-level part called a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yntax analyz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or parser (mathematically, a push-down automaton based on a context-free grammar, or BNF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A17E-E49B-4A01-B4D1-3C6C44ECAE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R parsers are table driven, where the table has two components, an ACTION table and a GOTO  ta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CTION table specifies the action of the parser, given the parser state and the next to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ows are state names; columns are termi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GOTO table specifies which state to put on top of the parse stack after a reduction action is do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ows are state names; columns are nontermi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5B46-4B18-4C15-B2FA-209A0CE952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tructure of An LR Parser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6080" cy="36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0921-EFB6-4B59-8A2C-2EC3D2F838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 configuration: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ser act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ACTION[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] = Shift S, the next configuration is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…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…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$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ACTION[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] = Reduce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S = GOTO[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-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], where r = the length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the next configuration 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…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m-r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m-r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S,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i+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…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$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C0B5-3141-4618-86EE-F97FE222DD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ser actions (continued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ACTION[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] = Accept, the parse is complete and no errors were foun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ACTION[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] = Error, the parser calls an error-handling routin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F3BA-3448-47CB-B145-421D4C2326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LR Parsing Tabl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81080" y="1434960"/>
            <a:ext cx="6172200" cy="492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A99F-75D1-4DA3-B312-2E3AC1C50A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5 Bottom-up Parsing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parser table can be generated from a given grammar with a tool, e.g.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ac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4DB8-7BCF-46B9-B862-52516192D8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yntax analysis is a common part of language imple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lexical analyzer is a pattern matcher that isolates small-scale parts of a 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tects syntax err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duces a parse tr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recursive-descent parser is an LL pars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BN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ing problem for bottom-up parsers: find the substring of current sentential for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LR family of shift-reduce parsers is the most common bottom-up parsing approa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3DD7-CE7C-416F-AEDE-FBF8B52603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1 Introduction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sons to use BNF to describe syntax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vides a clear and concise syntax descrip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arser can be based directly on the BN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ers based on BNF are easy to maintai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41AC-278C-44B1-AF7A-ED1A873930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1 Introduction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sons to separate lexical and syntax analysi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mplicit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less complex approaches can be used for lexical analysis; separating them simplifies the pars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separation allows optimization of the lexical analyz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rtabilit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parts of the lexical analyzer may not be portable, but the parser always is porta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62FF-847A-4AC8-8474-0F543795B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lexical analyzer is a pattern matcher for character string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lexical analyzer is a “front-end” for the pars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dentifies substrings of the source program that belong together - </a:t>
            </a:r>
            <a:r>
              <a:rPr b="0" lang="en-US" sz="2800" spc="-1" strike="noStrike">
                <a:solidFill>
                  <a:srgbClr val="bbe0e3"/>
                </a:solidFill>
                <a:latin typeface="Lucida Sans Unicode"/>
              </a:rPr>
              <a:t>lexe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xemes match a character pattern, which is associated with a lexical category called a </a:t>
            </a:r>
            <a:r>
              <a:rPr b="0" lang="en-US" sz="2400" spc="-1" strike="noStrike">
                <a:solidFill>
                  <a:srgbClr val="bbe0e3"/>
                </a:solidFill>
                <a:latin typeface="Lucida Sans Unicode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 lexeme; its token may b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D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BC4C-6BE3-488B-A49F-3D87D0DAB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lexical analyzer is usually a function that is called by the parser when it needs the next tok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approaches to building a lexical analyz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 a formal description of the tokens and use a software tool that constructs table-driven lexical analyzers given such a descrip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sign a state diagram that describes the tokens and write a program that implements the state diagra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sign a state diagram that describes the tokens and hand-construct a table-driven implementation of the state diagra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 only discuss approach 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799B-BD7D-4942-951E-AF81D5E0E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4.2 Lexical Analysis (cont.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e diagram desig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naïve state diagram would have a transition from every state on every character in the source language - such a diagram would be very larg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7C51-FB68-43FC-88CE-E72F986E0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Ideen</cp:lastModifiedBy>
  <dcterms:modified xsi:type="dcterms:W3CDTF">2005-05-11T13:11:42Z</dcterms:modified>
  <cp:revision>10</cp:revision>
  <dc:subject/>
  <dc:title>Chapter 1</dc:title>
</cp:coreProperties>
</file>