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e985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5e985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6FA3-62E5-48A5-B1D5-081450D30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1F89-EDFC-4FBB-8AD3-38AD1AC32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727F-A3FA-4265-AFCB-703ABF272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EF57-F219-473A-8FE8-268EF7B0A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2420-844C-4CF4-91B5-EBC33DDA0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73F0-9F37-4798-8762-D8267FCA4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5E00-8C72-43B8-99A8-E9CFFD128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3309D-A0C9-4888-AE44-236A4FAB5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271AD-3C9A-4774-9236-733E79564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D73D4-0EC8-434F-84A1-A9203FA80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984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968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36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984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968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04E00-60FF-43C5-BEE5-0E6F5BE2E0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E20D8-ABE5-4868-8337-0892462B47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6984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968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9036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6984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968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0AF11-3FF2-4885-8E37-C5D2BC76F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0EDA5-74E5-4A1A-A792-A72D8749F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001A3-066E-4DAE-A6B5-E39129A12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7204A-F547-463A-A82E-7EE57D3F99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468BE-8D79-4935-B671-0513DA173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57D7E-6B89-431D-B032-362C2A6746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40175-562C-4C93-9B3F-DF094397C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90720" y="6324120"/>
            <a:ext cx="35049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4c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4c00"/>
                </a:solidFill>
                <a:latin typeface="Arial"/>
                <a:ea typeface="Arial"/>
              </a:rPr>
              <a:t>© 2004 Pearson Addison-Wesley.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80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4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4c00"/>
                </a:solidFill>
                <a:latin typeface="Arial"/>
              </a:rPr>
              <a:t>9-</a:t>
            </a:r>
            <a:fld id="{ACCEBA8C-17DE-4A3B-86CC-816E9BFA319F}" type="slidenum">
              <a:rPr b="0" lang="en-US" sz="1000" spc="-1" strike="noStrike">
                <a:solidFill>
                  <a:srgbClr val="ff4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e98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5e985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9/Firm.java" TargetMode="External"/><Relationship Id="rId3" Type="http://schemas.openxmlformats.org/officeDocument/2006/relationships/hyperlink" Target="file:///../examples/chap09/Staff.java" TargetMode="External"/><Relationship Id="rId4" Type="http://schemas.openxmlformats.org/officeDocument/2006/relationships/hyperlink" Target="file:///../examples/chap09/StaffMember.java" TargetMode="External"/><Relationship Id="rId5" Type="http://schemas.openxmlformats.org/officeDocument/2006/relationships/hyperlink" Target="file:///../examples/chap09/StaffMember.java" TargetMode="External"/><Relationship Id="rId6" Type="http://schemas.openxmlformats.org/officeDocument/2006/relationships/hyperlink" Target="file:///../examples/chap09/Volunteer.java" TargetMode="External"/><Relationship Id="rId7" Type="http://schemas.openxmlformats.org/officeDocument/2006/relationships/hyperlink" Target="file:///../examples/chap09/Volunteer.java" TargetMode="External"/><Relationship Id="rId8" Type="http://schemas.openxmlformats.org/officeDocument/2006/relationships/hyperlink" Target="file:///../examples/chap09/Employee.java" TargetMode="External"/><Relationship Id="rId9" Type="http://schemas.openxmlformats.org/officeDocument/2006/relationships/hyperlink" Target="file:///../examples/chap09/Employee.java" TargetMode="External"/><Relationship Id="rId10" Type="http://schemas.openxmlformats.org/officeDocument/2006/relationships/hyperlink" Target="file:///../examples/chap09/Executive.java" TargetMode="External"/><Relationship Id="rId11" Type="http://schemas.openxmlformats.org/officeDocument/2006/relationships/hyperlink" Target="file:///../examples/chap09/Executive.java" TargetMode="External"/><Relationship Id="rId12" Type="http://schemas.openxmlformats.org/officeDocument/2006/relationships/hyperlink" Target="file:///../examples/chap09/Executive.java" TargetMode="External"/><Relationship Id="rId13" Type="http://schemas.openxmlformats.org/officeDocument/2006/relationships/hyperlink" Target="file:///../examples/chap09/Hourly.java" TargetMode="External"/><Relationship Id="rId1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9/SlideColor.java" TargetMode="External"/><Relationship Id="rId3" Type="http://schemas.openxmlformats.org/officeDocument/2006/relationships/hyperlink" Target="file:///../examples/chap09/SlideColor.java" TargetMode="External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e985"/>
                </a:solidFill>
                <a:latin typeface="Arial"/>
              </a:rPr>
              <a:t>Chapter 9</a:t>
            </a:r>
            <a:endParaRPr b="0" lang="en-US" sz="3200" spc="-1" strike="noStrike">
              <a:solidFill>
                <a:srgbClr val="f5e98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182880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a1f"/>
                </a:solidFill>
                <a:latin typeface="Arial"/>
              </a:rPr>
              <a:t>Polymorph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Polymorphism via Inheritanc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the type of the object being referenced, not the reference type, that determines which method is invok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olida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has a method call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eleb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ristm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overrides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consider the following invoc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y.celebrate(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fers to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olida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, it invokes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olida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ersion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eleb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if it refers to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ristm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, it invokes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ristm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er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EA25B-BD3A-490F-A1D6-9D1E9C5E08A5}" type="slidenum">
              <a:t>10</a:t>
            </a:fld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Polymorphism via Inheritanc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following class hierarch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752480" y="2062800"/>
            <a:ext cx="6400800" cy="3189600"/>
            <a:chOff x="1752480" y="2062800"/>
            <a:chExt cx="6400800" cy="3189600"/>
          </a:xfrm>
        </p:grpSpPr>
        <p:sp>
          <p:nvSpPr>
            <p:cNvPr id="116" name=""/>
            <p:cNvSpPr/>
            <p:nvPr/>
          </p:nvSpPr>
          <p:spPr>
            <a:xfrm flipV="1">
              <a:off x="4343400" y="2733480"/>
              <a:ext cx="0" cy="3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90760" y="2505240"/>
              <a:ext cx="304920" cy="2286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66880" y="312444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57800" y="446724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66880" y="31244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24480" y="31244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57800" y="4467240"/>
              <a:ext cx="0" cy="40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5200" y="44672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6248160" y="4114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95880" y="3886200"/>
              <a:ext cx="304920" cy="2286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52680" y="2062800"/>
              <a:ext cx="198108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Unicode MS"/>
                </a:rPr>
                <a:t>StaffMe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95680" y="4853520"/>
              <a:ext cx="160020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53080" y="4853520"/>
              <a:ext cx="160020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Hour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52480" y="3434400"/>
              <a:ext cx="182880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Volunte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33760" y="3434400"/>
              <a:ext cx="198144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Employ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713AA-C789-48A8-80A1-494FFBF8F1E8}" type="slidenum">
              <a:t>11</a:t>
            </a:fld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Polymorphism via Inheritanc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let's look at an example that pays a set of diverse employees using a polymorphic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2"/>
              </a:rPr>
              <a:t>Firm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8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3"/>
              </a:rPr>
              <a:t>Staff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8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4"/>
              </a:rPr>
              <a:t>StaffMember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5"/>
              </a:rPr>
              <a:t>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8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6"/>
              </a:rPr>
              <a:t>Volunte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7"/>
              </a:rPr>
              <a:t>er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9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8"/>
              </a:rPr>
              <a:t>Emp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9"/>
              </a:rPr>
              <a:t>loyee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9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10"/>
              </a:rPr>
              <a:t>Exe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11"/>
              </a:rPr>
              <a:t>cutive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12"/>
              </a:rPr>
              <a:t>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9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13"/>
              </a:rPr>
              <a:t>Hourly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9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EADA3-9B36-4B08-9767-799594965606}" type="slidenum">
              <a:t>12</a:t>
            </a:fld>
          </a:p>
        </p:txBody>
      </p:sp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68320" y="1143000"/>
            <a:ext cx="51915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morphic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morphism via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morphism via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 Processing Re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Choosers and Color Choo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2286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3C8B9-F163-4200-B37E-90B2D6CE6AA2}" type="slidenum">
              <a:t>13</a:t>
            </a:fld>
          </a:p>
        </p:txBody>
      </p:sp>
    </p:spTree>
  </p:cSld>
  <p:transition>
    <p:wheel spokes="1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Polymorphism via Interfac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terface name can be used as the type of an object reference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peaker curren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ference can be used to point to any object of any class that implements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peak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version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pe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the following line invokes depends on the type of object tha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referenc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urrent.speak(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A7081-9F75-48AA-BE2A-CE8F7AD06002}" type="slidenum">
              <a:t>14</a:t>
            </a:fld>
          </a:p>
        </p:txBody>
      </p:sp>
    </p:spTree>
  </p:cSld>
  <p:transition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Polymorphism via Interfac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wo classes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hilosoph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both implement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peak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erface, providing distinct versions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pe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following code, the first call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pe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vokes one version and the second invokes anoth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aker guest = new Philospher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uest.speak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uest = new Dog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uest.speak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CFCCA-D2C9-46A7-AE52-5887730FB9BA}" type="slidenum">
              <a:t>15</a:t>
            </a:fld>
          </a:p>
        </p:txBody>
      </p:sp>
    </p:spTree>
  </p:cSld>
  <p:transition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69760" y="1143000"/>
            <a:ext cx="51915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morphic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morphism via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morphism via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 Processing Re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Choosers and Color Choo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28195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83BED-7E85-4ED5-86C4-1D305F0A2C9A}" type="slidenum">
              <a:t>16</a:t>
            </a:fld>
          </a:p>
        </p:txBody>
      </p:sp>
    </p:spTree>
  </p:cSld>
  <p:transition>
    <p:wheel spokes="1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ort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r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process of arranging a list of items in a particular 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orting process is based on specific value(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rting a list of test scores in ascending numeric or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rting a list of people alphabetically by last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many algorithms, which vary in efficiency, for sorting a list of i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examine two specific algorithm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ion S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S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C517B-24E6-433E-A631-1F10E085934D}" type="slidenum">
              <a:t>17</a:t>
            </a:fld>
          </a:p>
        </p:txBody>
      </p:sp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election Sor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proach of Selection Sor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a value and put it in its final place into the l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 for all other val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ore detai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the smallest value in the l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tch it with the value in the first pos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the next smallest value in the l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tch it with the value in the second pos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 until all values are in their proper pl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0F8EB-923A-4883-9023-B5AC247D8B56}" type="slidenum">
              <a:t>18</a:t>
            </a:fld>
          </a:p>
        </p:txBody>
      </p:sp>
    </p:spTree>
  </p:cSld>
  <p:transition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election Sor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xamp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iginal:         3   9   6   1  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mallest is 1:    1   9   6   3  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mallest is 2:    1   2   6   3   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mallest is 3:    1   2   3   6   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mallest is 6:    1   2   3   6   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ime, the smallest remaining value is found and exchanged with the element in the "next" position to be fill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F786D-32AB-4D43-9A9C-5EE56E4C7015}" type="slidenum">
              <a:t>19</a:t>
            </a:fld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Polymorphism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morphism is an object-oriented concept that allows us to create versatile software des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9 focuses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ng polymorphism and its benef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inheritance to create polymorphic re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interfaces to create polymorphic re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polymorphism to implement sorting and searching algorith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ional GUI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06798-05CE-4266-98BD-37BABBE47F1A}" type="slidenum">
              <a:t>2</a:t>
            </a:fld>
          </a:p>
        </p:txBody>
      </p:sp>
    </p:spTree>
  </p:cSld>
  <p:transition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wapp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cessing of the selection sort algorithm includes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wapp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wo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pping requires three assignment statements and a temporary storage loc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 = fir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rst = second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cond = temp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4E356-D19E-4BC0-9881-81D4A7608FA6}" type="slidenum">
              <a:t>20</a:t>
            </a:fld>
          </a:p>
        </p:txBody>
      </p:sp>
    </p:spTree>
  </p:cSld>
  <p:transition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Polymorphism in Sort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that an class that implements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erface defines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to determine the relative order of its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use polymorphism to develop a generic sort for any se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orting method accepts as a parameter an array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way, one method can be used to sort a group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o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k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whate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22775-F8CA-45E9-87CD-FF8B671FAE0A}" type="slidenum">
              <a:t>21</a:t>
            </a:fld>
          </a:p>
        </p:txBody>
      </p:sp>
    </p:spTree>
  </p:cSld>
  <p:transition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election Sor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orting method doesn't "care" what it is sorting, it just needs to be able to call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is guaranteed by us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s the parameter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, this way each class decides for itself what it means for one object to be less than an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honeList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50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orting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501), specifically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lectionSo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tact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50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D16C8-E6BE-45D0-91B6-1CF75B754888}" type="slidenum">
              <a:t>22</a:t>
            </a:fld>
          </a:p>
        </p:txBody>
      </p:sp>
    </p:spTree>
  </p:cSld>
  <p:transition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sertion Sor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10666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proach of Insertion Sor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ck any item and insert it into its proper place in a sorted subl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 until all items have been inser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ore detai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 the first item to be a sorted sublist (of one ite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 the second item into the sorted sublist, shifting the first item as needed to make room to insert the new add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 the third item into the sorted sublist (of two items), shifting items as necess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 until all values are inserted into their proper posi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CD910-FAF7-432B-B3A2-730938A675A4}" type="slidenum">
              <a:t>23</a:t>
            </a:fld>
          </a:p>
        </p:txBody>
      </p:sp>
    </p:spTree>
  </p:cSld>
  <p:transition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sertion Sor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xamp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iginal:     3   9   6   1  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 9:     3   9   6   1  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 6:     3   6   9   1  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 1:     1   3   6   9  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t 2:     1   2   3   6   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orting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501), specifically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ertionSo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237B3-F7E0-4988-A7E1-0B751574348B}" type="slidenum">
              <a:t>24</a:t>
            </a:fld>
          </a:p>
        </p:txBody>
      </p:sp>
    </p:spTree>
  </p:cSld>
  <p:transition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omparing Sor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lection and Insertion sort algorithms are similar in effici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both have outer loops that scan all elements, and inner loops that compare the value of the outer loop with almost all values in the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ximately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umber of comparisons are made to sort a list of size 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therefore say that these sorts are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der 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sorts are more efficient: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der n 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7DBCC-EBA3-4ED0-9E32-5938CF87C44F}" type="slidenum">
              <a:t>25</a:t>
            </a:fld>
          </a:p>
        </p:txBody>
      </p:sp>
    </p:spTree>
  </p:cSld>
  <p:transition>
    <p:wheel spokes="1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69760" y="1143000"/>
            <a:ext cx="51915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morphic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morphism via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morphism via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 Processing Re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Choosers and Color Choo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328B5-8A0C-4ED6-8E36-1CA7364D9F73}" type="slidenum">
              <a:t>26</a:t>
            </a:fld>
          </a:p>
        </p:txBody>
      </p:sp>
    </p:spTree>
  </p:cSld>
  <p:transition>
    <p:wheel spokes="1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earch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ing is the process of finding a target element within a group of items called the search po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arget may or may not be in the search po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ant to perform the search efficiently, minimizing the number of comparis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's look at two classic searching approaches: linear search and binary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we did with sorting, we'll implement the searches with polymorph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05127-A3B7-4E09-B6F7-28777CB5DC48}" type="slidenum">
              <a:t>27</a:t>
            </a:fld>
          </a:p>
        </p:txBody>
      </p:sp>
    </p:spTree>
  </p:cSld>
  <p:transition>
    <p:wheel spokes="1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Linear Search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inear search begins at one end of a list and examines each element in tu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ually, either the item is found or the end of the list is encounte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honeList2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50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arching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509), specifically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arSear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FEA53-0A74-4421-AA2B-46DC381DFB8B}" type="slidenum">
              <a:t>28</a:t>
            </a:fld>
          </a:p>
        </p:txBody>
      </p:sp>
    </p:spTree>
  </p:cSld>
  <p:transition>
    <p:wheel spokes="1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inary Search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nary sear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ssumes the list of items in the search pool is sor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eliminates a large part of the search pool with a single compari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inary search first examines the middle element of the list -- if it matches the target, the search is o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it doesn't, only one half of the remaining elements need be search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they are sorted, the target can only be in one half of the 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DAC36-88C4-4B6A-8EE9-F952BE675A10}" type="slidenum">
              <a:t>29</a:t>
            </a:fld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69760" y="1143000"/>
            <a:ext cx="51915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morphic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morphism via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morphism via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 Processing Re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Choosers and Color Choo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12207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D23DF-EA96-40E2-800C-0BEB63D25E05}" type="slidenum">
              <a:t>3</a:t>
            </a:fld>
          </a:p>
        </p:txBody>
      </p:sp>
    </p:spTree>
  </p:cSld>
  <p:transition>
    <p:wheel spokes="1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inary Search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cess continues by comparing the middle element of the remain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able candid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comparison eliminates approximately half of the remaining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ually, the target is found or the data is exhaus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honeList2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50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arching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509), specifically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D5278-46DE-48AF-B7E5-F7D3DB46C50B}" type="slidenum">
              <a:t>30</a:t>
            </a:fld>
          </a:p>
        </p:txBody>
      </p:sp>
    </p:spTree>
  </p:cSld>
  <p:transition>
    <p:wheel spokes="1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68320" y="1143000"/>
            <a:ext cx="51915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morphic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morphism via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morphism via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 Processing Re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Choosers and Color Choo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39625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348B5-84A1-44C4-8B94-E5BB882E807C}" type="slidenum">
              <a:t>31</a:t>
            </a:fld>
          </a:p>
        </p:txBody>
      </p:sp>
    </p:spTree>
  </p:cSld>
  <p:transition>
    <p:wheel spokes="1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Event Process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morphism plays an important role in the development of a Java graphical user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we've seen, we establish a relationship between a component and a listen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Button button = new JButton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.addActionListener(new MyListener()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is accepting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yListe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 as a parame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fact, we can pass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any object that implements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61141-2CF6-47F4-9F66-DEB82E8FD035}" type="slidenum">
              <a:t>32</a:t>
            </a:fld>
          </a:p>
        </p:txBody>
      </p:sp>
    </p:spTree>
  </p:cSld>
  <p:transition>
    <p:wheel spokes="1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Event Process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ource code for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accepts a parameter of typ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the interfa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polymorphism, any object that implements that interface is compatible with the parameter reference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mponent can call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because of the relationship between the listener class and the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ding an adapter class to create a listener represents the same situation; the adapter class implements the appropriate interface alrea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FF767-60F6-476E-A327-49B10F5FFF8B}" type="slidenum">
              <a:t>33</a:t>
            </a:fld>
          </a:p>
        </p:txBody>
      </p:sp>
    </p:spTree>
  </p:cSld>
  <p:transition>
    <p:wheel spokes="1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69760" y="1143000"/>
            <a:ext cx="51915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morphic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morphism via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morphism via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 Processing Re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Choosers and Color Choo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4495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78CB5-4530-4B48-B3BD-47A4B3D9A56D}" type="slidenum">
              <a:t>34</a:t>
            </a:fld>
          </a:p>
        </p:txBody>
      </p:sp>
    </p:spTree>
  </p:cSld>
  <p:transition>
    <p:wheel spokes="1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ialog Box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that a dialog box is a small window that "pops up" to interact with the user for a brief, specific purp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makes it easy to create dialog boxes for presenting information, confirming an action, or accepting an input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's now look at two other classes that let us create specialized dialog box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98A0F-9B54-4268-A699-D1D2C0EB122F}" type="slidenum">
              <a:t>35</a:t>
            </a:fld>
          </a:p>
        </p:txBody>
      </p:sp>
    </p:spTree>
  </p:cSld>
  <p:transition>
    <p:wheel spokes="1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File Choos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tions often arise where we want the user to select a file stored on a disk drive, usually so that its contents can be read and proces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le choos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represented by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FileChoos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, simplifies this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ser can browse the disk and filter the file types display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File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51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826C2-9566-4DD6-B401-D6A4C3166E45}" type="slidenum">
              <a:t>36</a:t>
            </a:fld>
          </a:p>
        </p:txBody>
      </p:sp>
    </p:spTree>
  </p:cSld>
  <p:transition>
    <p:wheel spokes="1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olor Choos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any situations we want to allow the user to select a col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lor choos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represented by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ColorChoos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, simplifies this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ser can choose a color from a palette or specify the color using RGB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Color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51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4183D-FBEA-4A0D-933A-7EFE067B7823}" type="slidenum">
              <a:t>37</a:t>
            </a:fld>
          </a:p>
        </p:txBody>
      </p:sp>
    </p:spTree>
  </p:cSld>
  <p:transition>
    <p:wheel spokes="1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69760" y="1143000"/>
            <a:ext cx="51915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morphic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morphism via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morphism via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 Processing Re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Choosers and Color Choo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50292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A6C81-4927-40EA-95D0-F0BDE435AE97}" type="slidenum">
              <a:t>38</a:t>
            </a:fld>
          </a:p>
        </p:txBody>
      </p:sp>
    </p:spTree>
  </p:cSld>
  <p:transition>
    <p:wheel spokes="1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lid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lider is a GUI component that allows the user to specify a value within a numeric r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lider can be oriented vertically or horizontally and can have optional tick marks and lab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inimum and maximum values for the slider are set us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Sli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stru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lider produce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ange ev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en the slider is moved, indicating that the slider and the value it represents has chang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054C3-4000-4DBC-8DAD-7149F753A178}" type="slidenum">
              <a:t>39</a:t>
            </a:fld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ind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following method invoc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.doIt(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some point, this invocation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ou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definition of the method that it invok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is binding occurred at compile time, then that line of code would call the same method every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Java defers method binding until run time -- this is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ynamic bin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te bi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 binding provides flexibility in program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60852-7BAA-462A-BBA7-E8C1CB0195AE}" type="slidenum">
              <a:t>4</a:t>
            </a:fld>
          </a:p>
        </p:txBody>
      </p:sp>
    </p:spTree>
  </p:cSld>
  <p:transition>
    <p:wheel spokes="1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lid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example uses three sliders to change values representing the color components of an RGB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2"/>
              </a:rPr>
              <a:t>SlideColor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3"/>
              </a:rPr>
              <a:t>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52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lideColorPanel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52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567EF-9991-419D-8A8D-E6AB24DF43B3}" type="slidenum">
              <a:t>40</a:t>
            </a:fld>
          </a:p>
        </p:txBody>
      </p:sp>
    </p:spTree>
  </p:cSld>
  <p:transition>
    <p:wheel spokes="1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9 has focused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ng polymorphism and its benef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inheritance to create polymorphic re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interfaces to create polymorphic re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polymorphism to implement sorting and searching algorith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ional GUI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961F8-DAEC-4CCF-AB95-F3A6266E47BE}" type="slidenum">
              <a:t>41</a:t>
            </a:fld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Polymorphism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olymorphis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terally means "having many forms"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olymorphic refer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variable that can refer to different types of objects at different points in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ethod invoked through a polymorphic reference can change from one invocation to the n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object references in Java are potentially polymorph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08305-4E0C-4E7A-9966-B09F13203213}" type="slidenum">
              <a:t>5</a:t>
            </a:fld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Polymorphism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we create the following reference variab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ccupation job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allows this reference to point to 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ccup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, or to any object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y compatible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ompatibility can be established using inheritance or using inte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 use of polymorphic references can lead to elegant, robust software des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E10C2-A050-4623-B52B-E435B306C76D}" type="slidenum">
              <a:t>6</a:t>
            </a:fld>
          </a:p>
        </p:txBody>
      </p:sp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69760" y="1143000"/>
            <a:ext cx="51915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morphic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morphism via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morphism via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 Processing Re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Choosers and Color Choo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1752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6B119-D8BE-461C-A298-6BF64EB96B2A}" type="slidenum">
              <a:t>7</a:t>
            </a:fld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References and Inheritanc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bject reference can refer to an object of its class, or to an object of any class related to it by inheri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i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olida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is used to derive a class call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ristm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olida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ference could be used to point to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ristm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6960" y="4572000"/>
            <a:ext cx="420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oliday da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y = new Christma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33720" y="4196160"/>
            <a:ext cx="1600200" cy="1694520"/>
            <a:chOff x="2133720" y="4196160"/>
            <a:chExt cx="1600200" cy="1694520"/>
          </a:xfrm>
        </p:grpSpPr>
        <p:sp>
          <p:nvSpPr>
            <p:cNvPr id="105" name=""/>
            <p:cNvSpPr/>
            <p:nvPr/>
          </p:nvSpPr>
          <p:spPr>
            <a:xfrm flipV="1">
              <a:off x="2971800" y="486720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19520" y="463860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33720" y="4196160"/>
              <a:ext cx="160020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Holid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33720" y="5491800"/>
              <a:ext cx="160020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Christm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49605-CE09-4465-B03F-C4C0160BB01C}" type="slidenum">
              <a:t>8</a:t>
            </a:fld>
          </a:p>
        </p:txBody>
      </p:sp>
    </p:spTree>
  </p:cSld>
  <p:transition>
    <p:wheel spokes="1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References and Inheritanc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ing a child object to a parent reference is considered to be a widening conversion, and can be performed by simple assig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ing an parent object to a child reference can be done also, but it is considered a narrowing conversion and must be done with a c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idening conversion is the most usefu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F97BE-6106-4E97-9FFF-952AC961516E}" type="slidenum">
              <a:t>9</a:t>
            </a:fld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49:24Z</dcterms:created>
  <dc:creator>Copyright 2004 Pearson Addison-Wesley</dc:creator>
  <dc:description/>
  <dc:language>en-US</dc:language>
  <cp:lastModifiedBy>Trial User</cp:lastModifiedBy>
  <dcterms:modified xsi:type="dcterms:W3CDTF">2004-08-18T13:12:38Z</dcterms:modified>
  <cp:revision>27</cp:revision>
  <dc:subject/>
  <dc:title>PowerPoint Presentation</dc:title>
</cp:coreProperties>
</file>