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7AB31-CDE0-405B-BCD6-EB17A013A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3ED5D-44E1-42EF-BC9F-8C14D96F9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1B8F8-1E63-4858-BE07-3366BD241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E37B6-93A6-499F-B424-6E115E8047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3C69-F78E-4D1E-8B42-607CF8912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76833-DE8E-4EF7-891C-16FC7DA61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B263A-C8C8-43BB-A62C-384B9ED8C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DC7A2-7634-44D3-A6B3-E40764468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2FD46-5832-4F4D-A7F3-41E5BCBD6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01BBA-FABF-45DD-B6A2-38B19B872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54A61-D938-456B-805F-6C8656441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E84DD-B949-4CE2-BDDF-475A4A42D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324120"/>
            <a:ext cx="3504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  <a:ea typeface="Arial"/>
              </a:rPr>
              <a:t>© 2004 Pearson Addison-Wesley.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80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</a:rPr>
              <a:t>8-</a:t>
            </a:r>
            <a:fld id="{DF6941A2-239D-4372-B9BE-0AA509E366C0}" type="slidenum">
              <a:rPr b="0" lang="en-US" sz="1000" spc="-1" strike="noStrike">
                <a:solidFill>
                  <a:srgbClr val="ff4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8/Words.java" TargetMode="External"/><Relationship Id="rId3" Type="http://schemas.openxmlformats.org/officeDocument/2006/relationships/hyperlink" Target="file:///../examples/chap08/Book.java" TargetMode="External"/><Relationship Id="rId4" Type="http://schemas.openxmlformats.org/officeDocument/2006/relationships/hyperlink" Target="file:///../examples/chap08/Dictionary.java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a1f"/>
                </a:solidFill>
                <a:latin typeface="Arial"/>
              </a:rPr>
              <a:t>Inherit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ass Diagram for Word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71600" y="1729440"/>
            <a:ext cx="6934320" cy="3299760"/>
            <a:chOff x="1371600" y="1729440"/>
            <a:chExt cx="6934320" cy="3299760"/>
          </a:xfrm>
        </p:grpSpPr>
        <p:sp>
          <p:nvSpPr>
            <p:cNvPr id="107" name=""/>
            <p:cNvSpPr/>
            <p:nvPr/>
          </p:nvSpPr>
          <p:spPr>
            <a:xfrm>
              <a:off x="4495680" y="39625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53200" y="1729440"/>
              <a:ext cx="281916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Bo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53200" y="2133720"/>
              <a:ext cx="2819160" cy="44280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# pages : 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53200" y="2576520"/>
              <a:ext cx="2819160" cy="47160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+ pageMessage() : vo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762600" y="3171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29400" y="3095640"/>
              <a:ext cx="266760" cy="181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19640" y="3724920"/>
              <a:ext cx="308628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Diction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19640" y="4129200"/>
              <a:ext cx="3086280" cy="44280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definitions : 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19640" y="4572000"/>
              <a:ext cx="3086280" cy="45720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+ definitionMessage() : vo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71600" y="3710520"/>
              <a:ext cx="312408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71600" y="4114800"/>
              <a:ext cx="3124080" cy="30492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4405320"/>
              <a:ext cx="3124080" cy="47160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+ main (args : String[]) : vo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73DD1-ECF1-4147-A663-5EEEA32FD7B1}" type="slidenum">
              <a:t>10</a:t>
            </a:fld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super Referen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ors are not inherited, even though they have public vi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t we often want to use the parent's constructor to set up the "parent's part" of the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ence can be used to refer to the parent class, and often is used to invoke the parent's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ords2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4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k2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4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ctionary2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4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A780-6889-4F91-BDAC-94416A94219E}" type="slidenum">
              <a:t>11</a:t>
            </a:fld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super Referen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hild’s constructor is responsible for calling the parent’s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line of a child’s constructor should us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ence to call the parent’s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ence can also be used to reference other variables and methods defined in the parent’s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D52A0-6D74-44E5-83F9-7019C7F10E30}" type="slidenum">
              <a:t>12</a:t>
            </a:fld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ultiple Inheritan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support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gle inherit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eaning that a derived class can have only one parent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ltiple inheritan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a class to be derived from two or more classes, inheriting the members of all par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isions, such as the same variable name in two parents, have to be resol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does not support multiple 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ost cases, the use of interfaces gives us aspects of multiple inheritance without the overh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2B268-576E-4640-9A22-C84F413F53E2}" type="slidenum">
              <a:t>13</a:t>
            </a:fld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7960" y="1143000"/>
            <a:ext cx="3856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Sub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ing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Hierarc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itance and 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ing for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itance and G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1752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5C835-F935-4968-908B-660854F24AA3}" type="slidenum">
              <a:t>14</a:t>
            </a:fld>
          </a:p>
        </p:txBody>
      </p:sp>
    </p:spTree>
  </p:cSld>
  <p:transition>
    <p:wheel spokes="1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verriding Method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hild class c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ri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definition of an inherited method in favor of its ow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w method must have the same signature as the parent's method, but can have a different bo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ype of the object executing the method determines which version of the method is invo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ssages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5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ought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5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vice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5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1FED-2DE7-4AA0-969B-1FB2E34C9805}" type="slidenum">
              <a:t>15</a:t>
            </a:fld>
          </a:p>
        </p:txBody>
      </p:sp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verrid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ethod in the parent class can be invoked explicitly us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method is declared with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difier, it cannot be overrid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cept of overriding can be applied to data and i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hadowing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dowing variables should be avoided because it tends to cause unnecessarily confusing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B13CC-ABA7-4034-996F-D9B8F80D74D3}" type="slidenum">
              <a:t>16</a:t>
            </a:fld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verloading vs. Overrid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loading deals with multiple methods with the same name in the same class, but with different sign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ing deals with two methods, one in a parent class and one in a child class, that have the same sign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loading lets you define a similar operation in different ways for different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ing lets you define a similar operation in different ways for different object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98F2C-327E-4AA2-AB95-EDBDBCF47503}" type="slidenum">
              <a:t>17</a:t>
            </a:fld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67960" y="1143000"/>
            <a:ext cx="3856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Sub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ing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Hierarc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itance and 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ing for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itance and G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2286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88EB-1E36-4E77-82E8-B114CA906222}" type="slidenum">
              <a:t>18</a:t>
            </a:fld>
          </a:p>
        </p:txBody>
      </p:sp>
    </p:spTree>
  </p:cSld>
  <p:transition>
    <p:wheel spokes="1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ass Hierarchi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hild class of one parent can be the parent of another child, forming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447920" y="2443320"/>
            <a:ext cx="6476760" cy="3189960"/>
            <a:chOff x="1447920" y="2443320"/>
            <a:chExt cx="6476760" cy="31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3114000"/>
              <a:ext cx="0" cy="39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24280" y="2885760"/>
              <a:ext cx="304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00400" y="3504960"/>
              <a:ext cx="365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09680" y="484812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00400" y="3504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0" y="3504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09680" y="4848120"/>
              <a:ext cx="0" cy="40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7080" y="48481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58000" y="449568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05720" y="4267080"/>
              <a:ext cx="30456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200400" y="449568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8120" y="4267080"/>
              <a:ext cx="30456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38480" y="2443320"/>
              <a:ext cx="16002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Busi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47920" y="5234400"/>
              <a:ext cx="16002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KM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05320" y="5234400"/>
              <a:ext cx="16002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Mac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38680" y="3814920"/>
              <a:ext cx="22860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ServiceBusi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95880" y="5234400"/>
              <a:ext cx="16002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Kink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0" y="3662640"/>
              <a:ext cx="1981080" cy="70380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RetailBusi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66012-8CE0-4B27-B1AD-936346A4BC67}" type="slidenum">
              <a:t>19</a:t>
            </a:fld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heritan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itance is a fundamental object-oriented design technique used to create and organize reusable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8 focuses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iving new classes from existing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if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ng class hierarch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rect visibility of inherited me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ing for inheri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UI component class hierarc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ing listener adapter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F92CE-7238-4B51-BF80-A9A41623230F}" type="slidenum">
              <a:t>2</a:t>
            </a:fld>
          </a:p>
        </p:txBody>
      </p:sp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ass Hierarchi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children of the same parent are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bl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features should be put as high in the hierarchy as is reason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herited member is passed continually down the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a child class inherits from all its ancestor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no single class hierarchy that is appropriate for all situ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4BE11-80C7-45CC-8B94-283CFB4F4698}" type="slidenum">
              <a:t>20</a:t>
            </a:fld>
          </a:p>
        </p:txBody>
      </p:sp>
    </p:spTree>
  </p:cSld>
  <p:transition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Object Clas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lass call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defined i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ckage of the Java standard class libr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classes are derived from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class is not explicitly defined to be the child of an existing class, it is assumed to be the child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s the ultimate root of all class hierarch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45FBC-CCD3-4CD7-92C4-BA21F5469933}" type="slidenum">
              <a:t>21</a:t>
            </a:fld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Object Clas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contains a few useful methods, which are inherited by all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is defined i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time we defin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, we are actually overriding an inherited de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i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s defined to return a string that contains the name of the object’s class along with some other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A05C8-4A6E-452B-BB91-AD1DE57F61D6}" type="slidenum">
              <a:t>22</a:t>
            </a:fld>
          </a:p>
        </p:txBody>
      </p:sp>
    </p:spTree>
  </p:cSld>
  <p:transition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Object Clas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returns true if two references are ali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overrid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any class to define equality in some more appropriate wa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e've seen,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define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to return true if tw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 contain the same charac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signers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have overridde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inherit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favor of a more useful ve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891C-2990-43F2-9B84-F05E072C1B98}" type="slidenum">
              <a:t>23</a:t>
            </a:fld>
          </a:p>
        </p:txBody>
      </p:sp>
    </p:spTree>
  </p:cSld>
  <p:transition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bstract Class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stract cl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placeholder in a class hierarchy that represents a generic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bstract class cannot be instanti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 use the modifi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n the class header to declare a class as abstra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96252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abstract class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6347C-96F5-4F07-834F-254DB4EB6411}" type="slidenum">
              <a:t>24</a:t>
            </a:fld>
          </a:p>
        </p:txBody>
      </p:sp>
    </p:spTree>
  </p:cSld>
  <p:transition>
    <p:wheel spokes="1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bstract Class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80010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bstract class often contains abstract methods with no definitions (like an interfa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ike an interface,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difier must be applied to each abstrac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, an abstract class typically contains non-abstract methods with full defin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lass declared as abstract does not have to contain abstract methods -- simply declaring it as abstract makes it 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9A81F-0E90-459E-8CA6-877B9AF75193}" type="slidenum">
              <a:t>25</a:t>
            </a:fld>
          </a:p>
        </p:txBody>
      </p:sp>
    </p:spTree>
  </p:cSld>
  <p:transition>
    <p:wheel spokes="1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bstract Class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ild of an abstract class must override the abstract methods of the parent, or it too will be considered abstr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bstract method cannot be defined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 of abstract classes is an important element of software design – it allows us to establish common elements in a hierarchy that are too generic to instanti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D1CF8-1349-414E-A4A4-AC07F1BA6728}" type="slidenum">
              <a:t>26</a:t>
            </a:fld>
          </a:p>
        </p:txBody>
      </p:sp>
    </p:spTree>
  </p:cSld>
  <p:transition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terface Hierarchi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itance can be applied to interfaces as well as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is, one interface can be derived from another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ild interface inherits all abstract methods of the pa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lass implementing the child interface must define all methods from both the ancestor and child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class hierarchies and interface hierarchies are distinct (they do not overla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C8A06-3382-4E19-8021-76CC33CA55A0}" type="slidenum">
              <a:t>27</a:t>
            </a:fld>
          </a:p>
        </p:txBody>
      </p:sp>
    </p:spTree>
  </p:cSld>
  <p:transition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7960" y="1143000"/>
            <a:ext cx="3856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Sub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ing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Hierarc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itance and 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ing for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itance and G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2819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5A287-AF61-447B-AA71-17F7DEA277DC}" type="slidenum">
              <a:t>28</a:t>
            </a:fld>
          </a:p>
        </p:txBody>
      </p:sp>
    </p:spTree>
  </p:cSld>
  <p:transition>
    <p:wheel spokes="1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Visibility Revisited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's important to understand one subtle issue related to inheritance and vi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variables and methods of a parent class, even private members, are inherited by its childr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e've mentioned, private members cannot be referenced by name in the child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private members inherited by child classes exist and can be referenced indirec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691F5-86C0-49E9-BE9C-26C317DC5A06}" type="slidenum">
              <a:t>29</a:t>
            </a:fld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7960" y="1143000"/>
            <a:ext cx="3856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Sub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ing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Hierarc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itance and 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ing for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itance and G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12207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9884D-330E-411D-9018-6A0CDC18D42B}" type="slidenum">
              <a:t>3</a:t>
            </a:fld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Visibility Revisited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parent can refer to the private member, the child can reference it indirectly using its parent's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ence can be used to refer to the parent class, even if no object of the parent ex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dAnalyzer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5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dItem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6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zza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6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6C669-244C-4355-B4CD-D59A6BD654C5}" type="slidenum">
              <a:t>30</a:t>
            </a:fld>
          </a:p>
        </p:txBody>
      </p:sp>
    </p:spTree>
  </p:cSld>
  <p:transition>
    <p:wheel spokes="1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7960" y="1143000"/>
            <a:ext cx="3856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Sub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ing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Hierarc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itance and 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ing for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itance and G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ADAAA-BDA8-4106-AE0B-046FB1A3F193}" type="slidenum">
              <a:t>31</a:t>
            </a:fld>
          </a:p>
        </p:txBody>
      </p:sp>
    </p:spTree>
  </p:cSld>
  <p:transition>
    <p:wheel spokes="1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esigning for Inheritan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e've discussed, taking the time to create a good software design reaps long-term 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itance issues are an important part of an object-oriented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ly designed inheritance relationships can contribute greatly to the elegance, maintainabilty, and reuse of the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summarize some of the issues regarding inheritance that relate to a good software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B0359-1047-4B61-A15E-F913FBC1F28F}" type="slidenum">
              <a:t>32</a:t>
            </a:fld>
          </a:p>
        </p:txBody>
      </p:sp>
    </p:spTree>
  </p:cSld>
  <p:transition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heritance Design Issu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derivation should be an is-a relation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about the potential future of a class hierarchy, and design classes to be reusable and flex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common characteristics of classes and push them as high in the class hierarchy as appropri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e methods as appropriate to tailor or change the functionality of a ch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new variables to children, but don't redefine (shadow) inherited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9F65-2283-4B28-ACA2-FF1CA037C8D2}" type="slidenum">
              <a:t>33</a:t>
            </a:fld>
          </a:p>
        </p:txBody>
      </p:sp>
    </p:spTree>
  </p:cSld>
  <p:transition>
    <p:wheel spokes="1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heritance Design Issu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each class to manage its own data; us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ence to invoke the parent's constructor to set up its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if there are no current uses for them, override general method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appropriate defin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bstract classes to represent general concepts that lower classes have in comm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visibility modifiers carefully to provide needed access without violating encaps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42A2E-57B6-400D-ADCE-50DF8B64254B}" type="slidenum">
              <a:t>34</a:t>
            </a:fld>
          </a:p>
        </p:txBody>
      </p:sp>
    </p:spTree>
  </p:cSld>
  <p:transition>
    <p:wheel spokes="1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stricting Inheritan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difier can be used to curtail 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difier is applied to a method, then that method cannot be overridden in any descendent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difier is applied to an entire class, then that class cannot be used to derive any children at 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an abstract class cannot be declared as f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are key design decisions, establishing that a method or class should be used as 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03BF1-AD54-4DD7-B810-CE13B2BEF104}" type="slidenum">
              <a:t>35</a:t>
            </a:fld>
          </a:p>
        </p:txBody>
      </p:sp>
    </p:spTree>
  </p:cSld>
  <p:transition>
    <p:wheel spokes="1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67960" y="1143000"/>
            <a:ext cx="3856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Sub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ing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Hierarc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itance and 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ing for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itance and G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3962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1D9D1-E2B3-4D1C-A9A9-16A27AA1DAB1}" type="slidenum">
              <a:t>36</a:t>
            </a:fld>
          </a:p>
        </p:txBody>
      </p:sp>
    </p:spTree>
  </p:cSld>
  <p:transition>
    <p:wheel spokes="1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Component Class Hierarch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classes that define GUI components are part of a class hierarc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ng GUI components typically are derived from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Compon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which is derived from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tai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which is derived from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Swing components can serve as (limited) containers, because they are derived from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tai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can contain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ageIc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08B8-7AFE-4755-BD87-A2C7DB21816C}" type="slidenum">
              <a:t>37</a:t>
            </a:fld>
          </a:p>
        </p:txBody>
      </p:sp>
    </p:spTree>
  </p:cSld>
  <p:transition>
    <p:wheel spokes="1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Component Class Hierarch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let is a good example of 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when we define an applet, we extend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or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ppl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ppl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es already handle all the details about applet creation and execution, includ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 with a Web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ing applet parameters through HT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forcing security restri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07528-1259-46DD-B8AF-81E69628A286}" type="slidenum">
              <a:t>38</a:t>
            </a:fld>
          </a:p>
        </p:txBody>
      </p:sp>
    </p:spTree>
  </p:cSld>
  <p:transition>
    <p:wheel spokes="1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Component Class Hierarch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applet classes only have to deal with issues that specifically relate to what our particular applet will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we defin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an applet, we are actually overriding a method defined originally i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Compon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and inherited by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ppl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0E888-AE3D-471F-A601-F08DEC6BD9DB}" type="slidenum">
              <a:t>39</a:t>
            </a:fld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heritan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herit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ows a software developer to derive a new class from an existing 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xisting class is called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ent class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percl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s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rived class is called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ild cl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b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the name implies, the child inherits characteristics of the pa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is, the child class inherits the methods and data defined by the parent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50939-BC10-4E65-BE96-9363AEFFCBD7}" type="slidenum">
              <a:t>4</a:t>
            </a:fld>
          </a:p>
        </p:txBody>
      </p:sp>
    </p:spTree>
  </p:cSld>
  <p:transition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vent Adapter Class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itance also gives us a alternate technique for creating listener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've seen that listener classes can be created by implementing a particular interface,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also create a listener class by extending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dapter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listener interface that has more than one method has a corresponding adapter class, such a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useAdap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AC6BC-068B-4BD9-9BF1-622D41E8C98A}" type="slidenum">
              <a:t>40</a:t>
            </a:fld>
          </a:p>
        </p:txBody>
      </p:sp>
    </p:spTree>
  </p:cSld>
  <p:transition>
    <p:wheel spokes="1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vent Adapter Class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dapter class implements the corresponding listener and provides empty method defin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you derive a listener class from an adapter class, you only need to override the event methods that pertain to the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ty definitions for unused event methods do not need to be defined because they are provided via 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ffCenter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6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OffCenter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6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F4487-26E5-4DC7-92A6-7FF663D9682C}" type="slidenum">
              <a:t>41</a:t>
            </a:fld>
          </a:p>
        </p:txBody>
      </p:sp>
    </p:spTree>
  </p:cSld>
  <p:transition>
    <p:wheel spokes="1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67960" y="1143000"/>
            <a:ext cx="3856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Sub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ing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Hierarc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itance and 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ing for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itance and G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4495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81788-3A45-45B1-BF5D-FFA59A7AF259}" type="slidenum">
              <a:t>42</a:t>
            </a:fld>
          </a:p>
        </p:txBody>
      </p:sp>
    </p:spTree>
  </p:cSld>
  <p:transition>
    <p:wheel spokes="1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Timer Clas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x.sw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ckage is a GUI component, but it has no visual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generates an action event at specified interv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rs can be used to manage any events that are based on a timed interval, such as an ani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reate the illusion of movement, we use a timer to change the scene after an appropriate del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7B63C-AF91-4762-92A5-9145E5CD3A87}" type="slidenum">
              <a:t>43</a:t>
            </a:fld>
          </a:p>
        </p:txBody>
      </p:sp>
    </p:spTree>
  </p:cSld>
  <p:transition>
    <p:wheel spokes="1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Timer Clas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s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start and stop the ti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lay can be set us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tructor or us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Del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Rebound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7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Rebound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7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FF2BB-395D-45A8-A5D4-A83465E7DF64}" type="slidenum">
              <a:t>44</a:t>
            </a:fld>
          </a:p>
        </p:txBody>
      </p:sp>
    </p:spTree>
  </p:cSld>
  <p:transition>
    <p:wheel spokes="1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8 focused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iving new classes from existing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if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ng class hierarch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tract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rect visibility of inherited me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ing for inheri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UI component class hierarc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ing listener adapter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B3C68-97F5-460F-B703-28FA134FE4DE}" type="slidenum">
              <a:t>45</a:t>
            </a:fld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heritan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10666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itance relationships are shown in a UML class diagram using a solid arrow with an unfilled triangular arrowhead pointing to the parent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809880" y="2643840"/>
            <a:ext cx="1600200" cy="1694160"/>
            <a:chOff x="3809880" y="2643840"/>
            <a:chExt cx="1600200" cy="1694160"/>
          </a:xfrm>
        </p:grpSpPr>
        <p:sp>
          <p:nvSpPr>
            <p:cNvPr id="90" name=""/>
            <p:cNvSpPr/>
            <p:nvPr/>
          </p:nvSpPr>
          <p:spPr>
            <a:xfrm flipV="1">
              <a:off x="4648320" y="3314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3086280"/>
              <a:ext cx="30492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09880" y="2643840"/>
              <a:ext cx="16002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Vehi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9880" y="3939120"/>
              <a:ext cx="16002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C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066680" y="48006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 inheritance creates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-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lationship, meaning the chil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re specific version of the 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04AE-FFF0-4091-AE2C-BD93C03CDE77}" type="slidenum">
              <a:t>5</a:t>
            </a:fld>
          </a:p>
        </p:txBody>
      </p:sp>
    </p:spTree>
  </p:cSld>
  <p:transition>
    <p:wheel spokes="1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heritan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grammer can tailor a derived class as needed by adding new variables or methods, or by modifying the inherited 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ftware reu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fundamental benefit of 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using existing software components to create new ones, we capitalize on all the effort that went into the design, implementation, and testing of the existing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9D6AA-8F83-46E9-9A33-E7AB50936F79}" type="slidenum">
              <a:t>6</a:t>
            </a:fld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eriving Subclass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Java, we use the reserved wor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establish an inheritance relation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4343400"/>
            <a:ext cx="76964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Words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3"/>
              </a:rPr>
              <a:t>Book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4"/>
              </a:rPr>
              <a:t>Dictionary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2362320"/>
            <a:ext cx="5410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ar extends 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lass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9CA06-B452-47F9-962D-B85BA2383750}" type="slidenum">
              <a:t>7</a:t>
            </a:fld>
          </a:p>
        </p:txBody>
      </p:sp>
    </p:spTree>
  </p:cSld>
  <p:transition>
    <p:wheel spokes="1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protected Modifier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bility modifiers affect the way that class members can be used in a child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methods declared with private visibility cannot be referenced by name in a child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can be referenced in the child class if they are declared with public visibility -- but public variables violate the principle of encaps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a third visibility modifier that helps in inheritance situations: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0BF61-4FAF-4053-9847-E2806523B46C}" type="slidenum">
              <a:t>8</a:t>
            </a:fld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protected Modifier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difier allows a child class to reference a variable or method directly in the child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provides more encapsulation than public visibility, but is not as tightly encapsulated as private vi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tected variable is visible to any class in the same package as the parent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tails of all Java modifiers are discussed in Appendix 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ed variables and methods can be shown with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ymbol preceding them in UML dia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F856F-605A-4639-AB48-656DBD2BF991}" type="slidenum">
              <a:t>9</a:t>
            </a:fld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dc:language>en-US</dc:language>
  <cp:lastModifiedBy>Trial User</cp:lastModifiedBy>
  <dcterms:modified xsi:type="dcterms:W3CDTF">2004-08-17T21:26:01Z</dcterms:modified>
  <cp:revision>41</cp:revision>
  <dc:subject/>
  <dc:title>PowerPoint Presentation</dc:title>
</cp:coreProperties>
</file>