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FA16-0748-4DDF-B18F-E0ADBA4E7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5570-3623-4662-8CAB-24EAA0B8B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DB5D-A5D1-47D6-8407-04EDFA3C4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31EE-F91F-48DE-916D-F4BF91D22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0F91-1025-4233-8998-346DFB21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75D3-FD2E-4AEE-A221-85F157E4D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7D47-236A-480D-8956-AF36621F4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F437-551F-4354-9AE7-C814C08A8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DF6D-30F7-4C7B-9094-222ECCB19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25C9-58CC-4157-96C0-3BCD455C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722F-8DDD-4E57-BF8D-5C09CC873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B01C-C83F-42DA-A062-661E127E3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2-</a:t>
            </a:r>
            <a:fld id="{359FD861-7997-4C23-969C-0BDB7B1259F5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Roses.java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PianoKeys.jav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Geometry.java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Echo.java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GasMileage.java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Einstein.java" TargetMode="Externa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Countdown.java" TargetMode="Externa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Snowman.java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Facts.jav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2/Addition.java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Data and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scape Sequen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Java escape seque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029200"/>
            <a:ext cx="7238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es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42800" y="1981080"/>
            <a:ext cx="4613400" cy="2755440"/>
            <a:chOff x="2242800" y="1981080"/>
            <a:chExt cx="4613400" cy="2755440"/>
          </a:xfrm>
        </p:grpSpPr>
        <p:sp>
          <p:nvSpPr>
            <p:cNvPr id="111" name=""/>
            <p:cNvSpPr/>
            <p:nvPr/>
          </p:nvSpPr>
          <p:spPr>
            <a:xfrm>
              <a:off x="2242800" y="1981080"/>
              <a:ext cx="23342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Escape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1760" y="1981080"/>
              <a:ext cx="21344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back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t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new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carriage 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ouble quo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single quo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backsl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A750-F155-4F58-8C0D-FBA820F0DCD7}" type="slidenum">
              <a:t>10</a:t>
            </a:fld>
          </a:p>
        </p:txBody>
      </p:sp>
    </p:spTree>
  </p:cSld>
  <p:transition spd="med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752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4501-317F-4AC3-9258-AF07D44BEB80}" type="slidenum">
              <a:t>11</a:t>
            </a:fld>
          </a:p>
        </p:txBody>
      </p:sp>
    </p:spTree>
  </p:cSld>
  <p:transition spd="med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6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name for a location in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l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specifying the variable's name and the type of information that it will 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081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45561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, temp, 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3640" y="5241960"/>
            <a:ext cx="67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ultiple variables can be created in one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672200" y="3168720"/>
            <a:ext cx="1470960" cy="836640"/>
            <a:chOff x="1672200" y="3168720"/>
            <a:chExt cx="1470960" cy="836640"/>
          </a:xfrm>
        </p:grpSpPr>
        <p:sp>
          <p:nvSpPr>
            <p:cNvPr id="122" name=""/>
            <p:cNvSpPr/>
            <p:nvPr/>
          </p:nvSpPr>
          <p:spPr>
            <a:xfrm>
              <a:off x="1672200" y="316872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ata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4560" y="3548160"/>
              <a:ext cx="2286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52160" y="3125880"/>
            <a:ext cx="2004840" cy="836640"/>
            <a:chOff x="4052160" y="3125880"/>
            <a:chExt cx="2004840" cy="836640"/>
          </a:xfrm>
        </p:grpSpPr>
        <p:sp>
          <p:nvSpPr>
            <p:cNvPr id="125" name=""/>
            <p:cNvSpPr/>
            <p:nvPr/>
          </p:nvSpPr>
          <p:spPr>
            <a:xfrm>
              <a:off x="4052160" y="312588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variabl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114440" y="350532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A9C1-1CEB-43FB-9D28-B3CF4FB13963}" type="slidenum">
              <a:t>12</a:t>
            </a:fld>
          </a:p>
        </p:txBody>
      </p:sp>
    </p:spTree>
  </p:cSld>
  <p:transition spd="med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Variable Initializ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can be given an initial value in the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276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variable is referenced in a program, its current value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34340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ianoKey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4120" y="220968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ase = 32, max = 14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D407-22E6-448C-A4D5-4B04BCF20AE4}" type="slidenum">
              <a:t>13</a:t>
            </a:fld>
          </a:p>
        </p:txBody>
      </p:sp>
    </p:spTree>
  </p:cSld>
  <p:transition spd="med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0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ignment operator i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5960" y="2590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=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11360" y="3048120"/>
            <a:ext cx="990720" cy="304560"/>
            <a:chOff x="4311360" y="3048120"/>
            <a:chExt cx="990720" cy="304560"/>
          </a:xfrm>
        </p:grpSpPr>
        <p:sp>
          <p:nvSpPr>
            <p:cNvPr id="136" name=""/>
            <p:cNvSpPr/>
            <p:nvPr/>
          </p:nvSpPr>
          <p:spPr>
            <a:xfrm>
              <a:off x="5302080" y="3048120"/>
              <a:ext cx="0" cy="3045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311360" y="3352680"/>
              <a:ext cx="99036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11720" y="3048120"/>
              <a:ext cx="0" cy="3045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that wa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ver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only assign a value to a variable that is consistent with the variable's declare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metry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ression on the right is evaluated and the result is stored in the variable on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24EC-2820-40C3-AD3D-6830175D457D}" type="slidenum">
              <a:t>14</a:t>
            </a:fld>
          </a:p>
        </p:txBody>
      </p:sp>
    </p:spTree>
  </p:cSld>
  <p:transition spd="med">
    <p:wheel spokes="1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sta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ant is an identifier that is similar to a variable except that it holds the same value during its entire exis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name implies, it is constant, no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iler will issue an error if you try to change the value of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, we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ifier to declare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 int MIN_HEIGHT = 69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A2AD-98BD-46E7-A9E6-43CE16E63D95}" type="slidenum">
              <a:t>15</a:t>
            </a:fld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nsta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re useful for three important rea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they give meaning to otherwise unclear literal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MAX_LOAD means more than the literal 2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they facilitate program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nstant is used in multiple places, its value need only be updated in one pl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, they formally establish that a value should not change, avoiding inadvertent errors by other program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3D49-CCB9-4C3E-8A43-96F6BEB508A0}" type="slidenum">
              <a:t>16</a:t>
            </a:fld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28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CF49-7AAC-4B74-A8D7-6CE49A52DE03}" type="slidenum">
              <a:t>17</a:t>
            </a:fld>
          </a:p>
        </p:txBody>
      </p:sp>
    </p:spTree>
  </p:cSld>
  <p:transition spd="med">
    <p:wheel spokes="1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imitive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eight primitive data types in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of them represent integ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f them represent floating point numb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m represents charac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ne of them represents boolean val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FB9E-F303-45DA-8BA8-A7773640D096}" type="slidenum">
              <a:t>18</a:t>
            </a:fld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umeric Primitive Dat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various numeric primitive types is their size, and therefore the values they can st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523520" y="2743200"/>
            <a:ext cx="7286400" cy="2836800"/>
            <a:chOff x="1523520" y="2743200"/>
            <a:chExt cx="7286400" cy="2836800"/>
          </a:xfrm>
        </p:grpSpPr>
        <p:sp>
          <p:nvSpPr>
            <p:cNvPr id="153" name=""/>
            <p:cNvSpPr/>
            <p:nvPr/>
          </p:nvSpPr>
          <p:spPr>
            <a:xfrm>
              <a:off x="1523520" y="2743200"/>
              <a:ext cx="109944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5080" y="2743200"/>
              <a:ext cx="117396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8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16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3720" y="2743200"/>
              <a:ext cx="496620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Min 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-1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-32,7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-2,147,483,6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&lt; -9 x 10</a:t>
              </a:r>
              <a:r>
                <a:rPr b="1" lang="en-US" sz="2000" spc="-1" strike="noStrike" baseline="30000">
                  <a:solidFill>
                    <a:srgbClr val="009999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+/- 3.4 x 10</a:t>
              </a:r>
              <a:r>
                <a:rPr b="1" lang="en-US" sz="2000" spc="-1" strike="noStrike" baseline="30000">
                  <a:solidFill>
                    <a:srgbClr val="009999"/>
                  </a:solidFill>
                  <a:latin typeface="Arial Unicode MS"/>
                </a:rPr>
                <a:t>38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with 7 significant dig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+/- 1.7 x 10</a:t>
              </a:r>
              <a:r>
                <a:rPr b="1" lang="en-US" sz="2000" spc="-1" strike="noStrike" baseline="30000">
                  <a:solidFill>
                    <a:srgbClr val="009999"/>
                  </a:solidFill>
                  <a:latin typeface="Arial Unicode MS"/>
                </a:rPr>
                <a:t>308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 with 15 significant dig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82000" y="2743200"/>
              <a:ext cx="18676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Max 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32,76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2,147,483,6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&gt; 9 x 10</a:t>
              </a:r>
              <a:r>
                <a:rPr b="1" lang="en-US" sz="2000" spc="-1" strike="noStrike" baseline="30000">
                  <a:solidFill>
                    <a:srgbClr val="009999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8D0D-E984-4682-9297-3DCF94ADA5F1}" type="slidenum">
              <a:t>19</a:t>
            </a:fld>
          </a:p>
        </p:txBody>
      </p:sp>
    </p:spTree>
  </p:cSld>
  <p:transition spd="med">
    <p:wheel spokes="1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ata and Express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plore some other fundamental programming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76D7-1C90-4609-8889-7C1D2FB2E769}" type="slidenum">
              <a:t>2</a:t>
            </a:fld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rac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stores a single charac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literals are delimited by single quo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  'X'    '7'    '$'    ','    '\n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declar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topGrade = 'A'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terminator = ';', separator = ' '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e distinction between a primitive character variable, which holds only one character, and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, which can hold multiple charac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A54F-2B27-4B9D-A5C5-A8B33DBA47D2}" type="slidenum">
              <a:t>20</a:t>
            </a:fld>
          </a:p>
        </p:txBody>
      </p:sp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racter Se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ac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rdered list of characters, with each character corresponding to a unique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in Java can store any character from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code charact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code character set uses sixteen bits per character, allowing for 65,536 unique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n international character set, containing symbols and characters from many world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1CAC-C5B3-4574-ACF3-478124A406DB}" type="slidenum">
              <a:t>21</a:t>
            </a:fld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ract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CII charac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lder and smaller than Unicode, but is still quit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CII characters are a subset of the Unicode character set,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39800" y="3276720"/>
            <a:ext cx="6618600" cy="2287080"/>
            <a:chOff x="1639800" y="3276720"/>
            <a:chExt cx="6618600" cy="2287080"/>
          </a:xfrm>
        </p:grpSpPr>
        <p:sp>
          <p:nvSpPr>
            <p:cNvPr id="164" name=""/>
            <p:cNvSpPr/>
            <p:nvPr/>
          </p:nvSpPr>
          <p:spPr>
            <a:xfrm>
              <a:off x="1639800" y="3276720"/>
              <a:ext cx="29862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uppercase let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lowercase let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punc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dig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special symb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control charac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2120" y="3276720"/>
              <a:ext cx="36262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period, semi-colon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0, 1, 2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&amp;, |, \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carriage return, tab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ED16-8DFC-4D6B-8BA0-91D34A3A96C7}" type="slidenum">
              <a:t>22</a:t>
            </a:fld>
          </a:p>
        </p:txBody>
      </p:sp>
    </p:spTree>
  </p:cSld>
  <p:transition spd="med"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olea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ool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epresents a true or fals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erved w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r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a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only valid values for a boolea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done = fals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can also be used to represent any two states, such as a light bulb being on or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7EC1-C305-499A-B783-001F8E872529}" type="slidenum">
              <a:t>23</a:t>
            </a:fld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908F-5F8E-40F3-B5F9-15E001E4C0E4}" type="slidenum">
              <a:t>24</a:t>
            </a:fld>
          </a:p>
        </p:txBody>
      </p:sp>
    </p:spTree>
  </p:cSld>
  <p:transition spd="med">
    <p:wheel spokes="1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xpress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mbination of one or more operators and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ithmetic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ute numeric results and make use of the arithmetic opera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4040" y="3032280"/>
            <a:ext cx="394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ddition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ubtraction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ultiplication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Division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Remainder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ither or both operands used by an arithmetic operator are floating point, then the result is a 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FAA6-26C2-4B57-8CD9-0DAEB7A2919F}" type="slidenum">
              <a:t>25</a:t>
            </a:fld>
          </a:p>
        </p:txBody>
      </p:sp>
    </p:spTree>
  </p:cSld>
  <p:transition spd="med">
    <p:wheel spokes="1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vision and Remaind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oth operands to the division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integers, the result is an integer (the fractional part is discar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7339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der operator (%) returns the remainder after dividing the second operand into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19720" y="248904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 /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2960" y="309888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42320" y="2498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26480" y="3108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1160" y="486720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 %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4400" y="547704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% 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43760" y="487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27920" y="5486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6F41-B468-4A0B-A81E-18400B0C433A}" type="slidenum">
              <a:t>26</a:t>
            </a:fld>
          </a:p>
        </p:txBody>
      </p:sp>
    </p:spTree>
  </p:cSld>
  <p:transition spd="med">
    <p:wheel spokes="1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perator Preced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can be combined into complex 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 =  total + count / max - offse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have a well-defined precedence which determines the order in which they are evalu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cation, division, and remainder are evaluated prior to addition, subtraction, and string concate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operators with the same precedence are evaluated from left to right, but parentheses can be used to force the evaluation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B9E8-A75F-4D39-830D-D1887A3FE301}" type="slidenum">
              <a:t>27</a:t>
            </a:fld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perator Precede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order of evaluation in the following express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69960" y="23623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188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9240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9840" y="23623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833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2120" y="2743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0228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92800" y="274320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0520" y="358128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7328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0700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97520" y="396252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35400" y="396252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3080" y="48006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6560" y="5181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2560" y="5181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96000" y="5181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33880" y="5181480"/>
            <a:ext cx="304920" cy="30492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40FE-42A4-41EB-854A-20BF791225CF}" type="slidenum">
              <a:t>28</a:t>
            </a:fld>
          </a:p>
        </p:txBody>
      </p:sp>
    </p:spTree>
  </p:cSld>
  <p:transition spd="med">
    <p:wheel spokes="1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xpression Tre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valuation of a particular expression can be shown using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ess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ors lower in the tree have higher precedence for that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54280" y="36576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(b – c) /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876920" y="3124080"/>
            <a:ext cx="2286000" cy="2819160"/>
            <a:chOff x="4876920" y="3124080"/>
            <a:chExt cx="2286000" cy="2819160"/>
          </a:xfrm>
        </p:grpSpPr>
        <p:sp>
          <p:nvSpPr>
            <p:cNvPr id="214" name=""/>
            <p:cNvSpPr/>
            <p:nvPr/>
          </p:nvSpPr>
          <p:spPr>
            <a:xfrm>
              <a:off x="4876920" y="39621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38840" y="3992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86400" y="31240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48320" y="3153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8520" y="388584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10440" y="3916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4647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3240" y="4678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05720" y="4647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7640" y="4678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10080" y="548604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2360" y="5516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548604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8160" y="5516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105520" y="35812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714640" y="358128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019920" y="43426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477120" y="43426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638680" y="510516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6019920" y="51051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5A78-3635-4B74-AFA0-467BCEA945E7}" type="slidenum">
              <a:t>29</a:t>
            </a:fld>
          </a:p>
        </p:txBody>
      </p:sp>
    </p:spTree>
  </p:cSld>
  <p:transition spd="med">
    <p:wheel spokes="1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220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48F7-4F84-453B-9D6A-9531B1F5ADFA}" type="slidenum">
              <a:t>3</a:t>
            </a:fld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ignment operator has a lower precedence than the arithmetic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6560" y="228600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irst the expression on the right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ide of the = operator is evalu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44920" y="5180040"/>
            <a:ext cx="408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en the result is stored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variable on the left hand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6920" y="319896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swer  =  sum / 4 + MAX * low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365616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365616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65616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65616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16200000">
            <a:off x="5219280" y="2855880"/>
            <a:ext cx="304560" cy="3276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1"/>
          </p:cNvCxnSpPr>
          <p:nvPr/>
        </p:nvCxnSpPr>
        <p:spPr>
          <a:xfrm flipV="1" rot="16200000">
            <a:off x="3668400" y="2958480"/>
            <a:ext cx="397440" cy="3010680"/>
          </a:xfrm>
          <a:prstGeom prst="bentConnector4">
            <a:avLst>
              <a:gd name="adj1" fmla="val -53581"/>
              <a:gd name="adj2" fmla="val 100000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75D7-EC89-4BAF-9F4E-C13C25ED7DAF}" type="slidenum">
              <a:t>30</a:t>
            </a:fld>
          </a:p>
        </p:txBody>
      </p:sp>
    </p:spTree>
  </p:cSld>
  <p:transition spd="med">
    <p:wheel spokes="1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Revisite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ght and left hand sides of an assignment statement can contain the sam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26400" y="2286000"/>
            <a:ext cx="33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irst, one is added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riginal value of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45000" y="4646520"/>
            <a:ext cx="53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en the result is stored back into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(overwriting the original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5440" y="312264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=  count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 rot="16200000">
            <a:off x="4835160" y="323604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1"/>
          </p:cNvCxnSpPr>
          <p:nvPr/>
        </p:nvCxnSpPr>
        <p:spPr>
          <a:xfrm flipV="1" rot="16200000">
            <a:off x="3870000" y="2934720"/>
            <a:ext cx="319680" cy="1916640"/>
          </a:xfrm>
          <a:prstGeom prst="bentConnector4">
            <a:avLst>
              <a:gd name="adj1" fmla="val -66629"/>
              <a:gd name="adj2" fmla="val 99567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D663-55FF-46E2-8FE9-BEDA22F93EBB}" type="slidenum">
              <a:t>31</a:t>
            </a:fld>
          </a:p>
        </p:txBody>
      </p:sp>
    </p:spTree>
  </p:cSld>
  <p:transition spd="med">
    <p:wheel spokes="1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crement and Decr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crement and decrement operators use only one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ment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one to its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rement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ubtracts one from its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functionally equivalent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E8DB-04F3-40AD-A6C3-9A89120964C9}" type="slidenum">
              <a:t>32</a:t>
            </a:fld>
          </a:p>
        </p:txBody>
      </p:sp>
    </p:spTree>
  </p:cSld>
  <p:transition spd="med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crement and Decre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crement and decrement operators can be appli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fix 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 f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+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used as part of a larger expression, the two forms can have different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eir subtleties, the increment and decrement operators should be used with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DD9D-1A80-4481-BD88-51212AA71B7C}" type="slidenum">
              <a:t>33</a:t>
            </a:fld>
          </a:p>
        </p:txBody>
      </p:sp>
    </p:spTree>
  </p:cSld>
  <p:transition spd="med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we perform an operation on a variable, and then store the result back into tha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simplify tha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e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 += cou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 = num + cou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9A07-B7EB-4187-A11F-9FB9EDA60FD9}" type="slidenum">
              <a:t>34</a:t>
            </a:fld>
          </a:p>
        </p:txBody>
      </p:sp>
    </p:spTree>
  </p:cSld>
  <p:transition spd="med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assignment operators in Java,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36840" y="2133720"/>
            <a:ext cx="6235560" cy="3011400"/>
            <a:chOff x="1536840" y="2133720"/>
            <a:chExt cx="6235560" cy="3011400"/>
          </a:xfrm>
        </p:grpSpPr>
        <p:sp>
          <p:nvSpPr>
            <p:cNvPr id="261" name=""/>
            <p:cNvSpPr/>
            <p:nvPr/>
          </p:nvSpPr>
          <p:spPr>
            <a:xfrm>
              <a:off x="1536840" y="213372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+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-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*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43400" y="213372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+=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-=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*=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/=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%=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1320" y="2133720"/>
              <a:ext cx="225108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Equivalent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+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-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*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/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%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ACC0-D3AD-4252-BBA2-F829C08ACA27}" type="slidenum">
              <a:t>35</a:t>
            </a:fld>
          </a:p>
        </p:txBody>
      </p:sp>
    </p:spTree>
  </p:cSld>
  <p:transition spd="med">
    <p:wheel spokes="1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ght hand side of an assignment operator can be a complex ex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tire right-hand expression is evaluated first, then the result is combined with the origin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/= (total-MIN) % nu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result / ((total-MIN) % num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3B71-66C5-40E6-BB21-40B28E7326F9}" type="slidenum">
              <a:t>36</a:t>
            </a:fld>
          </a:p>
        </p:txBody>
      </p:sp>
    </p:spTree>
  </p:cSld>
  <p:transition spd="med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Operat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havior of some assignment operators depends on the types of th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operands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are strings, the assignment operator performs string concate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havior of an assignment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ways consistent with the behavior of the corresponding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CCA7-9EFC-46BD-A5FD-5E04B46E0084}" type="slidenum">
              <a:t>37</a:t>
            </a:fld>
          </a:p>
        </p:txBody>
      </p:sp>
    </p:spTree>
  </p:cSld>
  <p:transition spd="med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1ED6-A278-4804-A040-FDD9F51747A7}" type="slidenum">
              <a:t>38</a:t>
            </a:fld>
          </a:p>
        </p:txBody>
      </p:sp>
    </p:spTree>
  </p:cSld>
  <p:transition spd="med">
    <p:wheel spokes="1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ata Conve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it is convenient to convert data from one type to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n a particular situation we may want to treat an integer as a floating poin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conversions do not change the type of a variable or the value that's stored in it – they only convert a value as part of a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C7C9-AA0A-415D-8915-F261087B9566}" type="slidenum">
              <a:t>39</a:t>
            </a:fld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racter String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ring of characters can be represented 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ing lite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putting double quotes around the tex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a string literal.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123 Main Street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X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character string is an object in Java, defin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tring literal represent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A07D-0234-49CB-8089-141D84F0D896}" type="slidenum">
              <a:t>4</a:t>
            </a:fld>
          </a:p>
        </p:txBody>
      </p:sp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ata Conve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s must be handled carefully to avoid losing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dening conver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afest because they tend to go from a small data type to a larger one (such 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rrowing conver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lose information because they tend to go from a large data type to a smaller one (such a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Java, data conversions can occur in three way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C924-664D-4C8A-8EAB-72304A3E77DB}" type="slidenum">
              <a:t>40</a:t>
            </a:fld>
          </a:p>
        </p:txBody>
      </p:sp>
    </p:spTree>
  </p:cSld>
  <p:transition spd="med"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ssignment Conve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when a value of one type is assigned to a variable of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n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ll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riable, the following assignment converts the valu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ll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ney =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widening conversions can happen via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value or typ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ll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d no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727A-260C-4C12-868E-28129BA815C2}" type="slidenum">
              <a:t>41</a:t>
            </a:fld>
          </a:p>
        </p:txBody>
      </p:sp>
    </p:spTree>
  </p:cSld>
  <p:transition spd="med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ata Convers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ppens automatically when operators in expressions convert their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onverted to a floating point value to perform the following cal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sum / cou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5EAE-426B-484B-8C87-D7AB009470F2}" type="slidenum">
              <a:t>42</a:t>
            </a:fld>
          </a:p>
        </p:txBody>
      </p:sp>
    </p:spTree>
  </p:cSld>
  <p:transition spd="med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ast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powerful, and dangerous, technique for con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widening and narrowing conversions can be accomplished by explicitly casting a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ast, the type is put in parentheses in front of the value being conve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integers, but we want a floating point result when dividing them, we can ca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(float) total / cou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571D-8413-49D5-87E3-EAE8FDC3BDAE}" type="slidenum">
              <a:t>43</a:t>
            </a:fld>
          </a:p>
        </p:txBody>
      </p:sp>
    </p:spTree>
  </p:cSld>
  <p:transition spd="med">
    <p:wheel spokes="1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2AFF-16E1-4AC4-85CE-983F444BF19E}" type="slidenum">
              <a:t>44</a:t>
            </a:fld>
          </a:p>
        </p:txBody>
      </p:sp>
    </p:spTree>
  </p:cSld>
  <p:transition spd="med">
    <p:wheel spokes="1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eractive Program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generally need input on which to 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provides convenient methods for reading input values of various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can be set up to read input from various sources, including the user typing values on the key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board input is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A404-327D-457D-B47E-232F90E9CAF9}" type="slidenum">
              <a:t>45</a:t>
            </a:fld>
          </a:p>
        </p:txBody>
      </p:sp>
    </p:spTree>
  </p:cSld>
  <p:transition spd="med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ading Inp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line creates a Scanner object that reads from the keyboar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ner scan = new Scanner (System.in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creat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created,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can be used to invoke various input methods, such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= scan.nextLine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307B-3F7B-4F9A-8177-A0B4631A4C4A}" type="slidenum">
              <a:t>46</a:t>
            </a:fld>
          </a:p>
        </p:txBody>
      </p:sp>
    </p:spTree>
  </p:cSld>
  <p:transition spd="med"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ading Inp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library, and must be imported into a program to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ch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reads all of the input until the end of the line is f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tails of object creation and class libraries are discussed further in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F7F2-A7DB-4216-9C45-B014AA9CDA4C}" type="slidenum">
              <a:t>47</a:t>
            </a:fld>
          </a:p>
        </p:txBody>
      </p:sp>
    </p:spTree>
  </p:cSld>
  <p:transition spd="med">
    <p:wheel spokes="1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put Toke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 specified otherwise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te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separate the elements (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the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space includes space characters, tabs, new line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reads the next input token and returns it as a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ad data of particular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sMileag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9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8C90-C7FB-4A5C-82BD-5E1568086659}" type="slidenum">
              <a:t>48</a:t>
            </a:fld>
          </a:p>
        </p:txBody>
      </p:sp>
    </p:spTree>
  </p:cSld>
  <p:transition spd="med"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492B-B9FB-447A-9389-E33C08AD85E5}" type="slidenum">
              <a:t>49</a:t>
            </a:fld>
          </a:p>
        </p:txBody>
      </p:sp>
    </p:spTree>
  </p:cSld>
  <p:transition spd="med">
    <p:wheel spokes="1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println Metho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 from Chapter 1, we invok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to print a character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represents a destination (the monitor screen) to which we can send 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9920" y="374004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"Whatever you are, be a good one.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8400" y="4273200"/>
            <a:ext cx="1295280" cy="834480"/>
            <a:chOff x="1238400" y="4273200"/>
            <a:chExt cx="1295280" cy="834480"/>
          </a:xfrm>
        </p:grpSpPr>
        <p:sp>
          <p:nvSpPr>
            <p:cNvPr id="91" name=""/>
            <p:cNvSpPr/>
            <p:nvPr/>
          </p:nvSpPr>
          <p:spPr>
            <a:xfrm>
              <a:off x="1373040" y="470880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771560" y="3739680"/>
              <a:ext cx="228600" cy="1295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57800" y="4197240"/>
            <a:ext cx="1177560" cy="1215000"/>
            <a:chOff x="2557800" y="4197240"/>
            <a:chExt cx="1177560" cy="1215000"/>
          </a:xfrm>
        </p:grpSpPr>
        <p:sp>
          <p:nvSpPr>
            <p:cNvPr id="94" name=""/>
            <p:cNvSpPr/>
            <p:nvPr/>
          </p:nvSpPr>
          <p:spPr>
            <a:xfrm>
              <a:off x="2557800" y="4708440"/>
              <a:ext cx="117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143160" y="419724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20680" y="4349880"/>
            <a:ext cx="4798440" cy="1215000"/>
            <a:chOff x="3820680" y="4349880"/>
            <a:chExt cx="4798440" cy="1215000"/>
          </a:xfrm>
        </p:grpSpPr>
        <p:sp>
          <p:nvSpPr>
            <p:cNvPr id="97" name=""/>
            <p:cNvSpPr/>
            <p:nvPr/>
          </p:nvSpPr>
          <p:spPr>
            <a:xfrm>
              <a:off x="3820680" y="4861080"/>
              <a:ext cx="479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nformation provided to the 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(parameter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039000" y="2292480"/>
              <a:ext cx="380880" cy="4495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17000 h 4495680"/>
                <a:gd name="textAreaBottom" fmla="*/ 437868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ECCA-852A-4E97-B012-5697DC23BD05}" type="slidenum">
              <a:t>5</a:t>
            </a:fld>
          </a:p>
        </p:txBody>
      </p:sp>
    </p:spTree>
  </p:cSld>
  <p:transition spd="med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roduction to Graphic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few sections of each chapter of the textbook focus on graphics and graphical user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cture or drawing must be digitized for storage on a 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cture is made up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icture elements), and each pixel is stored separ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pixels used to represent a pictur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cture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pixels that can be displayed by a monitor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itor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3E03-80B0-4189-9516-DEACBE2A4A3A}" type="slidenum">
              <a:t>50</a:t>
            </a:fld>
          </a:p>
        </p:txBody>
      </p:sp>
    </p:spTree>
  </p:cSld>
  <p:transition spd="med"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ordinate System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ixel can be identified using a two-dimensional coordinate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eferring to a pixel in a Java program, we use a coordinate system with the origin in the top-left cor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10400" y="3519360"/>
            <a:ext cx="4797720" cy="2654280"/>
            <a:chOff x="2210400" y="3519360"/>
            <a:chExt cx="4797720" cy="2654280"/>
          </a:xfrm>
        </p:grpSpPr>
        <p:sp>
          <p:nvSpPr>
            <p:cNvPr id="300" name=""/>
            <p:cNvSpPr/>
            <p:nvPr/>
          </p:nvSpPr>
          <p:spPr>
            <a:xfrm>
              <a:off x="2819160" y="3900240"/>
              <a:ext cx="0" cy="2133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19160" y="3900240"/>
              <a:ext cx="4114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63760" y="5805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62880" y="3519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10400" y="351936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0, 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819520" y="49672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3900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7640" y="49672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12, 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84480" y="3443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3760" y="473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9E53-2ABC-485D-971F-E15FBDB9098B}" type="slidenum">
              <a:t>51</a:t>
            </a:fld>
          </a:p>
        </p:txBody>
      </p:sp>
    </p:spTree>
  </p:cSld>
  <p:transition spd="med">
    <p:wheel spokes="1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presenting Col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lack and white picture could be stored using one bit per pixel (0 = white and 1 = blac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ored picture requires more information; there are several techniques for representing col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every color can be represented as a mixture of the three additive primary colors Red, Green, and B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lor is represented by three numbers between 0 and 255 that collectively are call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GB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FBC7-4BBC-4C8C-BA48-1608141C6DF9}" type="slidenum">
              <a:t>52</a:t>
            </a:fld>
          </a:p>
        </p:txBody>
      </p:sp>
    </p:spTree>
  </p:cSld>
  <p:transition spd="med"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olor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or in a Java program is represented as an object created from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also contains several predefined colors, including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516040" y="3276720"/>
            <a:ext cx="4644720" cy="2450520"/>
            <a:chOff x="2516040" y="3276720"/>
            <a:chExt cx="4644720" cy="2450520"/>
          </a:xfrm>
        </p:grpSpPr>
        <p:sp>
          <p:nvSpPr>
            <p:cNvPr id="315" name=""/>
            <p:cNvSpPr/>
            <p:nvPr/>
          </p:nvSpPr>
          <p:spPr>
            <a:xfrm>
              <a:off x="2516040" y="3276720"/>
              <a:ext cx="200952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cy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o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wh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ye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98960" y="3276720"/>
              <a:ext cx="216180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RGB 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0, 0,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0, 0, 2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0, 255, 2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255, 200,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255, 255, 2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urier New"/>
                </a:rPr>
                <a:t>255, 255,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40E4-F0CA-4A51-9634-1DB9BDDDD722}" type="slidenum">
              <a:t>53</a:t>
            </a:fld>
          </a:p>
        </p:txBody>
      </p:sp>
    </p:spTree>
  </p:cSld>
  <p:transition spd="med">
    <p:wheel spokes="1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5029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B81D-E10F-419B-9521-E598646F5D02}" type="slidenum">
              <a:t>54</a:t>
            </a:fld>
          </a:p>
        </p:txBody>
      </p:sp>
    </p:spTree>
  </p:cSld>
  <p:transition spd="med">
    <p:wheel spokes="1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pple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ava application is a stand-alone program with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(like the ones we've seen so f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rogram that is intended to transported over the Web and executed using a web 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et also can be executed using the appletviewer tool of the Java Software Development K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et doesn't hav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, there are several special methods that serve specific purp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7E7C-4671-4A98-A76A-E75ADD04EE8C}" type="slidenum">
              <a:t>55</a:t>
            </a:fld>
          </a:p>
        </p:txBody>
      </p:sp>
    </p:spTree>
  </p:cSld>
  <p:transition spd="med">
    <p:wheel spokes="1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pple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, for instance, is executed automatically and is used to draw the applet’s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accepts a parameter that is an object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defin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phics con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which we can draw shapes and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has several methods for drawing sh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4C83-4A36-4CD9-9E0C-D5E129AE08D4}" type="slidenum">
              <a:t>56</a:t>
            </a:fld>
          </a:p>
        </p:txBody>
      </p:sp>
    </p:spTree>
  </p:cSld>
  <p:transition spd="med">
    <p:wheel spokes="1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pple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that defines an app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s explored in more detail in Chapter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instei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9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et is embedded into an HTML file using a tag that references the bytecode file of the appl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ytecode version of the program is transported across the web and executed by a Java interpreter that is part of the 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4CD1-28CA-4066-946D-DDAF6CB15A27}" type="slidenum">
              <a:t>57</a:t>
            </a:fld>
          </a:p>
        </p:txBody>
      </p:sp>
    </p:spTree>
  </p:cSld>
  <p:transition spd="med">
    <p:wheel spokes="1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HTML applet Ta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33120" y="1523880"/>
            <a:ext cx="799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The Einstein Applet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="Einstein.class" width=350 height=175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A11E-8E7C-4042-B87E-854AD6FDBA22}" type="slidenum">
              <a:t>58</a:t>
            </a:fld>
          </a:p>
        </p:txBody>
      </p:sp>
    </p:spTree>
  </p:cSld>
  <p:transition spd="med">
    <p:wheel spokes="1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114300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5562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5208-10E5-4BA0-B5C6-1DC193FDA104}" type="slidenum">
              <a:t>59</a:t>
            </a:fld>
          </a:p>
        </p:txBody>
      </p:sp>
    </p:spTree>
  </p:cSld>
  <p:transition spd="med">
    <p:wheel spokes="1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print Method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247400"/>
            <a:ext cx="792468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provides another service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s similar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, except that it does not advance to the next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anything printed after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ment will appear on the same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ntdow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6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8E1F-7F96-473D-BEED-AB23CF3BB8FF}" type="slidenum">
              <a:t>6</a:t>
            </a:fld>
          </a:p>
        </p:txBody>
      </p:sp>
    </p:spTree>
  </p:cSld>
  <p:transition spd="med">
    <p:wheel spokes="1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Sha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plore some of the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that draw shapes in more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ape can be filled or unfilled, depending on which method is invo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thod parameters specify coordinates and 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s with curves, like an oval, are usually drawn by specifying the shape’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unding rect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c can be thought of as a section of an o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4659-DACE-4819-A600-64B99562B8A6}" type="slidenum">
              <a:t>60</a:t>
            </a:fld>
          </a:p>
        </p:txBody>
      </p:sp>
    </p:spTree>
  </p:cSld>
  <p:transition spd="med">
    <p:wheel spokes="1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a 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46320" y="1397160"/>
            <a:ext cx="6906960" cy="3479760"/>
            <a:chOff x="1246320" y="1397160"/>
            <a:chExt cx="6906960" cy="3479760"/>
          </a:xfrm>
        </p:grpSpPr>
        <p:sp>
          <p:nvSpPr>
            <p:cNvPr id="335" name=""/>
            <p:cNvSpPr/>
            <p:nvPr/>
          </p:nvSpPr>
          <p:spPr>
            <a:xfrm>
              <a:off x="160020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2156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4632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85580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700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2600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33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7524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35053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92360" y="4648320"/>
            <a:ext cx="5057640" cy="1161000"/>
            <a:chOff x="2592360" y="4648320"/>
            <a:chExt cx="5057640" cy="1161000"/>
          </a:xfrm>
        </p:grpSpPr>
        <p:sp>
          <p:nvSpPr>
            <p:cNvPr id="348" name=""/>
            <p:cNvSpPr/>
            <p:nvPr/>
          </p:nvSpPr>
          <p:spPr>
            <a:xfrm>
              <a:off x="2592360" y="464832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0, 20, 150, 45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2360" y="541044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50, 45, 10, 2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42000" y="5031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057400" y="2362320"/>
            <a:ext cx="373392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EC73-59AC-4BFD-B6A2-0298A94F9D1F}" type="slidenum">
              <a:t>61</a:t>
            </a:fld>
          </a:p>
        </p:txBody>
      </p:sp>
    </p:spTree>
  </p:cSld>
  <p:transition spd="med">
    <p:wheel spokes="1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a Rectang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46320" y="1397160"/>
            <a:ext cx="6906960" cy="3479760"/>
            <a:chOff x="1246320" y="1397160"/>
            <a:chExt cx="6906960" cy="3479760"/>
          </a:xfrm>
        </p:grpSpPr>
        <p:sp>
          <p:nvSpPr>
            <p:cNvPr id="354" name=""/>
            <p:cNvSpPr/>
            <p:nvPr/>
          </p:nvSpPr>
          <p:spPr>
            <a:xfrm>
              <a:off x="160020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0020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56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4632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48436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Rect (50, 20, 100, 4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020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700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2362320"/>
            <a:ext cx="2590920" cy="990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971800" y="3543480"/>
            <a:ext cx="2590560" cy="368280"/>
            <a:chOff x="2971800" y="3543480"/>
            <a:chExt cx="2590560" cy="368280"/>
          </a:xfrm>
        </p:grpSpPr>
        <p:sp>
          <p:nvSpPr>
            <p:cNvPr id="365" name=""/>
            <p:cNvSpPr/>
            <p:nvPr/>
          </p:nvSpPr>
          <p:spPr>
            <a:xfrm>
              <a:off x="2971800" y="358128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36680" y="3543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91320" y="2362320"/>
            <a:ext cx="410760" cy="990360"/>
            <a:chOff x="5791320" y="2362320"/>
            <a:chExt cx="410760" cy="990360"/>
          </a:xfrm>
        </p:grpSpPr>
        <p:sp>
          <p:nvSpPr>
            <p:cNvPr id="368" name=""/>
            <p:cNvSpPr/>
            <p:nvPr/>
          </p:nvSpPr>
          <p:spPr>
            <a:xfrm>
              <a:off x="5791320" y="23623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2760" y="27050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E0C0-C041-4708-82EC-4AF79E618645}" type="slidenum">
              <a:t>62</a:t>
            </a:fld>
          </a:p>
        </p:txBody>
      </p:sp>
    </p:spTree>
  </p:cSld>
  <p:transition spd="med">
    <p:wheel spokes="1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an Oval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246320" y="1397160"/>
            <a:ext cx="6906960" cy="3479760"/>
            <a:chOff x="1246320" y="1397160"/>
            <a:chExt cx="6906960" cy="3479760"/>
          </a:xfrm>
        </p:grpSpPr>
        <p:sp>
          <p:nvSpPr>
            <p:cNvPr id="372" name=""/>
            <p:cNvSpPr/>
            <p:nvPr/>
          </p:nvSpPr>
          <p:spPr>
            <a:xfrm>
              <a:off x="160020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156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4632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408040" y="52959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Oval (175, 20, 50, 8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2912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700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2362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2362320"/>
            <a:ext cx="1600200" cy="19047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181480" y="4381560"/>
            <a:ext cx="1600200" cy="368280"/>
            <a:chOff x="5181480" y="4381560"/>
            <a:chExt cx="1600200" cy="368280"/>
          </a:xfrm>
        </p:grpSpPr>
        <p:sp>
          <p:nvSpPr>
            <p:cNvPr id="383" name=""/>
            <p:cNvSpPr/>
            <p:nvPr/>
          </p:nvSpPr>
          <p:spPr>
            <a:xfrm>
              <a:off x="5181480" y="44197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0280" y="4381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934320" y="2362320"/>
            <a:ext cx="410760" cy="1904760"/>
            <a:chOff x="6934320" y="2362320"/>
            <a:chExt cx="410760" cy="1904760"/>
          </a:xfrm>
        </p:grpSpPr>
        <p:sp>
          <p:nvSpPr>
            <p:cNvPr id="386" name=""/>
            <p:cNvSpPr/>
            <p:nvPr/>
          </p:nvSpPr>
          <p:spPr>
            <a:xfrm>
              <a:off x="6934320" y="23623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35760" y="31748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181480" y="2362320"/>
            <a:ext cx="1600200" cy="1904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77480" y="3659040"/>
            <a:ext cx="140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o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4038480"/>
            <a:ext cx="8384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0C19-7AD6-4B98-8F5F-1E499EEA5BB1}" type="slidenum">
              <a:t>63</a:t>
            </a:fld>
          </a:p>
        </p:txBody>
      </p:sp>
    </p:spTree>
  </p:cSld>
  <p:transition spd="med">
    <p:wheel spokes="1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rawing Shap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drawing surface h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graphics context has a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eground co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an be set explici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nowman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1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B329-A701-402F-9892-C9F2458BC0C9}" type="slidenum">
              <a:t>64</a:t>
            </a:fld>
          </a:p>
        </p:txBody>
      </p:sp>
    </p:spTree>
  </p:cSld>
  <p:transition spd="med">
    <p:wheel spokes="1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2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2329-B90D-4B63-9C2B-5EF3BC75DB7E}" type="slidenum">
              <a:t>65</a:t>
            </a:fld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ring Concaten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ing concatenation oper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+) is used to append one string to the end of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Peanut butter " + "and jelly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be used to append a number to a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ring literal cannot be broken across two lines in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cts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6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83B4-38DD-4C21-9970-057879B4D35D}" type="slidenum">
              <a:t>7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ring Concaten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+ operator is also used for arithmetic 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 that it performs depends on the type of the information on which it oper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oth operands are strings, or if one is a string and one is a number, it performs string concate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oth operands are numeric, it adds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+ operator is evaluated left to right, but parentheses can be used to force the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dition.jav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page 6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3EE7-D472-48F1-9570-08A3191C13BF}" type="slidenum">
              <a:t>8</a:t>
            </a:fld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scape Sequen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we wanted to print a the quote charac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line would confuse the compiler because it would interpret the second quote as the end of the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I said "Hello" to you."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cape sequ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eries of characters that represents a special charac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scape sequence begins with a backslash characte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I said \"Hello\" to you."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1625-4369-4768-8631-4E7F904D32E2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vuuser</cp:lastModifiedBy>
  <dcterms:modified xsi:type="dcterms:W3CDTF">2004-07-15T12:59:47Z</dcterms:modified>
  <cp:revision>25</cp:revision>
  <dc:subject/>
  <dc:title>PowerPoint Presentation</dc:title>
</cp:coreProperties>
</file>