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AE3E-C0F1-4BFB-8083-BCE461BF2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01E9B-ED8D-4512-B963-4D8BC15A8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43A3E-2915-495B-8F0F-43185A544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3FD4-88D7-43D0-848E-195DC566A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EB84-2801-4A98-95D5-F8E027B9A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7270-435E-4DD0-91F3-DC794F63A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37A1-88A2-426B-BB17-690E8940A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63809-61DE-41D7-BE3A-51D3A169F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26C1-FFEF-46B1-A966-8FB235676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993A-E950-42BE-ABA1-2FC5A6741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F05F-093A-4F2C-B1F0-349A748C8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0ED1-A05C-4516-B838-82F284AEF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7-</a:t>
            </a:r>
            <a:fld id="{0921360A-8EC7-4A50-88AE-F3F53BE4D7D3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7/BasicArray.java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7/ReverseOrder.java" TargetMode="External"/><Relationship Id="rId3" Type="http://schemas.openxmlformats.org/officeDocument/2006/relationships/hyperlink" Target="file:///../examples/chap07/ReverseOrder.java" TargetMode="External"/><Relationship Id="rId4" Type="http://schemas.openxmlformats.org/officeDocument/2006/relationships/hyperlink" Target="file:///../examples/chap07/LetterCount.java" TargetMode="External"/><Relationship Id="rId5" Type="http://schemas.openxmlformats.org/officeDocument/2006/relationships/hyperlink" Target="file:///../examples/chap07/LetterCount.java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7/Primes.java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7/GradeRange.java" TargetMode="External"/><Relationship Id="rId3" Type="http://schemas.openxmlformats.org/officeDocument/2006/relationships/hyperlink" Target="file:///../examples/chap07/GradeRange.java" TargetMode="External"/><Relationship Id="rId4" Type="http://schemas.openxmlformats.org/officeDocument/2006/relationships/hyperlink" Target="file:///../examples/chap07/Grade.java" TargetMode="External"/><Relationship Id="rId5" Type="http://schemas.openxmlformats.org/officeDocument/2006/relationships/hyperlink" Target="file:///../examples/chap07/Tunes.java" TargetMode="External"/><Relationship Id="rId6" Type="http://schemas.openxmlformats.org/officeDocument/2006/relationships/hyperlink" Target="file:///../examples/chap07/CDCollection.java" TargetMode="External"/><Relationship Id="rId7" Type="http://schemas.openxmlformats.org/officeDocument/2006/relationships/hyperlink" Target="file:///../examples/chap07/CDCollection.java" TargetMode="External"/><Relationship Id="rId8" Type="http://schemas.openxmlformats.org/officeDocument/2006/relationships/hyperlink" Target="file:///../examples/chap07/CD.java" TargetMode="External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a1f"/>
                </a:solidFill>
                <a:latin typeface="Arial"/>
              </a:rPr>
              <a:t>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eclaring Array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ther examples of array decla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[] prices = new float[500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[] flag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ags = new boolean[20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[] codes = new char[1750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CE7D-B750-4820-BCCE-7E04CAA02931}" type="slidenum">
              <a:t>10</a:t>
            </a:fld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Using Array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terator version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can be used when processing array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92360" y="228600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score : s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sco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335268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ly appropriate when processing all array elements from top (lowest index) to bottom (highest ind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BasicArray.jav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37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955A-FF5F-4297-90B5-8F3C2DE65FC9}" type="slidenum">
              <a:t>11</a:t>
            </a:fld>
          </a:p>
        </p:txBody>
      </p:sp>
    </p:spTree>
  </p:cSld>
  <p:transition>
    <p:wheel spokes="1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unds Check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an array is created, it has a fixed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dex used in an array reference must specify a valid e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, the index value must be in range 0 to N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interpreter throws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IndexOutOfBoundsExcep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n array index is out of boun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called automati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unds che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9D72-7A09-4477-AB9F-A44ED379B61F}" type="slidenum">
              <a:t>12</a:t>
            </a:fld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unds Check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f the arr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hold 100 values, it can be indexed using only the numbers 0 to 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valu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100, then the following reference will cause an exception to be throw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codes[count]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common to introduc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ff-by-one err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 using 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8920" y="5318280"/>
            <a:ext cx="627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ndex=0; index &lt;= 100; index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s[index] = index*50 + epsil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75520" y="4724280"/>
            <a:ext cx="1255320" cy="976320"/>
            <a:chOff x="5375520" y="4724280"/>
            <a:chExt cx="1255320" cy="976320"/>
          </a:xfrm>
        </p:grpSpPr>
        <p:sp>
          <p:nvSpPr>
            <p:cNvPr id="142" name=""/>
            <p:cNvSpPr/>
            <p:nvPr/>
          </p:nvSpPr>
          <p:spPr>
            <a:xfrm>
              <a:off x="5375520" y="472428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8480" y="5319360"/>
              <a:ext cx="106668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35680" y="5090760"/>
              <a:ext cx="759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5017E-A431-44F8-B606-4AEAF5961735}" type="slidenum">
              <a:t>13</a:t>
            </a:fld>
          </a:p>
        </p:txBody>
      </p:sp>
    </p:spTree>
  </p:cSld>
  <p:transition>
    <p:wheel spokes="1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unds Check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rray object has a public constant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stores the size of the ar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referenced using the array n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.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lds the number of elements, not the largest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ReverseOrder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37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4"/>
              </a:rPr>
              <a:t>LetterCount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5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37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2ADF-862B-4E9F-AEB8-5935A3CEEBC0}" type="slidenum">
              <a:t>14</a:t>
            </a:fld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lternate Array Syntax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rackets of the array type can be associated with the element type or with the name of the ar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the following two declarations are equival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[] price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 prices[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format generally is more readable and should be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F5B15-5F34-4381-91D1-03C57381E2FC}" type="slidenum">
              <a:t>15</a:t>
            </a:fld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itializer Lis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tializer 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used to instantiate and fill an array in one ste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s are delimited by braces and separated by comm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3400" y="3962520"/>
            <a:ext cx="612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units = {147, 323, 89, 933, 54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69, 97, 114, 298, 476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3400" y="5105520"/>
            <a:ext cx="74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[] letterGrades = {'A', 'B', 'C', 'D', ’F'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D903-DF7B-42B9-A03E-F653DC1E965C}" type="slidenum">
              <a:t>16</a:t>
            </a:fld>
          </a:p>
        </p:txBody>
      </p:sp>
    </p:spTree>
  </p:cSld>
  <p:transition>
    <p:wheel spokes="1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itializer Lis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an initializer list is us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perator is not u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ize value is specifi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the array is determined by the number of items in the initializer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itializer list can be used only in the array decla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Primes.jav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38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BE47-E74D-486A-9623-663EEEF7F958}" type="slidenum">
              <a:t>17</a:t>
            </a:fld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s as Paramet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ntire array can be passed as a parameter to a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any other object, the reference to the array is passed, making the formal and actual parameters aliases of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changing an array element within the method changes the orig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dividual array element can be passed to a method as well, in which case the type of the formal parameter is the same as the element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2CC3-4F15-4A77-8FF5-438755BB86F4}" type="slidenum">
              <a:t>18</a:t>
            </a:fld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7960" y="1143000"/>
            <a:ext cx="4839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1752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147B-318F-445F-8AA7-273F3E6DEAA4}" type="slidenum">
              <a:t>19</a:t>
            </a:fld>
          </a:p>
        </p:txBody>
      </p:sp>
    </p:spTree>
  </p:cSld>
  <p:transition>
    <p:wheel spokes="1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are objects that help us organize large amounts of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7 focuses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declaration and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unds checking and capac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s that store object 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use events and keyboard 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21E8-F88F-43B6-B8A2-F064CA4C96D5}" type="slidenum">
              <a:t>2</a:t>
            </a:fld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s of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lements of an array can be object refer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declaration reserves space to store 5 reference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does NOT creat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 themsel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ly an array of objects hold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object stored in an array must be instantiated separ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6087-C68D-4ADC-A117-089D8241B7D7}" type="slidenum">
              <a:t>20</a:t>
            </a:fld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s of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o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ray when initially declar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638440" y="2057400"/>
            <a:ext cx="2619360" cy="1905120"/>
            <a:chOff x="2638440" y="2057400"/>
            <a:chExt cx="2619360" cy="1905120"/>
          </a:xfrm>
        </p:grpSpPr>
        <p:sp>
          <p:nvSpPr>
            <p:cNvPr id="165" name=""/>
            <p:cNvSpPr/>
            <p:nvPr/>
          </p:nvSpPr>
          <p:spPr>
            <a:xfrm>
              <a:off x="3533760" y="2057400"/>
              <a:ext cx="577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38440" y="20718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7000" y="22478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20574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0" y="24382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28195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2004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0" y="35812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990720" y="4419720"/>
            <a:ext cx="7924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point, the following reference would throw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Pointer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words[0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5B6D-4E36-4B31-BFEB-671B8A36B998}" type="slidenum">
              <a:t>21</a:t>
            </a:fld>
          </a:p>
        </p:txBody>
      </p:sp>
    </p:spTree>
  </p:cSld>
  <p:transition>
    <p:wheel spokes="1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s of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som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 are created and stored in the arra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81080" y="2590920"/>
            <a:ext cx="5257800" cy="1904760"/>
            <a:chOff x="1981080" y="2590920"/>
            <a:chExt cx="5257800" cy="1904760"/>
          </a:xfrm>
        </p:grpSpPr>
        <p:grpSp>
          <p:nvGrpSpPr>
            <p:cNvPr id="177" name=""/>
            <p:cNvGrpSpPr/>
            <p:nvPr/>
          </p:nvGrpSpPr>
          <p:grpSpPr>
            <a:xfrm>
              <a:off x="5334120" y="2590920"/>
              <a:ext cx="1904760" cy="642600"/>
              <a:chOff x="5334120" y="2590920"/>
              <a:chExt cx="1904760" cy="642600"/>
            </a:xfrm>
          </p:grpSpPr>
          <p:sp>
            <p:nvSpPr>
              <p:cNvPr id="178" name=""/>
              <p:cNvSpPr/>
              <p:nvPr/>
            </p:nvSpPr>
            <p:spPr>
              <a:xfrm>
                <a:off x="5334120" y="2629080"/>
                <a:ext cx="190476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375160" y="2590920"/>
                <a:ext cx="1821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“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riendship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876400" y="2590920"/>
              <a:ext cx="57816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81080" y="26049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49640" y="27813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14640" y="25909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14640" y="29718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14640" y="33526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14640" y="37339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14640" y="41148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19560" y="2779560"/>
              <a:ext cx="10414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334120" y="2978280"/>
              <a:ext cx="1600200" cy="368280"/>
              <a:chOff x="5334120" y="2978280"/>
              <a:chExt cx="1600200" cy="36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5334120" y="3009960"/>
                <a:ext cx="16002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86320" y="2978280"/>
                <a:ext cx="149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“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oyalty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226040" y="3160800"/>
              <a:ext cx="1041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26040" y="3541680"/>
              <a:ext cx="1041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3390840"/>
              <a:ext cx="1325520" cy="30492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359160"/>
              <a:ext cx="14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EE476-C928-427A-B3F8-1C2D8429FB65}" type="slidenum">
              <a:t>22</a:t>
            </a:fld>
          </a:p>
        </p:txBody>
      </p:sp>
    </p:spTree>
  </p:cSld>
  <p:transition>
    <p:wheel spokes="1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s of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p in mind th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 can be created using liter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declaration creates an array object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fills it with fou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 created using string liter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4440" y="3886200"/>
            <a:ext cx="78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verbs = {"play", "work", "eat", "sleep"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0698-D41B-49DC-98E5-A692483237C4}" type="slidenum">
              <a:t>23</a:t>
            </a:fld>
          </a:p>
        </p:txBody>
      </p:sp>
    </p:spTree>
  </p:cSld>
  <p:transition>
    <p:wheel spokes="1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s of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example creates an array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, each with a string representation and a numeric lower b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GradeRange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8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4"/>
              </a:rPr>
              <a:t>Grade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8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let's look at an example that manages a collection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5"/>
              </a:rPr>
              <a:t>Tunes.jav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38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6"/>
              </a:rPr>
              <a:t>CDCollection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7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8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8"/>
              </a:rPr>
              <a:t>CD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9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F4F6-1C50-41F5-937D-A2B8FCD0D4F0}" type="slidenum">
              <a:t>24</a:t>
            </a:fld>
          </a:p>
        </p:txBody>
      </p:sp>
    </p:spTree>
  </p:cSld>
  <p:transition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s of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ML diagram for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u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gr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295280" y="1972080"/>
            <a:ext cx="7620120" cy="4200120"/>
            <a:chOff x="1295280" y="1972080"/>
            <a:chExt cx="7620120" cy="4200120"/>
          </a:xfrm>
        </p:grpSpPr>
        <p:sp>
          <p:nvSpPr>
            <p:cNvPr id="204" name=""/>
            <p:cNvSpPr/>
            <p:nvPr/>
          </p:nvSpPr>
          <p:spPr>
            <a:xfrm>
              <a:off x="1295280" y="1972080"/>
              <a:ext cx="2743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Tu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95280" y="2362320"/>
              <a:ext cx="2743200" cy="30456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280" y="2652840"/>
              <a:ext cx="2743200" cy="47124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main (args : String[]) : v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00600" y="2000880"/>
              <a:ext cx="41148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CDCol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00600" y="2405160"/>
              <a:ext cx="4114800" cy="87156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collection : CD[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count : 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totalCost : dou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00600" y="3276720"/>
              <a:ext cx="4114800" cy="11905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addCD (title : String, artist : String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cost : double, tracks : int) : v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toString()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increaseSize() : v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38480" y="22478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7400" y="4058280"/>
              <a:ext cx="22860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C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4462560"/>
              <a:ext cx="2286000" cy="11761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title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artist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cost : dou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tracks : 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57400" y="5638680"/>
              <a:ext cx="2286000" cy="5335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toString()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00800" y="4495680"/>
              <a:ext cx="380880" cy="3812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4" idx="2"/>
              <a:endCxn id="212" idx="3"/>
            </p:cNvCxnSpPr>
            <p:nvPr/>
          </p:nvCxnSpPr>
          <p:spPr>
            <a:xfrm rot="5400000">
              <a:off x="5379480" y="3840120"/>
              <a:ext cx="175320" cy="2248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6" name=""/>
            <p:cNvSpPr/>
            <p:nvPr/>
          </p:nvSpPr>
          <p:spPr>
            <a:xfrm>
              <a:off x="4345200" y="50292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77000" y="449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D8AE-1B28-4A0E-BD44-0DD1EAB992F1}" type="slidenum">
              <a:t>25</a:t>
            </a:fld>
          </a:p>
        </p:txBody>
      </p:sp>
    </p:spTree>
  </p:cSld>
  <p:transition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mand-Line Argum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gnature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indicates that it takes an array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 as a parame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values come fro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mand-line argu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are provided when the interpreter is invo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e following invocation of the interpreter passes thr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java StateEval pennsylvania texas arizo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strings are stored at indexes 0-2 of the array parameter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Tag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9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C5570-EE2E-4C45-BB34-F70121473F69}" type="slidenum">
              <a:t>26</a:t>
            </a:fld>
          </a:p>
        </p:txBody>
      </p:sp>
    </p:spTree>
  </p:cSld>
  <p:transition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67960" y="1143000"/>
            <a:ext cx="4839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2286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6C72-FD75-432F-949A-7BCA1BCDC965}" type="slidenum">
              <a:t>27</a:t>
            </a:fld>
          </a:p>
        </p:txBody>
      </p:sp>
    </p:spTree>
  </p:cSld>
  <p:transition>
    <p:wheel spokes="1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ariable Length Parameter Lis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wanted to create a method that processed a different amount of data from one invocation to the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let's define a method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er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returns the average of a set of integer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1640" y="3886200"/>
            <a:ext cx="55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ne call to average thre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an1 = average (42, 69, 37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2000" y="480060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other call to average seven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an2 = average (35, 43, 93, 23, 40, 21, 7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81BA-2292-49D0-9123-4F3F5E0C93D5}" type="slidenum">
              <a:t>28</a:t>
            </a:fld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ariable Length Parameter Lis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ould define overloaded versions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er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side: we'd need a separate version of the method for each parameter cou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ould define the method to accept an array of integ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side: we'd have to create the array and store the integers prior to calling the method each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ead, Java provides a convenient way to crea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E744-7E83-4E86-B41F-F6E71C8AE75E}" type="slidenum">
              <a:t>29</a:t>
            </a:fld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7960" y="1143000"/>
            <a:ext cx="4839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12207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FBB7-1764-4DF8-A61B-1053F11D0203}" type="slidenum">
              <a:t>3</a:t>
            </a:fld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ariable Length Parameter Lis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special syntax in the formal parameter list, we can define a method to accept any number of parameters of the same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call, the parameters are automatically put into an array for easy processing in the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74880" y="4343400"/>
            <a:ext cx="566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average (int ...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029560" y="4800600"/>
            <a:ext cx="1142280" cy="1145160"/>
            <a:chOff x="5029560" y="4800600"/>
            <a:chExt cx="1142280" cy="1145160"/>
          </a:xfrm>
        </p:grpSpPr>
        <p:sp>
          <p:nvSpPr>
            <p:cNvPr id="233" name=""/>
            <p:cNvSpPr/>
            <p:nvPr/>
          </p:nvSpPr>
          <p:spPr>
            <a:xfrm>
              <a:off x="5029560" y="524196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562720" y="4800600"/>
              <a:ext cx="76320" cy="457200"/>
            </a:xfrm>
            <a:prstGeom prst="line">
              <a:avLst/>
            </a:prstGeom>
            <a:ln w="38160">
              <a:solidFill>
                <a:srgbClr val="de2c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73400" y="4800600"/>
            <a:ext cx="845280" cy="1161000"/>
            <a:chOff x="6773400" y="4800600"/>
            <a:chExt cx="845280" cy="1161000"/>
          </a:xfrm>
        </p:grpSpPr>
        <p:sp>
          <p:nvSpPr>
            <p:cNvPr id="236" name=""/>
            <p:cNvSpPr/>
            <p:nvPr/>
          </p:nvSpPr>
          <p:spPr>
            <a:xfrm>
              <a:off x="6773400" y="5257800"/>
              <a:ext cx="84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arr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7076880" y="4800600"/>
              <a:ext cx="76320" cy="457200"/>
            </a:xfrm>
            <a:prstGeom prst="line">
              <a:avLst/>
            </a:prstGeom>
            <a:ln w="38160">
              <a:solidFill>
                <a:srgbClr val="de2c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651480" y="3733920"/>
            <a:ext cx="5100120" cy="761760"/>
            <a:chOff x="3651480" y="3733920"/>
            <a:chExt cx="5100120" cy="761760"/>
          </a:xfrm>
        </p:grpSpPr>
        <p:sp>
          <p:nvSpPr>
            <p:cNvPr id="239" name=""/>
            <p:cNvSpPr/>
            <p:nvPr/>
          </p:nvSpPr>
          <p:spPr>
            <a:xfrm>
              <a:off x="3651480" y="3733920"/>
              <a:ext cx="510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Indicates a variable length parameter 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4114800"/>
              <a:ext cx="0" cy="380880"/>
            </a:xfrm>
            <a:prstGeom prst="line">
              <a:avLst/>
            </a:prstGeom>
            <a:ln w="38160">
              <a:solidFill>
                <a:srgbClr val="de2c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31544-B59C-455D-87DC-9872359F31B0}" type="slidenum">
              <a:t>30</a:t>
            </a:fld>
          </a:p>
        </p:txBody>
      </p:sp>
    </p:spTree>
  </p:cSld>
  <p:transition>
    <p:wheel spokes="1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ariable Length Parameter Lis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7960" y="1371600"/>
            <a:ext cx="6429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average (int ...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result = 0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ist.length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num :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+= n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 = (double)num / list.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6F02-0C37-4BB5-86E9-7EF5CFA20E63}" type="slidenum">
              <a:t>31</a:t>
            </a:fld>
          </a:p>
        </p:txBody>
      </p:sp>
    </p:spTree>
  </p:cSld>
  <p:transition>
    <p:wheel spokes="1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ariable Length Parameter Lis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ype of the parameter can be any primitive or object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5680" y="2514600"/>
            <a:ext cx="658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rintGrades (Grade ... gra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Grade letterGrade : gra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letterGra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78BD9-92F2-48CD-981F-AEC925F3F39A}" type="slidenum">
              <a:t>32</a:t>
            </a:fld>
          </a:p>
        </p:txBody>
      </p:sp>
    </p:spTree>
  </p:cSld>
  <p:transition>
    <p:wheel spokes="1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ariable Length Parameter Lis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that accepts a variable number of parameters can also accept other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method accepts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, and a variable number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lues into an array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7960" y="3809880"/>
            <a:ext cx="642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test (int count, String nam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... nu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// 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A90C-B1FD-40CF-B1F0-6E665E1C0B04}" type="slidenum">
              <a:t>33</a:t>
            </a:fld>
          </a:p>
        </p:txBody>
      </p:sp>
    </p:spTree>
  </p:cSld>
  <p:transition>
    <p:wheel spokes="1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ariable Length Parameter Lis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rying number of parameters must come last in the formal arg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method cannot accept two sets of varying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ors can also be set up to accept a variable number of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iableParameter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9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mily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9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CD62B-4139-488A-AEA3-7A96016F103A}" type="slidenum">
              <a:t>34</a:t>
            </a:fld>
          </a:p>
        </p:txBody>
      </p:sp>
    </p:spTree>
  </p:cSld>
  <p:transition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67960" y="1143000"/>
            <a:ext cx="4839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2895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0C3D-91F2-4691-8012-F5C2AC6857EF}" type="slidenum">
              <a:t>35</a:t>
            </a:fld>
          </a:p>
        </p:txBody>
      </p:sp>
    </p:spTree>
  </p:cSld>
  <p:transition>
    <p:wheel spokes="1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wo-Dimensional Array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18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e-dimensional arr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s a list of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wo-dimensional arr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thought of as a table of elements, with rows and colum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284480" y="3032280"/>
            <a:ext cx="1992240" cy="2377440"/>
            <a:chOff x="1284480" y="3032280"/>
            <a:chExt cx="1992240" cy="2377440"/>
          </a:xfrm>
        </p:grpSpPr>
        <p:sp>
          <p:nvSpPr>
            <p:cNvPr id="257" name=""/>
            <p:cNvSpPr/>
            <p:nvPr/>
          </p:nvSpPr>
          <p:spPr>
            <a:xfrm>
              <a:off x="2743200" y="3352680"/>
              <a:ext cx="53352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43200" y="35812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43200" y="40384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3200" y="44956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43200" y="49528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84480" y="3032280"/>
              <a:ext cx="151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dime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57400" y="3733560"/>
              <a:ext cx="0" cy="609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700800" y="3048120"/>
            <a:ext cx="4757400" cy="2361600"/>
            <a:chOff x="3700800" y="3048120"/>
            <a:chExt cx="4757400" cy="2361600"/>
          </a:xfrm>
        </p:grpSpPr>
        <p:sp>
          <p:nvSpPr>
            <p:cNvPr id="265" name=""/>
            <p:cNvSpPr/>
            <p:nvPr/>
          </p:nvSpPr>
          <p:spPr>
            <a:xfrm>
              <a:off x="5257800" y="3352680"/>
              <a:ext cx="53316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57800" y="35812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57800" y="40384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7800" y="44956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7800" y="49528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00800" y="3048120"/>
              <a:ext cx="1643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tw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72000" y="3749400"/>
              <a:ext cx="0" cy="609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0960" y="3352680"/>
              <a:ext cx="53352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0960" y="35812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0960" y="40384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90960" y="44956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0960" y="49528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24480" y="3352680"/>
              <a:ext cx="53352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24480" y="35812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24480" y="40384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44956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4480" y="49528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3352680"/>
              <a:ext cx="53316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35812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58000" y="40384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58000" y="44956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58000" y="49528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91160" y="3352680"/>
              <a:ext cx="53352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91160" y="35812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91160" y="40384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160" y="44956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91160" y="49528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24680" y="3352680"/>
              <a:ext cx="53352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24680" y="35812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24680" y="40384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24680" y="44956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24680" y="49528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57800" y="3200400"/>
              <a:ext cx="990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94E1-89CD-4339-B481-5DF47FF93BDD}" type="slidenum">
              <a:t>36</a:t>
            </a:fld>
          </a:p>
        </p:txBody>
      </p:sp>
    </p:spTree>
  </p:cSld>
  <p:transition>
    <p:wheel spokes="1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wo-Dimensional Array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precise, in Java a two-dimensional array is an array of 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wo-dimensional array is declared by specifying the size of each dimension separatel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[] scores = new int[12][50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array element is referenced using two index valu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 = scores[3][6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ray stored in one row can be specified using one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F98D-43AF-46CD-906C-2E240F5A891A}" type="slidenum">
              <a:t>37</a:t>
            </a:fld>
          </a:p>
        </p:txBody>
      </p:sp>
    </p:spTree>
  </p:cSld>
  <p:transition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wo-Dimensional Array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427040" y="1447920"/>
          <a:ext cx="6978600" cy="1965240"/>
        </p:xfrm>
        <a:graphic>
          <a:graphicData uri="http://schemas.openxmlformats.org/drawingml/2006/table">
            <a:tbl>
              <a:tblPr/>
              <a:tblGrid>
                <a:gridCol w="2325960"/>
                <a:gridCol w="1527120"/>
                <a:gridCol w="312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[][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 array of integers,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 of integer arr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ble[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[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 of 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ble[5][1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143000" y="419112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woDArray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SodaSurvey.jav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4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F813-AD3C-4F03-8C1F-7FF6B6D16F74}" type="slidenum">
              <a:t>38</a:t>
            </a:fld>
          </a:p>
        </p:txBody>
      </p:sp>
    </p:spTree>
  </p:cSld>
  <p:transition>
    <p:wheel spokes="1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ultidimensional Array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rray can have many dimensions – if it has more than one dimension, it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dimensional ar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dimension subdivides the previous one into the specified number of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dimension has its ow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each dimension is an array of array references, the arrays within one dimension can be of different 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are sometimes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gged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50CA-168B-4AAD-B3B2-7B94628CC9F5}" type="slidenum">
              <a:t>39</a:t>
            </a:fld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ordered list of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24000" y="2895480"/>
            <a:ext cx="513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1     2     3     4     5     6     7     8  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03400" y="3352680"/>
            <a:ext cx="5380200" cy="714240"/>
            <a:chOff x="2903400" y="3352680"/>
            <a:chExt cx="5380200" cy="714240"/>
          </a:xfrm>
        </p:grpSpPr>
        <p:grpSp>
          <p:nvGrpSpPr>
            <p:cNvPr id="89" name=""/>
            <p:cNvGrpSpPr/>
            <p:nvPr/>
          </p:nvGrpSpPr>
          <p:grpSpPr>
            <a:xfrm>
              <a:off x="2903400" y="3352680"/>
              <a:ext cx="5380200" cy="714240"/>
              <a:chOff x="2903400" y="3352680"/>
              <a:chExt cx="5380200" cy="714240"/>
            </a:xfrm>
          </p:grpSpPr>
          <p:sp>
            <p:nvSpPr>
              <p:cNvPr id="90" name=""/>
              <p:cNvSpPr/>
              <p:nvPr/>
            </p:nvSpPr>
            <p:spPr>
              <a:xfrm>
                <a:off x="2903400" y="3358800"/>
                <a:ext cx="538020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467160" y="3358800"/>
                <a:ext cx="52848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06840" y="3358800"/>
                <a:ext cx="52848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89360" y="3358800"/>
                <a:ext cx="52884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49920" y="3358800"/>
                <a:ext cx="52848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726320" y="3352680"/>
                <a:ext cx="0" cy="71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952360" y="3492360"/>
              <a:ext cx="529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9   87   94   82   67   98   87   81   74   9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818000" y="4573440"/>
            <a:ext cx="58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An array of size N is indexed from zero to 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81080" y="2058840"/>
            <a:ext cx="2463840" cy="1919880"/>
            <a:chOff x="1081080" y="2058840"/>
            <a:chExt cx="2463840" cy="1919880"/>
          </a:xfrm>
        </p:grpSpPr>
        <p:sp>
          <p:nvSpPr>
            <p:cNvPr id="99" name=""/>
            <p:cNvSpPr/>
            <p:nvPr/>
          </p:nvSpPr>
          <p:spPr>
            <a:xfrm>
              <a:off x="1728360" y="3581280"/>
              <a:ext cx="109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c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81080" y="2058840"/>
              <a:ext cx="246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The entire arr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has a singl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62240" y="28191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003560" y="2057400"/>
            <a:ext cx="4120200" cy="836640"/>
            <a:chOff x="4003560" y="2057400"/>
            <a:chExt cx="4120200" cy="836640"/>
          </a:xfrm>
        </p:grpSpPr>
        <p:sp>
          <p:nvSpPr>
            <p:cNvPr id="103" name=""/>
            <p:cNvSpPr/>
            <p:nvPr/>
          </p:nvSpPr>
          <p:spPr>
            <a:xfrm>
              <a:off x="4003560" y="2057400"/>
              <a:ext cx="412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Each value has a numeric 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Arial Unicode MS"/>
                </a:rPr>
                <a:t>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006960" y="2436840"/>
              <a:ext cx="533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362960" y="5183280"/>
            <a:ext cx="70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This array holds 10 values that are indexed from 0 to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98B0-292B-4333-A4C5-A4CD1B200CD1}" type="slidenum">
              <a:t>4</a:t>
            </a:fld>
          </a:p>
        </p:txBody>
      </p:sp>
    </p:spTree>
  </p:cSld>
  <p:transition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7960" y="1143000"/>
            <a:ext cx="4839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0498-C0D1-4180-800A-3A775AB2EAE1}" type="slidenum">
              <a:t>40</a:t>
            </a:fld>
          </a:p>
        </p:txBody>
      </p:sp>
    </p:spTree>
  </p:cSld>
  <p:transition>
    <p:wheel spokes="1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ArrayList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an array, it can store a list of values and reference each one using a numeric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you cannot use the bracket syntax with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more,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grows and shrinks as needed, adjusting its capacity as necess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8404-B324-46DE-BA14-6CD100C6F577}" type="slidenum">
              <a:t>41</a:t>
            </a:fld>
          </a:p>
        </p:txBody>
      </p:sp>
    </p:spTree>
  </p:cSld>
  <p:transition>
    <p:wheel spokes="1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ArrayList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 can be inserted or removed with a single method inv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 element is inserted, the other elements "move aside" to make ro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wise, when an element is removed, the list "collapses" to close the g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dexes of the elements adjust according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6CF2-19C7-476B-9A33-B3E5F1518092}" type="slidenum">
              <a:t>42</a:t>
            </a:fld>
          </a:p>
        </p:txBody>
      </p:sp>
    </p:spTree>
  </p:cSld>
  <p:transition>
    <p:wheel spokes="1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ArrayList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s references to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, which allows it to store any kind of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Beatle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0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also define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to accept a particular type of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declaration creates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that only stor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mi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Family&gt; reunion = new ArrayList&lt;Family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n exampl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r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are discussed further in Chapter 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8A57-118A-4E0A-83CE-AD95BA4DCC20}" type="slidenum">
              <a:t>43</a:t>
            </a:fld>
          </a:p>
        </p:txBody>
      </p:sp>
    </p:spTree>
  </p:cSld>
  <p:transition>
    <p:wheel spokes="1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List</a:t>
            </a:r>
            <a:r>
              <a:rPr b="0" lang="en-US" sz="3600" spc="-1" strike="noStrike">
                <a:solidFill>
                  <a:srgbClr val="ff4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fficienc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implemented using an underlying ar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ray is manipulated so that indexes remain continuous as elements are added or remo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lements are added to and removed from the end of the list, this processing is fairly effic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as elements are inserted and removed from the front or middle of the list, the remaining elements are shif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FC189-D763-4D3C-B8E9-89A1080F42D5}" type="slidenum">
              <a:t>44</a:t>
            </a:fld>
          </a:p>
        </p:txBody>
      </p:sp>
    </p:spTree>
  </p:cSld>
  <p:transition>
    <p:wheel spokes="1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67960" y="1143000"/>
            <a:ext cx="4839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3962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15D8-3E89-4A76-8DE7-15315C80D709}" type="slidenum">
              <a:t>45</a:t>
            </a:fld>
          </a:p>
        </p:txBody>
      </p:sp>
    </p:spTree>
  </p:cSld>
  <p:transition>
    <p:wheel spokes="1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olygons and Polylin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can be helpful in graphics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ey can be used to store a list of coordin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multisided, closed sh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lyl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similar to a polygon except that its endpoints do not meet, and it cannot be fil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cket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0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cket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F76C-C040-4BA4-BFF6-E9D9E5752558}" type="slidenum">
              <a:t>46</a:t>
            </a:fld>
          </a:p>
        </p:txBody>
      </p:sp>
    </p:spTree>
  </p:cSld>
  <p:transition>
    <p:wheel spokes="1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Polygon</a:t>
            </a:r>
            <a:r>
              <a:rPr b="0" lang="en-US" sz="3600" spc="-1" strike="noStrike">
                <a:solidFill>
                  <a:srgbClr val="ff4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can also be used to define and draw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part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a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s of the overload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raw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l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s take a sing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as a parameter instead of arrays of coordin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encapsulates the coordinates of the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B1C3-4371-4D18-AAF5-7863501A0684}" type="slidenum">
              <a:t>47</a:t>
            </a:fld>
          </a:p>
        </p:txBody>
      </p:sp>
    </p:spTree>
  </p:cSld>
  <p:transition>
    <p:wheel spokes="1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67960" y="1143000"/>
            <a:ext cx="4839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1C8E-25B1-4553-A27D-78CC2841503D}" type="slidenum">
              <a:t>48</a:t>
            </a:fld>
          </a:p>
        </p:txBody>
      </p:sp>
    </p:spTree>
  </p:cSld>
  <p:transition>
    <p:wheel spokes="1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ouse 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 related to the mouse are separated in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use ev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use motion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752480" y="2819520"/>
          <a:ext cx="6629400" cy="3200400"/>
        </p:xfrm>
        <a:graphic>
          <a:graphicData uri="http://schemas.openxmlformats.org/drawingml/2006/table">
            <a:tbl>
              <a:tblPr/>
              <a:tblGrid>
                <a:gridCol w="2209680"/>
                <a:gridCol w="441972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p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button is pressed 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rel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button is rel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clic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button is pressed down and released without moving the mouse in betw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e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pointer is moved onto (over) a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ex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pointer is moved off of a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2DD0-4CCC-4AC7-9234-CAAB0142CDED}" type="slidenum">
              <a:t>49</a:t>
            </a:fld>
          </a:p>
        </p:txBody>
      </p:sp>
    </p:spTree>
  </p:cSld>
  <p:transition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rticular value in an array is referenced using the array name followed by the index in bra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e expr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[2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s to the valu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he 3rd value in the arra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expression represents a place to store a single integer and can be used wherever an integer variable can be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074A-9612-4F4A-A5B9-5299B5459DA1}" type="slidenum">
              <a:t>5</a:t>
            </a:fld>
          </a:p>
        </p:txBody>
      </p:sp>
    </p:spTree>
  </p:cSld>
  <p:transition>
    <p:wheel spokes="1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ouse 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Motion Ev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752480" y="1969920"/>
          <a:ext cx="6629400" cy="1078200"/>
        </p:xfrm>
        <a:graphic>
          <a:graphicData uri="http://schemas.openxmlformats.org/drawingml/2006/table">
            <a:tbl>
              <a:tblPr/>
              <a:tblGrid>
                <a:gridCol w="2209680"/>
                <a:gridCol w="4419720"/>
              </a:tblGrid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is 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drag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is moved while the mouse button is pressed 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990720" y="342900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ers for mouse events are created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is passed to the appropriate method when a mouse event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AE1C-9965-4C99-8054-AD021D2E2E55}" type="slidenum">
              <a:t>50</a:t>
            </a:fld>
          </a:p>
        </p:txBody>
      </p:sp>
    </p:spTree>
  </p:cSld>
  <p:transition>
    <p:wheel spokes="1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ouse 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program, we may only care about one or two mouse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atisfy the implementation of a listener interface, empty methods must be provided for unused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Dot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1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Dots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1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4666-DFBD-456D-8E1F-BAFF735F0783}" type="slidenum">
              <a:t>51</a:t>
            </a:fld>
          </a:p>
        </p:txBody>
      </p:sp>
    </p:spTree>
  </p:cSld>
  <p:transition>
    <p:wheel spokes="1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ouse 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bberban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visual effect in which a shape is "stretched" as it is drawn using the mo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example continually redraws a line as the mouse is drag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RubberLine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1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RubberLines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1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8C9E-A8C6-4267-802C-BCA61F3B2B33}" type="slidenum">
              <a:t>52</a:t>
            </a:fld>
          </a:p>
        </p:txBody>
      </p:sp>
    </p:spTree>
  </p:cSld>
  <p:transition>
    <p:wheel spokes="1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Key 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y 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generated when the user types on the key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828800" y="2286000"/>
          <a:ext cx="6553080" cy="1549440"/>
        </p:xfrm>
        <a:graphic>
          <a:graphicData uri="http://schemas.openxmlformats.org/drawingml/2006/table">
            <a:tbl>
              <a:tblPr/>
              <a:tblGrid>
                <a:gridCol w="1828800"/>
                <a:gridCol w="47242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p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ey on the keyboard is pressed 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rel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ey on the keyboard is rel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ty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ey on the keyboard is pressed down and rel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990720" y="403848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ers for key events are created by implement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is passed to the appropriate method when a key event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650E-14BB-469F-B6F6-35B948B6C992}" type="slidenum">
              <a:t>53</a:t>
            </a:fld>
          </a:p>
        </p:txBody>
      </p:sp>
    </p:spTree>
  </p:cSld>
  <p:transition>
    <p:wheel spokes="1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Key 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onent that generates a key event is the one that has the curren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yboard foc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can be used to determine which key was p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example "moves" an image of an arrow as the user types the keyboard arrow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rection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2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rection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2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C8CA-636D-4373-88A3-F2478C14F044}" type="slidenum">
              <a:t>54</a:t>
            </a:fld>
          </a:p>
        </p:txBody>
      </p:sp>
    </p:spTree>
  </p:cSld>
  <p:transition>
    <p:wheel spokes="1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7 has focus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declaration and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unds checking and capac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s that store object 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use events and keyboard 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E57D-8F62-43B9-9235-E4B569461173}" type="slidenum">
              <a:t>55</a:t>
            </a:fld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an array element can be assigned a value, printed, or used in a calcula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ores[2] = 89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ores[first] = scores[first] + 2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an = (scores[0] + scores[1])/2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Top = " + scores[5]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D5E0-FB8C-42D4-AF6E-C5C7832C5717}" type="slidenum">
              <a:t>6</a:t>
            </a:fld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s held in an array are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ray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rray stores multiple values of the same type –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lement type can be a primitive type or an object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we can create an array of integers, an array of characters, an array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, an array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Java, the array itself is an object that must be instanti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B6B2C-9D67-4D0F-ACA4-5D0721EF05E7}" type="slidenum">
              <a:t>7</a:t>
            </a:fld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rray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way to depict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ra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438280" y="2057400"/>
            <a:ext cx="2743200" cy="3809880"/>
            <a:chOff x="2438280" y="2057400"/>
            <a:chExt cx="2743200" cy="3809880"/>
          </a:xfrm>
        </p:grpSpPr>
        <p:sp>
          <p:nvSpPr>
            <p:cNvPr id="115" name=""/>
            <p:cNvSpPr/>
            <p:nvPr/>
          </p:nvSpPr>
          <p:spPr>
            <a:xfrm>
              <a:off x="3457440" y="2057400"/>
              <a:ext cx="57816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20718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0680" y="2247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95680" y="20574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5680" y="24382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95680" y="28195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5680" y="32004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8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95680" y="35812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6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39625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5680" y="43434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95680" y="47242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95680" y="51055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5680" y="54864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96C7-EC90-47EB-91FD-715907E18DD4}" type="slidenum">
              <a:t>8</a:t>
            </a:fld>
          </a:p>
        </p:txBody>
      </p:sp>
    </p:spTree>
  </p:cSld>
  <p:transition>
    <p:wheel spokes="1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eclaring Array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ray could be declared as follow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scores = new int[10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ype of the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n array of integer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the array type does not specify its size, but each object of that type has a specific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ference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set to a new array object that can hold 10 integ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51DAA-4197-4C0A-B545-60DFCD292836}" type="slidenum">
              <a:t>9</a:t>
            </a:fld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Trial User</cp:lastModifiedBy>
  <dcterms:modified xsi:type="dcterms:W3CDTF">2004-08-01T10:53:58Z</dcterms:modified>
  <cp:revision>29</cp:revision>
  <dc:subject/>
  <dc:title>PowerPoint Presentation</dc:title>
</cp:coreProperties>
</file>