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1982-864D-4552-81C7-24D5F0682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1A71-B7A8-4507-B278-103E02C7A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D8B51-9B21-459B-9946-8676F568D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274D-BAE5-4AD9-BAFB-2F500591D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C5F3-03FB-4035-A96C-6017B7D73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EEC7-C2C5-4FC7-988C-DE1925AF3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D769-5271-4D39-AEFF-C817AC340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16AC-4CD7-46B9-A2DA-DC0751923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DA58-B80F-4109-8A7C-2AB4D3858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AEEE-7373-4C74-8F02-0CF75913C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AB35-990C-4C66-BCC5-D7001E6F9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3001-4487-4288-ABC3-ABF5BAB46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10-</a:t>
            </a:r>
            <a:fld id="{DB3E56F7-069E-4D32-96CE-04F56E1B63EF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Exce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 handling is an important aspect of object-oriented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0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urpose of exce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y-catch stat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agating exce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ception class hierarc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 mnemonics and tool t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GUI components and contai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0650-F0A4-4C83-BA25-EBCEEF39A9DE}" type="slidenum">
              <a:t>2</a:t>
            </a:fld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9040" y="1143000"/>
            <a:ext cx="4364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y-catch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Tips and Mne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o Bo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oll Panes and Split P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E1D2-11B1-44C2-848B-1E8BC7C3105D}" type="slidenum">
              <a:t>3</a:t>
            </a:fld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0 has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urpose of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y-catch 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ating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xception class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 mnemonics and tool t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GUI components and contai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4DBC-A65C-4AEB-99A4-8AE0320DB719}" type="slidenum">
              <a:t>4</a:t>
            </a:fld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Trial User</cp:lastModifiedBy>
  <dcterms:modified xsi:type="dcterms:W3CDTF">2004-08-18T13:34:27Z</dcterms:modified>
  <cp:revision>22</cp:revision>
  <dc:subject/>
  <dc:title>PowerPoint Presentation</dc:title>
</cp:coreProperties>
</file>