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9D55-919C-41CC-A7E1-BCABC5BBA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9B7A-11A5-4EC1-B2D0-B683DBA7B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918D-EB40-4C60-A1FC-7024CC0DA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6295-C66D-42C7-97DE-B4432D05D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B0A0-AED8-4423-AFBE-DABBADCE1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3E08-BECC-4F72-9DF9-E37585437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98A1-A304-4480-A963-9C6D47349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F0F4-9741-41FC-ABB8-16501C09D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49B0-712E-4A6E-94EF-1241E144F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1228-D2E5-46B5-AD43-ECBFA750F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8699-E117-4699-8E07-31EC43E84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E455-7A61-47BD-922D-9674122F5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4-</a:t>
            </a:r>
            <a:fld id="{0EA916D0-4461-4722-BCEF-A4D75B8D4F24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4/Transactions.java" TargetMode="External"/><Relationship Id="rId3" Type="http://schemas.openxmlformats.org/officeDocument/2006/relationships/hyperlink" Target="file:///../examples/chap04/Account.java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4/SmilingFace.java" TargetMode="External"/><Relationship Id="rId3" Type="http://schemas.openxmlformats.org/officeDocument/2006/relationships/hyperlink" Target="file:///../examples/chap04/SmilingFace.java" TargetMode="External"/><Relationship Id="rId4" Type="http://schemas.openxmlformats.org/officeDocument/2006/relationships/hyperlink" Target="file:///../examples/chap04/SmilingFacePanel.java" TargetMode="External"/><Relationship Id="rId5" Type="http://schemas.openxmlformats.org/officeDocument/2006/relationships/hyperlink" Target="file:///../examples/chap04/SmilingFacePanel.java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4/Splat.java" TargetMode="External"/><Relationship Id="rId3" Type="http://schemas.openxmlformats.org/officeDocument/2006/relationships/hyperlink" Target="file:///../examples/chap04/SplatPanel.java" TargetMode="External"/><Relationship Id="rId4" Type="http://schemas.openxmlformats.org/officeDocument/2006/relationships/hyperlink" Target="file:///../examples/chap04/SplatPanel.java" TargetMode="External"/><Relationship Id="rId5" Type="http://schemas.openxmlformats.org/officeDocument/2006/relationships/hyperlink" Target="file:///../examples/chap04/Circle.java" TargetMode="External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4/PushCounter.java" TargetMode="External"/><Relationship Id="rId3" Type="http://schemas.openxmlformats.org/officeDocument/2006/relationships/hyperlink" Target="file:///../examples/chap04/PushCounter.java" TargetMode="External"/><Relationship Id="rId4" Type="http://schemas.openxmlformats.org/officeDocument/2006/relationships/hyperlink" Target="file:///../examples/chap04/PushCounterPanel.java" TargetMode="External"/><Relationship Id="rId5" Type="http://schemas.openxmlformats.org/officeDocument/2006/relationships/hyperlink" Target="file:///../examples/chap04/PushCounterPanel.java" TargetMode="External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4/Fahrenheit.java" TargetMode="External"/><Relationship Id="rId3" Type="http://schemas.openxmlformats.org/officeDocument/2006/relationships/hyperlink" Target="file:///../examples/chap04/FahrenheitPanel.java" TargetMode="External"/><Relationship Id="rId4" Type="http://schemas.openxmlformats.org/officeDocument/2006/relationships/hyperlink" Target="file:///../examples/chap04/FahrenheitPanel.java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4/RollingDice.java" TargetMode="External"/><Relationship Id="rId3" Type="http://schemas.openxmlformats.org/officeDocument/2006/relationships/hyperlink" Target="file:///../examples/chap04/RollingDice.java" TargetMode="External"/><Relationship Id="rId4" Type="http://schemas.openxmlformats.org/officeDocument/2006/relationships/hyperlink" Target="file:///../examples/chap04/Die.java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Writing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oString Metho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lasses that represent objects should defin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a character string that represents the object in some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alled automatically when an object is concatenated to a string or when it is passed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82ED-E590-49B5-AA15-DF6D97E95825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nstruc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entioned previously,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pecial method that is used to set up an object when it is initially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tructor has the same name as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is used to set the initial face value of each new die object to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examine constructors in more detail later in this chap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1756-4642-41DB-9152-0BB152F57EE9}" type="slidenum">
              <a:t>11</a:t>
            </a:fld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ata Scop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ata is the area in a program in which that data can be referenced (us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clared at the class level can be referenced by all methods in th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clared within a method can be used only in tha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clared within a method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al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the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declared insid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-- it is local to that method and cannot be referenced anywhere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93C7-0778-4A8C-BE47-3EBB4BE0336E}" type="slidenum">
              <a:t>12</a:t>
            </a:fld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stance Dat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ance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each instance (object) that is created has its own version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declares the type of the data, but it does not reserve any memory space for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tim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is created, a ne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 is created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s of a class share the method definitions, but each object has its own data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's the only way two objects can have different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9723-B721-4EC1-BD94-B2703510BA53}" type="slidenum">
              <a:t>13</a:t>
            </a:fld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stance Dat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epict the tw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llingD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11480" y="2438280"/>
            <a:ext cx="5167080" cy="1524240"/>
            <a:chOff x="2211480" y="2438280"/>
            <a:chExt cx="5167080" cy="1524240"/>
          </a:xfrm>
        </p:grpSpPr>
        <p:grpSp>
          <p:nvGrpSpPr>
            <p:cNvPr id="120" name=""/>
            <p:cNvGrpSpPr/>
            <p:nvPr/>
          </p:nvGrpSpPr>
          <p:grpSpPr>
            <a:xfrm>
              <a:off x="2211480" y="2438280"/>
              <a:ext cx="5135400" cy="533520"/>
              <a:chOff x="2211480" y="2438280"/>
              <a:chExt cx="5135400" cy="533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079800" y="2514600"/>
                <a:ext cx="685800" cy="380880"/>
              </a:xfrm>
              <a:prstGeom prst="rect">
                <a:avLst/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11480" y="25066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e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51400" y="2438280"/>
                <a:ext cx="289548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60680" y="2705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56160" y="2514600"/>
                <a:ext cx="685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81440" y="25066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aceVal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243160" y="3429000"/>
              <a:ext cx="5135400" cy="533520"/>
              <a:chOff x="2243160" y="3429000"/>
              <a:chExt cx="513540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3111480" y="3505320"/>
                <a:ext cx="685800" cy="380880"/>
              </a:xfrm>
              <a:prstGeom prst="rect">
                <a:avLst/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43160" y="34974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e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83080" y="3429000"/>
                <a:ext cx="289548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92360" y="36957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88200" y="3505320"/>
                <a:ext cx="685800" cy="380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3120" y="349740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aceVal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1981080" y="46483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Each object maintains its own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faceValue</a:t>
            </a: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 variable, and thus its own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E030-BC2F-477A-AD2C-9E591663F10D}" type="slidenum">
              <a:t>14</a:t>
            </a:fld>
          </a:p>
        </p:txBody>
      </p:sp>
    </p:spTree>
  </p:cSld>
  <p:transition>
    <p:wheel spokes="1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UML Diagram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stands for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ML diagr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w relationships among classes and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M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s of one or more classes, each with sections for the class name, attributes (data), and operations (metho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s between classes repres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otted arrow shows that one cla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other (calls its metho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5F19-B5E8-41D0-9D76-E48B519589AC}" type="slidenum">
              <a:t>15</a:t>
            </a:fld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UML Class Diagram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ML class diagram for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llingD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95280" y="2595960"/>
            <a:ext cx="7162920" cy="2052360"/>
            <a:chOff x="1295280" y="2595960"/>
            <a:chExt cx="7162920" cy="2052360"/>
          </a:xfrm>
        </p:grpSpPr>
        <p:sp>
          <p:nvSpPr>
            <p:cNvPr id="140" name=""/>
            <p:cNvSpPr/>
            <p:nvPr/>
          </p:nvSpPr>
          <p:spPr>
            <a:xfrm>
              <a:off x="1295280" y="2595960"/>
              <a:ext cx="304812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RollingD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00240"/>
              <a:ext cx="304812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290760"/>
              <a:ext cx="304812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2610360"/>
              <a:ext cx="327672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014640"/>
              <a:ext cx="3276720" cy="4428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faceValue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3457440"/>
              <a:ext cx="3276720" cy="1190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roll()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setFaceValue (int value) : v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getFaceValue() : 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toString() : St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3400" y="28195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2088-C044-4369-BD22-D07E48FF1F01}" type="slidenum">
              <a:t>16</a:t>
            </a:fld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0DE8-CC06-48A3-8D59-EDA01ABA2FDA}" type="slidenum">
              <a:t>17</a:t>
            </a:fld>
          </a:p>
        </p:txBody>
      </p:sp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capsul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take one of two views of an obj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 -  the details of the variables and methods of the class that defines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 -  the services that an object provides and how the object interacts with the rest of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external view, an object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apsul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ity, providing a set of specific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services defin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1078-CBA0-4E60-B725-21FDA10DA48B}" type="slidenum">
              <a:t>18</a:t>
            </a:fld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capsul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bject (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ay use another object for the services it provi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ient of an object may request its services (call its methods), but it should not have to be aware of how those services are accomplish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hanges to the object's state (its variables) should be made by that object'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make it difficult, if not impossible, for a client to access an object’s variables dir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an object should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f-gove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E5B3-D6B3-4857-AEB0-71B4F2EC9132}" type="slidenum">
              <a:t>19</a:t>
            </a:fld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riting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been using predefined classes. Now we will learn to write our own classes to define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4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apsulation and Java mod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declaration and parameter pa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E216-D133-489A-8683-FD381B2C0180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114800" y="3581280"/>
            <a:ext cx="2895480" cy="2514600"/>
            <a:chOff x="4114800" y="3581280"/>
            <a:chExt cx="2895480" cy="2514600"/>
          </a:xfrm>
        </p:grpSpPr>
        <p:sp>
          <p:nvSpPr>
            <p:cNvPr id="155" name=""/>
            <p:cNvSpPr/>
            <p:nvPr/>
          </p:nvSpPr>
          <p:spPr>
            <a:xfrm>
              <a:off x="4572000" y="3581280"/>
              <a:ext cx="2438280" cy="2514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190760" y="39625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14800" y="38862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0760" y="41911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90760" y="44197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capsul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capsulated object can be thought of 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its inner workings are hidden from the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ient invokes the interface methods of the object, which manages the instanc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00600" y="3809880"/>
            <a:ext cx="1981080" cy="2057400"/>
            <a:chOff x="4800600" y="3809880"/>
            <a:chExt cx="1981080" cy="2057400"/>
          </a:xfrm>
        </p:grpSpPr>
        <p:sp>
          <p:nvSpPr>
            <p:cNvPr id="165" name=""/>
            <p:cNvSpPr/>
            <p:nvPr/>
          </p:nvSpPr>
          <p:spPr>
            <a:xfrm>
              <a:off x="4800600" y="3809880"/>
              <a:ext cx="1981080" cy="76212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5181480"/>
              <a:ext cx="1981080" cy="685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5000" y="4572000"/>
              <a:ext cx="228600" cy="609480"/>
            </a:xfrm>
            <a:prstGeom prst="upDownArrow">
              <a:avLst>
                <a:gd name="adj1" fmla="val 50000"/>
                <a:gd name="adj2" fmla="val 53076"/>
              </a:avLst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46160" y="3943080"/>
            <a:ext cx="2016360" cy="398880"/>
            <a:chOff x="1946160" y="3943080"/>
            <a:chExt cx="2016360" cy="398880"/>
          </a:xfrm>
        </p:grpSpPr>
        <p:sp>
          <p:nvSpPr>
            <p:cNvPr id="169" name=""/>
            <p:cNvSpPr/>
            <p:nvPr/>
          </p:nvSpPr>
          <p:spPr>
            <a:xfrm>
              <a:off x="1946160" y="39430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Verdana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4038480"/>
              <a:ext cx="990720" cy="228600"/>
            </a:xfrm>
            <a:prstGeom prst="leftRightArrow">
              <a:avLst>
                <a:gd name="adj1" fmla="val 50000"/>
                <a:gd name="adj2" fmla="val 8627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2475-579B-4450-88C0-1CFDD9410F45}" type="slidenum">
              <a:t>20</a:t>
            </a:fld>
          </a:p>
        </p:txBody>
      </p:sp>
    </p:spTree>
  </p:cSld>
  <p:transition>
    <p:wheel spokes="1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Mod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, we accomplish encapsulation through the appropriat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ifi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Java reserved word that specifies particular characteristics of a method or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us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to define const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has three visibility modifiers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involves inheritance, which we will discuss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A4BD-F05F-4391-B03A-4A8B4E61A301}" type="slidenum">
              <a:t>21</a:t>
            </a:fld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Mod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 of a class that are declared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blic visi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referenced any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 of a class that are declared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vate visi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referenced only within th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 declared without a visibility modifier ha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ault visi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an be referenced by any class in the same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verview of all Java modifiers is presented in Appendix 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5BAA-938B-407E-A8F0-BEF20D33DF66}" type="slidenum">
              <a:t>22</a:t>
            </a:fld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Mod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variables violate encapsulation because they allow the client to “reach in” and modify the values dir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instance variables should not be declared with public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cceptable to give a constant public visibility, which allows it to be used outside of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constants do not violate encapsulation because, although the client can access it, its value cannot be ch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F652-90FE-4A89-B4A9-05BCAF4ADAAE}" type="slidenum">
              <a:t>23</a:t>
            </a:fld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Mod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that provide the object's services are declared with public visibility so that they can be invoked by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methods are also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created simply to assist a service method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por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a support method is not intended to be called by a client, it should not be declared with public vi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D284-2119-4F1D-BE30-37AD04D16C14}" type="slidenum">
              <a:t>24</a:t>
            </a:fld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isibility Mod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94920" y="1600200"/>
            <a:ext cx="7163280" cy="3276720"/>
            <a:chOff x="1294920" y="1600200"/>
            <a:chExt cx="7163280" cy="3276720"/>
          </a:xfrm>
        </p:grpSpPr>
        <p:sp>
          <p:nvSpPr>
            <p:cNvPr id="181" name=""/>
            <p:cNvSpPr/>
            <p:nvPr/>
          </p:nvSpPr>
          <p:spPr>
            <a:xfrm>
              <a:off x="3597840" y="1600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48880" y="1600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4920" y="259092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Verdana"/>
                </a:rPr>
                <a:t>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22000" y="396252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Verdana"/>
                </a:rPr>
                <a:t>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2133720"/>
              <a:ext cx="281916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2133720"/>
              <a:ext cx="281952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520" y="3505320"/>
              <a:ext cx="281916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38680" y="3505320"/>
              <a:ext cx="281952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928600" y="37800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59712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33880" y="24084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4360" y="24084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296A-6A1B-47F8-82FA-3F458FA983DB}" type="slidenum">
              <a:t>25</a:t>
            </a:fld>
          </a:p>
        </p:txBody>
      </p:sp>
    </p:spTree>
  </p:cSld>
  <p:transition>
    <p:wheel spokes="1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ccessors and Mut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instance data is private, a class usually provides services to access and modify dat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essor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current value of a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tator meth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value of a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mes of accessor and mutator methods take the for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respectively, 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name of the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sometimes called “getters” and “sett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3274-997A-40E5-8C07-55B90A4C8E65}" type="slidenum">
              <a:t>26</a:t>
            </a:fld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utator Restric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mutators gives the class designer the ability to restrict a client’s options to modify an object’s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utator is often designed so that the values of variables can be set only within particular lim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Face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tator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should have restricted the value to the valid range (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ll see in Chapter 5 how such restrictions can be 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7E89-0C5A-486F-854F-CA9FC2B9027F}" type="slidenum">
              <a:t>27</a:t>
            </a:fld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C246-D585-49A4-B208-8A2B59867025}" type="slidenum">
              <a:t>28</a:t>
            </a:fld>
          </a:p>
        </p:txBody>
      </p:sp>
    </p:spTree>
  </p:cSld>
  <p:transition>
    <p:wheel spokes="1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Declara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now examine method declarations in more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thod decla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the code that will be executed when the method is invoked (cal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method is invoked, the flow of control jumps to the method and executes its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omplete, the flow returns to the place where the method was called and contin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vocation may or may not return a value, depending on how the method is def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0548-FE58-416C-A448-BB1FAB16FA1A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E48D-F136-4C1B-8129-806674FECA45}" type="slidenum">
              <a:t>3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752480" y="2209680"/>
            <a:ext cx="6019920" cy="3581280"/>
            <a:chOff x="1752480" y="2209680"/>
            <a:chExt cx="6019920" cy="3581280"/>
          </a:xfrm>
        </p:grpSpPr>
        <p:sp>
          <p:nvSpPr>
            <p:cNvPr id="203" name=""/>
            <p:cNvSpPr/>
            <p:nvPr/>
          </p:nvSpPr>
          <p:spPr>
            <a:xfrm>
              <a:off x="1752480" y="2209680"/>
              <a:ext cx="6019920" cy="358128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14600" y="2971800"/>
              <a:ext cx="160020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2971800"/>
              <a:ext cx="160020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53120" y="3809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Method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70200" y="25902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Meth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07640" y="25902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8280" y="29710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68000" y="45712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2120" y="41140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Control Flow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called method is in the same class, only the method name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04" idx="0"/>
            <a:endCxn id="206" idx="0"/>
          </p:cNvCxnSpPr>
          <p:nvPr/>
        </p:nvCxnSpPr>
        <p:spPr>
          <a:xfrm>
            <a:off x="3314520" y="2971800"/>
            <a:ext cx="108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endCxn id="204" idx="2"/>
          </p:cNvCxnSpPr>
          <p:nvPr/>
        </p:nvCxnSpPr>
        <p:spPr>
          <a:xfrm>
            <a:off x="3314520" y="4435560"/>
            <a:ext cx="1080" cy="8992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6" idx="3"/>
            <a:endCxn id="209" idx="1"/>
          </p:cNvCxnSpPr>
          <p:nvPr/>
        </p:nvCxnSpPr>
        <p:spPr>
          <a:xfrm flipV="1">
            <a:off x="4078440" y="3093840"/>
            <a:ext cx="1869120" cy="884880"/>
          </a:xfrm>
          <a:prstGeom prst="bentConnector3">
            <a:avLst>
              <a:gd name="adj1" fmla="val 49951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9" idx="2"/>
            <a:endCxn id="210" idx="0"/>
          </p:cNvCxnSpPr>
          <p:nvPr/>
        </p:nvCxnSpPr>
        <p:spPr>
          <a:xfrm>
            <a:off x="6070320" y="3216240"/>
            <a:ext cx="1080" cy="1356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rot="10800000">
            <a:off x="3428280" y="4266360"/>
            <a:ext cx="2413800" cy="381960"/>
          </a:xfrm>
          <a:prstGeom prst="bentConnector3">
            <a:avLst>
              <a:gd name="adj1" fmla="val 4440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C87B-3383-4538-8CC2-1A5B3FF80F6E}" type="slidenum">
              <a:t>30</a:t>
            </a:fld>
          </a:p>
        </p:txBody>
      </p:sp>
    </p:spTree>
  </p:cSld>
  <p:transition>
    <p:wheel spokes="1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4038480" y="2209680"/>
            <a:ext cx="4572000" cy="3353040"/>
            <a:chOff x="4038480" y="2209680"/>
            <a:chExt cx="4572000" cy="3353040"/>
          </a:xfrm>
        </p:grpSpPr>
        <p:grpSp>
          <p:nvGrpSpPr>
            <p:cNvPr id="220" name=""/>
            <p:cNvGrpSpPr/>
            <p:nvPr/>
          </p:nvGrpSpPr>
          <p:grpSpPr>
            <a:xfrm>
              <a:off x="4038480" y="2209680"/>
              <a:ext cx="4572000" cy="3353040"/>
              <a:chOff x="4038480" y="2209680"/>
              <a:chExt cx="4572000" cy="3353040"/>
            </a:xfrm>
          </p:grpSpPr>
          <p:sp>
            <p:nvSpPr>
              <p:cNvPr id="221" name=""/>
              <p:cNvSpPr/>
              <p:nvPr/>
            </p:nvSpPr>
            <p:spPr>
              <a:xfrm>
                <a:off x="4038480" y="2209680"/>
                <a:ext cx="4572000" cy="3353040"/>
              </a:xfrm>
              <a:prstGeom prst="flowChartAlternateProcess">
                <a:avLst/>
              </a:prstGeom>
              <a:solidFill>
                <a:srgbClr val="cc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2680" y="2590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do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95680" y="2971800"/>
                <a:ext cx="1600200" cy="2133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29400" y="2971800"/>
                <a:ext cx="1600200" cy="160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73200" y="2971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89400" y="487620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69960" y="2590560"/>
                <a:ext cx="91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help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55880" y="37335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helpMe()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22760" y="434268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06920" y="29710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189400" y="403776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371600" y="2209680"/>
            <a:ext cx="2362320" cy="3657600"/>
            <a:chOff x="1371600" y="2209680"/>
            <a:chExt cx="2362320" cy="3657600"/>
          </a:xfrm>
        </p:grpSpPr>
        <p:sp>
          <p:nvSpPr>
            <p:cNvPr id="233" name=""/>
            <p:cNvSpPr/>
            <p:nvPr/>
          </p:nvSpPr>
          <p:spPr>
            <a:xfrm>
              <a:off x="1371600" y="2209680"/>
              <a:ext cx="2362320" cy="365760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7520" y="2971800"/>
              <a:ext cx="160020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7480" y="3809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bj.doIt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8160" y="2590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1240" y="411408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Control Flow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lled method is often part of another class or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4" idx="0"/>
            <a:endCxn id="235" idx="0"/>
          </p:cNvCxnSpPr>
          <p:nvPr/>
        </p:nvCxnSpPr>
        <p:spPr>
          <a:xfrm>
            <a:off x="2557440" y="2971800"/>
            <a:ext cx="216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7" idx="2"/>
            <a:endCxn id="234" idx="2"/>
          </p:cNvCxnSpPr>
          <p:nvPr/>
        </p:nvCxnSpPr>
        <p:spPr>
          <a:xfrm>
            <a:off x="2557080" y="4359240"/>
            <a:ext cx="1080" cy="975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6" idx="1"/>
            <a:endCxn id="237" idx="3"/>
          </p:cNvCxnSpPr>
          <p:nvPr/>
        </p:nvCxnSpPr>
        <p:spPr>
          <a:xfrm rot="10800000">
            <a:off x="2664720" y="4236480"/>
            <a:ext cx="2523240" cy="762480"/>
          </a:xfrm>
          <a:prstGeom prst="bentConnector3">
            <a:avLst>
              <a:gd name="adj1" fmla="val 49957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0" idx="2"/>
            <a:endCxn id="229" idx="0"/>
          </p:cNvCxnSpPr>
          <p:nvPr/>
        </p:nvCxnSpPr>
        <p:spPr>
          <a:xfrm>
            <a:off x="7429320" y="3215880"/>
            <a:ext cx="1080" cy="1127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5" idx="2"/>
            <a:endCxn id="228" idx="0"/>
          </p:cNvCxnSpPr>
          <p:nvPr/>
        </p:nvCxnSpPr>
        <p:spPr>
          <a:xfrm>
            <a:off x="5295600" y="3216240"/>
            <a:ext cx="1080" cy="518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1" idx="2"/>
            <a:endCxn id="226" idx="0"/>
          </p:cNvCxnSpPr>
          <p:nvPr/>
        </p:nvCxnSpPr>
        <p:spPr>
          <a:xfrm>
            <a:off x="5295600" y="4282920"/>
            <a:ext cx="1080" cy="5947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8" idx="3"/>
            <a:endCxn id="230" idx="1"/>
          </p:cNvCxnSpPr>
          <p:nvPr/>
        </p:nvCxnSpPr>
        <p:spPr>
          <a:xfrm flipV="1">
            <a:off x="5937120" y="3093840"/>
            <a:ext cx="1369440" cy="808560"/>
          </a:xfrm>
          <a:prstGeom prst="bentConnector3">
            <a:avLst>
              <a:gd name="adj1" fmla="val 49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25" idx="1"/>
            <a:endCxn id="235" idx="3"/>
          </p:cNvCxnSpPr>
          <p:nvPr/>
        </p:nvCxnSpPr>
        <p:spPr>
          <a:xfrm flipV="1" rot="10800000">
            <a:off x="3322080" y="3093840"/>
            <a:ext cx="1850040" cy="884880"/>
          </a:xfrm>
          <a:prstGeom prst="bentConnector3">
            <a:avLst>
              <a:gd name="adj1" fmla="val 49941"/>
            </a:avLst>
          </a:prstGeom>
          <a:ln w="3168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48" name=""/>
          <p:cNvCxnSpPr/>
          <p:nvPr/>
        </p:nvCxnSpPr>
        <p:spPr>
          <a:xfrm rot="10800000">
            <a:off x="5409360" y="4190400"/>
            <a:ext cx="1918440" cy="305280"/>
          </a:xfrm>
          <a:prstGeom prst="bentConnector3">
            <a:avLst>
              <a:gd name="adj1" fmla="val 50000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9CBB-745C-4231-9437-B520BA3CBF21}" type="slidenum">
              <a:t>31</a:t>
            </a:fld>
          </a:p>
        </p:txBody>
      </p:sp>
    </p:spTree>
  </p:cSld>
  <p:transition>
    <p:wheel spokes="1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Head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declaration begins with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thod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66920" y="22860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alc (int num1, int num2, String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7920" y="321804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08120" y="274320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04640" y="420840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746360" y="2743200"/>
            <a:ext cx="0" cy="1447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581440" y="532800"/>
            <a:ext cx="304920" cy="5029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03"/>
                </a:lnTo>
                <a:cubicBezTo>
                  <a:pt x="10800" y="10003"/>
                  <a:pt x="5400" y="10903"/>
                  <a:pt x="0" y="10903"/>
                </a:cubicBezTo>
                <a:cubicBezTo>
                  <a:pt x="5400" y="10903"/>
                  <a:pt x="10800" y="11803"/>
                  <a:pt x="10800" y="127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64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parameter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59320" y="4132440"/>
            <a:ext cx="476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The parameter list specifies th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and name of each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The name of a parameter in th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declaration is called a </a:t>
            </a:r>
            <a:r>
              <a:rPr b="1" i="1" lang="en-US" sz="1800" spc="-1" strike="noStrike">
                <a:solidFill>
                  <a:srgbClr val="009999"/>
                </a:solidFill>
                <a:latin typeface="Verdana"/>
              </a:rPr>
              <a:t>formal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EF32-4410-49D0-9F21-8950742E0F95}" type="slidenum">
              <a:t>32</a:t>
            </a:fld>
          </a:p>
        </p:txBody>
      </p:sp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thod Bod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thod header is followed by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thod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94000" y="223056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alc (int num1, int num2, String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15960" y="2633760"/>
            <a:ext cx="597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 = num1 + 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result = message.charAt (s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73600" y="4991040"/>
            <a:ext cx="29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The return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must be consistent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the return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537000" y="444024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396252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are loc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They are created each time the method is called, and are destroyed when it finishes exec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9D73-D7C2-4D29-B9EC-AF17A9E30315}" type="slidenum">
              <a:t>33</a:t>
            </a:fld>
          </a:p>
        </p:txBody>
      </p:sp>
    </p:spTree>
  </p:cSld>
  <p:transition>
    <p:wheel spokes="1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return Stat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turn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method indicates the type of value that the method sends back to the calling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that does not return a value has 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turn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the value that will be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expression must conform to the retur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AF6A-93E3-4E26-B5C7-E14E371906C4}" type="slidenum">
              <a:t>34</a:t>
            </a:fld>
          </a:p>
        </p:txBody>
      </p:sp>
    </p:spTree>
  </p:cSld>
  <p:transition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arame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method is called,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ual 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invocation are copied into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mal para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method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74760" y="3940200"/>
            <a:ext cx="7191000" cy="2326680"/>
            <a:chOff x="1274760" y="3940200"/>
            <a:chExt cx="7191000" cy="2326680"/>
          </a:xfrm>
        </p:grpSpPr>
        <p:sp>
          <p:nvSpPr>
            <p:cNvPr id="271" name=""/>
            <p:cNvSpPr/>
            <p:nvPr/>
          </p:nvSpPr>
          <p:spPr>
            <a:xfrm>
              <a:off x="1274760" y="3940200"/>
              <a:ext cx="71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har calc (int num1, int num2, String mess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97080" y="4343400"/>
              <a:ext cx="59720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 sum = num1 + num2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har result = message.charAt (sum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turn resu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906560" y="266688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 = obj.calc (25, count, "Hello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505320"/>
            <a:ext cx="76197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962160" y="3123720"/>
            <a:ext cx="3657960" cy="762480"/>
            <a:chOff x="3962160" y="3123720"/>
            <a:chExt cx="3657960" cy="762480"/>
          </a:xfrm>
        </p:grpSpPr>
        <p:cxnSp>
          <p:nvCxnSpPr>
            <p:cNvPr id="276" name=""/>
            <p:cNvCxnSpPr/>
            <p:nvPr/>
          </p:nvCxnSpPr>
          <p:spPr>
            <a:xfrm rot="5400000">
              <a:off x="3809520" y="3276360"/>
              <a:ext cx="762840" cy="457920"/>
            </a:xfrm>
            <a:prstGeom prst="bentConnector3">
              <a:avLst>
                <a:gd name="adj1" fmla="val 2058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277" name=""/>
            <p:cNvCxnSpPr/>
            <p:nvPr/>
          </p:nvCxnSpPr>
          <p:spPr>
            <a:xfrm flipH="1" rot="16200000">
              <a:off x="4989960" y="3390480"/>
              <a:ext cx="762840" cy="229320"/>
            </a:xfrm>
            <a:prstGeom prst="bentConnector3">
              <a:avLst>
                <a:gd name="adj1" fmla="val 1728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278" name=""/>
            <p:cNvGrpSpPr/>
            <p:nvPr/>
          </p:nvGrpSpPr>
          <p:grpSpPr>
            <a:xfrm>
              <a:off x="6476760" y="3124080"/>
              <a:ext cx="1143360" cy="762120"/>
              <a:chOff x="6476760" y="3124080"/>
              <a:chExt cx="1143360" cy="762120"/>
            </a:xfrm>
          </p:grpSpPr>
          <p:sp>
            <p:nvSpPr>
              <p:cNvPr id="279" name=""/>
              <p:cNvSpPr/>
              <p:nvPr/>
            </p:nvSpPr>
            <p:spPr>
              <a:xfrm>
                <a:off x="6477120" y="3124080"/>
                <a:ext cx="0" cy="1526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476760" y="3276720"/>
                <a:ext cx="11430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20120" y="3276720"/>
                <a:ext cx="0" cy="60948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7450-EE8D-4C56-92D6-1C49EB102BA0}" type="slidenum">
              <a:t>35</a:t>
            </a:fld>
          </a:p>
        </p:txBody>
      </p:sp>
    </p:spTree>
  </p:cSld>
  <p:transition>
    <p:wheel spokes="1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cal Dat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’ve seen, local variables can be declared inside a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mal parameters of a method crea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matic local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the method is invo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method finishes, all local variables are destroyed (including the formal paramete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in mind that instance variables, declared at the class level, exists as long as the object ex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0B24-5D10-41AC-AE7B-DD8A08BDD78F}" type="slidenum">
              <a:t>36</a:t>
            </a:fld>
          </a:p>
        </p:txBody>
      </p:sp>
    </p:spTree>
  </p:cSld>
  <p:transition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ank Account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look at another example that demonstrates the implementation details of classes and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ll represent a bank account by a class nam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state can include the account number, the current balance, and the name of the ow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count’s behaviors (or services) include deposits and withdrawals, and adding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2BF1-F231-42EA-A3A0-6C39D654C4EE}" type="slidenum">
              <a:t>37</a:t>
            </a:fld>
          </a:p>
        </p:txBody>
      </p:sp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iver Program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iver progr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s the use of other, more interesting parts of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r programs are often used to test other parts of th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hat drives the us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exercising its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ansactions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 17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ccount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 17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C8CB-E6C2-4DAD-A833-9F3D0E6E4D83}" type="slidenum">
              <a:t>38</a:t>
            </a:fld>
          </a:p>
        </p:txBody>
      </p:sp>
    </p:spTree>
  </p:cSld>
  <p:transition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ank Account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447920" y="1447920"/>
            <a:ext cx="7083360" cy="1600200"/>
            <a:chOff x="1447920" y="1447920"/>
            <a:chExt cx="7083360" cy="1600200"/>
          </a:xfrm>
        </p:grpSpPr>
        <p:sp>
          <p:nvSpPr>
            <p:cNvPr id="290" name=""/>
            <p:cNvSpPr/>
            <p:nvPr/>
          </p:nvSpPr>
          <p:spPr>
            <a:xfrm>
              <a:off x="2314440" y="1523880"/>
              <a:ext cx="57816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7920" y="1538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49800" y="1447920"/>
              <a:ext cx="2895480" cy="16002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87680" y="1714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57640" y="159228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23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3400" y="16066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7640" y="205740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2.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54160" y="20718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57640" y="252252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4560" y="2536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26160" y="2530440"/>
              <a:ext cx="1905120" cy="36504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08720" y="27129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65400" y="2514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ed Murphy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447920" y="3657600"/>
            <a:ext cx="7083360" cy="1600200"/>
            <a:chOff x="1447920" y="3657600"/>
            <a:chExt cx="7083360" cy="1600200"/>
          </a:xfrm>
        </p:grpSpPr>
        <p:sp>
          <p:nvSpPr>
            <p:cNvPr id="304" name=""/>
            <p:cNvSpPr/>
            <p:nvPr/>
          </p:nvSpPr>
          <p:spPr>
            <a:xfrm>
              <a:off x="2314440" y="373392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7920" y="3747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9800" y="3657600"/>
              <a:ext cx="2895480" cy="16002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87680" y="3924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57640" y="380196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97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43400" y="38163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57640" y="426708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0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54160" y="42814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57640" y="473220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4560" y="4746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26160" y="4740120"/>
              <a:ext cx="1905120" cy="3654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08720" y="492300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5400" y="47242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Jane Smith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91BB-81F4-489D-BCFE-E7CAEC9C1A69}" type="slidenum">
              <a:t>39</a:t>
            </a:fld>
          </a:p>
        </p:txBody>
      </p:sp>
    </p:spTree>
  </p:cSld>
  <p:transition>
    <p:wheel spokes="1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riting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grams we’ve written in previous examples have used classes defined in the Java standard class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will begin to design programs that rely on classes that we write our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that contain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just the starting point of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object-oriented programming is based on defining classes that represent objects with well-defined characteristics and functional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603A-6A15-4254-8568-91162A77DDB8}" type="slidenum">
              <a:t>4</a:t>
            </a:fld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ank Account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improvements that can be made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getters and setters could have been defined for all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gn of some methods could also be more robust, such as verifying tha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m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meter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thdr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pos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B1C9-C7E2-43D5-91A1-5936AB867C69}" type="slidenum">
              <a:t>40</a:t>
            </a:fld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nstructors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constructor has no return type specified in the method header, not ev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mon error is to put a return type on a constructor, which makes it a “regular” method that happens to have the same name as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grammer does not have to define a constructor for a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lass h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ault construc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accepts no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BCAC-469A-426C-8F8F-EEA578F2931C}" type="slidenum">
              <a:t>41</a:t>
            </a:fld>
          </a:p>
        </p:txBody>
      </p:sp>
    </p:spTree>
  </p:cSld>
  <p:transition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4A46-5F2D-44DC-A3F3-ED4D88F0BDF0}" type="slidenum">
              <a:t>42</a:t>
            </a:fld>
          </a:p>
        </p:txBody>
      </p:sp>
    </p:spTree>
  </p:cSld>
  <p:transition>
    <p:wheel spokes="1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aphical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bjects contain information that determines how the object should be represented vis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GUI components are graphical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have some effect on how components get dra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id this in Chapter 2 when we defin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n appl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some other examples of graphical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8472-E82F-4D48-B3A2-FB4DB7373756}" type="slidenum">
              <a:t>43</a:t>
            </a:fld>
          </a:p>
        </p:txBody>
      </p:sp>
    </p:spTree>
  </p:cSld>
  <p:transition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miling Face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ling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 draws a face by defin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 pa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milingFac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7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ilingFacePanel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7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ling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nstantiate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lingFace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display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lingFace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deriv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using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931C-B33A-464B-A334-82F6AEFD5AAD}" type="slidenum">
              <a:t>44</a:t>
            </a:fld>
          </a:p>
        </p:txBody>
      </p:sp>
    </p:spTree>
  </p:cSld>
  <p:transition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miling Face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wing component h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accept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that represents the graphics context for the pa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o draw the face with appropriate calls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difference between drawing on a panel and adding other GUI components to a pa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CE13-F07D-4068-B4E4-69140731E00A}" type="slidenum">
              <a:t>45</a:t>
            </a:fld>
          </a:p>
        </p:txBody>
      </p:sp>
    </p:spTree>
  </p:cSld>
  <p:transition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plat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l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ample is structured a bit diffe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raws a set of colored circles on a panel, but each circle is represented as a separate object that maintains its own graphi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panel "asks" each circle to draw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la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platPanel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ircl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33F5-80F0-4018-9478-09B0EDAF3664}" type="slidenum">
              <a:t>46</a:t>
            </a:fld>
          </a:p>
        </p:txBody>
      </p:sp>
    </p:spTree>
  </p:cSld>
  <p:transition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02AD-38A4-44F2-8472-E459E6B0658B}" type="slidenum">
              <a:t>47</a:t>
            </a:fld>
          </a:p>
        </p:txBody>
      </p:sp>
    </p:spTree>
  </p:cSld>
  <p:transition>
    <p:wheel spokes="1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aphical User 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aphical User Interface (GUI) in Java is created with at least three kinds of objec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previously discus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are objects that represent screen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s, buttons, text fields, menu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ponent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hold and organize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s, panels, applets, dialog box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BC12-723D-47EC-87EA-6CD646D8879E}" type="slidenum">
              <a:t>48</a:t>
            </a:fld>
          </a:p>
        </p:txBody>
      </p:sp>
    </p:spTree>
  </p:cSld>
  <p:transition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represents some activity to which we may want to resp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e may want our program to perform some action when the following occu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use is m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use is dragg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use button is click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aphical button is click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eyboard key is p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imer expi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often correspond to user actions, but not al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61E7-4B0C-401B-8352-787CD9641AAF}" type="slidenum">
              <a:t>49</a:t>
            </a:fld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from our overview of objects in Chapter 1 that an object h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six-sided die (singular of d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state can be defined as which face is show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primary behavior is that it can be rol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represent a die in software by designing a class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models this state and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ass serves as the blueprint for a di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then instantiate as many die objects as we need for any particular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797D-AAF6-4EFF-852E-07E844DB1B39}" type="slidenum">
              <a:t>5</a:t>
            </a:fld>
          </a:p>
        </p:txBody>
      </p:sp>
    </p:spTree>
  </p:cSld>
  <p:transition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s and Liste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standard class library contains several classes that represent typical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, such as a graphical button, generate (or fire) an event when it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"waits" for an event to occur and responds according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esign listener objects to take whatever actions are appropriate when an event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733D-ABAD-4B99-8858-0F17D0B0CE1C}" type="slidenum">
              <a:t>50</a:t>
            </a:fld>
          </a:p>
        </p:txBody>
      </p:sp>
    </p:spTree>
  </p:cSld>
  <p:transition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s and Liste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174680" y="1828800"/>
            <a:ext cx="3132720" cy="2439360"/>
            <a:chOff x="1174680" y="1828800"/>
            <a:chExt cx="3132720" cy="2439360"/>
          </a:xfrm>
        </p:grpSpPr>
        <p:sp>
          <p:nvSpPr>
            <p:cNvPr id="343" name=""/>
            <p:cNvSpPr/>
            <p:nvPr/>
          </p:nvSpPr>
          <p:spPr>
            <a:xfrm>
              <a:off x="19987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74680" y="3564360"/>
              <a:ext cx="313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 component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may generate an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906800" y="1828800"/>
            <a:ext cx="3315600" cy="2744280"/>
            <a:chOff x="4906800" y="1828800"/>
            <a:chExt cx="3315600" cy="2744280"/>
          </a:xfrm>
        </p:grpSpPr>
        <p:sp>
          <p:nvSpPr>
            <p:cNvPr id="346" name=""/>
            <p:cNvSpPr/>
            <p:nvPr/>
          </p:nvSpPr>
          <p:spPr>
            <a:xfrm>
              <a:off x="58849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06800" y="3564360"/>
              <a:ext cx="331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 corresponding li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object is designed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respond to the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22600" y="1523880"/>
            <a:ext cx="2210040" cy="838440"/>
            <a:chOff x="3522600" y="1523880"/>
            <a:chExt cx="2210040" cy="838440"/>
          </a:xfrm>
        </p:grpSpPr>
        <p:sp>
          <p:nvSpPr>
            <p:cNvPr id="349" name=""/>
            <p:cNvSpPr/>
            <p:nvPr/>
          </p:nvSpPr>
          <p:spPr>
            <a:xfrm>
              <a:off x="3522600" y="2362320"/>
              <a:ext cx="22100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1120" y="1523880"/>
              <a:ext cx="838080" cy="6858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772640" y="4860000"/>
            <a:ext cx="580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When the event occurs, the component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e appropriate method of the listen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passing an object that describes the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EF76-C32E-4902-970B-3C0519B3E8A3}" type="slidenum">
              <a:t>51</a:t>
            </a:fld>
          </a:p>
        </p:txBody>
      </p:sp>
    </p:spTree>
  </p:cSld>
  <p:transition>
    <p:wheel spokes="1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Develop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we use components and events that are predefined by classes in the Java class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to create a Java program that uses a GUI we mu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iate and set up the necessary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listener classes for any events we care ab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he relationship between listeners and components that generate the corresponding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now explore some new components and see how this all comes toge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1AF0-419C-4385-8F66-27DA7B0FCF96}" type="slidenum">
              <a:t>52</a:t>
            </a:fld>
          </a:p>
        </p:txBody>
      </p:sp>
    </p:spTree>
  </p:cSld>
  <p:transition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A857-2772-4620-B242-B41112212C45}" type="slidenum">
              <a:t>53</a:t>
            </a:fld>
          </a:p>
        </p:txBody>
      </p:sp>
    </p:spTree>
  </p:cSld>
  <p:transition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utt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sh butt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mponent that allows the user to initiate an action by pressing a graphical button using the m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ush button is defin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generate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ion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ample displays a push button that increments a counter each time it is pus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shCounter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ushCounterPanel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C8AB-E200-48BC-BCC0-CA3C39046E12}" type="slidenum">
              <a:t>54</a:t>
            </a:fld>
          </a:p>
        </p:txBody>
      </p:sp>
    </p:spTree>
  </p:cSld>
  <p:transition>
    <p:wheel spokes="1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onents of the GUI are the button, a label to display the counter, a panel to organize the components, and the main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represents the panel used to display the button and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deriv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ing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tructor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s up the elements of the GUI and initializes the counter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F0DD-C73A-4F80-A44C-705BF971E6E6}" type="slidenum">
              <a:t>55</a:t>
            </a:fld>
          </a:p>
        </p:txBody>
      </p:sp>
    </p:spTree>
  </p:cSld>
  <p:transition>
    <p:wheel spokes="1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the listener for the action event generated by the but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mplemented a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ner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means it is defined within the body of another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facilitates the communication between the listener and the GUI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classes should only be used in situations where there is an intimate relationship between the two classes and the inner class is not needed in any other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037F-3339-477A-BB90-23E70C0BD5CE}" type="slidenum">
              <a:t>56</a:t>
            </a:fld>
          </a:p>
        </p:txBody>
      </p:sp>
    </p:spTree>
  </p:cSld>
  <p:transition>
    <p:wheel spokes="1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er classes are written by implement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stene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mplement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face is a list of methods that the implementing class must def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metho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 i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lass library contains interfaces for many types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iscuss interfaces in more detail in Chapter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8A55-E1A7-4B71-A53F-618B8095ED75}" type="slidenum">
              <a:t>57</a:t>
            </a:fld>
          </a:p>
        </p:txBody>
      </p:sp>
    </p:spTree>
  </p:cSld>
  <p:transition>
    <p:wheel spokes="1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iate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s the relationship between the button and the listener by the cal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user presses the button, the button component create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and call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ncrements the counter and resets the text of the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E574-B8BD-4AC6-B3CE-2FD175D3685D}" type="slidenum">
              <a:t>58</a:t>
            </a:fld>
          </a:p>
        </p:txBody>
      </p:sp>
    </p:spTree>
  </p:cSld>
  <p:transition>
    <p:wheel spokes="1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ext Fiel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nother GUI example that uses another type of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xt fie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the user to enter one line of in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cursor is in the text field, the text field component generates an action event when the enter key is p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ahrenhei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9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hrenheitPanel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9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E6A1-8ABC-4E95-846F-AAFA3EBB6EBA}" type="slidenum">
              <a:t>59</a:t>
            </a:fld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can contain data declarations and method decla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52480" y="2286000"/>
            <a:ext cx="2971800" cy="3809880"/>
            <a:chOff x="1752480" y="2286000"/>
            <a:chExt cx="2971800" cy="3809880"/>
          </a:xfrm>
        </p:grpSpPr>
        <p:sp>
          <p:nvSpPr>
            <p:cNvPr id="92" name=""/>
            <p:cNvSpPr/>
            <p:nvPr/>
          </p:nvSpPr>
          <p:spPr>
            <a:xfrm>
              <a:off x="1752480" y="2286000"/>
              <a:ext cx="2971800" cy="3809880"/>
            </a:xfrm>
            <a:prstGeom prst="flowChartAlternateProcess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400" y="3352680"/>
              <a:ext cx="1752480" cy="7621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228920"/>
              <a:ext cx="1752480" cy="5335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400" y="4876560"/>
              <a:ext cx="1752480" cy="9144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7480" y="2513880"/>
              <a:ext cx="2512440" cy="642600"/>
            </a:xfrm>
            <a:prstGeom prst="rect">
              <a:avLst/>
            </a:prstGeom>
            <a:solidFill>
              <a:srgbClr val="f5e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size, weigh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ar categor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815080" y="2590560"/>
            <a:ext cx="24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Data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4600" y="434304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Method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19720" y="2819520"/>
            <a:ext cx="12952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962520" y="3352680"/>
            <a:ext cx="1142640" cy="2438280"/>
            <a:chOff x="3962520" y="3352680"/>
            <a:chExt cx="1142640" cy="2438280"/>
          </a:xfrm>
        </p:grpSpPr>
        <p:sp>
          <p:nvSpPr>
            <p:cNvPr id="101" name=""/>
            <p:cNvSpPr/>
            <p:nvPr/>
          </p:nvSpPr>
          <p:spPr>
            <a:xfrm>
              <a:off x="3962520" y="3352680"/>
              <a:ext cx="628560" cy="2438280"/>
            </a:xfrm>
            <a:custGeom>
              <a:avLst/>
              <a:gdLst>
                <a:gd name="textAreaLeft" fmla="*/ 0 w 628560"/>
                <a:gd name="textAreaRight" fmla="*/ 226800 w 62856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591080" y="4571640"/>
              <a:ext cx="514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4E57-AA0B-4721-82A7-9C812940B470}" type="slidenum">
              <a:t>6</a:t>
            </a:fld>
          </a:p>
        </p:txBody>
      </p:sp>
    </p:spTree>
  </p:cSld>
  <p:transition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ahrenheit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ample, the GUI is set up in a separate panel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ner class defines the listener for the action event generated by the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hrenheit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instantiates the listener and adds it to the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user types a temperature and presses enter, the text field generates the action event and call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computes the conversion and updates the result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B66A-D8D2-41A3-9017-C6C43519E57D}" type="slidenum">
              <a:t>60</a:t>
            </a:fld>
          </a:p>
        </p:txBody>
      </p:sp>
    </p:spTree>
  </p:cSld>
  <p:transition>
    <p:wheel spokes="1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4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apsulation and Java mod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declaration and parameter pa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84CC-D195-4B57-9E7A-35EA0DCD7282}" type="slidenum">
              <a:t>61</a:t>
            </a:fld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s of the data define the state of an object created from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nctionality of the methods define the behaviors of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u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we might declare an integer that represents the current value showing on the 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ethods would “roll” the die by setting that value to a random number between one and s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B710-DF4B-4D5E-B416-45F113F59BA3}" type="slidenum">
              <a:t>7</a:t>
            </a:fld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ll want to desig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ith other data and methods to make it a versatile and reusable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given program will not necessarily use all aspects of a given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llingDice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5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5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9265-7CFF-4BAD-AC4C-835CC8AE31AC}" type="slidenum">
              <a:t>8</a:t>
            </a:fld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Die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two dat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represents the maximum face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represents the current face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us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to determine a new face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also methods to explicitly set and retrieve the current face value at an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2D8E-1980-4911-8393-B4CA82C92A1E}" type="slidenum">
              <a:t>9</a:t>
            </a:fld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Trial User</cp:lastModifiedBy>
  <dcterms:modified xsi:type="dcterms:W3CDTF">2004-08-01T10:37:13Z</dcterms:modified>
  <cp:revision>46</cp:revision>
  <dc:subject/>
  <dc:title>PowerPoint Presentation</dc:title>
</cp:coreProperties>
</file>