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9.xml.rels" ContentType="application/vnd.openxmlformats-package.relationships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ADFB-5293-4980-8CE5-4603EC7AD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620F-7914-4089-939B-56B9B90C9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97D3-9DAE-4C92-922F-85AB969A4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E308-A0EB-436B-A7EF-36C33C7DF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1460-7E87-4AFC-803F-5EAB16335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6EF8-BA28-466D-91EC-9E00A0AF7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64EF-5075-4571-9171-C16B94CE8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4FE7-490F-4C60-A162-75423F095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CADA-D9BA-46B6-982E-57DAE9F4A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3F51-2D73-409A-B451-6127BC222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EA37-3270-41DD-AF1B-67E6339FC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04E3-4576-44CF-998D-0CC144BB6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A160-CAC7-4EDE-A001-3EA7B4C70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20D6-9B62-4DA3-AE81-18787CAB5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1-</a:t>
            </a:r>
            <a:fld id="{283C512D-DCB0-48E4-9D88-DD75FE3B6F6D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1/Lincoln.java" TargetMode="External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xamples/chap01/Lincoln2.java" TargetMode="External"/><Relationship Id="rId3" Type="http://schemas.openxmlformats.org/officeDocument/2006/relationships/hyperlink" Target="file:///../examples/chap01/Lincoln3.java" TargetMode="External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e985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5e98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a1f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nalog vs. Digital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basic ways to store and manage dat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, in direct proportion to the data represen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 on a record album - a needle rides on ridges in the grooves that are directly proportional to the voltages sent to the spea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is broken down into pieces, and each piece is represented separat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 on a compact disc - the disc stores numbers representing specific voltage levels sampled at specific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4C1C-BA2D-41C0-935D-6875103E7D16}" type="slidenum">
              <a:t>10</a:t>
            </a:fld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igital Inform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s store all information digitall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ics and im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me way, all information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gitiz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broken down into pieces and represented as nu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8F7AD-6AFB-4667-A9B1-A4DAAC9A128E}" type="slidenum">
              <a:t>11</a:t>
            </a:fld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presenting Text Digitall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every character is stored as a number, including spaces, digits, and punct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sponding upper and lower case letters are separate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80360" y="3429000"/>
            <a:ext cx="377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Unicode MS"/>
              </a:rPr>
              <a:t>H i ,   H e a t h e r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93200" y="3962160"/>
            <a:ext cx="6736680" cy="1464480"/>
            <a:chOff x="1393200" y="3962160"/>
            <a:chExt cx="6736680" cy="1464480"/>
          </a:xfrm>
        </p:grpSpPr>
        <p:sp>
          <p:nvSpPr>
            <p:cNvPr id="143" name=""/>
            <p:cNvSpPr/>
            <p:nvPr/>
          </p:nvSpPr>
          <p:spPr>
            <a:xfrm>
              <a:off x="1393200" y="5029200"/>
              <a:ext cx="673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72   105   44   32   72   101   97   116   104   101   114   4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752840" y="3962160"/>
              <a:ext cx="1447560" cy="99036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819520" y="4038480"/>
              <a:ext cx="838080" cy="91440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9040" y="3962520"/>
              <a:ext cx="380880" cy="99036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7120" y="3962520"/>
              <a:ext cx="1371600" cy="106668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886200" y="4038480"/>
              <a:ext cx="381240" cy="91440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876920" y="3962160"/>
              <a:ext cx="152280" cy="106668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81CD-1415-429E-A841-AB8799C6A315}" type="slidenum">
              <a:t>12</a:t>
            </a:fld>
          </a:p>
        </p:txBody>
      </p:sp>
    </p:spTree>
  </p:cSld>
  <p:transition spd="med">
    <p:wheel spokes="1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inary Numb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formation is digitized, it is represented and stored in memory using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binary digit (0 or 1)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s that store and move information are cheaper and more reliable if they have to represent only two 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bit can represent two possible states, like a light bulb that is either on (1) or off (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utations of bits are used to store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F811-0264-4885-9E5A-75BB7F08FD2B}" type="slidenum">
              <a:t>13</a:t>
            </a:fld>
          </a:p>
        </p:txBody>
      </p:sp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it Permuta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383840" y="1371600"/>
            <a:ext cx="857160" cy="1268280"/>
            <a:chOff x="1383840" y="1371600"/>
            <a:chExt cx="857160" cy="1268280"/>
          </a:xfrm>
        </p:grpSpPr>
        <p:sp>
          <p:nvSpPr>
            <p:cNvPr id="154" name=""/>
            <p:cNvSpPr/>
            <p:nvPr/>
          </p:nvSpPr>
          <p:spPr>
            <a:xfrm>
              <a:off x="1383840" y="1371600"/>
              <a:ext cx="85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1 b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38000" y="181440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854440" y="1371600"/>
            <a:ext cx="1008000" cy="1999800"/>
            <a:chOff x="2854440" y="1371600"/>
            <a:chExt cx="1008000" cy="1999800"/>
          </a:xfrm>
        </p:grpSpPr>
        <p:sp>
          <p:nvSpPr>
            <p:cNvPr id="157" name=""/>
            <p:cNvSpPr/>
            <p:nvPr/>
          </p:nvSpPr>
          <p:spPr>
            <a:xfrm>
              <a:off x="2854440" y="1371600"/>
              <a:ext cx="100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2 b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8800" y="1814400"/>
              <a:ext cx="528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443480" y="1371600"/>
            <a:ext cx="1008000" cy="3462840"/>
            <a:chOff x="4443480" y="1371600"/>
            <a:chExt cx="1008000" cy="3462840"/>
          </a:xfrm>
        </p:grpSpPr>
        <p:sp>
          <p:nvSpPr>
            <p:cNvPr id="160" name=""/>
            <p:cNvSpPr/>
            <p:nvPr/>
          </p:nvSpPr>
          <p:spPr>
            <a:xfrm>
              <a:off x="4443480" y="1371600"/>
              <a:ext cx="100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3 b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99720" y="1814400"/>
              <a:ext cx="7020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64920" y="1371600"/>
            <a:ext cx="1942200" cy="3462840"/>
            <a:chOff x="6064920" y="1371600"/>
            <a:chExt cx="1942200" cy="3462840"/>
          </a:xfrm>
        </p:grpSpPr>
        <p:sp>
          <p:nvSpPr>
            <p:cNvPr id="163" name=""/>
            <p:cNvSpPr/>
            <p:nvPr/>
          </p:nvSpPr>
          <p:spPr>
            <a:xfrm>
              <a:off x="6518520" y="1371600"/>
              <a:ext cx="100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 Unicode MS"/>
                </a:rPr>
                <a:t>4 b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6064920" y="1814400"/>
              <a:ext cx="1942200" cy="3020040"/>
              <a:chOff x="6064920" y="1814400"/>
              <a:chExt cx="1942200" cy="302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064920" y="1814400"/>
                <a:ext cx="87552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0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0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1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1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1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31600" y="1814400"/>
                <a:ext cx="87552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0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0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1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1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1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684000" y="5183280"/>
            <a:ext cx="84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Each additional bit doubles the number of possible perm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CB5E-2818-4438-9D82-6BC63E6AD9B0}" type="slidenum">
              <a:t>14</a:t>
            </a:fld>
          </a:p>
        </p:txBody>
      </p:sp>
    </p:spTree>
  </p:cSld>
  <p:transition spd="med">
    <p:wheel spokes="1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it Permuta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07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ermutation can represent a particular i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2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mutations of N 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N bits are needed to represent 2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que i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07160" y="3311640"/>
            <a:ext cx="1793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=  2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3854520"/>
            <a:ext cx="1793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=  4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88080" y="4398840"/>
            <a:ext cx="1825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0099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 =  8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88080" y="4941720"/>
            <a:ext cx="1977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0099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 =  16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88080" y="5486400"/>
            <a:ext cx="1977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n-US" sz="2400" spc="-1" strike="noStrike" baseline="50000">
                <a:solidFill>
                  <a:srgbClr val="009999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 =  32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86640" y="3124080"/>
            <a:ext cx="4019040" cy="2837160"/>
            <a:chOff x="1286640" y="3124080"/>
            <a:chExt cx="4019040" cy="2837160"/>
          </a:xfrm>
        </p:grpSpPr>
        <p:sp>
          <p:nvSpPr>
            <p:cNvPr id="176" name=""/>
            <p:cNvSpPr/>
            <p:nvPr/>
          </p:nvSpPr>
          <p:spPr>
            <a:xfrm>
              <a:off x="4192200" y="3124080"/>
              <a:ext cx="11134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1 bit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2 bits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3 bits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4 bits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5 bits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86640" y="383364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How ma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items can 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represented 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7600" y="3425760"/>
              <a:ext cx="228600" cy="23619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1560 h 2361960"/>
                <a:gd name="textAreaBottom" fmla="*/ 230040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FFED-CC4C-42C0-89DB-14E504CEFE3D}" type="slidenum">
              <a:t>15</a:t>
            </a:fld>
          </a:p>
        </p:txBody>
      </p:sp>
    </p:spTree>
  </p:cSld>
  <p:transition spd="med">
    <p:wheel spokes="1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6904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19810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4FE7-5113-4B2E-8B77-34C1C8D80E43}" type="slidenum">
              <a:t>16</a:t>
            </a:fld>
          </a:p>
        </p:txBody>
      </p:sp>
    </p:spTree>
  </p:cSld>
  <p:transition spd="med">
    <p:wheel spokes="1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A Computer Specific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following specification for a personal computer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8 GHz Pentium 4 Proc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2 MB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 GB Hard Di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x CD-RW / DVD-ROM Combo Dr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” Video Display with 1280 x 1024 re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 Kb/s Mod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it all mea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4EE1-6E9D-48F5-B143-B9FB18A53F4C}" type="slidenum">
              <a:t>17</a:t>
            </a:fld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mo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48120" y="1219320"/>
            <a:ext cx="4724280" cy="4840920"/>
            <a:chOff x="3048120" y="1219320"/>
            <a:chExt cx="4724280" cy="4840920"/>
          </a:xfrm>
        </p:grpSpPr>
        <p:grpSp>
          <p:nvGrpSpPr>
            <p:cNvPr id="186" name=""/>
            <p:cNvGrpSpPr/>
            <p:nvPr/>
          </p:nvGrpSpPr>
          <p:grpSpPr>
            <a:xfrm>
              <a:off x="3048120" y="1219320"/>
              <a:ext cx="1447560" cy="4840920"/>
              <a:chOff x="3048120" y="1219320"/>
              <a:chExt cx="1447560" cy="48409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3733920" y="1219320"/>
                <a:ext cx="97920" cy="574560"/>
                <a:chOff x="3733920" y="1219320"/>
                <a:chExt cx="97920" cy="5745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733920" y="1219320"/>
                  <a:ext cx="95040" cy="950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736800" y="1457280"/>
                  <a:ext cx="95040" cy="95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736800" y="1698480"/>
                  <a:ext cx="95040" cy="95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733920" y="5486400"/>
                <a:ext cx="98280" cy="573840"/>
                <a:chOff x="3733920" y="5486400"/>
                <a:chExt cx="98280" cy="573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733920" y="5486400"/>
                  <a:ext cx="95040" cy="950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737160" y="5724360"/>
                  <a:ext cx="95040" cy="9468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737160" y="5965200"/>
                  <a:ext cx="95040" cy="950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048120" y="1904760"/>
                <a:ext cx="1447560" cy="3428280"/>
                <a:chOff x="3048120" y="1904760"/>
                <a:chExt cx="1447560" cy="34282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048120" y="190476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048120" y="228564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048120" y="266652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048120" y="304740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048120" y="342864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048120" y="380952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048120" y="419040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048120" y="457164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048120" y="495252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5" name=""/>
            <p:cNvSpPr/>
            <p:nvPr/>
          </p:nvSpPr>
          <p:spPr>
            <a:xfrm>
              <a:off x="4876920" y="2133360"/>
              <a:ext cx="2895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Main memory is divided into many memory locations (or 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Arial Unicode MS"/>
                </a:rPr>
                <a:t>cells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973160" y="1905120"/>
            <a:ext cx="5951520" cy="3457440"/>
            <a:chOff x="1973160" y="1905120"/>
            <a:chExt cx="5951520" cy="3457440"/>
          </a:xfrm>
        </p:grpSpPr>
        <p:sp>
          <p:nvSpPr>
            <p:cNvPr id="207" name=""/>
            <p:cNvSpPr/>
            <p:nvPr/>
          </p:nvSpPr>
          <p:spPr>
            <a:xfrm>
              <a:off x="1973160" y="1905120"/>
              <a:ext cx="879840" cy="34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92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927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92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92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928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92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928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92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928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560" y="3962520"/>
              <a:ext cx="30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Each memory cell has a numeric 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Arial Unicode MS"/>
                </a:rPr>
                <a:t>address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, which uniquely identifies 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F402-ACF6-4C45-A09D-6D2D80388BF8}" type="slidenum">
              <a:t>18</a:t>
            </a:fld>
          </a:p>
        </p:txBody>
      </p:sp>
    </p:spTree>
  </p:cSld>
  <p:transition spd="med">
    <p:wheel spokes="1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toring Inform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048120" y="1219320"/>
            <a:ext cx="1447560" cy="4840920"/>
            <a:chOff x="3048120" y="1219320"/>
            <a:chExt cx="1447560" cy="4840920"/>
          </a:xfrm>
        </p:grpSpPr>
        <p:grpSp>
          <p:nvGrpSpPr>
            <p:cNvPr id="211" name=""/>
            <p:cNvGrpSpPr/>
            <p:nvPr/>
          </p:nvGrpSpPr>
          <p:grpSpPr>
            <a:xfrm>
              <a:off x="3733560" y="1219320"/>
              <a:ext cx="97560" cy="574560"/>
              <a:chOff x="3733560" y="1219320"/>
              <a:chExt cx="97560" cy="574560"/>
            </a:xfrm>
          </p:grpSpPr>
          <p:sp>
            <p:nvSpPr>
              <p:cNvPr id="212" name=""/>
              <p:cNvSpPr/>
              <p:nvPr/>
            </p:nvSpPr>
            <p:spPr>
              <a:xfrm>
                <a:off x="3733560" y="1219320"/>
                <a:ext cx="94680" cy="9504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36440" y="1457280"/>
                <a:ext cx="94680" cy="9540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36440" y="1698480"/>
                <a:ext cx="94680" cy="9540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733560" y="5486400"/>
              <a:ext cx="97560" cy="573840"/>
              <a:chOff x="3733560" y="5486400"/>
              <a:chExt cx="97560" cy="573840"/>
            </a:xfrm>
          </p:grpSpPr>
          <p:sp>
            <p:nvSpPr>
              <p:cNvPr id="216" name=""/>
              <p:cNvSpPr/>
              <p:nvPr/>
            </p:nvSpPr>
            <p:spPr>
              <a:xfrm>
                <a:off x="3733560" y="5486400"/>
                <a:ext cx="94680" cy="9504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36440" y="5724360"/>
                <a:ext cx="94680" cy="946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36440" y="5965200"/>
                <a:ext cx="94680" cy="9504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048120" y="1904760"/>
              <a:ext cx="1447560" cy="3428280"/>
              <a:chOff x="3048120" y="1904760"/>
              <a:chExt cx="1447560" cy="342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3048120" y="190476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048120" y="228564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48120" y="266652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48120" y="304740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48120" y="342864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48120" y="380952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48120" y="419040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48120" y="457164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48120" y="495252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9" name=""/>
          <p:cNvSpPr/>
          <p:nvPr/>
        </p:nvSpPr>
        <p:spPr>
          <a:xfrm>
            <a:off x="1973160" y="1905120"/>
            <a:ext cx="8798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92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92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92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92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92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92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92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92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9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24280" y="3352680"/>
            <a:ext cx="3056760" cy="1007280"/>
            <a:chOff x="4724280" y="3352680"/>
            <a:chExt cx="3056760" cy="1007280"/>
          </a:xfrm>
        </p:grpSpPr>
        <p:sp>
          <p:nvSpPr>
            <p:cNvPr id="231" name=""/>
            <p:cNvSpPr/>
            <p:nvPr/>
          </p:nvSpPr>
          <p:spPr>
            <a:xfrm>
              <a:off x="4883400" y="3352680"/>
              <a:ext cx="28976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Large values 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stored in consecu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memory lo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24280" y="350496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50"/>
                  </a:lnTo>
                  <a:cubicBezTo>
                    <a:pt x="10800" y="9550"/>
                    <a:pt x="16200" y="10450"/>
                    <a:pt x="21600" y="10450"/>
                  </a:cubicBezTo>
                  <a:cubicBezTo>
                    <a:pt x="16200" y="10450"/>
                    <a:pt x="10800" y="11350"/>
                    <a:pt x="10800" y="1225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048120" y="3429000"/>
            <a:ext cx="1447560" cy="761760"/>
            <a:chOff x="3048120" y="3429000"/>
            <a:chExt cx="1447560" cy="761760"/>
          </a:xfrm>
        </p:grpSpPr>
        <p:sp>
          <p:nvSpPr>
            <p:cNvPr id="234" name=""/>
            <p:cNvSpPr/>
            <p:nvPr/>
          </p:nvSpPr>
          <p:spPr>
            <a:xfrm>
              <a:off x="3048120" y="3429000"/>
              <a:ext cx="1447560" cy="3808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48120" y="3809880"/>
              <a:ext cx="1447560" cy="3808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097080" y="23004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11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638600" y="1981080"/>
            <a:ext cx="3743280" cy="1313640"/>
            <a:chOff x="4638600" y="1981080"/>
            <a:chExt cx="3743280" cy="1313640"/>
          </a:xfrm>
        </p:grpSpPr>
        <p:sp>
          <p:nvSpPr>
            <p:cNvPr id="238" name=""/>
            <p:cNvSpPr/>
            <p:nvPr/>
          </p:nvSpPr>
          <p:spPr>
            <a:xfrm>
              <a:off x="5116320" y="1981080"/>
              <a:ext cx="3265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Each memory cell stores a set number of bits (usually 8 bits, or one </a:t>
              </a:r>
              <a:r>
                <a:rPr b="1" i="1" lang="en-US" sz="2000" spc="-1" strike="noStrike">
                  <a:solidFill>
                    <a:srgbClr val="009999"/>
                  </a:solidFill>
                  <a:latin typeface="Arial Unicode MS"/>
                </a:rPr>
                <a:t>byte</a:t>
              </a: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38600" y="2485800"/>
              <a:ext cx="3981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3425-DA16-46C3-8D8C-06541AC4ACBE}" type="slidenum">
              <a:t>19</a:t>
            </a:fld>
          </a:p>
        </p:txBody>
      </p:sp>
    </p:spTree>
  </p:cSld>
  <p:transition spd="med">
    <p:wheel spokes="1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Focus of the Cours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Software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design, implementation, and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-oriented conce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9E5F-E071-49F1-9E96-40119057725E}" type="slidenum">
              <a:t>2</a:t>
            </a:fld>
          </a:p>
        </p:txBody>
      </p:sp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torage Capacit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17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memory device ha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age capac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ndicating the number of bytes it can h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ies are expressed in various uni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11360" y="3692520"/>
            <a:ext cx="3810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KB</a:t>
            </a: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2</a:t>
            </a:r>
            <a:r>
              <a:rPr b="1" lang="en-US" sz="2400" spc="-1" strike="noStrike" baseline="50000">
                <a:solidFill>
                  <a:srgbClr val="009999"/>
                </a:solidFill>
                <a:latin typeface="Arial Unicode MS"/>
              </a:rPr>
              <a:t>10</a:t>
            </a: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  =  10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92560" y="4176720"/>
            <a:ext cx="4599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MB</a:t>
            </a: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2</a:t>
            </a:r>
            <a:r>
              <a:rPr b="1" lang="en-US" sz="2400" spc="-1" strike="noStrike" baseline="50000">
                <a:solidFill>
                  <a:srgbClr val="009999"/>
                </a:solidFill>
                <a:latin typeface="Arial Unicode MS"/>
              </a:rPr>
              <a:t>20</a:t>
            </a: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  (over 1 mill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03000" y="4659480"/>
            <a:ext cx="4493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GB</a:t>
            </a: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2</a:t>
            </a:r>
            <a:r>
              <a:rPr b="1" lang="en-US" sz="2400" spc="-1" strike="noStrike" baseline="50000">
                <a:solidFill>
                  <a:srgbClr val="009999"/>
                </a:solidFill>
                <a:latin typeface="Arial Unicode MS"/>
              </a:rPr>
              <a:t>30</a:t>
            </a: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  (over 1 bill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2760" y="5141880"/>
            <a:ext cx="4571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TB</a:t>
            </a: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2</a:t>
            </a:r>
            <a:r>
              <a:rPr b="1" lang="en-US" sz="2400" spc="-1" strike="noStrike" baseline="50000">
                <a:solidFill>
                  <a:srgbClr val="009999"/>
                </a:solidFill>
                <a:latin typeface="Arial Unicode MS"/>
              </a:rPr>
              <a:t>40</a:t>
            </a: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  (over 1 trill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0000" y="3124080"/>
            <a:ext cx="60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16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 Unicode MS"/>
              </a:rPr>
              <a:t>Unit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 Unicode MS"/>
              </a:rPr>
              <a:t>	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 Unicode MS"/>
              </a:rPr>
              <a:t>Symbol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 Unicode MS"/>
              </a:rPr>
              <a:t>	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 Unicode MS"/>
              </a:rPr>
              <a:t>Number of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58560" y="3733920"/>
            <a:ext cx="17168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kilo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mega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giga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tera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E227-7366-4353-966B-8776C086A1F3}" type="slidenum">
              <a:t>20</a:t>
            </a:fld>
          </a:p>
        </p:txBody>
      </p:sp>
    </p:spTree>
  </p:cSld>
  <p:transition spd="med">
    <p:wheel spokes="1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emo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memor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olat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-  stored information is lost if the electric power is remo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ary memory device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nvolat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memory and disk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 ac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ices - information can be reached direc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rm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 ac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ndom ac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ten are used interchangeab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gnetic tape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ice since its data is arranged in a linear order  -  you must get by the intervening data in order to access other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51EE-DDB8-45E9-9A98-D52F7D117DFC}" type="slidenum">
              <a:t>21</a:t>
            </a:fld>
          </a:p>
        </p:txBody>
      </p:sp>
    </p:spTree>
  </p:cSld>
  <p:transition spd="med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AM vs. ROM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-  Random Access Memory (direct acc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-  Read-Only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rms RAM and main memory are basically interchange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 could be a set of memory chips, or a separate device, such as a CD 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RAM and ROM are random (direct) access device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 probably should be called Read-Write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B164-7819-4F9B-9329-2522605C84FD}" type="slidenum">
              <a:t>22</a:t>
            </a:fld>
          </a:p>
        </p:txBody>
      </p:sp>
    </p:spTree>
  </p:cSld>
  <p:transition spd="med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pact Disc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D-ROM is portable read-only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icroscopic pit on a CD represents a binary 1 and a smooth area represents a binary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w-intensity laser reflects strongly from a smooth area and weakly from a p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D-Recordable (CD-R) drive can be used to write information to a CD o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D-Rewritable (CD-RW) can be erased and re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eed of a CD drive indicates how fast (max) it can read and write information to a 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1EBF-07CC-4DB7-B60D-07C544D84DC9}" type="slidenum">
              <a:t>23</a:t>
            </a:fld>
          </a:p>
        </p:txBody>
      </p:sp>
    </p:spTree>
  </p:cSld>
  <p:transition spd="med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VD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VD is the same size as a CD, but can store much more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mat of a DVD stores more bits per square i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D can store 650 MB, while a standard DVD can store 4.7 G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ouble sided DVD can store 9.4 G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advanced techniques can bring the capacity up to 17.0 G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CDs, there are DVD-R and DVD-RW dis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639A-54E7-44C5-A434-E60E3478401A}" type="slidenum">
              <a:t>24</a:t>
            </a:fld>
          </a:p>
        </p:txBody>
      </p:sp>
    </p:spTree>
  </p:cSld>
  <p:transition spd="med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Central Processing Uni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PU is on a chip call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croprocess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tinuously follows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tch-decode-execute cyc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21566400">
            <a:off x="3309840" y="353700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950120" y="2852640"/>
            <a:ext cx="5645880" cy="1203120"/>
            <a:chOff x="1950120" y="2852640"/>
            <a:chExt cx="5645880" cy="1203120"/>
          </a:xfrm>
        </p:grpSpPr>
        <p:sp>
          <p:nvSpPr>
            <p:cNvPr id="260" name=""/>
            <p:cNvSpPr/>
            <p:nvPr/>
          </p:nvSpPr>
          <p:spPr>
            <a:xfrm>
              <a:off x="4059360" y="336996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50120" y="2852640"/>
              <a:ext cx="564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Retrieve an instruction from main 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443560" y="3607920"/>
            <a:ext cx="3270600" cy="2337480"/>
            <a:chOff x="5443560" y="3607920"/>
            <a:chExt cx="3270600" cy="2337480"/>
          </a:xfrm>
        </p:grpSpPr>
        <p:sp>
          <p:nvSpPr>
            <p:cNvPr id="263" name=""/>
            <p:cNvSpPr/>
            <p:nvPr/>
          </p:nvSpPr>
          <p:spPr>
            <a:xfrm>
              <a:off x="5443560" y="445104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34800">
              <a:off x="5709960" y="3573360"/>
              <a:ext cx="685800" cy="7621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62320" y="5241600"/>
              <a:ext cx="275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Determine what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instruction 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914120" y="4451400"/>
            <a:ext cx="3377160" cy="1494360"/>
            <a:chOff x="1914120" y="4451400"/>
            <a:chExt cx="3377160" cy="1494360"/>
          </a:xfrm>
        </p:grpSpPr>
        <p:sp>
          <p:nvSpPr>
            <p:cNvPr id="267" name=""/>
            <p:cNvSpPr/>
            <p:nvPr/>
          </p:nvSpPr>
          <p:spPr>
            <a:xfrm>
              <a:off x="2776680" y="445140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exec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76880" y="4591080"/>
              <a:ext cx="914400" cy="45720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14120" y="5241960"/>
              <a:ext cx="1866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Carry out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D6C1-8D98-47BC-9D4F-FEE2AD32A116}" type="slidenum">
              <a:t>25</a:t>
            </a:fld>
          </a:p>
        </p:txBody>
      </p:sp>
    </p:spTree>
  </p:cSld>
  <p:transition spd="med">
    <p:wheel spokes="1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Central Processing Uni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64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contai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28800" y="2362320"/>
            <a:ext cx="2666880" cy="6094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rithmetic / Logic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4800600"/>
            <a:ext cx="2057400" cy="685800"/>
          </a:xfrm>
          <a:prstGeom prst="cube">
            <a:avLst>
              <a:gd name="adj" fmla="val 852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71880" y="3581280"/>
            <a:ext cx="1981080" cy="6098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trol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4648320"/>
            <a:ext cx="1789200" cy="1008720"/>
          </a:xfr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Small storage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86400" y="2286000"/>
            <a:ext cx="2666880" cy="1008720"/>
          </a:xfr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Performs calculations and makes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3429000"/>
            <a:ext cx="2209680" cy="1008720"/>
          </a:xfr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Coordinates processing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0200" y="2070000"/>
            <a:ext cx="3117960" cy="3645000"/>
          </a:xfrm>
          <a:custGeom>
            <a:avLst/>
            <a:gdLst>
              <a:gd name="textAreaLeft" fmla="*/ 151920 w 3117960"/>
              <a:gd name="textAreaRight" fmla="*/ 2966040 w 3117960"/>
              <a:gd name="textAreaTop" fmla="*/ 151920 h 3645000"/>
              <a:gd name="textAreaBottom" fmla="*/ 3493080 h 364500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048120" y="3048120"/>
            <a:ext cx="228600" cy="1676160"/>
            <a:chOff x="3048120" y="3048120"/>
            <a:chExt cx="228600" cy="1676160"/>
          </a:xfrm>
        </p:grpSpPr>
        <p:sp>
          <p:nvSpPr>
            <p:cNvPr id="280" name=""/>
            <p:cNvSpPr/>
            <p:nvPr/>
          </p:nvSpPr>
          <p:spPr>
            <a:xfrm>
              <a:off x="3048120" y="30481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48120" y="426708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DED1-357A-4187-9E2B-760EE579D2CD}" type="slidenum">
              <a:t>26</a:t>
            </a:fld>
          </a:p>
        </p:txBody>
      </p:sp>
    </p:spTree>
  </p:cSld>
  <p:transition spd="med">
    <p:wheel spokes="1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Central Processing Uni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eed of a CPU is controlled by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 c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stem clock generates an electronic pulse at regular interv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ulses coordinate the activities of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eed is usually measured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igahert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GHz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BC95-2B1D-42BA-B988-693CA89DBADD}" type="slidenum">
              <a:t>27</a:t>
            </a:fld>
          </a:p>
        </p:txBody>
      </p:sp>
    </p:spTree>
  </p:cSld>
  <p:transition spd="med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onitor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a monitor (17") is measured diagonally, like a television scr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monitors these days hav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med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pabilities:  text, graphics, video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nitor has a certain maximu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indicating the number of picture elements,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ixe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at it can display (such as 1280 by 102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resolution (more pixels) produces sharper pi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5742-D3AA-4AE0-9AD6-E90B4D223312}" type="slidenum">
              <a:t>28</a:t>
            </a:fld>
          </a:p>
        </p:txBody>
      </p:sp>
    </p:spTree>
  </p:cSld>
  <p:transition spd="med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odem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ta transfer dev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w information to be sent and received between compu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computers include a modulator-demodulator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d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allows information to be moved across a telephone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ata transfer device has a maximu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ta transfer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em, for instance, may have a data transfer rate of 56,00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ts per seco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b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3F9F-2AC7-4E84-9995-E08D0CB90935}" type="slidenum">
              <a:t>29</a:t>
            </a:fld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first need to explore the fundamentals of computer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1 focuses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s of a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hose components inter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computers store and manipulate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ternet and the World Wide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ing and programming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troduction to 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verview of object-oriented conce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84FD-2C87-40E4-9175-2E8463AC3689}" type="slidenum">
              <a:t>3</a:t>
            </a:fld>
          </a:p>
        </p:txBody>
      </p:sp>
    </p:spTree>
  </p:cSld>
  <p:transition spd="med"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904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25909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1671-6767-4488-B7AB-F09C5834C02D}" type="slidenum">
              <a:t>30</a:t>
            </a:fld>
          </a:p>
        </p:txBody>
      </p:sp>
    </p:spTree>
  </p:cSld>
  <p:transition spd="med">
    <p:wheel spokes="1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Network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wo or more computers that are connected so that data and resources can be sh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omputers are connected to some kind of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mputer has its ow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ork 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uniquely identifies it among the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network computer dedicated to storing programs and data that are shared among network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81E2-4E0C-4533-8941-0F55EDF45B4F}" type="slidenum">
              <a:t>31</a:t>
            </a:fld>
          </a:p>
        </p:txBody>
      </p:sp>
    </p:spTree>
  </p:cSld>
  <p:transition spd="med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Network Connec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mputer in a network could be directly connected to every other computer in the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called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point-to-poi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861160" y="3538080"/>
            <a:ext cx="1314360" cy="844920"/>
            <a:chOff x="5861160" y="3538080"/>
            <a:chExt cx="1314360" cy="844920"/>
          </a:xfrm>
        </p:grpSpPr>
        <p:sp>
          <p:nvSpPr>
            <p:cNvPr id="296" name=""/>
            <p:cNvSpPr/>
            <p:nvPr/>
          </p:nvSpPr>
          <p:spPr>
            <a:xfrm>
              <a:off x="5883120" y="353844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38800" y="3560760"/>
              <a:ext cx="0" cy="82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861160" y="3538080"/>
              <a:ext cx="1314360" cy="77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829120" y="3083040"/>
            <a:ext cx="1326960" cy="1241280"/>
            <a:chOff x="5829120" y="3083040"/>
            <a:chExt cx="1326960" cy="1241280"/>
          </a:xfrm>
        </p:grpSpPr>
        <p:sp>
          <p:nvSpPr>
            <p:cNvPr id="300" name=""/>
            <p:cNvSpPr/>
            <p:nvPr/>
          </p:nvSpPr>
          <p:spPr>
            <a:xfrm>
              <a:off x="6462720" y="3097080"/>
              <a:ext cx="69336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5829120" y="3083040"/>
              <a:ext cx="61884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871960" y="3111480"/>
              <a:ext cx="590400" cy="11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62720" y="3097080"/>
              <a:ext cx="678960" cy="122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845320" y="3134880"/>
            <a:ext cx="1312200" cy="1646280"/>
            <a:chOff x="5845320" y="3134880"/>
            <a:chExt cx="1312200" cy="1646280"/>
          </a:xfrm>
        </p:grpSpPr>
        <p:sp>
          <p:nvSpPr>
            <p:cNvPr id="305" name=""/>
            <p:cNvSpPr/>
            <p:nvPr/>
          </p:nvSpPr>
          <p:spPr>
            <a:xfrm flipH="1" flipV="1">
              <a:off x="5845320" y="4319280"/>
              <a:ext cx="62064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845320" y="3540240"/>
              <a:ext cx="620640" cy="12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480000" y="3134880"/>
              <a:ext cx="0" cy="164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465960" y="3540240"/>
              <a:ext cx="691560" cy="12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65960" y="4319280"/>
              <a:ext cx="69156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7042320" y="3427560"/>
            <a:ext cx="225360" cy="225360"/>
          </a:xfrm>
          <a:prstGeom prst="ellipse">
            <a:avLst/>
          </a:prstGeom>
          <a:solidFill>
            <a:srgbClr val="0099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738760" y="3425760"/>
            <a:ext cx="1528920" cy="998640"/>
            <a:chOff x="5738760" y="3425760"/>
            <a:chExt cx="1528920" cy="998640"/>
          </a:xfrm>
        </p:grpSpPr>
        <p:sp>
          <p:nvSpPr>
            <p:cNvPr id="312" name=""/>
            <p:cNvSpPr/>
            <p:nvPr/>
          </p:nvSpPr>
          <p:spPr>
            <a:xfrm>
              <a:off x="5840280" y="3538440"/>
              <a:ext cx="1314360" cy="76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840280" y="3560400"/>
              <a:ext cx="0" cy="77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23000" y="43527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38760" y="342576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38760" y="419724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41960" y="4199040"/>
              <a:ext cx="22572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356520" y="2981160"/>
            <a:ext cx="225360" cy="225720"/>
          </a:xfrm>
          <a:prstGeom prst="ellipse">
            <a:avLst/>
          </a:prstGeom>
          <a:solidFill>
            <a:srgbClr val="0099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70560" y="4657680"/>
            <a:ext cx="225360" cy="225360"/>
          </a:xfrm>
          <a:prstGeom prst="ellipse">
            <a:avLst/>
          </a:prstGeom>
          <a:solidFill>
            <a:srgbClr val="0099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24400" y="5259240"/>
            <a:ext cx="443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This technique is not practical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more than a few clos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87240" y="3213000"/>
            <a:ext cx="374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Adding a computer requ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a new communication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for each computer al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in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A4CE-0D31-4EDC-868C-C70559763076}" type="slidenum">
              <a:t>32</a:t>
            </a:fld>
          </a:p>
        </p:txBody>
      </p:sp>
    </p:spTree>
  </p:cSld>
  <p:transition spd="med">
    <p:wheel spokes="1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Network Connec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networks share a single communication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ng a new computer to the network is relativel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35766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244680" y="2895480"/>
            <a:ext cx="225720" cy="685440"/>
            <a:chOff x="3244680" y="2895480"/>
            <a:chExt cx="225720" cy="685440"/>
          </a:xfrm>
        </p:grpSpPr>
        <p:sp>
          <p:nvSpPr>
            <p:cNvPr id="326" name=""/>
            <p:cNvSpPr/>
            <p:nvPr/>
          </p:nvSpPr>
          <p:spPr>
            <a:xfrm flipV="1">
              <a:off x="3357720" y="3047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44680" y="2895480"/>
              <a:ext cx="22572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522760" y="2895480"/>
            <a:ext cx="225720" cy="685440"/>
            <a:chOff x="5522760" y="2895480"/>
            <a:chExt cx="225720" cy="685440"/>
          </a:xfrm>
        </p:grpSpPr>
        <p:sp>
          <p:nvSpPr>
            <p:cNvPr id="329" name=""/>
            <p:cNvSpPr/>
            <p:nvPr/>
          </p:nvSpPr>
          <p:spPr>
            <a:xfrm flipV="1">
              <a:off x="5635800" y="3047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22760" y="2895480"/>
              <a:ext cx="22572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093000" y="2895480"/>
            <a:ext cx="225360" cy="685440"/>
            <a:chOff x="6093000" y="2895480"/>
            <a:chExt cx="225360" cy="685440"/>
          </a:xfrm>
        </p:grpSpPr>
        <p:sp>
          <p:nvSpPr>
            <p:cNvPr id="332" name=""/>
            <p:cNvSpPr/>
            <p:nvPr/>
          </p:nvSpPr>
          <p:spPr>
            <a:xfrm flipV="1">
              <a:off x="6205680" y="3047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3000" y="28954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813120" y="2895480"/>
            <a:ext cx="225360" cy="685440"/>
            <a:chOff x="3813120" y="2895480"/>
            <a:chExt cx="225360" cy="685440"/>
          </a:xfrm>
        </p:grpSpPr>
        <p:sp>
          <p:nvSpPr>
            <p:cNvPr id="335" name=""/>
            <p:cNvSpPr/>
            <p:nvPr/>
          </p:nvSpPr>
          <p:spPr>
            <a:xfrm flipV="1">
              <a:off x="3925800" y="3047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13120" y="28954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383000" y="2895480"/>
            <a:ext cx="225360" cy="685440"/>
            <a:chOff x="4383000" y="2895480"/>
            <a:chExt cx="225360" cy="685440"/>
          </a:xfrm>
        </p:grpSpPr>
        <p:sp>
          <p:nvSpPr>
            <p:cNvPr id="338" name=""/>
            <p:cNvSpPr/>
            <p:nvPr/>
          </p:nvSpPr>
          <p:spPr>
            <a:xfrm flipV="1">
              <a:off x="4495680" y="3047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83000" y="28954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952880" y="2895480"/>
            <a:ext cx="225720" cy="685440"/>
            <a:chOff x="4952880" y="2895480"/>
            <a:chExt cx="225720" cy="685440"/>
          </a:xfrm>
        </p:grpSpPr>
        <p:sp>
          <p:nvSpPr>
            <p:cNvPr id="341" name=""/>
            <p:cNvSpPr/>
            <p:nvPr/>
          </p:nvSpPr>
          <p:spPr>
            <a:xfrm flipV="1">
              <a:off x="5065560" y="30477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52880" y="2895480"/>
              <a:ext cx="22572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221840" y="4187880"/>
            <a:ext cx="356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Network traffic must 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turns using the line, wh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introduces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80880" y="4187880"/>
            <a:ext cx="4181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Often information is br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down in parts, called </a:t>
            </a:r>
            <a:r>
              <a:rPr b="1" i="1" lang="en-US" sz="2000" spc="-1" strike="noStrike">
                <a:solidFill>
                  <a:srgbClr val="009999"/>
                </a:solidFill>
                <a:latin typeface="Arial Unicode MS"/>
              </a:rPr>
              <a:t>packets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which are sent to the rece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machine and then reassem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2150-3ADA-4198-8CF8-747336C82695}" type="slidenum">
              <a:t>33</a:t>
            </a:fld>
          </a:p>
        </p:txBody>
      </p:sp>
    </p:spTree>
  </p:cSld>
  <p:transition spd="med">
    <p:wheel spokes="1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ocal-Area Network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968720" y="1225440"/>
            <a:ext cx="2954520" cy="2388240"/>
            <a:chOff x="4968720" y="1225440"/>
            <a:chExt cx="2954520" cy="2388240"/>
          </a:xfrm>
        </p:grpSpPr>
        <p:sp>
          <p:nvSpPr>
            <p:cNvPr id="347" name=""/>
            <p:cNvSpPr/>
            <p:nvPr/>
          </p:nvSpPr>
          <p:spPr>
            <a:xfrm flipV="1">
              <a:off x="5568840" y="1803240"/>
              <a:ext cx="5842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5546520" y="1953720"/>
              <a:ext cx="260280" cy="7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34280" y="2301840"/>
              <a:ext cx="42840" cy="6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807160" y="2301840"/>
              <a:ext cx="64908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127640" y="1781280"/>
              <a:ext cx="150840" cy="65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477120" y="2409480"/>
              <a:ext cx="65088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45000" y="1809720"/>
              <a:ext cx="22572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31080" y="16588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84760" y="2548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57960" y="217980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57960" y="28306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08840" y="228924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83440" y="166212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68720" y="1225440"/>
              <a:ext cx="2954520" cy="204480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50320" y="3216240"/>
              <a:ext cx="71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530360" y="2058840"/>
            <a:ext cx="29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A </a:t>
            </a:r>
            <a:r>
              <a:rPr b="1" i="1" lang="en-US" sz="2000" spc="-1" strike="noStrike">
                <a:solidFill>
                  <a:srgbClr val="009999"/>
                </a:solidFill>
                <a:latin typeface="Arial Unicode MS"/>
              </a:rPr>
              <a:t>Local-Area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(LAN) covers a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distance and a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number of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57960" y="4268880"/>
            <a:ext cx="468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A LAN often connects th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in a single room or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BBB4-3B0E-4034-A529-1A11891A803F}" type="slidenum">
              <a:t>34</a:t>
            </a:fld>
          </a:p>
        </p:txBody>
      </p:sp>
    </p:spTree>
  </p:cSld>
  <p:transition spd="med">
    <p:wheel spokes="1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709720" y="1913040"/>
            <a:ext cx="2838600" cy="1971720"/>
          </a:xfrm>
          <a:custGeom>
            <a:avLst/>
            <a:gdLst/>
            <a:ahLst/>
            <a:rect l="l" t="t" r="r" b="b"/>
            <a:pathLst>
              <a:path w="1788" h="1242">
                <a:moveTo>
                  <a:pt x="0" y="1241"/>
                </a:moveTo>
                <a:lnTo>
                  <a:pt x="900" y="641"/>
                </a:lnTo>
                <a:lnTo>
                  <a:pt x="696" y="641"/>
                </a:lnTo>
                <a:lnTo>
                  <a:pt x="178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Wide-Area Network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116000" y="3630600"/>
            <a:ext cx="4341960" cy="2018160"/>
            <a:chOff x="1116000" y="3630600"/>
            <a:chExt cx="4341960" cy="2018160"/>
          </a:xfrm>
        </p:grpSpPr>
        <p:sp>
          <p:nvSpPr>
            <p:cNvPr id="367" name=""/>
            <p:cNvSpPr/>
            <p:nvPr/>
          </p:nvSpPr>
          <p:spPr>
            <a:xfrm flipV="1">
              <a:off x="1671480" y="4425840"/>
              <a:ext cx="67176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342880" y="3862440"/>
              <a:ext cx="34596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1676160" y="4648320"/>
              <a:ext cx="9903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603520" y="4619160"/>
              <a:ext cx="541440" cy="49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3706560" y="4295880"/>
              <a:ext cx="47628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4162320" y="4250880"/>
              <a:ext cx="432000" cy="5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3122640" y="4598640"/>
              <a:ext cx="54144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77880" y="45226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49640" y="430704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95600" y="378612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09920" y="49798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30480" y="4460760"/>
              <a:ext cx="225360" cy="22572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73360" y="48736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49640" y="418140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62560" y="474516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6000" y="3630600"/>
              <a:ext cx="4122720" cy="187164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46960" y="5251320"/>
              <a:ext cx="71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969840" y="1508040"/>
            <a:ext cx="374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A </a:t>
            </a:r>
            <a:r>
              <a:rPr b="1" i="1" lang="en-US" sz="2000" spc="-1" strike="noStrike">
                <a:solidFill>
                  <a:srgbClr val="009999"/>
                </a:solidFill>
                <a:latin typeface="Arial Unicode MS"/>
              </a:rPr>
              <a:t>Wide-Area Network</a:t>
            </a: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 (W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connects two or more LAN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often over long di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23720" y="4192560"/>
            <a:ext cx="329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A LAN usually is ow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by one organization, 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a WAN often conn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groups in differ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968720" y="1225440"/>
            <a:ext cx="2954520" cy="2388240"/>
            <a:chOff x="4968720" y="1225440"/>
            <a:chExt cx="2954520" cy="2388240"/>
          </a:xfrm>
        </p:grpSpPr>
        <p:sp>
          <p:nvSpPr>
            <p:cNvPr id="387" name=""/>
            <p:cNvSpPr/>
            <p:nvPr/>
          </p:nvSpPr>
          <p:spPr>
            <a:xfrm flipV="1">
              <a:off x="5568840" y="1803240"/>
              <a:ext cx="5842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5546520" y="1953720"/>
              <a:ext cx="260280" cy="7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34280" y="2301840"/>
              <a:ext cx="42840" cy="6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807160" y="2301840"/>
              <a:ext cx="64908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7127640" y="1781280"/>
              <a:ext cx="150840" cy="65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477120" y="2409480"/>
              <a:ext cx="65088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45000" y="1809720"/>
              <a:ext cx="22572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31080" y="16588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84760" y="2548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57960" y="217980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57960" y="28306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08840" y="228924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83440" y="166212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68720" y="1225440"/>
              <a:ext cx="2954520" cy="204480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50320" y="3216240"/>
              <a:ext cx="71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1091-4331-4B9E-B593-E3540DB40A0A}" type="slidenum">
              <a:t>35</a:t>
            </a:fld>
          </a:p>
        </p:txBody>
      </p:sp>
    </p:spTree>
  </p:cSld>
  <p:transition spd="med">
    <p:wheel spokes="1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WAN which spans the entire pl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d Internet comes from the ter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net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arted as a United States government project, sponsored by the Advanced Research Projects Agency (ARPA) - originally it was called the ARP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net grew quickly throughout the 1980s and 9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951A-DE5C-4F28-8324-2DC139C3D6BE}" type="slidenum">
              <a:t>36</a:t>
            </a:fld>
          </a:p>
        </p:txBody>
      </p:sp>
    </p:spTree>
  </p:cSld>
  <p:transition spd="med"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CP/IP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438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tocol is a set of rules that determine how things communicate with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ftware which manages Internet communication follows a suite of protocol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net Protoc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P) determines the format of the information as it is transfer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mission Control Protoc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CP) dictates how messages are reassembled and handles lost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4366-D8AF-478F-8BF9-BEABE98BA14D}" type="slidenum">
              <a:t>37</a:t>
            </a:fld>
          </a:p>
        </p:txBody>
      </p:sp>
    </p:spTree>
  </p:cSld>
  <p:transition spd="med"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P and Internet Addre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mputer on the Internet has a uniqu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P 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ch a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04.192.116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omputers also have a unique Internet name, which also is referred to a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net 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ncer.villanova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ant.gestalt-llc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art indicates a particular compute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enc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t is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main 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ndicating the organization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illanova.ed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7BF9-679E-4761-89C2-0C8D8CF8FFE2}" type="slidenum">
              <a:t>38</a:t>
            </a:fld>
          </a:p>
        </p:txBody>
      </p:sp>
    </p:spTree>
  </p:cSld>
  <p:transition spd="med">
    <p:wheel spokes="1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omain Nam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0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st part of a domain name, call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p-level dom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LD), indicates the type of organiz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76320" y="2225520"/>
            <a:ext cx="718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77800" y="2211480"/>
            <a:ext cx="331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-  educational instit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43320" y="251604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-  commercial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87880" y="282096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-  non-profit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74560" y="3125880"/>
            <a:ext cx="39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-  network-based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93400" y="3913200"/>
            <a:ext cx="29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Sometimes the suf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indicates the count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9000" y="4251240"/>
            <a:ext cx="285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New TLDs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recently been add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biz, info, tv,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51440" y="4654440"/>
            <a:ext cx="50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84520" y="4649760"/>
            <a:ext cx="24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-  United King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29880" y="4954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- 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82800" y="525924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- 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78840" y="55641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-  Sw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DC29-ECDF-4DBB-A3A8-A607D99EFC86}" type="slidenum">
              <a:t>39</a:t>
            </a:fld>
          </a:p>
        </p:txBody>
      </p:sp>
    </p:spTree>
  </p:cSld>
  <p:transition spd="med">
    <p:wheel spokes="1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904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1371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7DB7-86AC-4136-8528-5F417E447C8C}" type="slidenum">
              <a:t>4</a:t>
            </a:fld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omain Nam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omain name can have several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 domain names mean that multiple sites can have individual computers with the same local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used, an Internet address is translated to an IP address by software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main Name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D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e-to-one correspondence between the sections of an IP address and the sections of an Internet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DDED-3871-4388-AE9B-D59BD89F4BDD}" type="slidenum">
              <a:t>40</a:t>
            </a:fld>
          </a:p>
        </p:txBody>
      </p:sp>
    </p:spTree>
  </p:cSld>
  <p:transition spd="med">
    <p:wheel spokes="1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World Wide Web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ws many different types of information to be accessed using a common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rogram which accesses and presents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, graphics, video, sound, audio, executable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eb document usually contain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other Web documents, creating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ermed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rm Web comes from the fact that information is not organized in a linear fash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6CD6-D815-415F-9B28-B6A83A95C86A}" type="slidenum">
              <a:t>41</a:t>
            </a:fld>
          </a:p>
        </p:txBody>
      </p:sp>
    </p:spTree>
  </p:cSld>
  <p:transition spd="med">
    <p:wheel spokes="1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World Wide Web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documents are often defined using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erText Markup Langu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HTM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on the Web is found using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RL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lycos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villanova.edu/webinfo/domains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tp://java.sun.com/applets/animation.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RL indicates a protocol (http), a domain, and possibly specific doc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66B6-94FA-4D5A-9D76-1F1E03A9DC16}" type="slidenum">
              <a:t>42</a:t>
            </a:fld>
          </a:p>
        </p:txBody>
      </p:sp>
    </p:spTree>
  </p:cSld>
  <p:transition spd="med">
    <p:wheel spokes="1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6904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A0C4-20D4-42E5-95CA-D71178554E36}" type="slidenum">
              <a:t>43</a:t>
            </a:fld>
          </a:p>
        </p:txBody>
      </p:sp>
    </p:spTree>
  </p:cSld>
  <p:transition spd="med">
    <p:wheel spokes="1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Java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gramming langu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ecifies the words and symbols that we can use to write a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gramming language employs a set of rules that dictate how the words and symbols can be put together to form vali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gram stat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 was created by Sun Microsystems,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introduced in 1995 and it's popularity has grown quickly si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6C08-87B0-4F4C-9169-8486838B5D68}" type="slidenum">
              <a:t>44</a:t>
            </a:fld>
          </a:p>
        </p:txBody>
      </p:sp>
    </p:spTree>
  </p:cSld>
  <p:transition spd="med">
    <p:wheel spokes="1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Java Program Structur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Java programming languag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gram is made up of one or mo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lass contains one or mo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ethod contains progra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terms will be explored in detail throughout the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Java application always contains a method call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Lincoln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6355-153D-4079-8650-25C225EB00FF}" type="slidenum">
              <a:t>45</a:t>
            </a:fld>
          </a:p>
        </p:txBody>
      </p:sp>
    </p:spTree>
  </p:cSld>
  <p:transition spd="med">
    <p:wheel spokes="1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Java Program Structur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39920" y="168264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My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39920" y="2063880"/>
            <a:ext cx="333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39920" y="129528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 comments about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03640" y="249552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class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83360" y="356220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class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84680" y="472428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Comments can be placed almost any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23920" y="221616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4233960" y="2139840"/>
            <a:ext cx="83808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62D20-3C57-4A3F-B3F5-A71FF621E01F}" type="slidenum">
              <a:t>46</a:t>
            </a:fld>
          </a:p>
        </p:txBody>
      </p:sp>
    </p:spTree>
  </p:cSld>
  <p:transition spd="med">
    <p:wheel spokes="1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Java Program Structur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39920" y="168264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My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39920" y="2063880"/>
            <a:ext cx="333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39920" y="129528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 comments about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09720" y="3032280"/>
            <a:ext cx="61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 (String[]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765440" y="348948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65080" y="2575080"/>
            <a:ext cx="46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 comments about th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10720" y="378468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method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76400" y="393696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method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49440" y="36576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497560" y="3429000"/>
            <a:ext cx="83808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F41F-0353-4351-B199-148B8CAC28D7}" type="slidenum">
              <a:t>47</a:t>
            </a:fld>
          </a:p>
        </p:txBody>
      </p:sp>
    </p:spTree>
  </p:cSld>
  <p:transition spd="med">
    <p:wheel spokes="1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mm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s in a program are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line doc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should be included to explain the purpose of the program and describe processing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do not affect how a program 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comments can take three form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98920" y="396252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mment runs to the end of the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98560" y="464832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*  this comment runs to the termin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symbol, even across line breaks       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4280" y="563868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** this is a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javadoc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comment  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1CFA-43A0-479D-9AA1-0B1908F83B3F}" type="slidenum">
              <a:t>48</a:t>
            </a:fld>
          </a:p>
        </p:txBody>
      </p:sp>
    </p:spTree>
  </p:cSld>
  <p:transition spd="med">
    <p:wheel spokes="1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dentifi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dentifi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he words a programmer uses in a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dentifier can be made up of letters, digits, the underscore character ( _ ), and the dollar 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rs cannot begin with a dig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se sensi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otal, tot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OT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fferent identif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convention, programmers use different case styles for different types of identifiers, such 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tle ca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class names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co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pper c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constants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M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197E-9A60-43E6-80BD-D249DA0B7F99}" type="slidenum">
              <a:t>49</a:t>
            </a:fld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Hardware and Softwar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hysical, tangible parts of a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board, monitor, disks, wires, chip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s and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series of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mputer requires both hardware and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is essentially useless without the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F089-ABF2-4658-8181-DDB6C6654F80}" type="slidenum">
              <a:t>5</a:t>
            </a:fld>
          </a:p>
        </p:txBody>
      </p:sp>
    </p:spTree>
  </p:cSld>
  <p:transition spd="med">
    <p:wheel spokes="1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dentifi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we choose identifiers ourselves when writing a program (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co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we are using another programmer's code, so we use the identifiers that they chose (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we use special identifier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erved wo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already have a predefined meaning in the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served word cannot be used in any other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FCF58-1C31-405D-B641-B274662A1521}" type="slidenum">
              <a:t>50</a:t>
            </a:fld>
          </a:p>
        </p:txBody>
      </p:sp>
    </p:spTree>
  </p:cSld>
  <p:transition spd="med">
    <p:wheel spokes="1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eserved Word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9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reserved word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21000" y="1905120"/>
            <a:ext cx="12823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7560" y="1905120"/>
            <a:ext cx="155664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37200" y="1905120"/>
            <a:ext cx="141948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36480" y="1905120"/>
            <a:ext cx="183096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ct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nchro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la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724C5-3F4F-465A-B3FA-878C0ABD2F22}" type="slidenum">
              <a:t>51</a:t>
            </a:fld>
          </a:p>
        </p:txBody>
      </p:sp>
    </p:spTree>
  </p:cSld>
  <p:transition spd="med">
    <p:wheel spokes="1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White Spa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s, blank lines, and tabs are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ite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 space is used to separate words and symbols in a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 white space is ign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lid Java program can be formatted many 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should be formatted to enhance readability, using consistent ind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Lincoln2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3"/>
              </a:rPr>
              <a:t>Lincoln3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5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3322-6CB8-467E-AAB4-865D204A0BA9}" type="slidenum">
              <a:t>52</a:t>
            </a:fld>
          </a:p>
        </p:txBody>
      </p:sp>
    </p:spTree>
  </p:cSld>
  <p:transition spd="med">
    <p:wheel spokes="1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6904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3886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9740-6752-41B1-A634-1F5C3761D264}" type="slidenum">
              <a:t>53</a:t>
            </a:fld>
          </a:p>
        </p:txBody>
      </p:sp>
    </p:spTree>
  </p:cSld>
  <p:transition spd="med">
    <p:wheel spokes="1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rogram Develop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chanics of developing a program include several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the program in a specific programming language (such as Jav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lating the program into a form that the computer can exec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ing and fixing various types of errors that can occ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tools can be used to help with all parts of th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6F61-8999-408E-B1BA-9F1797B14183}" type="slidenum">
              <a:t>54</a:t>
            </a:fld>
          </a:p>
        </p:txBody>
      </p:sp>
    </p:spTree>
  </p:cSld>
  <p:transition spd="med">
    <p:wheel spokes="1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anguage Level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four programming language level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mbly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-level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-generation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CPU has its own specifi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ther levels were created to make it easier for a human being to read and write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5595-9FB8-4425-8101-9E6AE59A0D2E}" type="slidenum">
              <a:t>55</a:t>
            </a:fld>
          </a:p>
        </p:txBody>
      </p:sp>
    </p:spTree>
  </p:cSld>
  <p:transition spd="med">
    <p:wheel spokes="1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rogramming Languag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CPU executes only a particula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gram must be translated into machine language before it can be exec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oftware tool which translat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rce co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a specific target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, that target language is the machine language for a particular CPU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approach is somewhat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DEE9-58DD-4B65-953D-081B1B480DEF}" type="slidenum">
              <a:t>56</a:t>
            </a:fld>
          </a:p>
        </p:txBody>
      </p:sp>
    </p:spTree>
  </p:cSld>
  <p:transition spd="med">
    <p:wheel spokes="1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Java Transl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compiler translates Java source code into a special representation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yte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bytecode is not the machine language for any traditional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software tool, called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anslates bytecode into machine language and executes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 the Java compiler is not tied to any particular mach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is considered to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chitecture-neut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9591-ED86-484E-BF79-0C5DE1557F78}" type="slidenum">
              <a:t>57</a:t>
            </a:fld>
          </a:p>
        </p:txBody>
      </p:sp>
    </p:spTree>
  </p:cSld>
  <p:transition spd="med">
    <p:wheel spokes="1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Java Translatio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98800" y="2216160"/>
            <a:ext cx="0" cy="5205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97120" y="2195640"/>
            <a:ext cx="1494000" cy="1017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351040" y="2516040"/>
            <a:ext cx="438120" cy="6969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23040" y="2516040"/>
            <a:ext cx="306360" cy="6750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45400" y="4116240"/>
            <a:ext cx="0" cy="411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79640" y="1371600"/>
            <a:ext cx="2044800" cy="82548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18120" y="4586400"/>
            <a:ext cx="1602000" cy="82548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41880" y="1731960"/>
            <a:ext cx="1805040" cy="82404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614840" y="3228840"/>
            <a:ext cx="122868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18280" y="3228840"/>
            <a:ext cx="122868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63760" y="2774880"/>
            <a:ext cx="122868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5857-6F83-4EC9-89C9-E39067158BC0}" type="slidenum">
              <a:t>58</a:t>
            </a:fld>
          </a:p>
        </p:txBody>
      </p:sp>
    </p:spTree>
  </p:cSld>
  <p:transition spd="med">
    <p:wheel spokes="1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evelopment Environm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programs that support the development of Java software, includ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 Java Development Kit (JD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 NetB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M Ecli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land JBuil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roWerks CodeWarri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ash Blue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ugh the details of these environments differ, the basic compilation and execution process is essentially the s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8DBD-7974-4710-8B96-8262EBB2C6CB}" type="slidenum">
              <a:t>59</a:t>
            </a:fld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PU and Main Memo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1981080"/>
            <a:ext cx="1524240" cy="914400"/>
          </a:xfrm>
          <a:prstGeom prst="hexagon">
            <a:avLst>
              <a:gd name="adj" fmla="val 32991"/>
              <a:gd name="vf" fmla="val 115470"/>
            </a:avLst>
          </a:prstGeom>
          <a:solidFill>
            <a:srgbClr val="ffcc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67080" y="2971800"/>
            <a:ext cx="1524240" cy="2209680"/>
            <a:chOff x="4267080" y="2971800"/>
            <a:chExt cx="1524240" cy="2209680"/>
          </a:xfrm>
        </p:grpSpPr>
        <p:sp>
          <p:nvSpPr>
            <p:cNvPr id="99" name=""/>
            <p:cNvSpPr/>
            <p:nvPr/>
          </p:nvSpPr>
          <p:spPr>
            <a:xfrm>
              <a:off x="4267080" y="4267080"/>
              <a:ext cx="1524240" cy="914400"/>
            </a:xfrm>
            <a:prstGeom prst="cube">
              <a:avLst>
                <a:gd name="adj" fmla="val 15152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76920" y="2971800"/>
              <a:ext cx="304560" cy="1219320"/>
            </a:xfrm>
            <a:prstGeom prst="upDownArrow">
              <a:avLst>
                <a:gd name="adj1" fmla="val 50000"/>
                <a:gd name="adj2" fmla="val 79700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400800" y="1447920"/>
            <a:ext cx="2590920" cy="1923480"/>
          </a:xfr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Chip that executes program comm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Intel Pentium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Sun ultraSPAR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657600"/>
            <a:ext cx="2743200" cy="2228400"/>
          </a:xfr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Primary storage area for programs and data that are in activ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Synonymous with 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FAB2-3FDB-477E-ACC6-EF7C8F027942}" type="slidenum">
              <a:t>6</a:t>
            </a:fld>
          </a:p>
        </p:txBody>
      </p:sp>
    </p:spTree>
  </p:cSld>
  <p:transition spd="med"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yntax and Semantic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ntax ru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language define how we can put together symbols, reserved words, and identifiers to make a valid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man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program statement define what that statement means (its purpose or role in a progra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gram that is syntactically correct is not necessarily logically (semantically) corr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gram will always do what we tell it to do, not what w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ell it to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8108-D4F3-4EE8-88A8-30E1F14B269D}" type="slidenum">
              <a:t>60</a:t>
            </a:fld>
          </a:p>
        </p:txBody>
      </p:sp>
    </p:spTree>
  </p:cSld>
  <p:transition spd="med">
    <p:wheel spokes="1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rr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gram can have three types of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iler will find syntax errors and other basic problems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ile-time err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compile-time errors exist, an executable version of the program is not cre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blem can occur during program execution, such as trying to divide by zero, which causes a program to terminate abnormall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n-time err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gram may run, but produce incorrect results, perhaps using an incorrect formula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ical err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F858-6145-4D38-B6B5-DD15E8B4CEB9}" type="slidenum">
              <a:t>61</a:t>
            </a:fld>
          </a:p>
        </p:txBody>
      </p:sp>
    </p:spTree>
  </p:cSld>
  <p:transition spd="med">
    <p:wheel spokes="1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asic Program Develop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57600" y="2514600"/>
            <a:ext cx="304920" cy="6094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67280" y="4114800"/>
            <a:ext cx="38124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038120" y="2285640"/>
            <a:ext cx="1819440" cy="905400"/>
            <a:chOff x="4038120" y="2285640"/>
            <a:chExt cx="1819440" cy="905400"/>
          </a:xfrm>
        </p:grpSpPr>
        <p:cxnSp>
          <p:nvCxnSpPr>
            <p:cNvPr id="505" name=""/>
            <p:cNvCxnSpPr>
              <a:stCxn id="506" idx="0"/>
            </p:cNvCxnSpPr>
            <p:nvPr/>
          </p:nvCxnSpPr>
          <p:spPr>
            <a:xfrm flipV="1" rot="16200000">
              <a:off x="4042800" y="2280600"/>
              <a:ext cx="905760" cy="915120"/>
            </a:xfrm>
            <a:prstGeom prst="bentConnector2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507" name=""/>
            <p:cNvSpPr/>
            <p:nvPr/>
          </p:nvSpPr>
          <p:spPr>
            <a:xfrm>
              <a:off x="4942440" y="241308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err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038120" y="1904400"/>
            <a:ext cx="4081320" cy="2886480"/>
            <a:chOff x="4038120" y="1904400"/>
            <a:chExt cx="4081320" cy="2886480"/>
          </a:xfrm>
        </p:grpSpPr>
        <p:cxnSp>
          <p:nvCxnSpPr>
            <p:cNvPr id="509" name=""/>
            <p:cNvCxnSpPr>
              <a:stCxn id="510" idx="0"/>
            </p:cNvCxnSpPr>
            <p:nvPr/>
          </p:nvCxnSpPr>
          <p:spPr>
            <a:xfrm flipV="1" rot="16200000">
              <a:off x="4156920" y="1785240"/>
              <a:ext cx="2886840" cy="3124800"/>
            </a:xfrm>
            <a:prstGeom prst="bentConnector2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511" name=""/>
            <p:cNvSpPr/>
            <p:nvPr/>
          </p:nvSpPr>
          <p:spPr>
            <a:xfrm>
              <a:off x="7204320" y="297180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err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447920" y="1600200"/>
            <a:ext cx="259056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dit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sav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3200400"/>
            <a:ext cx="259092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Compil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67280" y="4800600"/>
            <a:ext cx="259092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xecute program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valuat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56E5-AE4A-4554-B4CE-0F511C2538B6}" type="slidenum">
              <a:t>62</a:t>
            </a:fld>
          </a:p>
        </p:txBody>
      </p:sp>
    </p:spTree>
  </p:cSld>
  <p:transition spd="med">
    <p:wheel spokes="1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66904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B96E-E410-4ABC-9628-8DBE2653A504}" type="slidenum">
              <a:t>63</a:t>
            </a:fld>
          </a:p>
        </p:txBody>
      </p:sp>
    </p:spTree>
  </p:cSld>
  <p:transition spd="med">
    <p:wheel spokes="1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roblem Solv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urpose of writing a program is to solve a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ing a problem consists of multiple activit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the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a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alternatives and refine the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the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the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ctivities are not purely linear – they overlap and inte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221F-7110-45B3-97EF-5FF8D3A1EADB}" type="slidenum">
              <a:t>64</a:t>
            </a:fld>
          </a:p>
        </p:txBody>
      </p:sp>
    </p:spTree>
  </p:cSld>
  <p:transition spd="med">
    <p:wheel spokes="1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roblem Solv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key to designing a solution is breaking it down into manageable pie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writing software, we design separate pieces that are responsible for certain parts of the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ject-oriented approa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nds itself to this kind of solution decom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dissect our solutions into pieces called objects and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5025-4100-4D1A-8A82-0BD2A960F01E}" type="slidenum">
              <a:t>65</a:t>
            </a:fld>
          </a:p>
        </p:txBody>
      </p:sp>
    </p:spTree>
  </p:cSld>
  <p:transition spd="med">
    <p:wheel spokes="1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bject-Oriented Programming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is an object-oriented programming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the term implies, an object is a fundamental entity in a Java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 can be used effectively to represent real-world ent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stance, an object might represent a particular employee in a comp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employee object handles the processing and data management related to that employ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A06D5-9573-4E04-BA49-D95DD93B4EF2}" type="slidenum">
              <a:t>66</a:t>
            </a:fld>
          </a:p>
        </p:txBody>
      </p:sp>
    </p:spTree>
  </p:cSld>
  <p:transition spd="med">
    <p:wheel spokes="1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bjec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bject h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-  descriptive character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havi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-  what it can do (or what can be done to i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e of a bank account includes its current bal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haviors associated with a bank account include the ability to make deposits and withdraw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the behavior of an object might change its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E962-D386-488D-BB32-DCE67B4E91DE}" type="slidenum">
              <a:t>67</a:t>
            </a:fld>
          </a:p>
        </p:txBody>
      </p:sp>
    </p:spTree>
  </p:cSld>
  <p:transition spd="med">
    <p:wheel spokes="1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bject is defined by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is the blueprint of an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ass uses methods to define the behaviors of the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ass that contains the main method of a Java program represents the entire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represents a concept, and an object represents the embodiment of that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objects can be created from the sam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31B6-4BB3-40F3-AA6A-B516F8B3CFA2}" type="slidenum">
              <a:t>68</a:t>
            </a:fld>
          </a:p>
        </p:txBody>
      </p:sp>
    </p:spTree>
  </p:cSld>
  <p:transition spd="med">
    <p:wheel spokes="1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bjects and Class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806480" y="1582560"/>
            <a:ext cx="2384640" cy="1741320"/>
            <a:chOff x="1806480" y="1582560"/>
            <a:chExt cx="2384640" cy="1741320"/>
          </a:xfrm>
        </p:grpSpPr>
        <p:sp>
          <p:nvSpPr>
            <p:cNvPr id="528" name=""/>
            <p:cNvSpPr/>
            <p:nvPr/>
          </p:nvSpPr>
          <p:spPr>
            <a:xfrm>
              <a:off x="1806480" y="2802960"/>
              <a:ext cx="2384640" cy="52092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nk 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47320" y="1582560"/>
              <a:ext cx="1857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 Unicode MS"/>
                </a:rPr>
                <a:t>A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 Unicode MS"/>
                </a:rPr>
                <a:t>(the concep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876920" y="1587600"/>
            <a:ext cx="2790720" cy="1803960"/>
            <a:chOff x="4876920" y="1587600"/>
            <a:chExt cx="2790720" cy="1803960"/>
          </a:xfrm>
        </p:grpSpPr>
        <p:sp>
          <p:nvSpPr>
            <p:cNvPr id="531" name=""/>
            <p:cNvSpPr/>
            <p:nvPr/>
          </p:nvSpPr>
          <p:spPr>
            <a:xfrm>
              <a:off x="4876920" y="2748960"/>
              <a:ext cx="2790720" cy="64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John’s Bank 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lance: $5,25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96600" y="1587600"/>
              <a:ext cx="221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 Unicode MS"/>
                </a:rPr>
                <a:t>An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 Unicode MS"/>
                </a:rPr>
                <a:t>(the realizat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525680" y="3696480"/>
            <a:ext cx="6141960" cy="1676160"/>
            <a:chOff x="1525680" y="3696480"/>
            <a:chExt cx="6141960" cy="1676160"/>
          </a:xfrm>
        </p:grpSpPr>
        <p:grpSp>
          <p:nvGrpSpPr>
            <p:cNvPr id="534" name=""/>
            <p:cNvGrpSpPr/>
            <p:nvPr/>
          </p:nvGrpSpPr>
          <p:grpSpPr>
            <a:xfrm>
              <a:off x="1525680" y="3696480"/>
              <a:ext cx="6141960" cy="1676160"/>
              <a:chOff x="1525680" y="3696480"/>
              <a:chExt cx="6141960" cy="1676160"/>
            </a:xfrm>
          </p:grpSpPr>
          <p:sp>
            <p:nvSpPr>
              <p:cNvPr id="535" name=""/>
              <p:cNvSpPr/>
              <p:nvPr/>
            </p:nvSpPr>
            <p:spPr>
              <a:xfrm>
                <a:off x="4876920" y="3696480"/>
                <a:ext cx="2790720" cy="64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ill’s Bank Accou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alance: $1,245,06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876920" y="4730040"/>
                <a:ext cx="2790720" cy="64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Mary’s Bank Accou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alance: $16,83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525680" y="4238640"/>
                <a:ext cx="2724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 Unicode MS"/>
                  </a:rPr>
                  <a:t>Multiple obje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 Unicode MS"/>
                  </a:rPr>
                  <a:t>from the same cla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flipV="1">
              <a:off x="4114800" y="434304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14800" y="44956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9283C-A5F3-4274-BB1A-5566AFECF285}" type="slidenum">
              <a:t>69</a:t>
            </a:fld>
          </a:p>
        </p:txBody>
      </p:sp>
    </p:spTree>
  </p:cSld>
  <p:transition spd="med">
    <p:wheel spokes="1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econdary Memory Devi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1981080"/>
            <a:ext cx="1524240" cy="914400"/>
          </a:xfrm>
          <a:prstGeom prst="hexagon">
            <a:avLst>
              <a:gd name="adj" fmla="val 32991"/>
              <a:gd name="vf" fmla="val 115470"/>
            </a:avLst>
          </a:prstGeom>
          <a:solidFill>
            <a:srgbClr val="ffcc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267080" y="2971800"/>
            <a:ext cx="1524240" cy="2209680"/>
            <a:chOff x="4267080" y="2971800"/>
            <a:chExt cx="1524240" cy="2209680"/>
          </a:xfrm>
        </p:grpSpPr>
        <p:sp>
          <p:nvSpPr>
            <p:cNvPr id="106" name=""/>
            <p:cNvSpPr/>
            <p:nvPr/>
          </p:nvSpPr>
          <p:spPr>
            <a:xfrm>
              <a:off x="4267080" y="4267080"/>
              <a:ext cx="1524240" cy="914400"/>
            </a:xfrm>
            <a:prstGeom prst="cube">
              <a:avLst>
                <a:gd name="adj" fmla="val 15152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76920" y="2971800"/>
              <a:ext cx="304560" cy="1219320"/>
            </a:xfrm>
            <a:prstGeom prst="upDownArrow">
              <a:avLst>
                <a:gd name="adj1" fmla="val 50000"/>
                <a:gd name="adj2" fmla="val 79700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822640" y="3656160"/>
            <a:ext cx="2578320" cy="1904400"/>
            <a:chOff x="5822640" y="3656160"/>
            <a:chExt cx="2578320" cy="1904400"/>
          </a:xfrm>
        </p:grpSpPr>
        <p:sp>
          <p:nvSpPr>
            <p:cNvPr id="109" name=""/>
            <p:cNvSpPr/>
            <p:nvPr/>
          </p:nvSpPr>
          <p:spPr>
            <a:xfrm>
              <a:off x="6876720" y="5103720"/>
              <a:ext cx="1524240" cy="456840"/>
            </a:xfrm>
            <a:prstGeom prst="can">
              <a:avLst>
                <a:gd name="adj" fmla="val 25000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Floppy D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6720" y="3656160"/>
              <a:ext cx="1524240" cy="914040"/>
            </a:xfrm>
            <a:prstGeom prst="can">
              <a:avLst>
                <a:gd name="adj" fmla="val 25000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Hard D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4254000">
              <a:off x="6134040" y="3903120"/>
              <a:ext cx="304560" cy="876240"/>
            </a:xfrm>
            <a:prstGeom prst="upDownArrow">
              <a:avLst>
                <a:gd name="adj1" fmla="val 50000"/>
                <a:gd name="adj2" fmla="val 57275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6672000">
              <a:off x="6134040" y="4589280"/>
              <a:ext cx="304560" cy="876240"/>
            </a:xfrm>
            <a:prstGeom prst="upDownArrow">
              <a:avLst>
                <a:gd name="adj1" fmla="val 50000"/>
                <a:gd name="adj2" fmla="val 57275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55480" y="1752480"/>
            <a:ext cx="263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Second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devices pro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long-term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29200" y="1600200"/>
            <a:ext cx="31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Information is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between 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and second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a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9720" y="3579840"/>
            <a:ext cx="1924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Hard 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Floppy 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ZIP 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Writable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Writable DV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T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01AA-91E5-4173-B173-FD25C680BAD7}" type="slidenum">
              <a:t>7</a:t>
            </a:fld>
          </a:p>
        </p:txBody>
      </p:sp>
    </p:spTree>
  </p:cSld>
  <p:transition spd="med">
    <p:wheel spokes="1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heritanc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lass can be used to derive another vi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s can be organized into hierarch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600200" y="2653560"/>
            <a:ext cx="6629400" cy="3385440"/>
            <a:chOff x="1600200" y="2653560"/>
            <a:chExt cx="6629400" cy="3385440"/>
          </a:xfrm>
        </p:grpSpPr>
        <p:sp>
          <p:nvSpPr>
            <p:cNvPr id="543" name=""/>
            <p:cNvSpPr/>
            <p:nvPr/>
          </p:nvSpPr>
          <p:spPr>
            <a:xfrm>
              <a:off x="4724280" y="3644640"/>
              <a:ext cx="2209680" cy="9082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nk 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95480" y="2653560"/>
              <a:ext cx="2773440" cy="52020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600200" y="3639960"/>
              <a:ext cx="2209680" cy="9082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harge 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4960" y="5127480"/>
              <a:ext cx="2210040" cy="9082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avings 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43600" y="5130720"/>
              <a:ext cx="2286000" cy="9082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hecking 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8" name=""/>
            <p:cNvCxnSpPr>
              <a:stCxn id="545" idx="0"/>
              <a:endCxn id="544" idx="4"/>
            </p:cNvCxnSpPr>
            <p:nvPr/>
          </p:nvCxnSpPr>
          <p:spPr>
            <a:xfrm flipH="1" flipV="1" rot="5400000">
              <a:off x="3247560" y="2616840"/>
              <a:ext cx="492840" cy="157860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549" name=""/>
            <p:cNvCxnSpPr>
              <a:stCxn id="543" idx="0"/>
              <a:endCxn id="544" idx="4"/>
            </p:cNvCxnSpPr>
            <p:nvPr/>
          </p:nvCxnSpPr>
          <p:spPr>
            <a:xfrm flipV="1" rot="16200000">
              <a:off x="4806720" y="2635200"/>
              <a:ext cx="497880" cy="1546920"/>
            </a:xfrm>
            <a:prstGeom prst="bentConnector3">
              <a:avLst>
                <a:gd name="adj1" fmla="val 49782"/>
              </a:avLst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550" name=""/>
            <p:cNvCxnSpPr>
              <a:stCxn id="546" idx="0"/>
              <a:endCxn id="543" idx="4"/>
            </p:cNvCxnSpPr>
            <p:nvPr/>
          </p:nvCxnSpPr>
          <p:spPr>
            <a:xfrm flipH="1" flipV="1" rot="5400000">
              <a:off x="4919400" y="4230000"/>
              <a:ext cx="600840" cy="121968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551" name=""/>
            <p:cNvCxnSpPr>
              <a:stCxn id="547" idx="0"/>
              <a:endCxn id="543" idx="4"/>
            </p:cNvCxnSpPr>
            <p:nvPr/>
          </p:nvCxnSpPr>
          <p:spPr>
            <a:xfrm flipV="1" rot="16200000">
              <a:off x="6155640" y="4212720"/>
              <a:ext cx="603720" cy="125820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7936-BD38-4F34-BC6B-7B269B03637D}" type="slidenum">
              <a:t>70</a:t>
            </a:fld>
          </a:p>
        </p:txBody>
      </p:sp>
    </p:spTree>
  </p:cSld>
  <p:transition spd="med">
    <p:wheel spokes="1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1 focus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s of a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hose components inter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computers store and manipulate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ternet and the World Wide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ing and programming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troduction to 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verview of object-oriented conce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AEA5A-ED8D-4BB4-9EDF-B740479E7B31}" type="slidenum">
              <a:t>71</a:t>
            </a:fld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nput / Output Devi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981080"/>
            <a:ext cx="1524240" cy="914400"/>
          </a:xfrm>
          <a:prstGeom prst="hexagon">
            <a:avLst>
              <a:gd name="adj" fmla="val 32991"/>
              <a:gd name="vf" fmla="val 115470"/>
            </a:avLst>
          </a:prstGeom>
          <a:solidFill>
            <a:srgbClr val="ffcc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267080" y="2971800"/>
            <a:ext cx="1524240" cy="2209680"/>
            <a:chOff x="4267080" y="2971800"/>
            <a:chExt cx="1524240" cy="2209680"/>
          </a:xfrm>
        </p:grpSpPr>
        <p:sp>
          <p:nvSpPr>
            <p:cNvPr id="119" name=""/>
            <p:cNvSpPr/>
            <p:nvPr/>
          </p:nvSpPr>
          <p:spPr>
            <a:xfrm>
              <a:off x="4267080" y="4267080"/>
              <a:ext cx="1524240" cy="914400"/>
            </a:xfrm>
            <a:prstGeom prst="cube">
              <a:avLst>
                <a:gd name="adj" fmla="val 15152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2971800"/>
              <a:ext cx="304560" cy="1219320"/>
            </a:xfrm>
            <a:prstGeom prst="upDownArrow">
              <a:avLst>
                <a:gd name="adj1" fmla="val 50000"/>
                <a:gd name="adj2" fmla="val 79700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822640" y="3656160"/>
            <a:ext cx="2578320" cy="1904400"/>
            <a:chOff x="5822640" y="3656160"/>
            <a:chExt cx="2578320" cy="1904400"/>
          </a:xfrm>
        </p:grpSpPr>
        <p:sp>
          <p:nvSpPr>
            <p:cNvPr id="122" name=""/>
            <p:cNvSpPr/>
            <p:nvPr/>
          </p:nvSpPr>
          <p:spPr>
            <a:xfrm>
              <a:off x="6876720" y="5103720"/>
              <a:ext cx="1524240" cy="456840"/>
            </a:xfrm>
            <a:prstGeom prst="can">
              <a:avLst>
                <a:gd name="adj" fmla="val 25000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Floppy D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76720" y="3656160"/>
              <a:ext cx="1524240" cy="914040"/>
            </a:xfrm>
            <a:prstGeom prst="can">
              <a:avLst>
                <a:gd name="adj" fmla="val 25000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Hard Di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4254000">
              <a:off x="6134040" y="3903120"/>
              <a:ext cx="304560" cy="876240"/>
            </a:xfrm>
            <a:prstGeom prst="upDownArrow">
              <a:avLst>
                <a:gd name="adj1" fmla="val 50000"/>
                <a:gd name="adj2" fmla="val 57275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6672000">
              <a:off x="6134040" y="4589280"/>
              <a:ext cx="304560" cy="876240"/>
            </a:xfrm>
            <a:prstGeom prst="upDownArrow">
              <a:avLst>
                <a:gd name="adj1" fmla="val 50000"/>
                <a:gd name="adj2" fmla="val 57275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603440" y="1600200"/>
            <a:ext cx="2611440" cy="1523880"/>
            <a:chOff x="1603440" y="1600200"/>
            <a:chExt cx="2611440" cy="1523880"/>
          </a:xfrm>
        </p:grpSpPr>
        <p:sp>
          <p:nvSpPr>
            <p:cNvPr id="127" name=""/>
            <p:cNvSpPr/>
            <p:nvPr/>
          </p:nvSpPr>
          <p:spPr>
            <a:xfrm>
              <a:off x="1641240" y="1600200"/>
              <a:ext cx="1371240" cy="685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oni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3440" y="2666880"/>
              <a:ext cx="1447560" cy="457200"/>
            </a:xfrm>
            <a:custGeom>
              <a:avLst/>
              <a:gdLst>
                <a:gd name="textAreaLeft" fmla="*/ 146880 w 1447560"/>
                <a:gd name="textAreaRight" fmla="*/ 1300680 w 1447560"/>
                <a:gd name="textAreaTop" fmla="*/ 46440 h 457200"/>
                <a:gd name="textAreaBottom" fmla="*/ 410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98" y="21600"/>
                  </a:lnTo>
                  <a:lnTo>
                    <a:pt x="802" y="21600"/>
                  </a:lnTo>
                  <a:close/>
                </a:path>
              </a:pathLst>
            </a:cu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Keybo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696200">
              <a:off x="3430440" y="1605240"/>
              <a:ext cx="304560" cy="1066320"/>
            </a:xfrm>
            <a:prstGeom prst="upArrow">
              <a:avLst>
                <a:gd name="adj1" fmla="val 50000"/>
                <a:gd name="adj2" fmla="val 87530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4510800">
              <a:off x="3508200" y="2209680"/>
              <a:ext cx="304560" cy="1066320"/>
            </a:xfrm>
            <a:prstGeom prst="upArrow">
              <a:avLst>
                <a:gd name="adj1" fmla="val 50000"/>
                <a:gd name="adj2" fmla="val 87530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83280" y="1830240"/>
            <a:ext cx="28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I/O devices facili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user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29200" y="3873600"/>
            <a:ext cx="236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Monitor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M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Joyst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Bar code sc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Touch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6425-122A-42DC-A953-168BA694F7F0}" type="slidenum">
              <a:t>8</a:t>
            </a:fld>
          </a:p>
        </p:txBody>
      </p:sp>
    </p:spTree>
  </p:cSld>
  <p:transition spd="med">
    <p:wheel spokes="1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Software Categori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s all machin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the user interface to th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s resources such as the CPU an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XP, Unix, Linux, Mac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ic term for any other kind of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processors, missile control systems, g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operating systems and application programs have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aphical user interf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G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780F-5F54-47B4-89CD-8575F1F4355B}" type="slidenum">
              <a:t>9</a:t>
            </a:fld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vuuser</cp:lastModifiedBy>
  <dcterms:modified xsi:type="dcterms:W3CDTF">2004-07-15T13:01:24Z</dcterms:modified>
  <cp:revision>18</cp:revision>
  <dc:subject/>
  <dc:title>PowerPoint Presentation</dc:title>
</cp:coreProperties>
</file>