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A2B41-91A3-400C-9597-E2BC6DA0F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BC547-A8DF-423F-83E4-81BE1DDB7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B325E-A34D-43C7-B783-39A9D4E87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6BF0-9960-4A66-855F-366A9BDBE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7CDBA-76DA-4305-96DA-B840F9CB6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CDDF7-E0A0-4D41-9233-E721A305A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FECB-4064-41B3-A2B5-7765CC145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3031-9AD2-4DA2-A74D-FE7D14827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5FAF-8EA7-496B-B2A0-0347180B2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496E-7B7A-459D-8328-7DEBEE229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0620-8E8C-443E-86CD-15BD5CE6D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C235-1FBD-4C01-8267-2021A3771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324120"/>
            <a:ext cx="3504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  <a:ea typeface="Arial"/>
              </a:rPr>
              <a:t>© 2004 Pearson Addison-Wesley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</a:rPr>
              <a:t>3-</a:t>
            </a:r>
            <a:fld id="{54065BF9-5CA8-4B74-81B9-4F0109A7AD3A}" type="slidenum">
              <a:rPr b="0" lang="en-US" sz="1000" spc="-1" strike="noStrike">
                <a:solidFill>
                  <a:srgbClr val="ff4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3/StringMutation.java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3/RandomNumbers.java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3/Quadratic.java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3/Purchase.java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3/CircleStats.java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3/IceCream.java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3/Authority.java" TargetMode="Externa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3/NestedPanels.java" TargetMode="External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3/LabelDemo.java" TargetMode="Externa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a1f"/>
                </a:solidFill>
                <a:latin typeface="Arial"/>
              </a:rPr>
              <a:t>Using Classes and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lia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or more references that refer to the same object are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ia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reates an interesting situation: one object can be accessed using multiple reference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ases can be useful, but should be managed carefu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an object through one reference changes it for all of its aliases, because there is really only one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1A9B-B68A-4626-9CE1-059545442DB6}" type="slidenum">
              <a:t>10</a:t>
            </a:fld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arbage Collec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n object no longer has any valid references to it, it can no longer be accessed by the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 is useless, and therefore i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perform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iodically, returning an object's memory to the system for future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ther languages, the programmer is responsible for performing garbage col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411D-5B87-4F75-876D-7FA425552C9B}" type="slidenum">
              <a:t>11</a:t>
            </a:fld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69040" y="1143000"/>
            <a:ext cx="4344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1752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8A1A-0EF3-4787-800B-6F7E65125C04}" type="slidenum">
              <a:t>12</a:t>
            </a:fld>
          </a:p>
        </p:txBody>
      </p:sp>
    </p:spTree>
  </p:cSld>
  <p:transition>
    <p:wheel spokes="1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String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strings are so common, we don't have to us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 to create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tle = "Java Software Solutions"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special syntax that work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str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string literal (enclosed in double quotes) represents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D369-924F-49BB-AA66-7823A61CD306}" type="slidenum">
              <a:t>13</a:t>
            </a:fld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tring Method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has been created, neither its value nor its length can be chan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we say that an object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mu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several methods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return new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 that are modified versions of the origi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the lis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s on page 119 and in Appendix 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E099-32E9-4748-B1D5-5D7E9F666B96}" type="slidenum">
              <a:t>14</a:t>
            </a:fld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tring Index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occasionally helpful to refer to a particular character within a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an be done by specifying the character's numeri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dexes begin at zero in each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tr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Hello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charact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t index 0 and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'o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t index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ringMutation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2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BD05B-1F74-4CCE-8B18-820D1A98207B}" type="slidenum">
              <a:t>15</a:t>
            </a:fld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69040" y="1143000"/>
            <a:ext cx="4344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286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7552-C242-4C71-A72D-0EA5686B439F}" type="slidenum">
              <a:t>16</a:t>
            </a:fld>
          </a:p>
        </p:txBody>
      </p:sp>
    </p:spTree>
  </p:cSld>
  <p:transition>
    <p:wheel spokes="1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ass Librari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ass libr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collection of classes that we can use when developing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ava standard class libr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art of any Java development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classes are not part of the Java language per se, but we rely on them heavi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ous classes we've already used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re part of the Java standard class libr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lass libraries can be obtained through third party vendors, or you can create them yoursel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48C1E-192C-4EE1-868C-7E2D13DBDDC1}" type="slidenum">
              <a:t>17</a:t>
            </a:fld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ackag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asses of the Java standard class library are organized in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f the packages in the standard class library a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641600" y="3198960"/>
            <a:ext cx="7395840" cy="2756880"/>
            <a:chOff x="1641600" y="3198960"/>
            <a:chExt cx="7395840" cy="2756880"/>
          </a:xfrm>
        </p:grpSpPr>
        <p:sp>
          <p:nvSpPr>
            <p:cNvPr id="169" name=""/>
            <p:cNvSpPr/>
            <p:nvPr/>
          </p:nvSpPr>
          <p:spPr>
            <a:xfrm>
              <a:off x="1641600" y="3198960"/>
              <a:ext cx="2431800" cy="27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Pack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java.la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java.app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java.aw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javax.sw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java.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java.ut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javax.xml.pars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47760" y="3200400"/>
              <a:ext cx="5089680" cy="27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Purpo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General 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Creating applets for the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Graphics and graphical user interf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Additional graphics capa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Network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XML document 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4D1B-AA57-4619-AABE-2E745EF9028A}" type="slidenum">
              <a:t>18</a:t>
            </a:fld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import Declar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you want to use a class from a package, you could use it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ully qualified 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.util.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you c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lass, and then use just the class 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util.Scanne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mport all classes in a particular package, you can use the * wildcard charac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3DF6-B5A8-4AFA-A056-2E8037D7E768}" type="slidenum">
              <a:t>19</a:t>
            </a:fld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Using Classes and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create more interesting programs using predefined classes and related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3 focuses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creation and object 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 and its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Java standard class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ical components and contain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s and im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F9E9-0B0A-4DC3-A7EF-6BB0777E2B59}" type="slidenum">
              <a:t>2</a:t>
            </a:fld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import Declar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classes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ckage are imported automatically into all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's as if all programs contain the following lin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lang.*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's why we didn't have to import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es explicitly in earlier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, on the other hand, is part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ckage, and therefore must be impor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199AD-F308-4F84-A1C4-41D2A74E8A8E}" type="slidenum">
              <a:t>20</a:t>
            </a:fld>
          </a:p>
        </p:txBody>
      </p: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Random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part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provides methods that generate pseudorandom nu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performs complicated calculations based on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ed 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produce a stream of seemingly random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andomNumber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2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4E70-FBFC-42FE-B677-DBE5529AEE7A}" type="slidenum">
              <a:t>21</a:t>
            </a:fld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Math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part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contains methods that perform various mathematical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inclu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lute va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uare ro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onometric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B91B-B0C9-4CFD-9115-A7D5A2AA5370}" type="slidenum">
              <a:t>22</a:t>
            </a:fld>
          </a:p>
        </p:txBody>
      </p:sp>
    </p:spTree>
  </p:cSld>
  <p:transition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Math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thods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ic metho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lso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ass metho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methods can be invoked through the class name – no object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= Math.cos(90) + Math.sqrt(delta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Quadratic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2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iscuss static methods further in Chapter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C8A7-729F-4B5E-8729-377C057B47EC}" type="slidenum">
              <a:t>23</a:t>
            </a:fld>
          </a:p>
        </p:txBody>
      </p:sp>
    </p:spTree>
  </p:cSld>
  <p:transition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9040" y="1143000"/>
            <a:ext cx="4344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2819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23D8-A8B6-43A8-B01A-5D0D3A5DD2BD}" type="slidenum">
              <a:t>24</a:t>
            </a:fld>
          </a:p>
        </p:txBody>
      </p:sp>
    </p:spTree>
  </p:cSld>
  <p:transition>
    <p:wheel spokes="1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Formatting Outp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often necessary to format values in certain ways so that they can be presented proper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standard class library contains classes that provide formatting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berForm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allows you to format values as currency or perce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allows you to format values based on a patte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are part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t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447E3-4774-4C69-A74B-51357E3F99F0}" type="slidenum">
              <a:t>25</a:t>
            </a:fld>
          </a:p>
        </p:txBody>
      </p:sp>
    </p:spTree>
  </p:cSld>
  <p:transition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Formatting Outp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berForm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has static methods that return a formatter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CurrencyInstance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PercentInstance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formatter object has a method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returns a string with the specified information in the appropriat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urchase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3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13936-2269-42F4-BEFF-6AB497D177CB}" type="slidenum">
              <a:t>26</a:t>
            </a:fld>
          </a:p>
        </p:txBody>
      </p:sp>
    </p:spTree>
  </p:cSld>
  <p:transition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Formatting Outp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can be used to format a floating point value in various w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you can specify that the number should be truncated to three decimal pl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structor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takes a string that represents a pattern for the formatted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ircleStat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3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8F4CA-5461-4F64-94FF-9C42D809D207}" type="slidenum">
              <a:t>27</a:t>
            </a:fld>
          </a:p>
        </p:txBody>
      </p:sp>
    </p:spTree>
  </p:cSld>
  <p:transition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69040" y="1143000"/>
            <a:ext cx="4344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49452-544B-4686-BAB7-B97CBB50090C}" type="slidenum">
              <a:t>28</a:t>
            </a:fld>
          </a:p>
        </p:txBody>
      </p:sp>
    </p:spTree>
  </p:cSld>
  <p:transition>
    <p:wheel spokes="1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numerated Typ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allows you to define an enumerated type, which can then be used to declare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numerated type establishes all possible values for a variable of that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s are identifiers of your own choo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declaration creates an enumerated type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a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 Season {winter, spring, summer, fall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number of values can be lis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0275A-4936-4A32-8F6A-ADA1CF30E84B}" type="slidenum">
              <a:t>29</a:t>
            </a:fld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9040" y="1143000"/>
            <a:ext cx="4344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12207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BD05-6C89-41E3-B138-1393439EC98A}" type="slidenum">
              <a:t>3</a:t>
            </a:fld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numerated Typ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a type is defined, a variable of that type can be decla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ason tim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it can be assigned a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 = Season.fal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s are specified through the name of the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-saf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you cannot assign any value other than those lis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800F-DED6-4953-B9EC-66E761934F2F}" type="slidenum">
              <a:t>30</a:t>
            </a:fld>
          </a:p>
        </p:txBody>
      </p:sp>
    </p:spTree>
  </p:cSld>
  <p:transition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rdinal Valu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ly, each value of an enumerated type is stored as an integer, called it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dinal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value in an enumerated type has an ordinal value of zero, the second one, and so 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you cannot assign a numeric value to an enumerated type, even if it corresponds to a valid ordinal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11033-CCA0-4A8A-8A6A-ADB7060463E1}" type="slidenum">
              <a:t>31</a:t>
            </a:fld>
          </a:p>
        </p:txBody>
      </p:sp>
    </p:spTree>
  </p:cSld>
  <p:transition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numerated Typ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claration of an enumerated type is a special type of class, and each variable of that type is an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di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returns the ordinal value of the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returns the name of the identifier corresponding to the object's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ceCream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3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845F8-672F-4028-B90C-0E575325FEA5}" type="slidenum">
              <a:t>32</a:t>
            </a:fld>
          </a:p>
        </p:txBody>
      </p:sp>
    </p:spTree>
  </p:cSld>
  <p:transition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69040" y="1143000"/>
            <a:ext cx="4344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3962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685F-C895-4940-BF3C-2FCEA14199E6}" type="slidenum">
              <a:t>33</a:t>
            </a:fld>
          </a:p>
        </p:txBody>
      </p:sp>
    </p:spTree>
  </p:cSld>
  <p:transition>
    <p:wheel spokes="1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Wrapper Cla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778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ckage contain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correspond to each primitive ty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14600" y="2262240"/>
          <a:ext cx="4495680" cy="368136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Primitiv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Wrapper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ac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5444C-B88A-4DD3-85E4-252EAE1AD7DA}" type="slidenum">
              <a:t>34</a:t>
            </a:fld>
          </a:p>
        </p:txBody>
      </p:sp>
    </p:spTree>
  </p:cSld>
  <p:transition>
    <p:wheel spokes="1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Wrapper Cla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declaration creates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which represents the integer 40 as an objec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 age = new Integer(40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bject of a wrapper class can be used in any situation where a primitive value will not suff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some objects serve as containers of other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values could not be stored in such containers, but wrapper objects could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DBCD5-E9F4-4690-9B45-DC892A029071}" type="slidenum">
              <a:t>35</a:t>
            </a:fld>
          </a:p>
        </p:txBody>
      </p:sp>
    </p:spTree>
  </p:cSld>
  <p:transition>
    <p:wheel spokes="1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Wrapper Cla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 also contain static methods that help manage the associated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contains a method to convert an integer stored 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alu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 = Integer.parseInt(str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classes often contain useful constants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contai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_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_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ch hold the smallest and large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31A7-48F0-47BD-8B27-B1369CFC59EA}" type="slidenum">
              <a:t>36</a:t>
            </a:fld>
          </a:p>
        </p:txBody>
      </p:sp>
    </p:spTree>
  </p:cSld>
  <p:transition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utobox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utobox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automatic conversion of a primitive value to a corresponding wrapper obje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 obj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um = 42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 = in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ssignment creates the appropria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verse conversion (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box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lso occurs automatically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271A-A528-4F94-8071-D1DAFBDAFF48}" type="slidenum">
              <a:t>37</a:t>
            </a:fld>
          </a:p>
        </p:txBody>
      </p:sp>
    </p:spTree>
  </p:cSld>
  <p:transition>
    <p:wheel spokes="1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69040" y="1143000"/>
            <a:ext cx="4344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4495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DE31C-892E-410B-ACAC-C87B85194087}" type="slidenum">
              <a:t>38</a:t>
            </a:fld>
          </a:p>
        </p:txBody>
      </p:sp>
    </p:spTree>
  </p:cSld>
  <p:transition>
    <p:wheel spokes="1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raphical Applicat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 for the applets seen in Chapter 2, the example programs we've explored thus far have been text-ba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mand-line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nteract with the user using simple text prom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examine some Java applications that have graphica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components will serve as a foundation to programs that have true graphical user interfaces (GUI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C1F5-CE0D-475B-BF7C-FB5F28B41BD8}" type="slidenum">
              <a:t>39</a:t>
            </a:fld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reating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able holds either a primitive type or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an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name can be used as a type to declare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ject reference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titl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object is created with this decla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bject reference variable holds the address of an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 itself must be created separ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E8CA4-3BD3-4148-BB7B-917115E45F79}" type="slidenum">
              <a:t>4</a:t>
            </a:fld>
          </a:p>
        </p:txBody>
      </p:sp>
    </p:spTree>
  </p:cSld>
  <p:transition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UI Compon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UI compon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object that represents a screen element such as a button or a text f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-related classes are defined primarily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x.sw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ck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stract Windowing Toolk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WT) was the original Java GUI pack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w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ckage provides additional and more versatile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packages are needed to create a Java GUI-based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294D0-FE62-48B6-B95A-67E3812D7E81}" type="slidenum">
              <a:t>40</a:t>
            </a:fld>
          </a:p>
        </p:txBody>
      </p:sp>
    </p:spTree>
  </p:cSld>
  <p:transition>
    <p:wheel spokes="1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UI Contain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UI contai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component that is used to hold and organize other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container that is used to display a GUI-based Java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ame is displayed as a separate window with a title bar – it can be repositioned and resized on the screen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container that cannot be displayed on its own but is used to organize other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anel must be added to another container to be display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6587-6A58-4299-AE9B-007252175CDE}" type="slidenum">
              <a:t>41</a:t>
            </a:fld>
          </a:p>
        </p:txBody>
      </p:sp>
    </p:spTree>
  </p:cSld>
  <p:transition>
    <p:wheel spokes="1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UI Contain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UI container can be classified as either heavyweight or lightwe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avyweight contai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one that is managed by the underlying operating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managed by the Java program itsel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asionally this distinction is impor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ame is a heavyweight container and a panel is a lightweight contai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525F-4B24-4ECA-BA55-307A567022D5}" type="slidenum">
              <a:t>42</a:t>
            </a:fld>
          </a:p>
        </p:txBody>
      </p:sp>
    </p:spTree>
  </p:cSld>
  <p:transition>
    <p:wheel spokes="1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abel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GUI component that displays a line of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els are usually used to display information or identify other components in the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look at a program that organizes two labels in a panel and displays that panel in a fr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uthority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4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rogram is not interactive, but the frame can be repositioned and resiz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0CEC0-B0C5-44A1-8717-08941C6F2C60}" type="slidenum">
              <a:t>43</a:t>
            </a:fld>
          </a:p>
        </p:txBody>
      </p:sp>
    </p:spTree>
  </p:cSld>
  <p:transition>
    <p:wheel spokes="1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Nested Panel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ers that contain other components make up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ainment hierarch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n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hierarchy can be as intricate as needed to create the visual effect desi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example nests two panels inside a third panel – note the effect this has as the frame is resiz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estedPanel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4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53119-EEBF-40B0-ADE4-EC2A97EFB6C1}" type="slidenum">
              <a:t>44</a:t>
            </a:fld>
          </a:p>
        </p:txBody>
      </p:sp>
    </p:spTree>
  </p:cSld>
  <p:transition>
    <p:wheel spokes="1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9040" y="1143000"/>
            <a:ext cx="4344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029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412E-FBE6-42C3-8BE6-DE8629F82DA1}" type="slidenum">
              <a:t>45</a:t>
            </a:fld>
          </a:p>
        </p:txBody>
      </p:sp>
    </p:spTree>
  </p:cSld>
  <p:transition>
    <p:wheel spokes="1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mag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 are often used in a programs with a graphical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can manage images in both JPEG and GIF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e've seen,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can be used to display a line of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also be used to display an im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, a label can be composed of text, and image, or both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DE87B-3CA8-4C26-9144-55091697148B}" type="slidenum">
              <a:t>46</a:t>
            </a:fld>
          </a:p>
        </p:txBody>
      </p:sp>
    </p:spTree>
  </p:cSld>
  <p:transition>
    <p:wheel spokes="1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mag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used to represent an image that is stored in a lab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sition of the text relative to the image can be set explici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ignment of the text and image within the label can be set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abelDemo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4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1197-B789-4DB0-A705-040A386364AB}" type="slidenum">
              <a:t>47</a:t>
            </a:fld>
          </a:p>
        </p:txBody>
      </p:sp>
    </p:spTree>
  </p:cSld>
  <p:transition>
    <p:wheel spokes="1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3 focus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creation and object 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 and its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Java standard class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ical components and contain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s and im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17B5-AC34-44BE-A8E0-D3A7E443550D}" type="slidenum">
              <a:t>48</a:t>
            </a:fld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reating 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247760"/>
            <a:ext cx="792468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, we us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 to create an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41360" y="242100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tle = new String ("Java Software Solution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61880" y="3413160"/>
            <a:ext cx="529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This calls the String </a:t>
            </a:r>
            <a:r>
              <a:rPr b="1" i="1" lang="en-US" sz="2000" spc="-1" strike="noStrike">
                <a:solidFill>
                  <a:srgbClr val="009999"/>
                </a:solidFill>
                <a:latin typeface="Arial Unicode MS"/>
              </a:rPr>
              <a:t>constructor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, which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a special method that sets up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5607000" y="592200"/>
            <a:ext cx="457200" cy="5029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419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an object i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ta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5105520"/>
            <a:ext cx="7848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bject is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particula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969CA-6622-47E3-A092-8DFF28C589E9}" type="slidenum">
              <a:t>5</a:t>
            </a:fld>
          </a:p>
        </p:txBody>
      </p:sp>
    </p:spTree>
  </p:cSld>
  <p:transition>
    <p:wheel spokes="1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voking Method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've seen that once an object has been instantiated, we can use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t oper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invoke its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 = title.length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ma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turn a 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can be used in an assignment or expr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invocation can be thought of as asking an object to perform a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3B55-9349-414B-AEAD-0F11D9FBCF55}" type="slidenum">
              <a:t>6</a:t>
            </a:fld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a primitive variable contains the value itself, but an object variable contains the address of the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bject reference can be thought of as a pointer to the location of the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her than dealing with arbitrary addresses, we often depict a reference graphic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744640" y="4724280"/>
            <a:ext cx="4570560" cy="1053000"/>
            <a:chOff x="2744640" y="4724280"/>
            <a:chExt cx="4570560" cy="1053000"/>
          </a:xfrm>
        </p:grpSpPr>
        <p:sp>
          <p:nvSpPr>
            <p:cNvPr id="99" name=""/>
            <p:cNvSpPr/>
            <p:nvPr/>
          </p:nvSpPr>
          <p:spPr>
            <a:xfrm>
              <a:off x="3733560" y="531828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5160" y="5318280"/>
              <a:ext cx="2210040" cy="38088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"Steve Jobs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4640" y="53784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am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33560" y="47242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65600" y="47847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11320" y="47242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38480" y="5486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EB159-99CA-441D-BCB0-5CFBF992A9AA}" type="slidenum">
              <a:t>7</a:t>
            </a:fld>
          </a:p>
        </p:txBody>
      </p:sp>
    </p:spTree>
  </p:cSld>
  <p:transition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ssignment Revisited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t of assignment takes a copy of a value and stores it in a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primitive typ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17120" y="2895480"/>
            <a:ext cx="3077280" cy="992880"/>
            <a:chOff x="2517120" y="2895480"/>
            <a:chExt cx="3077280" cy="992880"/>
          </a:xfrm>
        </p:grpSpPr>
        <p:sp>
          <p:nvSpPr>
            <p:cNvPr id="109" name=""/>
            <p:cNvSpPr/>
            <p:nvPr/>
          </p:nvSpPr>
          <p:spPr>
            <a:xfrm>
              <a:off x="4908600" y="28954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40280" y="29559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86360" y="28954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08600" y="34290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40280" y="34894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86360" y="3429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7120" y="31845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Befo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92360" y="419112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2 = num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2720" y="4968720"/>
            <a:ext cx="3078000" cy="992880"/>
            <a:chOff x="2592720" y="4968720"/>
            <a:chExt cx="3078000" cy="992880"/>
          </a:xfrm>
        </p:grpSpPr>
        <p:sp>
          <p:nvSpPr>
            <p:cNvPr id="118" name=""/>
            <p:cNvSpPr/>
            <p:nvPr/>
          </p:nvSpPr>
          <p:spPr>
            <a:xfrm>
              <a:off x="4984920" y="496872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6600" y="5029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62320" y="496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84920" y="550224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6600" y="5562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62320" y="55022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92720" y="52578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Aft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6EE71-3503-419E-BE68-B25D288F07A3}" type="slidenum">
              <a:t>8</a:t>
            </a:fld>
          </a:p>
        </p:txBody>
      </p:sp>
    </p:spTree>
  </p:cSld>
  <p:transition>
    <p:wheel spokes="1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ference Assign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object references, assignment copies the addres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6560" y="37940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2 = name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31320" y="2346480"/>
            <a:ext cx="6169680" cy="992520"/>
            <a:chOff x="1831320" y="2346480"/>
            <a:chExt cx="6169680" cy="992520"/>
          </a:xfrm>
        </p:grpSpPr>
        <p:sp>
          <p:nvSpPr>
            <p:cNvPr id="129" name=""/>
            <p:cNvSpPr/>
            <p:nvPr/>
          </p:nvSpPr>
          <p:spPr>
            <a:xfrm>
              <a:off x="4343400" y="234648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54480" y="24066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am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4480" y="294012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am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31320" y="26352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Befo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10080" y="2346480"/>
              <a:ext cx="2210040" cy="38088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"Steve Jobs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8320" y="2536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287964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2879640"/>
              <a:ext cx="2590920" cy="38124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"Steve Wozniak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48320" y="3070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906920" y="4648320"/>
            <a:ext cx="5636880" cy="1000440"/>
            <a:chOff x="1906920" y="4648320"/>
            <a:chExt cx="5636880" cy="1000440"/>
          </a:xfrm>
        </p:grpSpPr>
        <p:sp>
          <p:nvSpPr>
            <p:cNvPr id="139" name=""/>
            <p:cNvSpPr/>
            <p:nvPr/>
          </p:nvSpPr>
          <p:spPr>
            <a:xfrm>
              <a:off x="4419720" y="46483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30440" y="47163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am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518940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30440" y="52498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am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06920" y="494496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Aft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0080" y="4648320"/>
              <a:ext cx="2133720" cy="38088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"Steve Jobs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48320" y="48387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257800" y="509760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647960" y="54021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44F43-88D3-4483-B83A-DFC9DA66D276}" type="slidenum">
              <a:t>9</a:t>
            </a:fld>
          </a:p>
        </p:txBody>
      </p:sp>
    </p:spTree>
  </p:cSld>
  <p:transition>
    <p:wheel spokes="1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dc:language>en-US</dc:language>
  <cp:lastModifiedBy>vuuser</cp:lastModifiedBy>
  <dcterms:modified xsi:type="dcterms:W3CDTF">2004-07-15T12:57:45Z</dcterms:modified>
  <cp:revision>27</cp:revision>
  <dc:subject/>
  <dc:title>PowerPoint Presentation</dc:title>
</cp:coreProperties>
</file>