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4E615-03ED-473E-BC82-17CF0ED502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90360" y="3806280"/>
            <a:ext cx="7924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6242E-D5F3-458C-9A15-13A2833BD2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511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360" y="380628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51160" y="380628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5B1AB-8200-446D-A0E0-05014D57DC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69840" y="121932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49680" y="121932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90360" y="380628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69840" y="380628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349680" y="380628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85DB0-97A2-41D9-B23C-7DE72B798C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67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51160" y="1219320"/>
            <a:ext cx="3867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90360" y="304560"/>
            <a:ext cx="7924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51160" y="1219320"/>
            <a:ext cx="3867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990360" y="380628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F7DB9-6CA3-4ADF-9CA4-88D7D4EA89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67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11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51160" y="380628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11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90360" y="3806280"/>
            <a:ext cx="7924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990360" y="3806280"/>
            <a:ext cx="7924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511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90360" y="380628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051160" y="380628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669840" y="121932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349680" y="121932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990360" y="380628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669840" y="380628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349680" y="380628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DE19C-A440-4DA3-8F61-A2180C7E79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67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51160" y="1219320"/>
            <a:ext cx="3867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CAA1C-426A-45C1-B39B-17137407A9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D8229-9774-4248-B15B-C557034F33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360" y="304560"/>
            <a:ext cx="7924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76AF9-3B6C-44B0-BAC3-B5023BF4B6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51160" y="1219320"/>
            <a:ext cx="3867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90360" y="380628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98E13-1CE3-482B-B578-02CCF4A5B1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67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511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51160" y="380628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537BE-06DE-4469-A14F-2FDA7F52E4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511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360" y="3806280"/>
            <a:ext cx="7924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2B386-98D0-4DD3-8FBF-15BF0BE070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90720" y="6324120"/>
            <a:ext cx="35049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4c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4c00"/>
                </a:solidFill>
                <a:latin typeface="Arial"/>
                <a:ea typeface="Arial"/>
              </a:rPr>
              <a:t>© 2004 Pearson Addison-Wesley. All rights reserv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85800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4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4c00"/>
                </a:solidFill>
                <a:latin typeface="Arial"/>
              </a:rPr>
              <a:t>5-</a:t>
            </a:r>
            <a:fld id="{66AC5700-E177-4711-8EAD-78ED6324ABA5}" type="slidenum">
              <a:rPr b="0" lang="en-US" sz="1000" spc="-1" strike="noStrike">
                <a:solidFill>
                  <a:srgbClr val="ff4c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5e98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5e985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examples/chap05/Wages.java" TargetMode="External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examples/chap05/CoinFlip.java" TargetMode="External"/><Relationship Id="rId3" Type="http://schemas.openxmlformats.org/officeDocument/2006/relationships/hyperlink" Target="file:///../examples/chap05/Coin.java" TargetMode="External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examples/chap05/Guessing.java" TargetMode="External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examples/chap05/MinOfThree.java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examples/chap05/Age.java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5e985"/>
                </a:solidFill>
                <a:latin typeface="Arial"/>
              </a:rPr>
              <a:t>Chapter 5</a:t>
            </a:r>
            <a:endParaRPr b="0" lang="en-US" sz="3200" spc="-1" strike="noStrike">
              <a:solidFill>
                <a:srgbClr val="f5e985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304560" y="1828800"/>
            <a:ext cx="3429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53a1f"/>
                </a:solidFill>
                <a:latin typeface="Arial"/>
              </a:rPr>
              <a:t>Conditionals and Loop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Indentation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79246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atement controlled by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tatement is indented to indicate that relationshi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use of a consistent indentation style makes a program easier to read and understa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hough it makes no difference to the compiler, proper indentation is cruci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133720" y="4343400"/>
            <a:ext cx="57150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"Always code as if the person who ends up maintaining your code will be a violent psychopath who knows where you live.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-- Martin Gol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96E72-C1FB-4E1B-9F0A-7203CCBAD52A}" type="slidenum">
              <a:t>10</a:t>
            </a:fld>
          </a:p>
        </p:txBody>
      </p:sp>
    </p:spTree>
  </p:cSld>
  <p:transition>
    <p:wheel spokes="1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The if Statement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do the following statements do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484720" y="1828800"/>
            <a:ext cx="307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top &gt;= MAXIMU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op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76520" y="2590920"/>
            <a:ext cx="655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Sets </a:t>
            </a:r>
            <a:r>
              <a:rPr b="1" lang="en-US" sz="2000" spc="-1" strike="noStrike">
                <a:solidFill>
                  <a:srgbClr val="009999"/>
                </a:solidFill>
                <a:latin typeface="Courier New"/>
              </a:rPr>
              <a:t>top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 to zero if the current value of </a:t>
            </a:r>
            <a:r>
              <a:rPr b="1" lang="en-US" sz="2000" spc="-1" strike="noStrike">
                <a:solidFill>
                  <a:srgbClr val="009999"/>
                </a:solidFill>
                <a:latin typeface="Courier New"/>
              </a:rPr>
              <a:t>top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 is greater than or equal to the value of </a:t>
            </a:r>
            <a:r>
              <a:rPr b="1" lang="en-US" sz="2000" spc="-1" strike="noStrike">
                <a:solidFill>
                  <a:srgbClr val="009999"/>
                </a:solidFill>
                <a:latin typeface="Courier New"/>
              </a:rPr>
              <a:t>MAXIM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16400" y="3429000"/>
            <a:ext cx="490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total != stock + warehou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ventoryError = tr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76520" y="4251240"/>
            <a:ext cx="678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Sets a flag to true if the value of </a:t>
            </a:r>
            <a:r>
              <a:rPr b="1" lang="en-US" sz="2000" spc="-1" strike="noStrike">
                <a:solidFill>
                  <a:srgbClr val="009999"/>
                </a:solidFill>
                <a:latin typeface="Courier New"/>
              </a:rPr>
              <a:t>total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 is not equal to the sum of </a:t>
            </a:r>
            <a:r>
              <a:rPr b="1" lang="en-US" sz="2000" spc="-1" strike="noStrike">
                <a:solidFill>
                  <a:srgbClr val="009999"/>
                </a:solidFill>
                <a:latin typeface="Courier New"/>
              </a:rPr>
              <a:t>stock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9999"/>
                </a:solidFill>
                <a:latin typeface="Courier New"/>
              </a:rPr>
              <a:t>wareho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066680" y="5029200"/>
            <a:ext cx="79250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recedence of the arithmetic operators is higher than the precedence of the equality and relational ope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9D1B9-84AB-4C08-B5F5-E443BA5E957B}" type="slidenum">
              <a:t>11</a:t>
            </a:fld>
          </a:p>
        </p:txBody>
      </p:sp>
    </p:spTree>
  </p:cSld>
  <p:transition>
    <p:wheel spokes="1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Logical Operator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olean expressions can also use the following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ogical operato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!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Logical NO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Logical A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||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Logical 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y all take boolean operands and produce boolean resul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ical NOT is a unary operator (it operates on one operand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ical AND and logical OR are binary operators (each operates on two operand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D0557-04A4-4125-BEBC-68177AC504CE}" type="slidenum">
              <a:t>12</a:t>
            </a:fld>
          </a:p>
        </p:txBody>
      </p:sp>
    </p:spTree>
  </p:cSld>
  <p:transition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Logical NOT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7778520" cy="277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ogical NO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peration is also calle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ogical neg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ogical compl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some boolean conditi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true, the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!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false;  i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false, the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!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tr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ical expressions can be shown using 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ruth t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3389400" y="4267080"/>
          <a:ext cx="2763720" cy="1324080"/>
        </p:xfrm>
        <a:graphic>
          <a:graphicData uri="http://schemas.openxmlformats.org/drawingml/2006/table">
            <a:tbl>
              <a:tblPr/>
              <a:tblGrid>
                <a:gridCol w="1382760"/>
                <a:gridCol w="1380960"/>
              </a:tblGrid>
              <a:tr h="424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DF132-9065-4D33-858F-E37C7427CC48}" type="slidenum">
              <a:t>13</a:t>
            </a:fld>
          </a:p>
        </p:txBody>
      </p:sp>
    </p:spTree>
  </p:cSld>
  <p:transition>
    <p:wheel spokes="1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Logical AND and Logical OR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ogical AN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xpres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 &amp;&amp; 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true if bo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re true, and false otherwi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8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ogical 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xpres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 || 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true i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both are true, and false otherwi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B1053-ABB5-4CC9-94F2-EFD72CCDF467}" type="slidenum">
              <a:t>14</a:t>
            </a:fld>
          </a:p>
        </p:txBody>
      </p:sp>
    </p:spTree>
  </p:cSld>
  <p:transition>
    <p:wheel spokes="1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Logical Operator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ressions that use logical operators can form complex condi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906560" y="2345400"/>
            <a:ext cx="597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total &lt; MAX+5 &amp;&amp; !foun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 ("Processing…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90720" y="3352680"/>
            <a:ext cx="792468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logical operators have lower precedence than the relational ope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ical NOT has higher precedence than logical AND and logical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BE774-A72F-4732-B6C5-06423A486FAD}" type="slidenum">
              <a:t>15</a:t>
            </a:fld>
          </a:p>
        </p:txBody>
      </p:sp>
    </p:spTree>
  </p:cSld>
  <p:transition>
    <p:wheel spokes="1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Logical Operator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90360" y="1143000"/>
            <a:ext cx="79246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truth table shows all possible true-false combinations of the ter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c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|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ach have two operands, there are four possible combinations of conditio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2444760" y="3581280"/>
          <a:ext cx="5089680" cy="2438280"/>
        </p:xfrm>
        <a:graphic>
          <a:graphicData uri="http://schemas.openxmlformats.org/drawingml/2006/table">
            <a:tbl>
              <a:tblPr/>
              <a:tblGrid>
                <a:gridCol w="1017720"/>
                <a:gridCol w="1163520"/>
                <a:gridCol w="1454040"/>
                <a:gridCol w="1454400"/>
              </a:tblGrid>
              <a:tr h="487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&amp;&amp;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||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D6F09-E4E5-428C-8F4A-27ACC25B8759}" type="slidenum">
              <a:t>16</a:t>
            </a:fld>
          </a:p>
        </p:txBody>
      </p:sp>
    </p:spTree>
  </p:cSld>
  <p:transition>
    <p:wheel spokes="1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Boolean Expression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84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ific expressions can be evaluated using truth tab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292400" y="2452680"/>
          <a:ext cx="7470720" cy="2195640"/>
        </p:xfrm>
        <a:graphic>
          <a:graphicData uri="http://schemas.openxmlformats.org/drawingml/2006/table">
            <a:tbl>
              <a:tblPr/>
              <a:tblGrid>
                <a:gridCol w="1755720"/>
                <a:gridCol w="1143000"/>
                <a:gridCol w="1218960"/>
                <a:gridCol w="3353040"/>
              </a:tblGrid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otal &lt; M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f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otal &lt; MAX &amp;&amp; !f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B292F-F121-4AE4-8996-D5B802BC189D}" type="slidenum">
              <a:t>17</a:t>
            </a:fld>
          </a:p>
        </p:txBody>
      </p:sp>
    </p:spTree>
  </p:cSld>
  <p:transition>
    <p:wheel spokes="1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Short-Circuited Operator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rocessing of logical AND and logical OR is “short-circuited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the left operand is sufficient to determine the result, the right operand is not evalua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90720" y="449568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type of processing must be used carefu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907640" y="3412080"/>
            <a:ext cx="5667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count != 0 &amp;&amp; total/count &gt; MA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 ("Testing…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20A80-15F0-4115-B985-17B67698B330}" type="slidenum">
              <a:t>18</a:t>
            </a:fld>
          </a:p>
        </p:txBody>
      </p:sp>
    </p:spTree>
  </p:cSld>
  <p:transition>
    <p:wheel spokes="1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665800" y="1163520"/>
            <a:ext cx="50346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tatement and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 Conditional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ing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tat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e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 Repetition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isions and Graph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r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828800" y="175248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BBF37-0A52-4DC1-AE52-B3094265474A}" type="slidenum">
              <a:t>19</a:t>
            </a:fld>
          </a:p>
        </p:txBody>
      </p:sp>
    </p:spTree>
  </p:cSld>
  <p:transition>
    <p:wheel spokes="1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Conditionals and Loop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w we will examine programming statements that allow us t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8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ke dec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eat processing steps in a loo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pter 5 focuses 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8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olean expres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itional state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ng dat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etition state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er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re drawing techniqu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re GUI compon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8EAED-91C3-4917-A14F-BA9C99F597FF}" type="slidenum">
              <a:t>2</a:t>
            </a:fld>
          </a:p>
        </p:txBody>
      </p:sp>
    </p:spTree>
  </p:cSld>
  <p:transition>
    <p:wheel spokes="1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The if-else Statement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7924680" cy="102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lse clau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n be added to 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tatement to make a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f-else stat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322440" y="2284920"/>
            <a:ext cx="26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 </a:t>
            </a:r>
            <a:r>
              <a:rPr b="1" i="1" lang="en-US" sz="2000" spc="-1" strike="noStrike">
                <a:solidFill>
                  <a:srgbClr val="009999"/>
                </a:solidFill>
                <a:latin typeface="Courier New"/>
              </a:rPr>
              <a:t>conditi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i="1" lang="en-US" sz="2000" spc="-1" strike="noStrike">
                <a:solidFill>
                  <a:srgbClr val="009999"/>
                </a:solidFill>
                <a:latin typeface="Courier New"/>
              </a:rPr>
              <a:t>statement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i="1" lang="en-US" sz="2000" spc="-1" strike="noStrike">
                <a:solidFill>
                  <a:srgbClr val="009999"/>
                </a:solidFill>
                <a:latin typeface="Courier New"/>
              </a:rPr>
              <a:t>statement2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90720" y="3886200"/>
            <a:ext cx="78483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the </a:t>
            </a:r>
            <a:r>
              <a:rPr b="1" i="1" lang="en-US" sz="2400" spc="-1" strike="noStrike">
                <a:solidFill>
                  <a:srgbClr val="009999"/>
                </a:solidFill>
                <a:latin typeface="Courier New"/>
              </a:rPr>
              <a:t>condi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true, </a:t>
            </a:r>
            <a:r>
              <a:rPr b="1" i="1" lang="en-US" sz="2400" spc="-1" strike="noStrike">
                <a:solidFill>
                  <a:srgbClr val="009999"/>
                </a:solidFill>
                <a:latin typeface="Courier New"/>
              </a:rPr>
              <a:t>statement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executed;  if the condition is false, </a:t>
            </a:r>
            <a:r>
              <a:rPr b="1" i="1" lang="en-US" sz="2400" spc="-1" strike="noStrike">
                <a:solidFill>
                  <a:srgbClr val="009999"/>
                </a:solidFill>
                <a:latin typeface="Courier New"/>
              </a:rPr>
              <a:t>statement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execu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or the other will be executed, but not bo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ages.java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(page 2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91629-D69F-4392-B1DD-2DC3E14D9FA8}" type="slidenum">
              <a:t>20</a:t>
            </a:fld>
          </a:p>
        </p:txBody>
      </p:sp>
    </p:spTree>
  </p:cSld>
  <p:transition>
    <p:wheel spokes="1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Logic of an if-else statement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3048120" y="1294920"/>
            <a:ext cx="2057400" cy="1752840"/>
            <a:chOff x="3048120" y="1294920"/>
            <a:chExt cx="2057400" cy="1752840"/>
          </a:xfrm>
        </p:grpSpPr>
        <p:sp>
          <p:nvSpPr>
            <p:cNvPr id="161" name=""/>
            <p:cNvSpPr/>
            <p:nvPr/>
          </p:nvSpPr>
          <p:spPr>
            <a:xfrm>
              <a:off x="3048120" y="1981080"/>
              <a:ext cx="2057400" cy="1066680"/>
            </a:xfrm>
            <a:prstGeom prst="diamond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14240" y="2177280"/>
              <a:ext cx="1323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cond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evaluat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3" name=""/>
            <p:cNvCxnSpPr/>
            <p:nvPr/>
          </p:nvCxnSpPr>
          <p:spPr>
            <a:xfrm>
              <a:off x="4076640" y="1294920"/>
              <a:ext cx="1080" cy="686520"/>
            </a:xfrm>
            <a:prstGeom prst="straightConnector1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</p:cxnSp>
      </p:grpSp>
      <p:cxnSp>
        <p:nvCxnSpPr>
          <p:cNvPr id="164" name=""/>
          <p:cNvCxnSpPr/>
          <p:nvPr/>
        </p:nvCxnSpPr>
        <p:spPr>
          <a:xfrm>
            <a:off x="4076280" y="4328640"/>
            <a:ext cx="1080" cy="108180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triangle" w="lg"/>
          </a:ln>
        </p:spPr>
      </p:cxnSp>
      <p:grpSp>
        <p:nvGrpSpPr>
          <p:cNvPr id="165" name=""/>
          <p:cNvGrpSpPr/>
          <p:nvPr/>
        </p:nvGrpSpPr>
        <p:grpSpPr>
          <a:xfrm>
            <a:off x="3276720" y="3048120"/>
            <a:ext cx="1600200" cy="1295280"/>
            <a:chOff x="3276720" y="3048120"/>
            <a:chExt cx="1600200" cy="1295280"/>
          </a:xfrm>
        </p:grpSpPr>
        <p:sp>
          <p:nvSpPr>
            <p:cNvPr id="166" name=""/>
            <p:cNvSpPr/>
            <p:nvPr/>
          </p:nvSpPr>
          <p:spPr>
            <a:xfrm>
              <a:off x="3276720" y="3962520"/>
              <a:ext cx="1600200" cy="38088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324240" y="3961800"/>
              <a:ext cx="150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statement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8" name=""/>
            <p:cNvCxnSpPr>
              <a:stCxn id="161" idx="2"/>
              <a:endCxn id="166" idx="0"/>
            </p:cNvCxnSpPr>
            <p:nvPr/>
          </p:nvCxnSpPr>
          <p:spPr>
            <a:xfrm>
              <a:off x="4076280" y="3048120"/>
              <a:ext cx="1080" cy="915120"/>
            </a:xfrm>
            <a:prstGeom prst="straightConnector1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</p:cxnSp>
        <p:sp>
          <p:nvSpPr>
            <p:cNvPr id="169" name=""/>
            <p:cNvSpPr/>
            <p:nvPr/>
          </p:nvSpPr>
          <p:spPr>
            <a:xfrm>
              <a:off x="4094280" y="3276000"/>
              <a:ext cx="669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Arial Unicode MS"/>
                </a:rPr>
                <a:t>tr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70" name=""/>
          <p:cNvCxnSpPr>
            <a:stCxn id="171" idx="2"/>
          </p:cNvCxnSpPr>
          <p:nvPr/>
        </p:nvCxnSpPr>
        <p:spPr>
          <a:xfrm rot="5400000">
            <a:off x="4774320" y="3668760"/>
            <a:ext cx="548640" cy="1869120"/>
          </a:xfrm>
          <a:prstGeom prst="bentConnector2">
            <a:avLst/>
          </a:prstGeom>
          <a:ln w="31680">
            <a:solidFill>
              <a:srgbClr val="ff0000"/>
            </a:solidFill>
            <a:miter/>
          </a:ln>
        </p:spPr>
      </p:cxnSp>
      <p:grpSp>
        <p:nvGrpSpPr>
          <p:cNvPr id="172" name=""/>
          <p:cNvGrpSpPr/>
          <p:nvPr/>
        </p:nvGrpSpPr>
        <p:grpSpPr>
          <a:xfrm>
            <a:off x="5105520" y="2514600"/>
            <a:ext cx="1676160" cy="1828800"/>
            <a:chOff x="5105520" y="2514600"/>
            <a:chExt cx="1676160" cy="1828800"/>
          </a:xfrm>
        </p:grpSpPr>
        <p:sp>
          <p:nvSpPr>
            <p:cNvPr id="173" name=""/>
            <p:cNvSpPr/>
            <p:nvPr/>
          </p:nvSpPr>
          <p:spPr>
            <a:xfrm>
              <a:off x="5987160" y="3276000"/>
              <a:ext cx="72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Arial Unicode MS"/>
                </a:rPr>
                <a:t>fal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4" name=""/>
            <p:cNvCxnSpPr>
              <a:endCxn id="171" idx="0"/>
            </p:cNvCxnSpPr>
            <p:nvPr/>
          </p:nvCxnSpPr>
          <p:spPr>
            <a:xfrm flipH="1" rot="16200000">
              <a:off x="4820400" y="2799360"/>
              <a:ext cx="1448640" cy="878400"/>
            </a:xfrm>
            <a:prstGeom prst="bentConnector3">
              <a:avLst>
                <a:gd name="adj1" fmla="val 0"/>
              </a:avLst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</p:cxnSp>
        <p:grpSp>
          <p:nvGrpSpPr>
            <p:cNvPr id="175" name=""/>
            <p:cNvGrpSpPr/>
            <p:nvPr/>
          </p:nvGrpSpPr>
          <p:grpSpPr>
            <a:xfrm>
              <a:off x="5181480" y="3961800"/>
              <a:ext cx="1600200" cy="381600"/>
              <a:chOff x="5181480" y="3961800"/>
              <a:chExt cx="1600200" cy="381600"/>
            </a:xfrm>
          </p:grpSpPr>
          <p:sp>
            <p:nvSpPr>
              <p:cNvPr id="176" name=""/>
              <p:cNvSpPr/>
              <p:nvPr/>
            </p:nvSpPr>
            <p:spPr>
              <a:xfrm>
                <a:off x="5181480" y="3962520"/>
                <a:ext cx="1600200" cy="380880"/>
              </a:xfrm>
              <a:prstGeom prst="rect">
                <a:avLst/>
              </a:prstGeom>
              <a:solidFill>
                <a:srgbClr val="ff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229360" y="3961800"/>
                <a:ext cx="1508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Unicode MS"/>
                  </a:rPr>
                  <a:t>statement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913FF-E26C-4CBC-9A17-0CC14CBCE678}" type="slidenum">
              <a:t>21</a:t>
            </a:fld>
          </a:p>
        </p:txBody>
      </p:sp>
    </p:spTree>
  </p:cSld>
  <p:transition>
    <p:wheel spokes="1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The Coin Clas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's examine a class that represents a coin that can be flipp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ance data is used to indicate which face (heads or tails) is currently show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oinFlip.ja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page 213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oin.ja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page 214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BE243-E8DF-4800-9324-E77F46CC4D72}" type="slidenum">
              <a:t>22</a:t>
            </a:fld>
          </a:p>
        </p:txBody>
      </p:sp>
    </p:spTree>
  </p:cSld>
  <p:transition>
    <p:wheel spokes="1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Indentation Revisited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member that indentation is for the human reader, and is ignored by the compu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135520" y="2437200"/>
            <a:ext cx="5362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total &gt; MA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 ("Error!!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rrorCount++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752480" y="4114800"/>
            <a:ext cx="6096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Despite what is implied by the indentation, the increment will occur whether the condition is true or 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76720" y="2209680"/>
            <a:ext cx="1828800" cy="1600200"/>
          </a:xfrm>
          <a:prstGeom prst="noSmoking">
            <a:avLst>
              <a:gd name="adj" fmla="val 8407"/>
            </a:avLst>
          </a:prstGeom>
          <a:gradFill rotWithShape="0">
            <a:gsLst>
              <a:gs pos="0">
                <a:srgbClr val="ff0000">
                  <a:alpha val="40000"/>
                </a:srgbClr>
              </a:gs>
              <a:gs pos="100000">
                <a:srgbClr val="75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39EFC-11C1-45BC-B5C2-96041D6279DE}" type="slidenum">
              <a:t>23</a:t>
            </a:fld>
          </a:p>
        </p:txBody>
      </p:sp>
    </p:spTree>
  </p:cSld>
  <p:transition>
    <p:wheel spokes="1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Block Statement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statements can be grouped together into 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lock statemen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limited by bra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block statement can be used wherever a statement is called for in the Java syntax ru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287800" y="3427920"/>
            <a:ext cx="5362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total &gt; MA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 ("Error!!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rrorCount++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51EFC-A1F0-4078-9717-62B662CC6BA9}" type="slidenum">
              <a:t>24</a:t>
            </a:fld>
          </a:p>
        </p:txBody>
      </p:sp>
    </p:spTree>
  </p:cSld>
  <p:transition>
    <p:wheel spokes="1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Block Statement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792468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-el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tatement,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ortion, or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ortion, or both, could be block state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906560" y="2284560"/>
            <a:ext cx="65815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total &gt; MA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 ("Error!!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rrorCount++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 ("Total: " + total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urrent = total*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90720" y="5638680"/>
            <a:ext cx="79246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Guessing.ja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page 2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DF45A-4A44-4710-89A3-CA5C22C0901E}" type="slidenum">
              <a:t>25</a:t>
            </a:fld>
          </a:p>
        </p:txBody>
      </p:sp>
    </p:spTree>
  </p:cSld>
  <p:transition>
    <p:wheel spokes="1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The Conditional Operator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va has 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nditional operat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at uses a boolean condition to determine which of two expressions is evalua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s syntax i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99"/>
                </a:solidFill>
                <a:latin typeface="Courier New"/>
              </a:rPr>
              <a:t>condi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? </a:t>
            </a:r>
            <a:r>
              <a:rPr b="1" i="1" lang="en-US" sz="2400" spc="-1" strike="noStrike">
                <a:solidFill>
                  <a:srgbClr val="009999"/>
                </a:solidFill>
                <a:latin typeface="Courier New"/>
              </a:rPr>
              <a:t>expression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i="1" lang="en-US" sz="2400" spc="-1" strike="noStrike">
                <a:solidFill>
                  <a:srgbClr val="009999"/>
                </a:solidFill>
                <a:latin typeface="Courier New"/>
              </a:rPr>
              <a:t>expression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the </a:t>
            </a:r>
            <a:r>
              <a:rPr b="1" i="1" lang="en-US" sz="2400" spc="-1" strike="noStrike">
                <a:solidFill>
                  <a:srgbClr val="009999"/>
                </a:solidFill>
                <a:latin typeface="Courier New"/>
              </a:rPr>
              <a:t>condi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true, </a:t>
            </a:r>
            <a:r>
              <a:rPr b="1" i="1" lang="en-US" sz="2400" spc="-1" strike="noStrike">
                <a:solidFill>
                  <a:srgbClr val="009999"/>
                </a:solidFill>
                <a:latin typeface="Courier New"/>
              </a:rPr>
              <a:t>expression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evaluated;  if it is false, </a:t>
            </a:r>
            <a:r>
              <a:rPr b="1" i="1" lang="en-US" sz="2400" spc="-1" strike="noStrike">
                <a:solidFill>
                  <a:srgbClr val="009999"/>
                </a:solidFill>
                <a:latin typeface="Courier New"/>
              </a:rPr>
              <a:t>expression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evalua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value of the entire conditional operator is the value of the selected expres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60113-BDDC-4BE4-A154-12B950978D41}" type="slidenum">
              <a:t>26</a:t>
            </a:fld>
          </a:p>
        </p:txBody>
      </p:sp>
    </p:spTree>
  </p:cSld>
  <p:transition>
    <p:wheel spokes="1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The Conditional Operator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onditional operator is similar to 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-el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tatement, except that it is an expression that returns a val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arger = ((num1 &gt; num2) ? num1 : num2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um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great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um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he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um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assigned 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arg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 otherwise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um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assigned 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arg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onditional operator i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ernar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ecause it requires three operan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5C75D-BAA1-42D7-A685-4C7145A8A7A3}" type="slidenum">
              <a:t>27</a:t>
            </a:fld>
          </a:p>
        </p:txBody>
      </p:sp>
    </p:spTree>
  </p:cSld>
  <p:transition>
    <p:wheel spokes="1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The Conditional Operator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76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190512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 ("Your change is " + count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(count == 1) ? "Dime" : "Dimes"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276720"/>
            <a:ext cx="79246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u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quals 1, the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"Dime"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pri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u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anything other than 1, the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"Dimes"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pri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ECD0F-B61F-4520-8CF3-297A89B0B2A7}" type="slidenum">
              <a:t>28</a:t>
            </a:fld>
          </a:p>
        </p:txBody>
      </p:sp>
    </p:spTree>
  </p:cSld>
  <p:transition>
    <p:wheel spokes="1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Nested if Statement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atement executed as a result of 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tatement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lause could be anoth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tat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se are calle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ested if state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inOfThree.ja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page 219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lause is matched to the last unmatche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no matter what the indentation implie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aces can be used to specify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tatement to which 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lause belong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 algn="ctr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1F499-F963-4247-A065-CA1B824A0A11}" type="slidenum">
              <a:t>29</a:t>
            </a:fld>
          </a:p>
        </p:txBody>
      </p:sp>
    </p:spTree>
  </p:cSld>
  <p:transition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665800" y="1163520"/>
            <a:ext cx="50346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tatement and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 Conditional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ing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tat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e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 Repetition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isions and Graph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r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828800" y="122076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E734D-4414-4000-8C19-84A3109ED16A}" type="slidenum">
              <a:t>3</a:t>
            </a:fld>
          </a:p>
        </p:txBody>
      </p:sp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The switch Statement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witch statem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rovides another way to decide which statement to execute nex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witc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tatement evaluates an expression, then attempts to match the result to one of several possibl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a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case contains a value and a list of state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low of control transfers to statement associated with the first case value that match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8B943-043B-40B0-B538-CE7A436C9C6B}" type="slidenum">
              <a:t>30</a:t>
            </a:fld>
          </a:p>
        </p:txBody>
      </p:sp>
    </p:spTree>
  </p:cSld>
  <p:transition>
    <p:wheel spokes="1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The switch Statement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64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eneral syntax of 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witc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tatement i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865600" y="2055960"/>
            <a:ext cx="33811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tch ( </a:t>
            </a:r>
            <a:r>
              <a:rPr b="1" i="1" lang="en-US" sz="2000" spc="-1" strike="noStrike">
                <a:solidFill>
                  <a:srgbClr val="009999"/>
                </a:solidFill>
                <a:latin typeface="Courier New"/>
              </a:rPr>
              <a:t>expressi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i="1" lang="en-US" sz="2000" spc="-1" strike="noStrike">
                <a:solidFill>
                  <a:srgbClr val="009999"/>
                </a:solidFill>
                <a:latin typeface="Courier New"/>
              </a:rPr>
              <a:t>value1</a:t>
            </a:r>
            <a:r>
              <a:rPr b="1" i="1" lang="en-US" sz="2000" spc="-1" strike="noStrike">
                <a:solidFill>
                  <a:srgbClr val="ffff99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i="1" lang="en-US" sz="2000" spc="-1" strike="noStrike">
                <a:solidFill>
                  <a:srgbClr val="009999"/>
                </a:solidFill>
                <a:latin typeface="Courier New"/>
              </a:rPr>
              <a:t>statement-lis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i="1" lang="en-US" sz="2000" spc="-1" strike="noStrike">
                <a:solidFill>
                  <a:srgbClr val="009999"/>
                </a:solidFill>
                <a:latin typeface="Courier New"/>
              </a:rPr>
              <a:t>value2</a:t>
            </a:r>
            <a:r>
              <a:rPr b="1" i="1" lang="en-US" sz="2000" spc="-1" strike="noStrike">
                <a:solidFill>
                  <a:srgbClr val="ffff99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i="1" lang="en-US" sz="2000" spc="-1" strike="noStrike">
                <a:solidFill>
                  <a:srgbClr val="009999"/>
                </a:solidFill>
                <a:latin typeface="Courier New"/>
              </a:rPr>
              <a:t>statement-lis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000" spc="-1" strike="noStrike">
                <a:solidFill>
                  <a:srgbClr val="009999"/>
                </a:solidFill>
                <a:latin typeface="Courier New"/>
              </a:rPr>
              <a:t>value3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9999"/>
                </a:solidFill>
                <a:latin typeface="Courier New"/>
              </a:rPr>
              <a:t>statement-list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se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9999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1009440" y="2040480"/>
            <a:ext cx="1810080" cy="1923480"/>
            <a:chOff x="1009440" y="2040480"/>
            <a:chExt cx="1810080" cy="1923480"/>
          </a:xfrm>
        </p:grpSpPr>
        <p:sp>
          <p:nvSpPr>
            <p:cNvPr id="207" name=""/>
            <p:cNvSpPr/>
            <p:nvPr/>
          </p:nvSpPr>
          <p:spPr>
            <a:xfrm>
              <a:off x="1009440" y="2040480"/>
              <a:ext cx="129780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switc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Arial Unicode MS"/>
                </a:rPr>
                <a:t>a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c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Arial Unicode MS"/>
                </a:rPr>
                <a:t>a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Arial Unicode MS"/>
                </a:rPr>
                <a:t>reserv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Arial Unicode MS"/>
                </a:rPr>
                <a:t>word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057400" y="2819520"/>
              <a:ext cx="76212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2057400" y="2514240"/>
              <a:ext cx="685800" cy="30492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543360" y="3733560"/>
            <a:ext cx="2323440" cy="1770120"/>
            <a:chOff x="6543360" y="3733560"/>
            <a:chExt cx="2323440" cy="1770120"/>
          </a:xfrm>
        </p:grpSpPr>
        <p:sp>
          <p:nvSpPr>
            <p:cNvPr id="211" name=""/>
            <p:cNvSpPr/>
            <p:nvPr/>
          </p:nvSpPr>
          <p:spPr>
            <a:xfrm>
              <a:off x="6543360" y="4190040"/>
              <a:ext cx="23234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Arial Unicode MS"/>
                </a:rPr>
                <a:t>If </a:t>
              </a:r>
              <a:r>
                <a:rPr b="1" i="1" lang="en-US" sz="2000" spc="-1" strike="noStrike">
                  <a:solidFill>
                    <a:srgbClr val="009999"/>
                  </a:solidFill>
                  <a:latin typeface="Courier New"/>
                </a:rPr>
                <a:t>express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Arial Unicode MS"/>
                </a:rPr>
                <a:t>matches </a:t>
              </a:r>
              <a:r>
                <a:rPr b="1" i="1" lang="en-US" sz="2000" spc="-1" strike="noStrike">
                  <a:solidFill>
                    <a:srgbClr val="009999"/>
                  </a:solidFill>
                  <a:latin typeface="Courier New"/>
                </a:rPr>
                <a:t>value2</a:t>
              </a:r>
              <a:r>
                <a:rPr b="1" lang="en-US" sz="2000" spc="-1" strike="noStrike">
                  <a:solidFill>
                    <a:srgbClr val="009999"/>
                  </a:solidFill>
                  <a:latin typeface="Arial Unicode MS"/>
                </a:rPr>
                <a:t>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Arial Unicode MS"/>
                </a:rPr>
                <a:t>control jump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Arial Unicode MS"/>
                </a:rPr>
                <a:t>to he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2" name=""/>
            <p:cNvCxnSpPr>
              <a:stCxn id="211" idx="0"/>
            </p:cNvCxnSpPr>
            <p:nvPr/>
          </p:nvCxnSpPr>
          <p:spPr>
            <a:xfrm flipV="1" rot="16200000">
              <a:off x="6796440" y="3489480"/>
              <a:ext cx="457920" cy="945360"/>
            </a:xfrm>
            <a:prstGeom prst="bentConnector2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9038A-1625-4ADB-9519-E587B234B1EA}" type="slidenum">
              <a:t>31</a:t>
            </a:fld>
          </a:p>
        </p:txBody>
      </p:sp>
    </p:spTree>
  </p:cSld>
  <p:transition>
    <p:wheel spokes="1"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The switch Statement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ten 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reak statem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used as the last statement in each case's statement li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tatement causes control to transfer to the end of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witc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tat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tatement is not used, the flow of control will continue into the next ca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times this may be appropriate, but often we want to execute only the statements associated with one ca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1B925-27C6-4426-8642-4B5AB5DBB086}" type="slidenum">
              <a:t>32</a:t>
            </a:fld>
          </a:p>
        </p:txBody>
      </p:sp>
    </p:spTree>
  </p:cSld>
  <p:transition>
    <p:wheel spokes="1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The switch Statement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202200" y="1903320"/>
            <a:ext cx="2466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tch (op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se 'A'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Count++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se 'B'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Count++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se 'C'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Count++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example of a switch statemen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BC310-AF81-42AA-847C-FBB52231E255}" type="slidenum">
              <a:t>33</a:t>
            </a:fld>
          </a:p>
        </p:txBody>
      </p:sp>
    </p:spTree>
  </p:cSld>
  <p:transition>
    <p:wheel spokes="1"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The switch Statement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witc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tatement can have an optional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efault ca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default case has no associated value and simply uses the reserved wor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au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the default case is present, control will transfer to it if no other case value match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there is no default case, and no other value matches, control falls through to the statement after the swit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5EC4D-9236-4FBD-BD20-0839AA90786F}" type="slidenum">
              <a:t>34</a:t>
            </a:fld>
          </a:p>
        </p:txBody>
      </p:sp>
    </p:spTree>
  </p:cSld>
  <p:transition>
    <p:wheel spokes="1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The switch Statement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xpression of 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witc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tatement must result in a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tegral typ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meaning 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a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cannot be 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value, a floating point value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loa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, or another integer typ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implicit boolean condition in 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witc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tatement is equa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cannot perform relational checks with 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witc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tat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GradeReport.java (page 225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E160B-E20D-47AE-BB0B-5D63BA78E30C}" type="slidenum">
              <a:t>35</a:t>
            </a:fld>
          </a:p>
        </p:txBody>
      </p:sp>
    </p:spTree>
  </p:cSld>
  <p:transition>
    <p:wheel spokes="1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665800" y="1163520"/>
            <a:ext cx="50346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tatement and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 Conditional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ing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tat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e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 Repetition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isions and Graph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r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828800" y="2362320"/>
            <a:ext cx="685800" cy="304560"/>
          </a:xfrm>
          <a:prstGeom prst="rightArrow">
            <a:avLst>
              <a:gd name="adj1" fmla="val 50000"/>
              <a:gd name="adj2" fmla="val 56294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FFB6B-0AD2-45FD-9255-8891FFE29203}" type="slidenum">
              <a:t>36</a:t>
            </a:fld>
          </a:p>
        </p:txBody>
      </p:sp>
    </p:spTree>
  </p:cSld>
  <p:transition>
    <p:wheel spokes="1"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Comparing Data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comparing data using boolean expressions, it's important to understand the nuances of certain data typ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's examine some key situ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ng floating point values for equ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ng charac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ng strings (alphabetical order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ng object vs. comparing object re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BAA75-F7ED-4AF7-B82D-4AF7F0663914}" type="slidenum">
              <a:t>37</a:t>
            </a:fld>
          </a:p>
        </p:txBody>
      </p:sp>
    </p:spTree>
  </p:cSld>
  <p:transition>
    <p:wheel spokes="1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Comparing Float Value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should rarely use the equality operator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when comparing two floating point values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loa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 floating point values are equal only if their underlying binary representations match exact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s often result in slight differences that may be irreleva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many situations, you might consider two floating point numbers to be "close enough" even if they aren't exactly equ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24137-3173-4373-B75E-2B0F946E627A}" type="slidenum">
              <a:t>38</a:t>
            </a:fld>
          </a:p>
        </p:txBody>
      </p:sp>
    </p:spTree>
  </p:cSld>
  <p:transition>
    <p:wheel spokes="1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Comparing Float Value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79246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determine the equality of two floats, you may want to use the following techniqu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449360" y="2361240"/>
            <a:ext cx="6886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Math.abs(f1 - f2) &lt; TOLERAN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 ("Essentially equal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66680" y="3429000"/>
            <a:ext cx="792504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the difference between the two floating point values is less than the tolerance, they are considered to be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olerance could be set to any appropriate level, such as 0.000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FE457-9E94-477D-AC7B-B8BCF2D616BD}" type="slidenum">
              <a:t>39</a:t>
            </a:fld>
          </a:p>
        </p:txBody>
      </p:sp>
    </p:spTree>
  </p:cSld>
  <p:transition>
    <p:wheel spokes="1"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Flow of Control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90360" y="114300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less specified otherwise, the order of statement execution through a method is linear: one statement after another in sequ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programming statements allow us t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cide whether or not to execute a particular stat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ecute a statement over and over, repetitive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se decisions are based o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oolean express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or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ndi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that evaluate to true or fal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rder of statement execution is called 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low of contro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1F9C8-99EF-4CB8-A321-AC1118D3AAA2}" type="slidenum">
              <a:t>4</a:t>
            </a:fld>
          </a:p>
        </p:txBody>
      </p:sp>
    </p:spTree>
  </p:cSld>
  <p:transition>
    <p:wheel spokes="1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Comparing Character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 we've discussed, Java character data is based on the Unicode character s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code establishes a particular numeric value for each character, and therefore an order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can use relational operators on character data based on this order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example, the charact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'+'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less than the character '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J'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ecause it comes before it in the Unicode character s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endix C provides an overview of Unic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264A6-8E6E-420F-B446-4E036B2F2C99}" type="slidenum">
              <a:t>40</a:t>
            </a:fld>
          </a:p>
        </p:txBody>
      </p:sp>
    </p:spTree>
  </p:cSld>
  <p:transition>
    <p:wheel spokes="1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Comparing Character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Unicode, the digit characters (0-9) are contiguous and in ord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kewise, the uppercase letters (A-Z) and lowercase letters (a-z) are contiguous and in ord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2514600" y="3505320"/>
          <a:ext cx="4343400" cy="158112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ract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code Valu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– 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 through 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– 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 through 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– 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 through 1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0CAE0-E58A-4A4F-8751-DF02B503A1D5}" type="slidenum">
              <a:t>41</a:t>
            </a:fld>
          </a:p>
        </p:txBody>
      </p:sp>
    </p:spTree>
  </p:cSld>
  <p:transition>
    <p:wheel spokes="1"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Comparing String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90360" y="1142640"/>
            <a:ext cx="79246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member that in Java a character string is an obj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ethod can be called with strings to determine if two strings contain exactly the same characters in the same ord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ethod returns a boolean resu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059200" y="4342320"/>
            <a:ext cx="5667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name1.equals(name2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 ("Same name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65912-806B-4E94-A2A6-71C7F7426355}" type="slidenum">
              <a:t>42</a:t>
            </a:fld>
          </a:p>
        </p:txBody>
      </p:sp>
    </p:spTree>
  </p:cSld>
  <p:transition>
    <p:wheel spokes="1"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Comparing String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cannot use the relational operators to compare string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lass contains a method calle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determine if one string comes before anoth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call 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ame1.compareTo(name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8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urns zero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ame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ame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re equal (contain the same character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8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urns a negative value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ame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less th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ame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8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urns a positive value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ame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greater th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ame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8A61C-8C14-46EB-B4C1-33C1348DE233}" type="slidenum">
              <a:t>43</a:t>
            </a:fld>
          </a:p>
        </p:txBody>
      </p:sp>
    </p:spTree>
  </p:cSld>
  <p:transition>
    <p:wheel spokes="1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Comparing String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221120" y="1370160"/>
            <a:ext cx="7648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name1.compareTo(name2) &lt;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 (name1 + "comes first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name1.compareTo(name2) ==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 ("Same name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 (name2 + "comes first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066680" y="4114800"/>
            <a:ext cx="79250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cause comparing characters and strings is based on a character set, it is called 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exicographic ord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3D050-1AAA-4FF6-A64A-870901E099A3}" type="slidenum">
              <a:t>44</a:t>
            </a:fld>
          </a:p>
        </p:txBody>
      </p:sp>
    </p:spTree>
  </p:cSld>
  <p:transition>
    <p:wheel spokes="1"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Lexicographic Ordering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90360" y="1143000"/>
            <a:ext cx="784836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xicographic ordering is not strictly alphabetical when uppercase and lowercase characters are mix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example, the string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"Great"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omes before the string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"fantastic"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ecause all of the uppercase letters come before all of the lowercase letters in Unic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so, short strings come before longer strings with the same prefix (lexicographically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for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"book"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omes befor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"bookcase"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A697E-36D0-4400-AC93-EAA3B96CE3AB}" type="slidenum">
              <a:t>45</a:t>
            </a:fld>
          </a:p>
        </p:txBody>
      </p:sp>
    </p:spTree>
  </p:cSld>
  <p:transition>
    <p:wheel spokes="1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Comparing Object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== operator can be applied to objects – it returns true if the two references are aliases of each oth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ethod is defined for all objects, but unless we redefine it when we write a class, it has the same semantics as the == operat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has been redefined in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lass to compare the characters in the two string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you write a class, you can redefine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ethod to return true under whatever conditions are appropri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DCF8F-85BF-4F07-8EC4-A8E43DA6332A}" type="slidenum">
              <a:t>46</a:t>
            </a:fld>
          </a:p>
        </p:txBody>
      </p:sp>
    </p:spTree>
  </p:cSld>
  <p:transition>
    <p:wheel spokes="1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665800" y="1163520"/>
            <a:ext cx="50346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tatement and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 Conditional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ing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tat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e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 Repetition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isions and Graph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r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828800" y="289548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53ECE-9B19-40A2-8467-4ACC64DE0D20}" type="slidenum">
              <a:t>47</a:t>
            </a:fld>
          </a:p>
        </p:txBody>
      </p:sp>
    </p:spTree>
  </p:cSld>
  <p:transition>
    <p:wheel spokes="1"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Repetition Statement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petition statemen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llow us to execute a statement multiple tim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ten they are referred to a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oo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ke conditional statements, they are controlled by boolean express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va has three kinds of repetition statement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hile loo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o loo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or loo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rogrammer should choose the right kind of loop for the situ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8F8A9-AF64-4781-9B63-730DAFAAA855}" type="slidenum">
              <a:t>48</a:t>
            </a:fld>
          </a:p>
        </p:txBody>
      </p:sp>
    </p:spTree>
  </p:cSld>
  <p:transition>
    <p:wheel spokes="1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The while Statement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7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hile statem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as the following syntax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048120" y="1995480"/>
            <a:ext cx="365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hile ( </a:t>
            </a:r>
            <a:r>
              <a:rPr b="1" i="1" lang="en-US" sz="2400" spc="-1" strike="noStrike">
                <a:solidFill>
                  <a:srgbClr val="009999"/>
                </a:solidFill>
                <a:latin typeface="Courier New"/>
              </a:rPr>
              <a:t>condi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i="1" lang="en-US" sz="2400" spc="-1" strike="noStrike">
                <a:solidFill>
                  <a:srgbClr val="009999"/>
                </a:solidFill>
                <a:latin typeface="Courier New"/>
              </a:rPr>
              <a:t>stateme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990720" y="3124080"/>
            <a:ext cx="792468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the </a:t>
            </a:r>
            <a:r>
              <a:rPr b="1" lang="en-US" sz="2400" spc="-1" strike="noStrike">
                <a:solidFill>
                  <a:srgbClr val="009999"/>
                </a:solidFill>
                <a:latin typeface="Courier New"/>
              </a:rPr>
              <a:t>condi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true, the </a:t>
            </a:r>
            <a:r>
              <a:rPr b="1" lang="en-US" sz="2400" spc="-1" strike="noStrike">
                <a:solidFill>
                  <a:srgbClr val="009999"/>
                </a:solidFill>
                <a:latin typeface="Courier New"/>
              </a:rPr>
              <a:t>statem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execu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n the condition is evaluated again, and if it is still true, the statement is executed a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atement is executed repeatedly until the condition becomes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41325-11AC-4FC4-9E85-2612E46332D2}" type="slidenum">
              <a:t>49</a:t>
            </a:fld>
          </a:p>
        </p:txBody>
      </p:sp>
    </p:spTree>
  </p:cSld>
  <p:transition>
    <p:wheel spokes="1"/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Conditional Statement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1219320"/>
            <a:ext cx="769608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nditional statem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ets us choose which statement will be executed nex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fore they are sometimes calle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election state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ditional statements give us the power to make basic decis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Java conditional statements are th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f stat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f-else stat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witch stat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72CB1-1311-440E-AD1C-D7CB7C63546B}" type="slidenum">
              <a:t>5</a:t>
            </a:fld>
          </a:p>
        </p:txBody>
      </p:sp>
    </p:spTree>
  </p:cSld>
  <p:transition>
    <p:wheel spokes="1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Logic of a while Loop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3768840" y="3124080"/>
            <a:ext cx="1600200" cy="1295640"/>
            <a:chOff x="3768840" y="3124080"/>
            <a:chExt cx="1600200" cy="1295640"/>
          </a:xfrm>
        </p:grpSpPr>
        <p:grpSp>
          <p:nvGrpSpPr>
            <p:cNvPr id="261" name=""/>
            <p:cNvGrpSpPr/>
            <p:nvPr/>
          </p:nvGrpSpPr>
          <p:grpSpPr>
            <a:xfrm>
              <a:off x="3768840" y="4037760"/>
              <a:ext cx="1600200" cy="381960"/>
              <a:chOff x="3768840" y="4037760"/>
              <a:chExt cx="1600200" cy="381960"/>
            </a:xfrm>
          </p:grpSpPr>
          <p:sp>
            <p:nvSpPr>
              <p:cNvPr id="262" name=""/>
              <p:cNvSpPr/>
              <p:nvPr/>
            </p:nvSpPr>
            <p:spPr>
              <a:xfrm>
                <a:off x="3768840" y="4038480"/>
                <a:ext cx="1600200" cy="381240"/>
              </a:xfrm>
              <a:prstGeom prst="rect">
                <a:avLst/>
              </a:prstGeom>
              <a:solidFill>
                <a:srgbClr val="ff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881520" y="4037760"/>
                <a:ext cx="1377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Unicode MS"/>
                  </a:rPr>
                  <a:t>stat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64" name=""/>
            <p:cNvCxnSpPr>
              <a:stCxn id="265" idx="2"/>
              <a:endCxn id="262" idx="0"/>
            </p:cNvCxnSpPr>
            <p:nvPr/>
          </p:nvCxnSpPr>
          <p:spPr>
            <a:xfrm>
              <a:off x="4568760" y="3124080"/>
              <a:ext cx="1080" cy="915120"/>
            </a:xfrm>
            <a:prstGeom prst="straightConnector1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</p:cxnSp>
        <p:sp>
          <p:nvSpPr>
            <p:cNvPr id="266" name=""/>
            <p:cNvSpPr/>
            <p:nvPr/>
          </p:nvSpPr>
          <p:spPr>
            <a:xfrm>
              <a:off x="4586760" y="3351960"/>
              <a:ext cx="669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Arial Unicode MS"/>
                </a:rPr>
                <a:t>tr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67" name=""/>
          <p:cNvCxnSpPr>
            <a:stCxn id="262" idx="1"/>
            <a:endCxn id="265" idx="1"/>
          </p:cNvCxnSpPr>
          <p:nvPr/>
        </p:nvCxnSpPr>
        <p:spPr>
          <a:xfrm rot="10800000">
            <a:off x="3539520" y="2590200"/>
            <a:ext cx="229320" cy="1639080"/>
          </a:xfrm>
          <a:prstGeom prst="bentConnector3">
            <a:avLst>
              <a:gd name="adj1" fmla="val 250628"/>
            </a:avLst>
          </a:prstGeom>
          <a:ln w="31680">
            <a:solidFill>
              <a:srgbClr val="ff0000"/>
            </a:solidFill>
            <a:miter/>
            <a:tailEnd len="med" type="triangle" w="lg"/>
          </a:ln>
        </p:spPr>
      </p:cxnSp>
      <p:grpSp>
        <p:nvGrpSpPr>
          <p:cNvPr id="268" name=""/>
          <p:cNvGrpSpPr/>
          <p:nvPr/>
        </p:nvGrpSpPr>
        <p:grpSpPr>
          <a:xfrm>
            <a:off x="4508280" y="2590560"/>
            <a:ext cx="1978200" cy="2590560"/>
            <a:chOff x="4508280" y="2590560"/>
            <a:chExt cx="1978200" cy="2590560"/>
          </a:xfrm>
        </p:grpSpPr>
        <p:cxnSp>
          <p:nvCxnSpPr>
            <p:cNvPr id="269" name=""/>
            <p:cNvCxnSpPr>
              <a:stCxn id="265" idx="3"/>
            </p:cNvCxnSpPr>
            <p:nvPr/>
          </p:nvCxnSpPr>
          <p:spPr>
            <a:xfrm flipH="1">
              <a:off x="4508280" y="2590560"/>
              <a:ext cx="1013760" cy="2590920"/>
            </a:xfrm>
            <a:prstGeom prst="bentConnector4">
              <a:avLst>
                <a:gd name="adj1" fmla="val -22557"/>
                <a:gd name="adj2" fmla="val 83449"/>
              </a:avLst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</p:cxnSp>
        <p:sp>
          <p:nvSpPr>
            <p:cNvPr id="270" name=""/>
            <p:cNvSpPr/>
            <p:nvPr/>
          </p:nvSpPr>
          <p:spPr>
            <a:xfrm>
              <a:off x="5758560" y="3301200"/>
              <a:ext cx="72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Arial Unicode MS"/>
                </a:rPr>
                <a:t>fal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3540240" y="1371240"/>
            <a:ext cx="2057400" cy="1752840"/>
            <a:chOff x="3540240" y="1371240"/>
            <a:chExt cx="2057400" cy="1752840"/>
          </a:xfrm>
        </p:grpSpPr>
        <p:cxnSp>
          <p:nvCxnSpPr>
            <p:cNvPr id="272" name=""/>
            <p:cNvCxnSpPr>
              <a:endCxn id="265" idx="0"/>
            </p:cNvCxnSpPr>
            <p:nvPr/>
          </p:nvCxnSpPr>
          <p:spPr>
            <a:xfrm>
              <a:off x="4568760" y="1371240"/>
              <a:ext cx="1080" cy="686520"/>
            </a:xfrm>
            <a:prstGeom prst="straightConnector1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</p:cxnSp>
        <p:grpSp>
          <p:nvGrpSpPr>
            <p:cNvPr id="273" name=""/>
            <p:cNvGrpSpPr/>
            <p:nvPr/>
          </p:nvGrpSpPr>
          <p:grpSpPr>
            <a:xfrm>
              <a:off x="3540240" y="2057400"/>
              <a:ext cx="2057400" cy="1066680"/>
              <a:chOff x="3540240" y="2057400"/>
              <a:chExt cx="2057400" cy="1066680"/>
            </a:xfrm>
          </p:grpSpPr>
          <p:sp>
            <p:nvSpPr>
              <p:cNvPr id="265" name=""/>
              <p:cNvSpPr/>
              <p:nvPr/>
            </p:nvSpPr>
            <p:spPr>
              <a:xfrm>
                <a:off x="3540240" y="2057400"/>
                <a:ext cx="2057400" cy="1066680"/>
              </a:xfrm>
              <a:prstGeom prst="diamond">
                <a:avLst/>
              </a:prstGeom>
              <a:solidFill>
                <a:srgbClr val="ff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908160" y="2269440"/>
                <a:ext cx="1323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Unicode MS"/>
                  </a:rPr>
                  <a:t>condit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Unicode MS"/>
                  </a:rPr>
                  <a:t>evaluate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C2F01-3E03-4558-89A9-A9FC53F2D372}" type="slidenum">
              <a:t>50</a:t>
            </a:fld>
          </a:p>
        </p:txBody>
      </p:sp>
    </p:spTree>
  </p:cSld>
  <p:transition>
    <p:wheel spokes="1"/>
  </p:transition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0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The while Statement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example of a while statemen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287800" y="1903680"/>
            <a:ext cx="4752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count =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 (count &lt;= 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 (coun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nt++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990720" y="4114800"/>
            <a:ext cx="79246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the condition of 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oop is false initially, the statement is never execu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fore, the body of 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oop will execute zero or more 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7D2FF-F41B-433C-BE94-621F2A3E541B}" type="slidenum">
              <a:t>51</a:t>
            </a:fld>
          </a:p>
        </p:txBody>
      </p:sp>
    </p:spTree>
  </p:cSld>
  <p:transition>
    <p:wheel spokes="1"/>
  </p:transition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4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9" dur="5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The while Statement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066680" y="12189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's look at some examples of loop process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loop can be used to maintain 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unning su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entinel val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a special input value that represents the end of inpu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Average.java (page 229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loop can also be used for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put valid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making a program mor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obu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WinPercentage.java (page 23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B80C9-2B4F-4463-B58E-BE308510E1F9}" type="slidenum">
              <a:t>52</a:t>
            </a:fld>
          </a:p>
        </p:txBody>
      </p:sp>
    </p:spTree>
  </p:cSld>
  <p:transition>
    <p:wheel spokes="1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Infinite Loop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body of 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oop eventually must make the condition fal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not, it is called a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finite loo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which will execute until the user interrupts the progra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is a common logical err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should always double check the logic of a program to ensure that your loops will terminate normal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B2680-8E52-4D9B-BE05-1633D6ED395B}" type="slidenum">
              <a:t>53</a:t>
            </a:fld>
          </a:p>
        </p:txBody>
      </p:sp>
    </p:spTree>
  </p:cSld>
  <p:transition>
    <p:wheel spokes="1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Infinite Loop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example of an infinite loop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87800" y="2040480"/>
            <a:ext cx="4752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count =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 (count &lt;= 2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 (coun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nt = count -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990720" y="4343400"/>
            <a:ext cx="792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loop will continue executing until interrupted (Control-C) or until an underflow error occ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6DF49-91F2-4624-9439-3BA60AA48AED}" type="slidenum">
              <a:t>54</a:t>
            </a:fld>
          </a:p>
        </p:txBody>
      </p:sp>
    </p:spTree>
  </p:cSld>
  <p:transition>
    <p:wheel spokes="1"/>
  </p:transition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Nested Loop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ilar to neste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tatements, loops can be nested as wel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at is, the body of a loop can contain another loo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each iteration of the outer loop, the inner loop iterates complete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PalindromeTester.java (page 235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73060-8693-4D04-B001-B4FCF782701C}" type="slidenum">
              <a:t>55</a:t>
            </a:fld>
          </a:p>
        </p:txBody>
      </p:sp>
    </p:spTree>
  </p:cSld>
  <p:transition>
    <p:wheel spokes="1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Nested Loop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many times will the string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"Here"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e printed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135520" y="1903680"/>
            <a:ext cx="53622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nt1 =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 (count1 &lt;= 1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nt2 =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 (count2 &lt;= 2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 ("Here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nt2++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nt1++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335560" y="5029200"/>
            <a:ext cx="200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10 * 20 =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DE560-99D3-4558-9AB6-0F14F98E6C78}" type="slidenum">
              <a:t>56</a:t>
            </a:fld>
          </a:p>
        </p:txBody>
      </p:sp>
    </p:spTree>
  </p:cSld>
  <p:transition>
    <p:wheel spokes="1"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665800" y="1163520"/>
            <a:ext cx="50346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tatement and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 Conditional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ing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tat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e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 Repetition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isions and Graph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r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828800" y="34290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40083-C38A-4224-85F6-5B9ABF542788}" type="slidenum">
              <a:t>57</a:t>
            </a:fld>
          </a:p>
        </p:txBody>
      </p:sp>
    </p:spTree>
  </p:cSld>
  <p:transition>
    <p:wheel spokes="1"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Iterator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terat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an object that allows you to process a collection of items one at a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lets you step through each item in turn and process it as need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iterator object has 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asNex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ethod that returns true if there is at least one more item to pro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x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ethod returns the next it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erator objects are defined using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terat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terface, which is discussed further in Chapter 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C15C3-4395-482E-8CF0-65BE91D742D9}" type="slidenum">
              <a:t>58</a:t>
            </a:fld>
          </a:p>
        </p:txBody>
      </p:sp>
    </p:spTree>
  </p:cSld>
  <p:transition>
    <p:wheel spokes="1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Iterator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classes in the Java standard class library are iterat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lass is an iterat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asNe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ethod returns true if there is more data to be scann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ethod returns the next scanned token as a str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lass also has variations on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asNex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ethod for specific data types (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asNext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CD9F0-5EED-4167-BAC3-3D124EC64D3B}" type="slidenum">
              <a:t>59</a:t>
            </a:fld>
          </a:p>
        </p:txBody>
      </p:sp>
    </p:spTree>
  </p:cSld>
  <p:transition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The if Statement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7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f statem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as the following syntax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524040" y="3488400"/>
            <a:ext cx="26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 </a:t>
            </a:r>
            <a:r>
              <a:rPr b="1" i="1" lang="en-US" sz="2000" spc="-1" strike="noStrike">
                <a:solidFill>
                  <a:srgbClr val="009999"/>
                </a:solidFill>
                <a:latin typeface="Courier New"/>
              </a:rPr>
              <a:t>conditi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i="1" lang="en-US" sz="2000" spc="-1" strike="noStrike">
                <a:solidFill>
                  <a:srgbClr val="009999"/>
                </a:solidFill>
                <a:latin typeface="Courier New"/>
              </a:rPr>
              <a:t>stateme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253160" y="2497680"/>
            <a:ext cx="2193480" cy="991440"/>
            <a:chOff x="1253160" y="2497680"/>
            <a:chExt cx="2193480" cy="991440"/>
          </a:xfrm>
        </p:grpSpPr>
        <p:sp>
          <p:nvSpPr>
            <p:cNvPr id="93" name=""/>
            <p:cNvSpPr/>
            <p:nvPr/>
          </p:nvSpPr>
          <p:spPr>
            <a:xfrm>
              <a:off x="1253160" y="2497680"/>
              <a:ext cx="201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if</a:t>
              </a:r>
              <a:r>
                <a:rPr b="1" lang="en-US" sz="2000" spc="-1" strike="noStrike">
                  <a:solidFill>
                    <a:srgbClr val="009999"/>
                  </a:solidFill>
                  <a:latin typeface="Arial Unicode MS"/>
                </a:rPr>
                <a:t> is a Jav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Arial Unicode MS"/>
                </a:rPr>
                <a:t>reserved wor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913120" y="3260520"/>
              <a:ext cx="533520" cy="22860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4105440" y="1904040"/>
            <a:ext cx="4200480" cy="1509120"/>
            <a:chOff x="4105440" y="1904040"/>
            <a:chExt cx="4200480" cy="1509120"/>
          </a:xfrm>
        </p:grpSpPr>
        <p:sp>
          <p:nvSpPr>
            <p:cNvPr id="96" name=""/>
            <p:cNvSpPr/>
            <p:nvPr/>
          </p:nvSpPr>
          <p:spPr>
            <a:xfrm>
              <a:off x="4105440" y="1904040"/>
              <a:ext cx="42004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Arial Unicode MS"/>
                </a:rPr>
                <a:t>The </a:t>
              </a:r>
              <a:r>
                <a:rPr b="1" i="1" lang="en-US" sz="2000" spc="-1" strike="noStrike">
                  <a:solidFill>
                    <a:srgbClr val="009999"/>
                  </a:solidFill>
                  <a:latin typeface="Courier New"/>
                </a:rPr>
                <a:t>condition</a:t>
              </a:r>
              <a:r>
                <a:rPr b="1" lang="en-US" sz="2000" spc="-1" strike="noStrike">
                  <a:solidFill>
                    <a:srgbClr val="009999"/>
                  </a:solidFill>
                  <a:latin typeface="Arial Unicode MS"/>
                </a:rPr>
                <a:t> must be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Arial Unicode MS"/>
                </a:rPr>
                <a:t>boolean expression. It mu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Arial Unicode MS"/>
                </a:rPr>
                <a:t>evaluate to either true or fals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5092560" y="2955960"/>
              <a:ext cx="152280" cy="45720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1581120" y="4327560"/>
            <a:ext cx="6771960" cy="1235880"/>
            <a:chOff x="1581120" y="4327560"/>
            <a:chExt cx="6771960" cy="1235880"/>
          </a:xfrm>
        </p:grpSpPr>
        <p:sp>
          <p:nvSpPr>
            <p:cNvPr id="99" name=""/>
            <p:cNvSpPr/>
            <p:nvPr/>
          </p:nvSpPr>
          <p:spPr>
            <a:xfrm>
              <a:off x="1581120" y="4859640"/>
              <a:ext cx="6771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Arial Unicode MS"/>
                </a:rPr>
                <a:t>If the </a:t>
              </a:r>
              <a:r>
                <a:rPr b="1" i="1" lang="en-US" sz="2000" spc="-1" strike="noStrike">
                  <a:solidFill>
                    <a:srgbClr val="009999"/>
                  </a:solidFill>
                  <a:latin typeface="Courier New"/>
                </a:rPr>
                <a:t>condition</a:t>
              </a:r>
              <a:r>
                <a:rPr b="1" lang="en-US" sz="2000" spc="-1" strike="noStrike">
                  <a:solidFill>
                    <a:srgbClr val="009999"/>
                  </a:solidFill>
                  <a:latin typeface="Arial Unicode MS"/>
                </a:rPr>
                <a:t> is true, the </a:t>
              </a:r>
              <a:r>
                <a:rPr b="1" i="1" lang="en-US" sz="2000" spc="-1" strike="noStrike">
                  <a:solidFill>
                    <a:srgbClr val="009999"/>
                  </a:solidFill>
                  <a:latin typeface="Courier New"/>
                </a:rPr>
                <a:t>statement</a:t>
              </a:r>
              <a:r>
                <a:rPr b="1" lang="en-US" sz="2000" spc="-1" strike="noStrike">
                  <a:solidFill>
                    <a:srgbClr val="009999"/>
                  </a:solidFill>
                  <a:latin typeface="Arial Unicode MS"/>
                </a:rPr>
                <a:t> is executed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Arial Unicode MS"/>
                </a:rPr>
                <a:t>If it is false, the </a:t>
              </a:r>
              <a:r>
                <a:rPr b="1" i="1" lang="en-US" sz="2000" spc="-1" strike="noStrike">
                  <a:solidFill>
                    <a:srgbClr val="009999"/>
                  </a:solidFill>
                  <a:latin typeface="Courier New"/>
                </a:rPr>
                <a:t>statement</a:t>
              </a:r>
              <a:r>
                <a:rPr b="1" lang="en-US" sz="2000" spc="-1" strike="noStrike">
                  <a:solidFill>
                    <a:srgbClr val="009999"/>
                  </a:solidFill>
                  <a:latin typeface="Arial Unicode MS"/>
                </a:rPr>
                <a:t> is skipped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4817880" y="4327560"/>
              <a:ext cx="0" cy="45720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556B5-6FA4-4364-8E91-B55793E2F600}" type="slidenum">
              <a:t>6</a:t>
            </a:fld>
          </a:p>
        </p:txBody>
      </p:sp>
    </p:spTree>
  </p:cSld>
  <p:transition>
    <p:wheel spokes="1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Iterator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act that 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an iterator is particularly helpful when reading input from a fi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se we wanted to read and process a list of URLs stored in a fi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scanner can be set up to read each line of the input until the end of the file is encounter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other scanner can be set up for each URL to process each part of the pa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URLDissector.java (page 240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580F3-E6EE-4FE8-A7DC-B3BEC29EE69D}" type="slidenum">
              <a:t>60</a:t>
            </a:fld>
          </a:p>
        </p:txBody>
      </p:sp>
    </p:spTree>
  </p:cSld>
  <p:transition>
    <p:wheel spokes="1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665800" y="1163520"/>
            <a:ext cx="50346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tatement and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 Conditional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ing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tat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e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 Repetition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isions and Graph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r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828800" y="3962520"/>
            <a:ext cx="685800" cy="304560"/>
          </a:xfrm>
          <a:prstGeom prst="rightArrow">
            <a:avLst>
              <a:gd name="adj1" fmla="val 50000"/>
              <a:gd name="adj2" fmla="val 56294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84ED8-CE5F-45D0-BA85-3480104615BD}" type="slidenum">
              <a:t>61</a:t>
            </a:fld>
          </a:p>
        </p:txBody>
      </p:sp>
    </p:spTree>
  </p:cSld>
  <p:transition>
    <p:wheel spokes="1"/>
  </p:transition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The do Statement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64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o statem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as the following syntax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125880" y="1904040"/>
            <a:ext cx="365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i="1" lang="en-US" sz="2400" spc="-1" strike="noStrike">
                <a:solidFill>
                  <a:srgbClr val="009999"/>
                </a:solidFill>
                <a:latin typeface="Courier New"/>
              </a:rPr>
              <a:t>stateme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hile ( </a:t>
            </a:r>
            <a:r>
              <a:rPr b="1" i="1" lang="en-US" sz="2400" spc="-1" strike="noStrike">
                <a:solidFill>
                  <a:srgbClr val="009999"/>
                </a:solidFill>
                <a:latin typeface="Courier New"/>
              </a:rPr>
              <a:t>condi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990720" y="4114800"/>
            <a:ext cx="79246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9999"/>
                </a:solidFill>
                <a:latin typeface="Courier New"/>
              </a:rPr>
              <a:t>statem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executed once initially, and then the </a:t>
            </a:r>
            <a:r>
              <a:rPr b="1" lang="en-US" sz="2400" spc="-1" strike="noStrike">
                <a:solidFill>
                  <a:srgbClr val="009999"/>
                </a:solidFill>
                <a:latin typeface="Courier New"/>
              </a:rPr>
              <a:t>condi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atement is executed repeatedly until the condition becomes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3AB31-C0CC-42BB-B006-3EA54A54B5F3}" type="slidenum">
              <a:t>62</a:t>
            </a:fld>
          </a:p>
        </p:txBody>
      </p:sp>
    </p:spTree>
  </p:cSld>
  <p:transition>
    <p:wheel spokes="1"/>
  </p:transition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5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0" dur="500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Logic of a do Loop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882880" y="2362320"/>
            <a:ext cx="1030320" cy="1333800"/>
            <a:chOff x="2882880" y="2362320"/>
            <a:chExt cx="1030320" cy="1333800"/>
          </a:xfrm>
        </p:grpSpPr>
        <p:sp>
          <p:nvSpPr>
            <p:cNvPr id="311" name=""/>
            <p:cNvSpPr/>
            <p:nvPr/>
          </p:nvSpPr>
          <p:spPr>
            <a:xfrm>
              <a:off x="2882880" y="2856960"/>
              <a:ext cx="669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Arial Unicode MS"/>
                </a:rPr>
                <a:t>tr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2" name=""/>
            <p:cNvCxnSpPr>
              <a:stCxn id="313" idx="1"/>
              <a:endCxn id="314" idx="1"/>
            </p:cNvCxnSpPr>
            <p:nvPr/>
          </p:nvCxnSpPr>
          <p:spPr>
            <a:xfrm flipV="1" rot="10800000">
              <a:off x="3759840" y="2361960"/>
              <a:ext cx="153360" cy="1334160"/>
            </a:xfrm>
            <a:prstGeom prst="bentConnector3">
              <a:avLst>
                <a:gd name="adj1" fmla="val 249882"/>
              </a:avLst>
            </a:prstGeom>
            <a:ln w="31680">
              <a:solidFill>
                <a:srgbClr val="ff0000"/>
              </a:solidFill>
              <a:miter/>
              <a:headEnd len="med" type="triangle" w="lg"/>
            </a:ln>
          </p:spPr>
        </p:cxnSp>
      </p:grpSp>
      <p:grpSp>
        <p:nvGrpSpPr>
          <p:cNvPr id="315" name=""/>
          <p:cNvGrpSpPr/>
          <p:nvPr/>
        </p:nvGrpSpPr>
        <p:grpSpPr>
          <a:xfrm>
            <a:off x="3733920" y="2576160"/>
            <a:ext cx="1981080" cy="1614960"/>
            <a:chOff x="3733920" y="2576160"/>
            <a:chExt cx="1981080" cy="1614960"/>
          </a:xfrm>
        </p:grpSpPr>
        <p:sp>
          <p:nvSpPr>
            <p:cNvPr id="314" name=""/>
            <p:cNvSpPr/>
            <p:nvPr/>
          </p:nvSpPr>
          <p:spPr>
            <a:xfrm>
              <a:off x="3733920" y="3200400"/>
              <a:ext cx="1981080" cy="990720"/>
            </a:xfrm>
            <a:prstGeom prst="diamond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063320" y="3374640"/>
              <a:ext cx="1323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cond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evaluat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7" name=""/>
            <p:cNvCxnSpPr>
              <a:stCxn id="318" idx="2"/>
              <a:endCxn id="314" idx="0"/>
            </p:cNvCxnSpPr>
            <p:nvPr/>
          </p:nvCxnSpPr>
          <p:spPr>
            <a:xfrm flipH="1">
              <a:off x="4723560" y="2576160"/>
              <a:ext cx="2520" cy="624600"/>
            </a:xfrm>
            <a:prstGeom prst="straightConnector1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</p:cxnSp>
      </p:grpSp>
      <p:grpSp>
        <p:nvGrpSpPr>
          <p:cNvPr id="319" name=""/>
          <p:cNvGrpSpPr/>
          <p:nvPr/>
        </p:nvGrpSpPr>
        <p:grpSpPr>
          <a:xfrm>
            <a:off x="3924360" y="1600200"/>
            <a:ext cx="1600200" cy="990720"/>
            <a:chOff x="3924360" y="1600200"/>
            <a:chExt cx="1600200" cy="990720"/>
          </a:xfrm>
        </p:grpSpPr>
        <p:cxnSp>
          <p:nvCxnSpPr>
            <p:cNvPr id="320" name=""/>
            <p:cNvCxnSpPr>
              <a:endCxn id="318" idx="0"/>
            </p:cNvCxnSpPr>
            <p:nvPr/>
          </p:nvCxnSpPr>
          <p:spPr>
            <a:xfrm>
              <a:off x="4725720" y="1600200"/>
              <a:ext cx="1080" cy="610560"/>
            </a:xfrm>
            <a:prstGeom prst="straightConnector1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</p:cxnSp>
        <p:sp>
          <p:nvSpPr>
            <p:cNvPr id="313" name=""/>
            <p:cNvSpPr/>
            <p:nvPr/>
          </p:nvSpPr>
          <p:spPr>
            <a:xfrm>
              <a:off x="3924360" y="2210040"/>
              <a:ext cx="1600200" cy="38088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036680" y="2209320"/>
              <a:ext cx="137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stat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4691520" y="4191120"/>
            <a:ext cx="727920" cy="914760"/>
            <a:chOff x="4691520" y="4191120"/>
            <a:chExt cx="727920" cy="914760"/>
          </a:xfrm>
        </p:grpSpPr>
        <p:cxnSp>
          <p:nvCxnSpPr>
            <p:cNvPr id="322" name=""/>
            <p:cNvCxnSpPr>
              <a:stCxn id="314" idx="2"/>
            </p:cNvCxnSpPr>
            <p:nvPr/>
          </p:nvCxnSpPr>
          <p:spPr>
            <a:xfrm>
              <a:off x="4720680" y="4191120"/>
              <a:ext cx="1080" cy="915120"/>
            </a:xfrm>
            <a:prstGeom prst="straightConnector1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</p:cxnSp>
        <p:sp>
          <p:nvSpPr>
            <p:cNvPr id="323" name=""/>
            <p:cNvSpPr/>
            <p:nvPr/>
          </p:nvSpPr>
          <p:spPr>
            <a:xfrm>
              <a:off x="4691520" y="4419000"/>
              <a:ext cx="72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Arial Unicode MS"/>
                </a:rPr>
                <a:t>fal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6DF7D-2D0F-4726-A024-972E68B6A145}" type="slidenum">
              <a:t>63</a:t>
            </a:fld>
          </a:p>
        </p:txBody>
      </p:sp>
    </p:spTree>
  </p:cSld>
  <p:transition>
    <p:wheel spokes="1"/>
  </p:transition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0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The do Statement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example of 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oop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990720" y="4267080"/>
            <a:ext cx="79246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body of 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oop executes at least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ReverseNumber.java (page 24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32080" y="1903680"/>
            <a:ext cx="4752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count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nt++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 (coun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while (count &lt; 5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EA768-EE72-42C8-9DD2-596E03E13509}" type="slidenum">
              <a:t>64</a:t>
            </a:fld>
          </a:p>
        </p:txBody>
      </p:sp>
    </p:spTree>
  </p:cSld>
  <p:transition>
    <p:wheel spokes="1"/>
  </p:transition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1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6" dur="5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Comparing while and do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1543320" y="1219320"/>
            <a:ext cx="3266280" cy="4418640"/>
            <a:chOff x="1543320" y="1219320"/>
            <a:chExt cx="3266280" cy="4418640"/>
          </a:xfrm>
        </p:grpSpPr>
        <p:grpSp>
          <p:nvGrpSpPr>
            <p:cNvPr id="330" name=""/>
            <p:cNvGrpSpPr/>
            <p:nvPr/>
          </p:nvGrpSpPr>
          <p:grpSpPr>
            <a:xfrm>
              <a:off x="2091960" y="3581280"/>
              <a:ext cx="1600200" cy="1294560"/>
              <a:chOff x="2091960" y="3581280"/>
              <a:chExt cx="1600200" cy="1294560"/>
            </a:xfrm>
          </p:grpSpPr>
          <p:grpSp>
            <p:nvGrpSpPr>
              <p:cNvPr id="331" name=""/>
              <p:cNvGrpSpPr/>
              <p:nvPr/>
            </p:nvGrpSpPr>
            <p:grpSpPr>
              <a:xfrm>
                <a:off x="2091960" y="4494240"/>
                <a:ext cx="1600200" cy="381600"/>
                <a:chOff x="2091960" y="4494240"/>
                <a:chExt cx="1600200" cy="38160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2091960" y="4494960"/>
                  <a:ext cx="1600200" cy="380880"/>
                </a:xfrm>
                <a:prstGeom prst="rect">
                  <a:avLst/>
                </a:prstGeom>
                <a:solidFill>
                  <a:srgbClr val="ff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2204640" y="4494240"/>
                  <a:ext cx="1377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 Unicode MS"/>
                    </a:rPr>
                    <a:t>statement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334" name=""/>
              <p:cNvCxnSpPr>
                <a:stCxn id="335" idx="2"/>
                <a:endCxn id="332" idx="0"/>
              </p:cNvCxnSpPr>
              <p:nvPr/>
            </p:nvCxnSpPr>
            <p:spPr>
              <a:xfrm>
                <a:off x="2891880" y="3581280"/>
                <a:ext cx="1080" cy="914400"/>
              </a:xfrm>
              <a:prstGeom prst="straightConnector1">
                <a:avLst/>
              </a:prstGeom>
              <a:ln w="31680">
                <a:solidFill>
                  <a:srgbClr val="ff0000"/>
                </a:solidFill>
                <a:miter/>
                <a:tailEnd len="med" type="triangle" w="lg"/>
              </a:ln>
            </p:spPr>
          </p:cxnSp>
          <p:sp>
            <p:nvSpPr>
              <p:cNvPr id="336" name=""/>
              <p:cNvSpPr/>
              <p:nvPr/>
            </p:nvSpPr>
            <p:spPr>
              <a:xfrm>
                <a:off x="2909880" y="3808800"/>
                <a:ext cx="669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9999"/>
                    </a:solidFill>
                    <a:latin typeface="Arial Unicode MS"/>
                  </a:rPr>
                  <a:t>tru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37" name=""/>
            <p:cNvCxnSpPr>
              <a:stCxn id="332" idx="1"/>
              <a:endCxn id="335" idx="1"/>
            </p:cNvCxnSpPr>
            <p:nvPr/>
          </p:nvCxnSpPr>
          <p:spPr>
            <a:xfrm rot="10800000">
              <a:off x="1862640" y="3047040"/>
              <a:ext cx="229320" cy="1638720"/>
            </a:xfrm>
            <a:prstGeom prst="bentConnector3">
              <a:avLst>
                <a:gd name="adj1" fmla="val 239465"/>
              </a:avLst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</p:cxnSp>
        <p:grpSp>
          <p:nvGrpSpPr>
            <p:cNvPr id="338" name=""/>
            <p:cNvGrpSpPr/>
            <p:nvPr/>
          </p:nvGrpSpPr>
          <p:grpSpPr>
            <a:xfrm>
              <a:off x="2831400" y="3047400"/>
              <a:ext cx="1978200" cy="2590560"/>
              <a:chOff x="2831400" y="3047400"/>
              <a:chExt cx="1978200" cy="2590560"/>
            </a:xfrm>
          </p:grpSpPr>
          <p:cxnSp>
            <p:nvCxnSpPr>
              <p:cNvPr id="339" name=""/>
              <p:cNvCxnSpPr>
                <a:stCxn id="335" idx="3"/>
              </p:cNvCxnSpPr>
              <p:nvPr/>
            </p:nvCxnSpPr>
            <p:spPr>
              <a:xfrm flipH="1">
                <a:off x="2831400" y="3047400"/>
                <a:ext cx="1013760" cy="2590920"/>
              </a:xfrm>
              <a:prstGeom prst="bentConnector4">
                <a:avLst>
                  <a:gd name="adj1" fmla="val -22557"/>
                  <a:gd name="adj2" fmla="val 83449"/>
                </a:avLst>
              </a:prstGeom>
              <a:ln w="31680">
                <a:solidFill>
                  <a:srgbClr val="ff0000"/>
                </a:solidFill>
                <a:miter/>
                <a:tailEnd len="med" type="triangle" w="lg"/>
              </a:ln>
            </p:spPr>
          </p:cxnSp>
          <p:sp>
            <p:nvSpPr>
              <p:cNvPr id="340" name=""/>
              <p:cNvSpPr/>
              <p:nvPr/>
            </p:nvSpPr>
            <p:spPr>
              <a:xfrm>
                <a:off x="4081680" y="3758040"/>
                <a:ext cx="727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9999"/>
                    </a:solidFill>
                    <a:latin typeface="Arial Unicode MS"/>
                  </a:rPr>
                  <a:t>fals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1863360" y="1828080"/>
              <a:ext cx="2057400" cy="1752840"/>
              <a:chOff x="1863360" y="1828080"/>
              <a:chExt cx="2057400" cy="1752840"/>
            </a:xfrm>
          </p:grpSpPr>
          <p:cxnSp>
            <p:nvCxnSpPr>
              <p:cNvPr id="342" name=""/>
              <p:cNvCxnSpPr>
                <a:endCxn id="335" idx="0"/>
              </p:cNvCxnSpPr>
              <p:nvPr/>
            </p:nvCxnSpPr>
            <p:spPr>
              <a:xfrm>
                <a:off x="2891880" y="1828080"/>
                <a:ext cx="1080" cy="686520"/>
              </a:xfrm>
              <a:prstGeom prst="straightConnector1">
                <a:avLst/>
              </a:prstGeom>
              <a:ln w="31680">
                <a:solidFill>
                  <a:srgbClr val="ff0000"/>
                </a:solidFill>
                <a:miter/>
                <a:tailEnd len="med" type="triangle" w="lg"/>
              </a:ln>
            </p:spPr>
          </p:cxnSp>
          <p:grpSp>
            <p:nvGrpSpPr>
              <p:cNvPr id="343" name=""/>
              <p:cNvGrpSpPr/>
              <p:nvPr/>
            </p:nvGrpSpPr>
            <p:grpSpPr>
              <a:xfrm>
                <a:off x="1863360" y="2514240"/>
                <a:ext cx="2057400" cy="1066680"/>
                <a:chOff x="1863360" y="2514240"/>
                <a:chExt cx="2057400" cy="106668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1863360" y="2514240"/>
                  <a:ext cx="2057400" cy="1066680"/>
                </a:xfrm>
                <a:prstGeom prst="diamond">
                  <a:avLst/>
                </a:prstGeom>
                <a:solidFill>
                  <a:srgbClr val="ff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2231280" y="2726280"/>
                  <a:ext cx="13237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 Unicode MS"/>
                    </a:rPr>
                    <a:t>conditio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 Unicode MS"/>
                    </a:rPr>
                    <a:t>evaluated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45" name=""/>
            <p:cNvSpPr/>
            <p:nvPr/>
          </p:nvSpPr>
          <p:spPr>
            <a:xfrm>
              <a:off x="1753560" y="1219320"/>
              <a:ext cx="239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9999"/>
                  </a:solidFill>
                  <a:uFillTx/>
                  <a:latin typeface="Arial"/>
                </a:rPr>
                <a:t>The while Loo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5168880" y="1219320"/>
            <a:ext cx="2837520" cy="4150800"/>
            <a:chOff x="5168880" y="1219320"/>
            <a:chExt cx="2837520" cy="4150800"/>
          </a:xfrm>
        </p:grpSpPr>
        <p:grpSp>
          <p:nvGrpSpPr>
            <p:cNvPr id="347" name=""/>
            <p:cNvGrpSpPr/>
            <p:nvPr/>
          </p:nvGrpSpPr>
          <p:grpSpPr>
            <a:xfrm>
              <a:off x="5168880" y="2626200"/>
              <a:ext cx="1030320" cy="1333440"/>
              <a:chOff x="5168880" y="2626200"/>
              <a:chExt cx="1030320" cy="1333440"/>
            </a:xfrm>
          </p:grpSpPr>
          <p:sp>
            <p:nvSpPr>
              <p:cNvPr id="348" name=""/>
              <p:cNvSpPr/>
              <p:nvPr/>
            </p:nvSpPr>
            <p:spPr>
              <a:xfrm>
                <a:off x="5168880" y="3121200"/>
                <a:ext cx="669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9999"/>
                    </a:solidFill>
                    <a:latin typeface="Arial Unicode MS"/>
                  </a:rPr>
                  <a:t>tru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49" name=""/>
              <p:cNvCxnSpPr>
                <a:stCxn id="350" idx="1"/>
                <a:endCxn id="351" idx="1"/>
              </p:cNvCxnSpPr>
              <p:nvPr/>
            </p:nvCxnSpPr>
            <p:spPr>
              <a:xfrm flipV="1" rot="10800000">
                <a:off x="6045840" y="2626200"/>
                <a:ext cx="153360" cy="1333800"/>
              </a:xfrm>
              <a:prstGeom prst="bentConnector3">
                <a:avLst>
                  <a:gd name="adj1" fmla="val 249882"/>
                </a:avLst>
              </a:prstGeom>
              <a:ln w="31680">
                <a:solidFill>
                  <a:srgbClr val="ff0000"/>
                </a:solidFill>
                <a:miter/>
                <a:headEnd len="med" type="triangle" w="lg"/>
              </a:ln>
            </p:spPr>
          </p:cxnSp>
        </p:grpSp>
        <p:grpSp>
          <p:nvGrpSpPr>
            <p:cNvPr id="352" name=""/>
            <p:cNvGrpSpPr/>
            <p:nvPr/>
          </p:nvGrpSpPr>
          <p:grpSpPr>
            <a:xfrm>
              <a:off x="6019560" y="2841480"/>
              <a:ext cx="1981080" cy="1613880"/>
              <a:chOff x="6019560" y="2841480"/>
              <a:chExt cx="1981080" cy="1613880"/>
            </a:xfrm>
          </p:grpSpPr>
          <p:sp>
            <p:nvSpPr>
              <p:cNvPr id="351" name=""/>
              <p:cNvSpPr/>
              <p:nvPr/>
            </p:nvSpPr>
            <p:spPr>
              <a:xfrm>
                <a:off x="6019560" y="3465000"/>
                <a:ext cx="1981080" cy="990360"/>
              </a:xfrm>
              <a:prstGeom prst="diamond">
                <a:avLst/>
              </a:prstGeom>
              <a:solidFill>
                <a:srgbClr val="ff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348960" y="3638880"/>
                <a:ext cx="1323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Unicode MS"/>
                  </a:rPr>
                  <a:t>condit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Unicode MS"/>
                  </a:rPr>
                  <a:t>evaluate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54" name=""/>
              <p:cNvCxnSpPr>
                <a:stCxn id="355" idx="2"/>
                <a:endCxn id="351" idx="0"/>
              </p:cNvCxnSpPr>
              <p:nvPr/>
            </p:nvCxnSpPr>
            <p:spPr>
              <a:xfrm flipH="1">
                <a:off x="7009200" y="2841480"/>
                <a:ext cx="2520" cy="624240"/>
              </a:xfrm>
              <a:prstGeom prst="straightConnector1">
                <a:avLst/>
              </a:prstGeom>
              <a:ln w="31680">
                <a:solidFill>
                  <a:srgbClr val="ff0000"/>
                </a:solidFill>
                <a:miter/>
                <a:tailEnd len="med" type="triangle" w="lg"/>
              </a:ln>
            </p:spPr>
          </p:cxnSp>
        </p:grpSp>
        <p:grpSp>
          <p:nvGrpSpPr>
            <p:cNvPr id="356" name=""/>
            <p:cNvGrpSpPr/>
            <p:nvPr/>
          </p:nvGrpSpPr>
          <p:grpSpPr>
            <a:xfrm>
              <a:off x="6210360" y="1864800"/>
              <a:ext cx="1600200" cy="990360"/>
              <a:chOff x="6210360" y="1864800"/>
              <a:chExt cx="1600200" cy="990360"/>
            </a:xfrm>
          </p:grpSpPr>
          <p:cxnSp>
            <p:nvCxnSpPr>
              <p:cNvPr id="357" name=""/>
              <p:cNvCxnSpPr>
                <a:endCxn id="355" idx="0"/>
              </p:cNvCxnSpPr>
              <p:nvPr/>
            </p:nvCxnSpPr>
            <p:spPr>
              <a:xfrm>
                <a:off x="7011720" y="1864800"/>
                <a:ext cx="1080" cy="610200"/>
              </a:xfrm>
              <a:prstGeom prst="straightConnector1">
                <a:avLst/>
              </a:prstGeom>
              <a:ln w="31680">
                <a:solidFill>
                  <a:srgbClr val="ff0000"/>
                </a:solidFill>
                <a:miter/>
                <a:tailEnd len="med" type="triangle" w="lg"/>
              </a:ln>
            </p:spPr>
          </p:cxnSp>
          <p:sp>
            <p:nvSpPr>
              <p:cNvPr id="350" name=""/>
              <p:cNvSpPr/>
              <p:nvPr/>
            </p:nvSpPr>
            <p:spPr>
              <a:xfrm>
                <a:off x="6210360" y="2474640"/>
                <a:ext cx="1600200" cy="380520"/>
              </a:xfrm>
              <a:prstGeom prst="rect">
                <a:avLst/>
              </a:prstGeom>
              <a:solidFill>
                <a:srgbClr val="ff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322680" y="2473560"/>
                <a:ext cx="1377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Unicode MS"/>
                  </a:rPr>
                  <a:t>stat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8" name=""/>
            <p:cNvGrpSpPr/>
            <p:nvPr/>
          </p:nvGrpSpPr>
          <p:grpSpPr>
            <a:xfrm>
              <a:off x="6977520" y="4455720"/>
              <a:ext cx="727920" cy="914400"/>
              <a:chOff x="6977520" y="4455720"/>
              <a:chExt cx="727920" cy="914400"/>
            </a:xfrm>
          </p:grpSpPr>
          <p:cxnSp>
            <p:nvCxnSpPr>
              <p:cNvPr id="359" name=""/>
              <p:cNvCxnSpPr>
                <a:stCxn id="351" idx="2"/>
              </p:cNvCxnSpPr>
              <p:nvPr/>
            </p:nvCxnSpPr>
            <p:spPr>
              <a:xfrm>
                <a:off x="7006680" y="4455720"/>
                <a:ext cx="1080" cy="914760"/>
              </a:xfrm>
              <a:prstGeom prst="straightConnector1">
                <a:avLst/>
              </a:prstGeom>
              <a:ln w="31680">
                <a:solidFill>
                  <a:srgbClr val="ff0000"/>
                </a:solidFill>
                <a:miter/>
                <a:tailEnd len="med" type="triangle" w="lg"/>
              </a:ln>
            </p:spPr>
          </p:cxnSp>
          <p:sp>
            <p:nvSpPr>
              <p:cNvPr id="360" name=""/>
              <p:cNvSpPr/>
              <p:nvPr/>
            </p:nvSpPr>
            <p:spPr>
              <a:xfrm>
                <a:off x="6977520" y="4683600"/>
                <a:ext cx="727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9999"/>
                    </a:solidFill>
                    <a:latin typeface="Arial Unicode MS"/>
                  </a:rPr>
                  <a:t>fals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1" name=""/>
            <p:cNvSpPr/>
            <p:nvPr/>
          </p:nvSpPr>
          <p:spPr>
            <a:xfrm>
              <a:off x="5998320" y="1219320"/>
              <a:ext cx="200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9999"/>
                  </a:solidFill>
                  <a:uFillTx/>
                  <a:latin typeface="Arial"/>
                </a:rPr>
                <a:t>The do Loo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78799-CD3E-419F-8073-EB4F132CE0FF}" type="slidenum">
              <a:t>65</a:t>
            </a:fld>
          </a:p>
        </p:txBody>
      </p:sp>
    </p:spTree>
  </p:cSld>
  <p:transition>
    <p:wheel spokes="1"/>
  </p:transition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The for Statement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or statem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as the following syntax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265040" y="3640680"/>
            <a:ext cx="7191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( </a:t>
            </a:r>
            <a:r>
              <a:rPr b="1" i="1" lang="en-US" sz="2000" spc="-1" strike="noStrike">
                <a:solidFill>
                  <a:srgbClr val="009999"/>
                </a:solidFill>
                <a:latin typeface="Courier New"/>
              </a:rPr>
              <a:t>initializati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; </a:t>
            </a:r>
            <a:r>
              <a:rPr b="1" i="1" lang="en-US" sz="2000" spc="-1" strike="noStrike">
                <a:solidFill>
                  <a:srgbClr val="009999"/>
                </a:solidFill>
                <a:latin typeface="Courier New"/>
              </a:rPr>
              <a:t>conditi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; </a:t>
            </a:r>
            <a:r>
              <a:rPr b="1" i="1" lang="en-US" sz="2000" spc="-1" strike="noStrike">
                <a:solidFill>
                  <a:srgbClr val="009999"/>
                </a:solidFill>
                <a:latin typeface="Courier New"/>
              </a:rPr>
              <a:t>increme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i="1" lang="en-US" sz="2000" spc="-1" strike="noStrike">
                <a:solidFill>
                  <a:srgbClr val="009999"/>
                </a:solidFill>
                <a:latin typeface="Courier New"/>
              </a:rPr>
              <a:t>stateme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1401120" y="2116800"/>
            <a:ext cx="3039840" cy="1388520"/>
            <a:chOff x="1401120" y="2116800"/>
            <a:chExt cx="3039840" cy="1388520"/>
          </a:xfrm>
        </p:grpSpPr>
        <p:sp>
          <p:nvSpPr>
            <p:cNvPr id="366" name=""/>
            <p:cNvSpPr/>
            <p:nvPr/>
          </p:nvSpPr>
          <p:spPr>
            <a:xfrm>
              <a:off x="1401120" y="2116800"/>
              <a:ext cx="30398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Arial Unicode MS"/>
                </a:rPr>
                <a:t>The </a:t>
              </a:r>
              <a:r>
                <a:rPr b="1" i="1" lang="en-US" sz="2000" spc="-1" strike="noStrike">
                  <a:solidFill>
                    <a:srgbClr val="009999"/>
                  </a:solidFill>
                  <a:latin typeface="Courier New"/>
                </a:rPr>
                <a:t>initializ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Arial Unicode MS"/>
                </a:rPr>
                <a:t>is executed o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Arial Unicode MS"/>
                </a:rPr>
                <a:t>before the loop begi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895480" y="3124440"/>
              <a:ext cx="152640" cy="38088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4785840" y="2116800"/>
            <a:ext cx="3419280" cy="1372680"/>
            <a:chOff x="4785840" y="2116800"/>
            <a:chExt cx="3419280" cy="1372680"/>
          </a:xfrm>
        </p:grpSpPr>
        <p:sp>
          <p:nvSpPr>
            <p:cNvPr id="369" name=""/>
            <p:cNvSpPr/>
            <p:nvPr/>
          </p:nvSpPr>
          <p:spPr>
            <a:xfrm>
              <a:off x="4785840" y="2116800"/>
              <a:ext cx="34192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Arial Unicode MS"/>
                </a:rPr>
                <a:t>The </a:t>
              </a:r>
              <a:r>
                <a:rPr b="1" i="1" lang="en-US" sz="2000" spc="-1" strike="noStrike">
                  <a:solidFill>
                    <a:srgbClr val="009999"/>
                  </a:solidFill>
                  <a:latin typeface="Courier New"/>
                </a:rPr>
                <a:t>statement</a:t>
              </a:r>
              <a:r>
                <a:rPr b="1" lang="en-US" sz="2000" spc="-1" strike="noStrike">
                  <a:solidFill>
                    <a:srgbClr val="009999"/>
                  </a:solidFill>
                  <a:latin typeface="Arial Unicode MS"/>
                </a:rPr>
                <a:t> i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Arial Unicode MS"/>
                </a:rPr>
                <a:t>executed until th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9999"/>
                  </a:solidFill>
                  <a:latin typeface="Courier New"/>
                </a:rPr>
                <a:t>condition</a:t>
              </a:r>
              <a:r>
                <a:rPr b="1" lang="en-US" sz="2000" spc="-1" strike="noStrike">
                  <a:solidFill>
                    <a:srgbClr val="009999"/>
                  </a:solidFill>
                  <a:latin typeface="Arial Unicode MS"/>
                </a:rPr>
                <a:t> becomes fal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5791320" y="3108600"/>
              <a:ext cx="304560" cy="38088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4114800" y="4159080"/>
            <a:ext cx="4586400" cy="1328400"/>
            <a:chOff x="4114800" y="4159080"/>
            <a:chExt cx="4586400" cy="1328400"/>
          </a:xfrm>
        </p:grpSpPr>
        <p:sp>
          <p:nvSpPr>
            <p:cNvPr id="372" name=""/>
            <p:cNvSpPr/>
            <p:nvPr/>
          </p:nvSpPr>
          <p:spPr>
            <a:xfrm>
              <a:off x="4114800" y="4478760"/>
              <a:ext cx="45864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Arial Unicode MS"/>
                </a:rPr>
                <a:t>The </a:t>
              </a:r>
              <a:r>
                <a:rPr b="1" i="1" lang="en-US" sz="2000" spc="-1" strike="noStrike">
                  <a:solidFill>
                    <a:srgbClr val="009999"/>
                  </a:solidFill>
                  <a:latin typeface="Courier New"/>
                </a:rPr>
                <a:t>increment</a:t>
              </a:r>
              <a:r>
                <a:rPr b="1" lang="en-US" sz="2000" spc="-1" strike="noStrike">
                  <a:solidFill>
                    <a:srgbClr val="009999"/>
                  </a:solidFill>
                  <a:latin typeface="Arial Unicode MS"/>
                </a:rPr>
                <a:t> portion is executed at the end of each iter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6694560" y="4159080"/>
              <a:ext cx="315720" cy="47304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6AC40-9C62-49AE-9C18-FD695F5F2F75}" type="slidenum">
              <a:t>66</a:t>
            </a:fld>
          </a:p>
        </p:txBody>
      </p:sp>
    </p:spTree>
  </p:cSld>
  <p:transition>
    <p:wheel spokes="1"/>
  </p:transition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3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Logic of a for loop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3848040" y="3504960"/>
            <a:ext cx="1600200" cy="1067040"/>
            <a:chOff x="3848040" y="3504960"/>
            <a:chExt cx="1600200" cy="1067040"/>
          </a:xfrm>
        </p:grpSpPr>
        <p:sp>
          <p:nvSpPr>
            <p:cNvPr id="376" name=""/>
            <p:cNvSpPr/>
            <p:nvPr/>
          </p:nvSpPr>
          <p:spPr>
            <a:xfrm>
              <a:off x="3848040" y="4191120"/>
              <a:ext cx="1600200" cy="38088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960360" y="4190400"/>
              <a:ext cx="137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stat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78" name=""/>
            <p:cNvCxnSpPr>
              <a:stCxn id="379" idx="2"/>
              <a:endCxn id="376" idx="0"/>
            </p:cNvCxnSpPr>
            <p:nvPr/>
          </p:nvCxnSpPr>
          <p:spPr>
            <a:xfrm>
              <a:off x="4647960" y="3504960"/>
              <a:ext cx="1080" cy="686520"/>
            </a:xfrm>
            <a:prstGeom prst="straightConnector1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</p:cxnSp>
        <p:sp>
          <p:nvSpPr>
            <p:cNvPr id="380" name=""/>
            <p:cNvSpPr/>
            <p:nvPr/>
          </p:nvSpPr>
          <p:spPr>
            <a:xfrm>
              <a:off x="4635720" y="3580560"/>
              <a:ext cx="669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Arial Unicode MS"/>
                </a:rPr>
                <a:t>tr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81" name=""/>
          <p:cNvCxnSpPr>
            <a:stCxn id="382" idx="1"/>
            <a:endCxn id="379" idx="1"/>
          </p:cNvCxnSpPr>
          <p:nvPr/>
        </p:nvCxnSpPr>
        <p:spPr>
          <a:xfrm rot="10800000">
            <a:off x="3656880" y="3009240"/>
            <a:ext cx="191160" cy="2057760"/>
          </a:xfrm>
          <a:prstGeom prst="bentConnector3">
            <a:avLst>
              <a:gd name="adj1" fmla="val 327358"/>
            </a:avLst>
          </a:prstGeom>
          <a:ln w="31680">
            <a:solidFill>
              <a:srgbClr val="ff0000"/>
            </a:solidFill>
            <a:miter/>
            <a:tailEnd len="med" type="triangle" w="lg"/>
          </a:ln>
        </p:spPr>
      </p:cxnSp>
      <p:grpSp>
        <p:nvGrpSpPr>
          <p:cNvPr id="383" name=""/>
          <p:cNvGrpSpPr/>
          <p:nvPr/>
        </p:nvGrpSpPr>
        <p:grpSpPr>
          <a:xfrm>
            <a:off x="3657600" y="2195640"/>
            <a:ext cx="1981080" cy="1309320"/>
            <a:chOff x="3657600" y="2195640"/>
            <a:chExt cx="1981080" cy="1309320"/>
          </a:xfrm>
        </p:grpSpPr>
        <p:grpSp>
          <p:nvGrpSpPr>
            <p:cNvPr id="384" name=""/>
            <p:cNvGrpSpPr/>
            <p:nvPr/>
          </p:nvGrpSpPr>
          <p:grpSpPr>
            <a:xfrm>
              <a:off x="3657600" y="2514600"/>
              <a:ext cx="1981080" cy="990360"/>
              <a:chOff x="3657600" y="2514600"/>
              <a:chExt cx="1981080" cy="990360"/>
            </a:xfrm>
          </p:grpSpPr>
          <p:sp>
            <p:nvSpPr>
              <p:cNvPr id="379" name=""/>
              <p:cNvSpPr/>
              <p:nvPr/>
            </p:nvSpPr>
            <p:spPr>
              <a:xfrm>
                <a:off x="3657600" y="2514600"/>
                <a:ext cx="1981080" cy="990360"/>
              </a:xfrm>
              <a:prstGeom prst="diamond">
                <a:avLst/>
              </a:prstGeom>
              <a:solidFill>
                <a:srgbClr val="ff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987000" y="2688480"/>
                <a:ext cx="1323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Unicode MS"/>
                  </a:rPr>
                  <a:t>condit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Unicode MS"/>
                  </a:rPr>
                  <a:t>evaluate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86" name=""/>
            <p:cNvCxnSpPr>
              <a:stCxn id="387" idx="2"/>
              <a:endCxn id="379" idx="0"/>
            </p:cNvCxnSpPr>
            <p:nvPr/>
          </p:nvCxnSpPr>
          <p:spPr>
            <a:xfrm>
              <a:off x="4647960" y="2195640"/>
              <a:ext cx="1080" cy="319680"/>
            </a:xfrm>
            <a:prstGeom prst="straightConnector1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</p:cxnSp>
      </p:grpSp>
      <p:grpSp>
        <p:nvGrpSpPr>
          <p:cNvPr id="388" name=""/>
          <p:cNvGrpSpPr/>
          <p:nvPr/>
        </p:nvGrpSpPr>
        <p:grpSpPr>
          <a:xfrm>
            <a:off x="4647600" y="3009600"/>
            <a:ext cx="1956240" cy="2895840"/>
            <a:chOff x="4647600" y="3009600"/>
            <a:chExt cx="1956240" cy="2895840"/>
          </a:xfrm>
        </p:grpSpPr>
        <p:cxnSp>
          <p:nvCxnSpPr>
            <p:cNvPr id="389" name=""/>
            <p:cNvCxnSpPr>
              <a:stCxn id="379" idx="3"/>
            </p:cNvCxnSpPr>
            <p:nvPr/>
          </p:nvCxnSpPr>
          <p:spPr>
            <a:xfrm flipH="1">
              <a:off x="4647600" y="3009600"/>
              <a:ext cx="991080" cy="2896200"/>
            </a:xfrm>
            <a:prstGeom prst="bentConnector4">
              <a:avLst>
                <a:gd name="adj1" fmla="val -23074"/>
                <a:gd name="adj2" fmla="val 87444"/>
              </a:avLst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</p:cxnSp>
        <p:sp>
          <p:nvSpPr>
            <p:cNvPr id="390" name=""/>
            <p:cNvSpPr/>
            <p:nvPr/>
          </p:nvSpPr>
          <p:spPr>
            <a:xfrm>
              <a:off x="5875920" y="3580560"/>
              <a:ext cx="72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Arial Unicode MS"/>
                </a:rPr>
                <a:t>fal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3848040" y="4571640"/>
            <a:ext cx="1600200" cy="686160"/>
            <a:chOff x="3848040" y="4571640"/>
            <a:chExt cx="1600200" cy="686160"/>
          </a:xfrm>
        </p:grpSpPr>
        <p:sp>
          <p:nvSpPr>
            <p:cNvPr id="382" name=""/>
            <p:cNvSpPr/>
            <p:nvPr/>
          </p:nvSpPr>
          <p:spPr>
            <a:xfrm>
              <a:off x="3848040" y="4876920"/>
              <a:ext cx="1600200" cy="38088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965040" y="4876200"/>
              <a:ext cx="136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ncr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3" name=""/>
            <p:cNvCxnSpPr>
              <a:stCxn id="376" idx="2"/>
              <a:endCxn id="392" idx="0"/>
            </p:cNvCxnSpPr>
            <p:nvPr/>
          </p:nvCxnSpPr>
          <p:spPr>
            <a:xfrm>
              <a:off x="4648320" y="4571640"/>
              <a:ext cx="2160" cy="305640"/>
            </a:xfrm>
            <a:prstGeom prst="straightConnector1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</p:cxnSp>
      </p:grpSp>
      <p:grpSp>
        <p:nvGrpSpPr>
          <p:cNvPr id="394" name=""/>
          <p:cNvGrpSpPr/>
          <p:nvPr/>
        </p:nvGrpSpPr>
        <p:grpSpPr>
          <a:xfrm>
            <a:off x="3832560" y="1295280"/>
            <a:ext cx="1631520" cy="914400"/>
            <a:chOff x="3832560" y="1295280"/>
            <a:chExt cx="1631520" cy="914400"/>
          </a:xfrm>
        </p:grpSpPr>
        <p:grpSp>
          <p:nvGrpSpPr>
            <p:cNvPr id="395" name=""/>
            <p:cNvGrpSpPr/>
            <p:nvPr/>
          </p:nvGrpSpPr>
          <p:grpSpPr>
            <a:xfrm>
              <a:off x="3832560" y="1828080"/>
              <a:ext cx="1631520" cy="381600"/>
              <a:chOff x="3832560" y="1828080"/>
              <a:chExt cx="1631520" cy="381600"/>
            </a:xfrm>
          </p:grpSpPr>
          <p:sp>
            <p:nvSpPr>
              <p:cNvPr id="396" name=""/>
              <p:cNvSpPr/>
              <p:nvPr/>
            </p:nvSpPr>
            <p:spPr>
              <a:xfrm>
                <a:off x="3848040" y="1828800"/>
                <a:ext cx="1600200" cy="380880"/>
              </a:xfrm>
              <a:prstGeom prst="rect">
                <a:avLst/>
              </a:prstGeom>
              <a:solidFill>
                <a:srgbClr val="ff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832560" y="1828080"/>
                <a:ext cx="1631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Unicode MS"/>
                  </a:rPr>
                  <a:t>initializat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97" name=""/>
            <p:cNvCxnSpPr>
              <a:endCxn id="387" idx="0"/>
            </p:cNvCxnSpPr>
            <p:nvPr/>
          </p:nvCxnSpPr>
          <p:spPr>
            <a:xfrm>
              <a:off x="4647960" y="1295280"/>
              <a:ext cx="1080" cy="534240"/>
            </a:xfrm>
            <a:prstGeom prst="straightConnector1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209B2-5C7F-4AB6-B3B1-2F2820141232}" type="slidenum">
              <a:t>67</a:t>
            </a:fld>
          </a:p>
        </p:txBody>
      </p:sp>
    </p:spTree>
  </p:cSld>
  <p:transition>
    <p:wheel spokes="1"/>
  </p:transition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0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1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6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1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6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1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The for Statement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oop is functionally equivalent to the following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oop structur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093840" y="2360880"/>
            <a:ext cx="30765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9999"/>
                </a:solidFill>
                <a:latin typeface="Courier New"/>
              </a:rPr>
              <a:t>initializati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 ( </a:t>
            </a:r>
            <a:r>
              <a:rPr b="1" i="1" lang="en-US" sz="2000" spc="-1" strike="noStrike">
                <a:solidFill>
                  <a:srgbClr val="009999"/>
                </a:solidFill>
                <a:latin typeface="Courier New"/>
              </a:rPr>
              <a:t>conditi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i="1" lang="en-US" sz="2000" spc="-1" strike="noStrike">
                <a:solidFill>
                  <a:srgbClr val="009999"/>
                </a:solidFill>
                <a:latin typeface="Courier New"/>
              </a:rPr>
              <a:t>stateme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i="1" lang="en-US" sz="2000" spc="-1" strike="noStrike">
                <a:solidFill>
                  <a:srgbClr val="009999"/>
                </a:solidFill>
                <a:latin typeface="Courier New"/>
              </a:rPr>
              <a:t>increme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2658D-A0DD-410E-936C-4C8F4F663C2B}" type="slidenum">
              <a:t>68</a:t>
            </a:fld>
          </a:p>
        </p:txBody>
      </p:sp>
    </p:spTree>
  </p:cSld>
  <p:transition>
    <p:wheel spokes="1"/>
  </p:transition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The for Statement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79246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example of 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oop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830240" y="1980000"/>
            <a:ext cx="597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(int count=1; count &lt;= 5; count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 (coun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990720" y="3048120"/>
            <a:ext cx="79246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initialization section can be used to declare a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ke 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oop, the condition of 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oop is tested prior to executing the loop 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fore, the body of 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oop will execute zero or more 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7BF0B-59AA-4DFB-9D17-FD42F4473534}" type="slidenum">
              <a:t>69</a:t>
            </a:fld>
          </a:p>
        </p:txBody>
      </p:sp>
    </p:spTree>
  </p:cSld>
  <p:transition>
    <p:wheel spokes="1"/>
  </p:transition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2" dur="5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7" dur="500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2" dur="500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Logic of an if statement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3429000" y="1371240"/>
            <a:ext cx="2057400" cy="1752840"/>
            <a:chOff x="3429000" y="1371240"/>
            <a:chExt cx="2057400" cy="1752840"/>
          </a:xfrm>
        </p:grpSpPr>
        <p:sp>
          <p:nvSpPr>
            <p:cNvPr id="103" name=""/>
            <p:cNvSpPr/>
            <p:nvPr/>
          </p:nvSpPr>
          <p:spPr>
            <a:xfrm>
              <a:off x="3429000" y="2057400"/>
              <a:ext cx="2057400" cy="1066680"/>
            </a:xfrm>
            <a:prstGeom prst="diamond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795120" y="2253600"/>
              <a:ext cx="1323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cond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evaluat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5" name=""/>
            <p:cNvCxnSpPr/>
            <p:nvPr/>
          </p:nvCxnSpPr>
          <p:spPr>
            <a:xfrm>
              <a:off x="4457520" y="1371240"/>
              <a:ext cx="1080" cy="686520"/>
            </a:xfrm>
            <a:prstGeom prst="straightConnector1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</p:cxnSp>
      </p:grpSp>
      <p:cxnSp>
        <p:nvCxnSpPr>
          <p:cNvPr id="106" name=""/>
          <p:cNvCxnSpPr/>
          <p:nvPr/>
        </p:nvCxnSpPr>
        <p:spPr>
          <a:xfrm>
            <a:off x="4457520" y="4404960"/>
            <a:ext cx="1080" cy="108180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triangle" w="lg"/>
          </a:ln>
        </p:spPr>
      </p:cxnSp>
      <p:grpSp>
        <p:nvGrpSpPr>
          <p:cNvPr id="107" name=""/>
          <p:cNvGrpSpPr/>
          <p:nvPr/>
        </p:nvGrpSpPr>
        <p:grpSpPr>
          <a:xfrm>
            <a:off x="3657600" y="3124080"/>
            <a:ext cx="1600200" cy="1295640"/>
            <a:chOff x="3657600" y="3124080"/>
            <a:chExt cx="1600200" cy="1295640"/>
          </a:xfrm>
        </p:grpSpPr>
        <p:sp>
          <p:nvSpPr>
            <p:cNvPr id="108" name=""/>
            <p:cNvSpPr/>
            <p:nvPr/>
          </p:nvSpPr>
          <p:spPr>
            <a:xfrm>
              <a:off x="3657600" y="4038480"/>
              <a:ext cx="1600200" cy="38124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769920" y="4037760"/>
              <a:ext cx="137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stat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0" name=""/>
            <p:cNvCxnSpPr>
              <a:stCxn id="103" idx="2"/>
              <a:endCxn id="108" idx="0"/>
            </p:cNvCxnSpPr>
            <p:nvPr/>
          </p:nvCxnSpPr>
          <p:spPr>
            <a:xfrm>
              <a:off x="4457520" y="3124080"/>
              <a:ext cx="1080" cy="915120"/>
            </a:xfrm>
            <a:prstGeom prst="straightConnector1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</p:cxnSp>
        <p:sp>
          <p:nvSpPr>
            <p:cNvPr id="111" name=""/>
            <p:cNvSpPr/>
            <p:nvPr/>
          </p:nvSpPr>
          <p:spPr>
            <a:xfrm>
              <a:off x="4475160" y="3351960"/>
              <a:ext cx="669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Arial Unicode MS"/>
                </a:rPr>
                <a:t>tr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4495320" y="2590920"/>
            <a:ext cx="2090880" cy="2297160"/>
            <a:chOff x="4495320" y="2590920"/>
            <a:chExt cx="2090880" cy="2297160"/>
          </a:xfrm>
        </p:grpSpPr>
        <p:sp>
          <p:nvSpPr>
            <p:cNvPr id="113" name=""/>
            <p:cNvSpPr/>
            <p:nvPr/>
          </p:nvSpPr>
          <p:spPr>
            <a:xfrm>
              <a:off x="5858280" y="3580560"/>
              <a:ext cx="72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Arial Unicode MS"/>
                </a:rPr>
                <a:t>fal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4" name=""/>
            <p:cNvCxnSpPr/>
            <p:nvPr/>
          </p:nvCxnSpPr>
          <p:spPr>
            <a:xfrm flipH="1">
              <a:off x="4495320" y="2590920"/>
              <a:ext cx="991440" cy="2286720"/>
            </a:xfrm>
            <a:prstGeom prst="bentConnector4">
              <a:avLst>
                <a:gd name="adj1" fmla="val -33309"/>
                <a:gd name="adj2" fmla="val 100472"/>
              </a:avLst>
            </a:prstGeom>
            <a:ln w="31680">
              <a:solidFill>
                <a:srgbClr val="ff0000"/>
              </a:solidFill>
              <a:miter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7F231-1D4F-4767-B9DC-48E5CD58C2C0}" type="slidenum">
              <a:t>7</a:t>
            </a:fld>
          </a:p>
        </p:txBody>
      </p:sp>
    </p:spTree>
  </p:cSld>
  <p:transition>
    <p:wheel spokes="1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The for Statement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79246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increment section can perform any calcul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90720" y="3048120"/>
            <a:ext cx="792468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oop is well suited for executing statements a specific number of times that can be calculated or determined in adv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Multiples.java (page 24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Stars.java (page 25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830600" y="1980000"/>
            <a:ext cx="5667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(int num=100; num &gt; 0; num -= 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 (num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DE1FF-D3D4-41B8-B47F-52F6FB82CD27}" type="slidenum">
              <a:t>70</a:t>
            </a:fld>
          </a:p>
        </p:txBody>
      </p:sp>
    </p:spTree>
  </p:cSld>
  <p:transition>
    <p:wheel spokes="1"/>
  </p:transition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5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0" dur="5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5" dur="50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The for Statement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expression in the header of 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oop is option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the initialization is left out, no initialization is perform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the condition is left out, it is always considered to be true, and therefore creates an infinite loo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the increment is left out, no increment operation is perform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52CF6-06A8-4206-BE04-D6694D654844}" type="slidenum">
              <a:t>71</a:t>
            </a:fld>
          </a:p>
        </p:txBody>
      </p:sp>
    </p:spTree>
  </p:cSld>
  <p:transition>
    <p:wheel spokes="1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Iterators and for Loop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all that an iterator is an object that allows you to process each item in a colle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variant of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oop simplifies the repetitive processing the it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example, i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ookLi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an iterator that manage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oo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bjects, the following loop will print each book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135520" y="4647240"/>
            <a:ext cx="490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(Book myBook : BookLis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 (myBook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54734-B2C9-49F5-8FC6-DE33BC0E1464}" type="slidenum">
              <a:t>72</a:t>
            </a:fld>
          </a:p>
        </p:txBody>
      </p:sp>
    </p:spTree>
  </p:cSld>
  <p:transition>
    <p:wheel spokes="1"/>
  </p:transition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Iterators and for Loop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styl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oop can be read "for ea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oo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ookLi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…"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fore the iterator version of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oop is sometimes referred to as 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oreac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oo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eliminates the need to call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asNex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x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ethods explicit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also will be helpful when processing arrays, which are discussed in Chapter 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92E88-4E8B-4309-821F-2B10AB2A6211}" type="slidenum">
              <a:t>73</a:t>
            </a:fld>
          </a:p>
        </p:txBody>
      </p:sp>
    </p:spTree>
  </p:cSld>
  <p:transition>
    <p:wheel spokes="1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665800" y="1163520"/>
            <a:ext cx="50346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tatement and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 Conditional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ing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tat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e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 Repetition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isions and Graph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r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828800" y="449568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F33BE-422F-4D26-8674-D17CC0DE90FB}" type="slidenum">
              <a:t>74</a:t>
            </a:fld>
          </a:p>
        </p:txBody>
      </p:sp>
    </p:spTree>
  </p:cSld>
  <p:transition>
    <p:wheel spokes="1"/>
  </p:transition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6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Drawing Technique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ditionals and loops enhance our ability to generate interesting graph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Bullseye.java (page 25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BullseyePanel.java (page 253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Boxes.java (page 255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BoxesPanel.java (page 256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CA30E-DA53-4813-86DE-F5F7C1D4234C}" type="slidenum">
              <a:t>75</a:t>
            </a:fld>
          </a:p>
        </p:txBody>
      </p:sp>
    </p:spTree>
  </p:cSld>
  <p:transition>
    <p:wheel spokes="1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Determining Event Source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all that interactive GUIs require establishing a relationship between components and the listeners that respond to component ev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listener object can be used to listen to two different compon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ource of the event can be determined by using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etSour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ethod of the event passed to the listen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LeftRight.java (page 258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LeftRightPanel.java (page 259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4DD7E-EAE1-4CD7-85A3-1C17B3860CAB}" type="slidenum">
              <a:t>76</a:t>
            </a:fld>
          </a:p>
        </p:txBody>
      </p:sp>
    </p:spTree>
  </p:cSld>
  <p:transition>
    <p:wheel spokes="1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665800" y="1163520"/>
            <a:ext cx="50346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tatement and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 Conditional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ing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tat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e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 Repetition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isions and Graph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r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828800" y="5105520"/>
            <a:ext cx="685800" cy="304560"/>
          </a:xfrm>
          <a:prstGeom prst="rightArrow">
            <a:avLst>
              <a:gd name="adj1" fmla="val 50000"/>
              <a:gd name="adj2" fmla="val 56294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C97E7-8D95-4573-A07C-45ECD7973895}" type="slidenum">
              <a:t>77</a:t>
            </a:fld>
          </a:p>
        </p:txBody>
      </p:sp>
    </p:spTree>
  </p:cSld>
  <p:transition>
    <p:wheel spokes="1"/>
  </p:transition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9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Dialog Boxe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ialog bo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a window that appears on top of any currently active windo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may be used t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y inform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firm an 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 the user to enter dat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ick a col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oose a fi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dialog box usually has a specific, solitary purpose, and the user interaction with it is brie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64D98-6031-4F4B-B6EA-AA8128346590}" type="slidenum">
              <a:t>78</a:t>
            </a:fld>
          </a:p>
        </p:txBody>
      </p:sp>
    </p:spTree>
  </p:cSld>
  <p:transition>
    <p:wheel spokes="1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Dialog Boxe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JOptionPa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lass provides methods that simplify the creation of some types of dialog box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EvenOdd.java (page 26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examine dialog boxes for choosing colors and files in Chapter 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8FDA3-54F8-404E-9FBF-61D6B052178A}" type="slidenum">
              <a:t>79</a:t>
            </a:fld>
          </a:p>
        </p:txBody>
      </p:sp>
    </p:spTree>
  </p:cSld>
  <p:transition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Boolean Expression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condition often uses one of Java'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quality operator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lational operato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which all return boolean result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equal t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!=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not equal t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less th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greater th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=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less than or equal t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=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greater than or equal t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 the difference between the equality operator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and the assignment operator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4B857-02A7-41CE-920E-A44B5BB752E8}" type="slidenum">
              <a:t>8</a:t>
            </a:fld>
          </a:p>
        </p:txBody>
      </p:sp>
    </p:spTree>
  </p:cSld>
  <p:transition>
    <p:wheel spokes="1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Check Boxe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heck box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a button that can be toggled on or of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represented by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JCheckBo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like a push button, which generates an action event, a check box generates a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tem even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ever it changes state (is checked on or off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temListen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terface is used to define item event listen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heck box calls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temStateChang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ethod of the listener when it is toggl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6E58A-AB43-4548-872C-F7FDF68CA40B}" type="slidenum">
              <a:t>80</a:t>
            </a:fld>
          </a:p>
        </p:txBody>
      </p:sp>
    </p:spTree>
  </p:cSld>
  <p:transition>
    <p:wheel spokes="1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Check Boxe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's examine a program that uses check boxes to determine the style of a label's text str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uses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lass, which represents a character font'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mily name (such as Times or Courier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yle (bold, italic, or both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nt siz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tyleOptions.ja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page 265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tyleOptionsPanel.ja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page 266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0A4C4-DFD8-40E2-9DB3-C7639C7CF8E6}" type="slidenum">
              <a:t>81</a:t>
            </a:fld>
          </a:p>
        </p:txBody>
      </p:sp>
    </p:spTree>
  </p:cSld>
  <p:transition>
    <p:wheel spokes="1"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Radio Button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group of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adio butt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epresents a set of mutually exclusive options – only one can be selected at any given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a radio button from a group is selected, the button that is currently "on" in the group is automatically toggled of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define the group of radio buttons that will work together, each radio button is added to 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uttonGrou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bj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radio button generates an action ev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19E43-CB55-49D8-A93A-37A32C1D2565}" type="slidenum">
              <a:t>82</a:t>
            </a:fld>
          </a:p>
        </p:txBody>
      </p:sp>
    </p:spTree>
  </p:cSld>
  <p:transition>
    <p:wheel spokes="1"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Radio Button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's look at a program that uses radio buttons to determine which line of text to displa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QuoteOptions.ja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page 269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QuoteOptionsPanel.ja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page 270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e and contrast check boxes and radio butt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eck boxes work independently to provide a boolean op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dio buttons work as a group to provide a set of mutually exclusive op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457DC-12D1-479B-84ED-14DDB11BD86C}" type="slidenum">
              <a:t>83</a:t>
            </a:fld>
          </a:p>
        </p:txBody>
      </p:sp>
    </p:spTree>
  </p:cSld>
  <p:transition>
    <p:wheel spokes="1"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pter 5 focused 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8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olean expres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itional state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ng dat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etition state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er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re drawing techniqu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re GUI compon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13409-23C0-4889-862F-B41862040FB3}" type="slidenum">
              <a:t>84</a:t>
            </a:fld>
          </a:p>
        </p:txBody>
      </p:sp>
    </p:spTree>
  </p:cSld>
  <p:transition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The if Statement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example of 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tatemen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950840" y="1827720"/>
            <a:ext cx="6429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sum &gt; MA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lta = sum - MA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 ("The sum is " + sum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3124080"/>
            <a:ext cx="784836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st the condition is evaluated -- the valu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either greater than the valu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or it is 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the condition is true, the assignment statement is executed -- if it isn’t, it is skipp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ither way, the call 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executed 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Age.ja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page 20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4AACC-41ED-4125-94EB-277C43DC5347}" type="slidenum">
              <a:t>9</a:t>
            </a:fld>
          </a:p>
        </p:txBody>
      </p:sp>
    </p:spTree>
  </p:cSld>
  <p:transition>
    <p:wheel spokes="1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3T15:49:24Z</dcterms:created>
  <dc:creator>Copyright 2004 Pearson Addison-Wesley</dc:creator>
  <dc:description/>
  <dc:language>en-US</dc:language>
  <cp:lastModifiedBy>vuuser</cp:lastModifiedBy>
  <dcterms:modified xsi:type="dcterms:W3CDTF">2004-07-23T14:39:24Z</dcterms:modified>
  <cp:revision>45</cp:revision>
  <dc:subject/>
  <dc:title>PowerPoint Presentation</dc:title>
</cp:coreProperties>
</file>