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D95C-8EFC-44AE-82D3-9DD9068EF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B876-DCF2-4A31-B2C9-6E3F583CF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C2E1-8950-4370-B592-B1B8B32E9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EC30-CE3D-4B3F-AC3F-5566C0EE3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5D81-71E4-4D08-BC04-1E39933F0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EC71-9B2B-45AB-B676-FE352ED32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50DF-FEF7-4222-97CB-DDAB1A144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D2C3-7DB8-4974-922F-F51282CA8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E1E2-5137-41AC-9584-AA70020D3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B698-72C9-4138-B06E-9A4C6883A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C829-2F2E-420B-A8F9-8E2111927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0DE0-602B-44BA-8446-885FB032E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6-</a:t>
            </a:r>
            <a:fld id="{3233FEC3-847F-41AA-B31D-5227A1CE72F7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6/SloganCounter.java" TargetMode="External"/><Relationship Id="rId3" Type="http://schemas.openxmlformats.org/officeDocument/2006/relationships/hyperlink" Target="file:///../examples/chap06/SloganCounter.java" TargetMode="External"/><Relationship Id="rId4" Type="http://schemas.openxmlformats.org/officeDocument/2006/relationships/hyperlink" Target="file:///../examples/chap06/Slogan.java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6/RationalTester.java" TargetMode="External"/><Relationship Id="rId3" Type="http://schemas.openxmlformats.org/officeDocument/2006/relationships/hyperlink" Target="file:///../examples/chap06/RationalTester.java" TargetMode="External"/><Relationship Id="rId4" Type="http://schemas.openxmlformats.org/officeDocument/2006/relationships/hyperlink" Target="file:///../examples/chap06/Rational.java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6/StudentBody.java" TargetMode="External"/><Relationship Id="rId3" Type="http://schemas.openxmlformats.org/officeDocument/2006/relationships/hyperlink" Target="file:///../examples/chap06/StudentBody.java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Object-Oriented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dentifying Classes and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re activity of object-oriented design is determining the classes and objects that will make up th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es may be part of a class library, reused from a previous project, or newly writ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ay to identify potential classes is to identify the objects discussed in the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are generally nouns, and the services that an object provides are generally ver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0BBE-7E53-4EB3-8725-1C8DB500ACD0}" type="slidenum">
              <a:t>10</a:t>
            </a:fld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dentifying Classes and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rtial requirements docu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9720" y="2133720"/>
            <a:ext cx="727632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er must be allowed to specify each product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 primary characteristics, including its na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 number. If the bar code does not matc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, then an error should be generated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 window and entered into the error log.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 report of all transactions must be struct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pecified in section 7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209680"/>
            <a:ext cx="68580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209680"/>
            <a:ext cx="114300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590920"/>
            <a:ext cx="1904760" cy="30456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2590920"/>
            <a:ext cx="762120" cy="30456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971800"/>
            <a:ext cx="21337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971800"/>
            <a:ext cx="12193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352680"/>
            <a:ext cx="114300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352680"/>
            <a:ext cx="76176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733920"/>
            <a:ext cx="2210040" cy="30456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3657600"/>
            <a:ext cx="1218960" cy="38088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114800"/>
            <a:ext cx="221004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4038480"/>
            <a:ext cx="167616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2680" y="5181480"/>
            <a:ext cx="638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f course, not all nouns will correspon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class or object in the final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3EE6-8B02-4CFC-8FAC-EF7DEB30D9D5}" type="slidenum">
              <a:t>11</a:t>
            </a:fld>
          </a:p>
        </p:txBody>
      </p:sp>
    </p:spTree>
  </p:cSld>
  <p:transition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dentifying Classes and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 that a class represents a group (classification) of objects with the same behavi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, classes that represent objects should be given names that are singular nou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represents the concept of one such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free to instantiate as many of each object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FDFC-D250-4088-BCD0-E7A6702D4B09}" type="slidenum">
              <a:t>12</a:t>
            </a:fld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dentifying Classes and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it is challenging to decide whether something should be represented as a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should an employee's address be represented as a set of instance variables or a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re you examine the problem and its details the more clear these issues bec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class becomes too complex, it often should be decomposed into multiple smaller classes to distribute the respon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BE8D-95F4-40B0-8771-F90A6AA2D349}" type="slidenum">
              <a:t>13</a:t>
            </a:fld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dentifying Classes and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 to define classes with the proper amount of det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t may be unnecessary to create separate classes for each type of appliance in a ho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ay be sufficient to define a more genera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i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with appropriate instanc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 depends on the details of the problem being s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B2A7-1F16-4B1C-838F-6E6949FF48A0}" type="slidenum">
              <a:t>14</a:t>
            </a:fld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dentifying Classes and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of identifying the classes we need is the process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igning responsibi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each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activity that a program must accomplish must be represented by one or more methods in one or mor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generally use verbs for the names of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arly stages it is not necessary to determine every method of every class – begin with primary responsibilities and evolve the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B358-4F05-4107-9812-F247AA457C28}" type="slidenum">
              <a:t>15</a:t>
            </a:fld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7960" y="114300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28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046A-FF5C-4A3B-8512-D9CC2D54E201}" type="slidenum">
              <a:t>16</a:t>
            </a:fld>
          </a:p>
        </p:txBody>
      </p:sp>
    </p:spTree>
  </p:cSld>
  <p:transition>
    <p:wheel spokes="1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atic Class Memb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a static method is one that can be invoked through its class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method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are stati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 = Math.sqrt(2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can be static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if a method or variable should be static is an important design d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9FF7-1199-4BB2-BD6F-13C87CE1743C}" type="slidenum">
              <a:t>17</a:t>
            </a:fld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tatic Modifie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clare static methods and variables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ssociates the method or variable with the class rather than with an object of tha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methods are sometime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 metho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static variables are sometime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carefully consider the implications of 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833B-D385-448F-A72F-03CE5BFDF915}" type="slidenum">
              <a:t>18</a:t>
            </a:fld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atic Variabl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ly, each object has its own data space, but if a variable is declared as static, only one copy of the variable ex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float pric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space for a static variable is created when the class is first referen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bjects instantiated from the class share its static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the value of a static variable in one object changes it for all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8BE3-1312-4AB7-A23B-84EEC69A12F9}" type="slidenum">
              <a:t>19</a:t>
            </a:fld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bject-Oriented Desig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can extend our discussion of the design of classes and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ing the classes and objects that are needed for a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lationships that can exist among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tic mod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sign of enumerated type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design and method overloa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 design and layout manag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EB46-1EF5-44A1-8D36-8683D2A1A17E}" type="slidenum">
              <a:t>2</a:t>
            </a:fld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atic Metho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2880" y="1370160"/>
            <a:ext cx="5514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el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int cube (int 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m * num *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71520" y="4186800"/>
            <a:ext cx="545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ecause it is declared as static, 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an be invok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Helper.cube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8591-F59B-44B8-8633-8A1A079013BE}" type="slidenum">
              <a:t>20</a:t>
            </a:fld>
          </a:p>
        </p:txBody>
      </p:sp>
    </p:spTree>
  </p:cSld>
  <p:transition>
    <p:wheel spokes="1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atic Class Memb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the modifiers can be interchanged, but by convention visibility modifiers come fir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s static – it is invoked by the Java interpreter without creating a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methods cannot reference instance variables because instance variables don't exist until an object ex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a static method can reference static variables or local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347F-B783-465F-B39E-4A38E06028E1}" type="slidenum">
              <a:t>21</a:t>
            </a:fld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atic Class Memb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methods and static variables often work toge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keeps track of how man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og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have been created using a static variable, and makes that information available using a static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loganCounter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9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logan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9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3425-06E6-40FA-85CF-7FCC5B41CE0A}" type="slidenum">
              <a:t>22</a:t>
            </a:fld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7960" y="114300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895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BD21-4B77-41E9-B521-0AA7AA2BF7BE}" type="slidenum">
              <a:t>23</a:t>
            </a:fld>
          </a:p>
        </p:txBody>
      </p:sp>
    </p:spTree>
  </p:cSld>
  <p:transition>
    <p:wheel spokes="1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 Relationship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 in a software system can have various types of relationships to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of the most common relationshi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cy: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gregation: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s-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: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discuss dependency and aggregation fur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itance is discussed in detail in Chapter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9653-46DB-4B13-8CD2-2CED4B6DE785}" type="slidenum">
              <a:t>24</a:t>
            </a:fld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pendenc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ists when one class relies on another in some way, usually by invoking the methods of the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've seen dependencies in many previous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on't want numerous or complex dependencies among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 do we want complex classes that don't depend on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ood design strikes the right bal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EC55-82EF-48B4-B855-1A1FE0DEDEC5}" type="slidenum">
              <a:t>25</a:t>
            </a:fld>
          </a:p>
        </p:txBody>
      </p:sp>
    </p:spTree>
  </p:cSld>
  <p:transition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pendenc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dependencies occur between objects of the sam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of the class may accept an object of the same class as a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c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takes as a parameter anoth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3 = str1.concat(str2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drives home the idea that the service is being requested from a particular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ED77-642D-44C6-883A-250C05252AB7}" type="slidenum">
              <a:t>26</a:t>
            </a:fld>
          </a:p>
        </p:txBody>
      </p:sp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pendenc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defines a class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represent a rational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ational number is a value that can be represented as the ratio of two inte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method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accept anoth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as a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ationalTester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9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ationa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9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CDCE-39CE-450B-A9DB-915AA5933082}" type="slidenum">
              <a:t>27</a:t>
            </a:fld>
          </a:p>
        </p:txBody>
      </p:sp>
    </p:spTree>
  </p:cSld>
  <p:transition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ggreg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ggreg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n object that is made up of other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aggregation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s-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s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s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ftware, an aggregate object contains references to other objects as instanc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ggregate object is defined in part by the objects that make it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special kind of dependency – the aggregate usually relies on the objects that compo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A4FE-D3AF-44E3-8C15-094BEA17F376}" type="slidenum">
              <a:t>28</a:t>
            </a:fld>
          </a:p>
        </p:txBody>
      </p:sp>
    </p:spTree>
  </p:cSld>
  <p:transition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ggreg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following example,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is composed, in part,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ent has an address (in fact each student has two address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udentBody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Student.java (page 30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Address.java (page 30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ggregation association is shown in a UML class diagram using an open diamond at the aggregate 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61EB-5174-4805-805D-1F25CEBD1E5A}" type="slidenum">
              <a:t>29</a:t>
            </a:fld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960" y="114300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0679-7621-42FE-AEE3-F15FDEE81772}" type="slidenum">
              <a:t>3</a:t>
            </a:fld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ggregation in UML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73120" y="1452960"/>
            <a:ext cx="6934320" cy="4033440"/>
            <a:chOff x="1473120" y="1452960"/>
            <a:chExt cx="6934320" cy="4033440"/>
          </a:xfrm>
        </p:grpSpPr>
        <p:sp>
          <p:nvSpPr>
            <p:cNvPr id="157" name=""/>
            <p:cNvSpPr/>
            <p:nvPr/>
          </p:nvSpPr>
          <p:spPr>
            <a:xfrm>
              <a:off x="1473120" y="1452960"/>
              <a:ext cx="3175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Student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3120" y="1857240"/>
              <a:ext cx="3175200" cy="3049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73120" y="2147760"/>
              <a:ext cx="3175200" cy="471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3022560"/>
              <a:ext cx="2844720" cy="5335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oString()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4160" y="1467360"/>
              <a:ext cx="284328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62720" y="1866960"/>
              <a:ext cx="2844720" cy="1155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firstName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lastName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homeAddress :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schoolAddress :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31840" y="4952880"/>
              <a:ext cx="2845080" cy="5335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oString()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31840" y="3797280"/>
              <a:ext cx="2845080" cy="1155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streetAddress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city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state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zipCode : 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31840" y="3397680"/>
              <a:ext cx="284508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77120" y="3581280"/>
              <a:ext cx="380880" cy="3812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6" idx="2"/>
              <a:endCxn id="164" idx="3"/>
            </p:cNvCxnSpPr>
            <p:nvPr/>
          </p:nvCxnSpPr>
          <p:spPr>
            <a:xfrm rot="5400000">
              <a:off x="5565240" y="3273480"/>
              <a:ext cx="413280" cy="1791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4648320" y="1676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C435-14B4-48E3-A596-F80C714E50C2}" type="slidenum">
              <a:t>30</a:t>
            </a:fld>
          </a:p>
        </p:txBody>
      </p:sp>
    </p:spTree>
  </p:cSld>
  <p:transition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this Refere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allows an object to refer to itsel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, used inside a method, refers to the object through which the method is being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is used in a method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y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invoked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7120" y="4340160"/>
            <a:ext cx="216180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1.tryM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2.tryM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3341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first invocation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refer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in the second it refer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FB6C-7555-45CD-B8CC-C6348BD43A6B}" type="slidenum">
              <a:t>31</a:t>
            </a:fld>
          </a:p>
        </p:txBody>
      </p:sp>
    </p:spTree>
  </p:cSld>
  <p:transition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this refere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ence can be used to distinguish the instance variables of a class from corresponding method parameters with the same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structor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(from Chapter 4) could have been written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3640320"/>
            <a:ext cx="716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ccount (Sring name, long acctNumb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name =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acctNumber = acct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balance = balan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79F1-DF39-48E7-AAF5-944ABCA9E1F7}" type="slidenum">
              <a:t>32</a:t>
            </a:fld>
          </a:p>
        </p:txBody>
      </p:sp>
    </p:spTree>
  </p:cSld>
  <p:transition>
    <p:wheel spokes="1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7960" y="114300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EAC9-7812-469E-BC89-EF43DAAEF528}" type="slidenum">
              <a:t>33</a:t>
            </a:fld>
          </a:p>
        </p:txBody>
      </p:sp>
    </p:spTree>
  </p:cSld>
  <p:transition>
    <p:wheel spokes="1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Jav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llection of abstract methods and const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stract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method header without a method bo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bstract method can be declared using the modifi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t because all methods in an interface are abstract, usually it is left 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erface is used to establish a set of methods that a class will imp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7065-FE79-4233-AF00-AA8758C8C3FE}" type="slidenum">
              <a:t>34</a:t>
            </a:fld>
          </a:p>
        </p:txBody>
      </p:sp>
    </p:spTree>
  </p:cSld>
  <p:transition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78000" y="2497320"/>
            <a:ext cx="719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erface Do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oThi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doTha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oThis2 (float value, char 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doTheOther (int 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540440" y="1523160"/>
            <a:ext cx="3547440" cy="808920"/>
            <a:chOff x="1540440" y="1523160"/>
            <a:chExt cx="3547440" cy="808920"/>
          </a:xfrm>
        </p:grpSpPr>
        <p:sp>
          <p:nvSpPr>
            <p:cNvPr id="184" name=""/>
            <p:cNvSpPr/>
            <p:nvPr/>
          </p:nvSpPr>
          <p:spPr>
            <a:xfrm>
              <a:off x="1540440" y="1523160"/>
              <a:ext cx="35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 is a reserved 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60720" y="1951200"/>
              <a:ext cx="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696280" y="1827720"/>
            <a:ext cx="300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None of the method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n interface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 definition 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669560" y="4495680"/>
            <a:ext cx="3602160" cy="1159920"/>
            <a:chOff x="4669560" y="4495680"/>
            <a:chExt cx="3602160" cy="1159920"/>
          </a:xfrm>
        </p:grpSpPr>
        <p:sp>
          <p:nvSpPr>
            <p:cNvPr id="188" name=""/>
            <p:cNvSpPr/>
            <p:nvPr/>
          </p:nvSpPr>
          <p:spPr>
            <a:xfrm>
              <a:off x="4669560" y="4951800"/>
              <a:ext cx="360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A semicolon immediate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follows each method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934320" y="4495680"/>
              <a:ext cx="2188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2BAE-403F-44F6-AA18-48CA3A9B33C2}" type="slidenum">
              <a:t>35</a:t>
            </a:fld>
          </a:p>
        </p:txBody>
      </p:sp>
    </p:spTree>
  </p:cSld>
  <p:transition>
    <p:wheel spokes="1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erface cannot be instanti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in an interface have public visibility by defa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formally implements an interface b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ng so in the class 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implementations for each abstract method in the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class asserts that it implements an interface, it must define all methods in th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8122-67A6-489A-8791-22425948EA40}" type="slidenum">
              <a:t>36</a:t>
            </a:fld>
          </a:p>
        </p:txBody>
      </p:sp>
    </p:spTree>
  </p:cSld>
  <p:transition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2000" y="1293480"/>
            <a:ext cx="5667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anDo implements Do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oThis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doThat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791320" y="1752120"/>
            <a:ext cx="2507400" cy="1008000"/>
            <a:chOff x="5791320" y="1752120"/>
            <a:chExt cx="2507400" cy="1008000"/>
          </a:xfrm>
        </p:grpSpPr>
        <p:sp>
          <p:nvSpPr>
            <p:cNvPr id="195" name=""/>
            <p:cNvSpPr/>
            <p:nvPr/>
          </p:nvSpPr>
          <p:spPr>
            <a:xfrm>
              <a:off x="6211440" y="2056320"/>
              <a:ext cx="208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lements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 is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reserved 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791320" y="1752120"/>
              <a:ext cx="76176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638680" y="3429000"/>
            <a:ext cx="2842560" cy="1295280"/>
            <a:chOff x="5638680" y="3429000"/>
            <a:chExt cx="2842560" cy="1295280"/>
          </a:xfrm>
        </p:grpSpPr>
        <p:sp>
          <p:nvSpPr>
            <p:cNvPr id="198" name=""/>
            <p:cNvSpPr/>
            <p:nvPr/>
          </p:nvSpPr>
          <p:spPr>
            <a:xfrm>
              <a:off x="5968800" y="3504240"/>
              <a:ext cx="2512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Each method lis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in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able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given a defin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38680" y="3429000"/>
              <a:ext cx="457200" cy="129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C37C-D6C9-43CC-BF3D-60C4AF21F582}" type="slidenum">
              <a:t>37</a:t>
            </a:fld>
          </a:p>
        </p:txBody>
      </p:sp>
    </p:spTree>
  </p:cSld>
  <p:transition>
    <p:wheel spokes="1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that implements an interface can implement other method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Complexity.java (page 3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Question.java (page 31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MiniQuiz.java (page 31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(or instead of) abstract methods, an interface can contain const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class implements an interface, it gains access to all its const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5A5F-BCF9-4440-ACDF-72829AACD307}" type="slidenum">
              <a:t>38</a:t>
            </a:fld>
          </a:p>
        </p:txBody>
      </p:sp>
    </p:spTree>
  </p:cSld>
  <p:transition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25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can implement multiple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faces are listed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 must implement all methods in all interfaces listed in the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38098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anyThings implements interface1, interfac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ll methods of both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83C0-3C8B-4512-B9ED-9BE1D42588EB}" type="slidenum">
              <a:t>39</a:t>
            </a:fld>
          </a:p>
        </p:txBody>
      </p:sp>
    </p:spTree>
  </p:cSld>
  <p:transition>
    <p:wheel spokes="1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rogram Develop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reation of software involves four basic activi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ing th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a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ing th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th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ctivities are not strictly linear – they overlap and inte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F4A6-87EF-470F-86A9-CA7FB5E5CA1C}" type="slidenum">
              <a:t>4</a:t>
            </a:fld>
          </a:p>
        </p:txBody>
      </p:sp>
    </p:spTree>
  </p:cSld>
  <p:transition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standard class library contains many helpful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 contains one abstract method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used to compare two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iscusse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n Chapt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mplemen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giving us the ability to put strings in lexicographic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5383-6740-4C1E-9EBE-F5142B994C3A}" type="slidenum">
              <a:t>40</a:t>
            </a:fld>
          </a:p>
        </p:txBody>
      </p:sp>
    </p:spTree>
  </p:cSld>
  <p:transition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mparable Interfa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class can impl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provide a mechanism for comparing objects of that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2860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obj1.compareTo(obj2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obj1 is less than obj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352680"/>
            <a:ext cx="7924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return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 negative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less tha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0 if they are equal, and positive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programmer designs a class that implement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, it should follow this i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403F-A1BC-43C9-9577-7CEF97C117D7}" type="slidenum">
              <a:t>41</a:t>
            </a:fld>
          </a:p>
        </p:txBody>
      </p:sp>
    </p:spTree>
  </p:cSld>
  <p:transition>
    <p:wheel spokes="1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mparable Interfa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up to the programmer to determine what makes one object less than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you may defin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to order employees by name (alphabetically) or by employee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mplementation of the method can be as straightforward or as complex as needed for the si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A8FD-FB8A-49EA-981F-3BD62DD79A92}" type="slidenum">
              <a:t>42</a:t>
            </a:fld>
          </a:p>
        </p:txBody>
      </p:sp>
    </p:spTree>
  </p:cSld>
  <p:transition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Iterator Interfa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 discussed in Chapter 5, an iterator is an object that provides a means of processing a collection of objects one at a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terator is created formally by implement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, which contains three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returns a boolean result – true if there are items left to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returns the next object in the it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removes the object most recently return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8E64-C3A5-4C97-96AC-631E596A3B33}" type="slidenum">
              <a:t>43</a:t>
            </a:fld>
          </a:p>
        </p:txBody>
      </p:sp>
    </p:spTree>
  </p:cSld>
  <p:transition>
    <p:wheel spokes="1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Iterator Interfa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implement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, a class formally establishes that objects of that type are it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grammer must decide how best to implement the iterator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established, the for-each vers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can be used to process the items in the iter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11C4-15FA-4F32-BBC4-4603815A0AD3}" type="slidenum">
              <a:t>44</a:t>
            </a:fld>
          </a:p>
        </p:txBody>
      </p:sp>
    </p:spTree>
  </p:cSld>
  <p:transition>
    <p:wheel spokes="1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ould write a class that implements certain methods (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without formally implementing the interfac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formally establishing the relationship between a class and an interface allows Java to deal with an object in certain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are a key aspect of object-oriented design in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iscuss this idea further in Chapter 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A186-C33A-4860-8C01-F753D50861CD}" type="slidenum">
              <a:t>45</a:t>
            </a:fld>
          </a:p>
        </p:txBody>
      </p:sp>
    </p:spTree>
  </p:cSld>
  <p:transition>
    <p:wheel spokes="1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7960" y="114300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962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096B-8979-4814-8C24-28FE5C9C5C25}" type="slidenum">
              <a:t>46</a:t>
            </a:fld>
          </a:p>
        </p:txBody>
      </p:sp>
    </p:spTree>
  </p:cSld>
  <p:transition>
    <p:wheel spokes="1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umerated Typ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hapter 3 we introduced enumerated types, which define a new data type and list all possible values of that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26668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Season {winter, spring, summer, fall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35268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established, the new type can be used to declar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44197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ason ti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50292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values this variable can be assigned are the ones established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573B-E59E-43CE-8F6E-20CAEEB385C3}" type="slidenum">
              <a:t>47</a:t>
            </a:fld>
          </a:p>
        </p:txBody>
      </p:sp>
    </p:spTree>
  </p:cSld>
  <p:transition>
    <p:wheel spokes="1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umerated Typ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umerated type definition is a special kind of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s of the enumerated type are objects of that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bject of typ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's why the following assignment is val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 = Season.fal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98DC-42EA-4F79-9E42-8528F712F882}" type="slidenum">
              <a:t>48</a:t>
            </a:fld>
          </a:p>
        </p:txBody>
      </p:sp>
    </p:spTree>
  </p:cSld>
  <p:transition>
    <p:wheel spokes="1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umerated Typ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umerated type definition can be more interesting than a simple list of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y are like classes, we can add additional instance data and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efine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value listed for the enumerated type calls the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Season.java (page 31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SeasonTester.java (page 31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E821-E0FB-45E7-9002-CB93C3450034}" type="slidenum">
              <a:t>49</a:t>
            </a:fld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quirem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y the tasks that a program must accomp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do, not how to do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an initial set of requirements is provided, but they should be critiqued and expa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difficult to establish detailed, unambiguous, and complete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 attention to the requirements can save significant time and expense in the overall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3653-8CB4-49FE-9DC1-D8BE01CBA6DC}" type="slidenum">
              <a:t>5</a:t>
            </a:fld>
          </a:p>
        </p:txBody>
      </p:sp>
    </p:spTree>
  </p:cSld>
  <p:transition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umerated Typ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enumerated type contains a static method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returns a list of all possible values for that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st return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iterator, s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can be used to process them easi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umerated type cannot be instantiated outside of its own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efully designed enumerated type provides a versatile and type-safe mechanism for manag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F404-8764-4F4C-BB07-86A51C4D80FD}" type="slidenum">
              <a:t>50</a:t>
            </a:fld>
          </a:p>
        </p:txBody>
      </p:sp>
    </p:spTree>
  </p:cSld>
  <p:transition>
    <p:wheel spokes="1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960" y="114300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5E61-969F-4EFA-8926-8995EAB622F1}" type="slidenum">
              <a:t>51</a:t>
            </a:fld>
          </a:p>
        </p:txBody>
      </p:sp>
    </p:spTree>
  </p:cSld>
  <p:transition>
    <p:wheel spokes="1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Desig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've discussed, high-level design issue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ing primary classes and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ing primary responsi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establishing high-level design issues, its important to address low-level issues such as the design of key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ome methods, careful planning is needed to make sure they contribute to an efficient and elegant system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0893-C52E-47C2-A25F-8B9BF129B3C6}" type="slidenum">
              <a:t>52</a:t>
            </a:fld>
          </a:p>
        </p:txBody>
      </p:sp>
    </p:spTree>
  </p:cSld>
  <p:transition>
    <p:wheel spokes="1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Desig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tep-by-step process for solving a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 a recipe, travel dir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method implements an algorithm that determines how the method accomplishes its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lgorithm may be expressed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seudoco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mixture of code statements and English that communicate the steps to t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BC23-3E4C-4D3F-98E7-4068FE0D17AB}" type="slidenum">
              <a:t>53</a:t>
            </a:fld>
          </a:p>
        </p:txBody>
      </p:sp>
    </p:spTree>
  </p:cSld>
  <p:transition>
    <p:wheel spokes="1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Decomposi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should be relatively small, so that it can be understood as a single ent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tentially large method should be decomposed into several smaller methods as needed for c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ublic service method of an object may call one or more private support methods to help it accomplish its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methods might call other support methods if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89DB-7097-448A-9A7D-13AC2FB586DB}" type="slidenum">
              <a:t>54</a:t>
            </a:fld>
          </a:p>
        </p:txBody>
      </p:sp>
    </p:spTree>
  </p:cSld>
  <p:transition>
    <p:wheel spokes="1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Decomposi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an example that requires method decomposition – translating English into Pig Lat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 Latin is a language in which each word is modified by moving the initial sound of the word to the end and adding "ay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s that begin with vowels have the "yay" sound added on the 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52480" y="4648320"/>
            <a:ext cx="2743200" cy="380880"/>
            <a:chOff x="1752480" y="4648320"/>
            <a:chExt cx="2743200" cy="380880"/>
          </a:xfrm>
        </p:grpSpPr>
        <p:sp>
          <p:nvSpPr>
            <p:cNvPr id="246" name=""/>
            <p:cNvSpPr/>
            <p:nvPr/>
          </p:nvSpPr>
          <p:spPr>
            <a:xfrm>
              <a:off x="1752480" y="46483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76360" y="46483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ookb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48387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05520" y="4648320"/>
            <a:ext cx="2743200" cy="380880"/>
            <a:chOff x="5105520" y="4648320"/>
            <a:chExt cx="2743200" cy="380880"/>
          </a:xfrm>
        </p:grpSpPr>
        <p:sp>
          <p:nvSpPr>
            <p:cNvPr id="250" name=""/>
            <p:cNvSpPr/>
            <p:nvPr/>
          </p:nvSpPr>
          <p:spPr>
            <a:xfrm>
              <a:off x="5105520" y="46483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29400" y="46483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ablet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920" y="483876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752480" y="5334120"/>
            <a:ext cx="2743200" cy="380880"/>
            <a:chOff x="1752480" y="5334120"/>
            <a:chExt cx="2743200" cy="380880"/>
          </a:xfrm>
        </p:grpSpPr>
        <p:sp>
          <p:nvSpPr>
            <p:cNvPr id="254" name=""/>
            <p:cNvSpPr/>
            <p:nvPr/>
          </p:nvSpPr>
          <p:spPr>
            <a:xfrm>
              <a:off x="1752480" y="53341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76360" y="53341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itemy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6880" y="55245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105520" y="5334120"/>
            <a:ext cx="2743200" cy="380880"/>
            <a:chOff x="5105520" y="5334120"/>
            <a:chExt cx="2743200" cy="380880"/>
          </a:xfrm>
        </p:grpSpPr>
        <p:sp>
          <p:nvSpPr>
            <p:cNvPr id="258" name=""/>
            <p:cNvSpPr/>
            <p:nvPr/>
          </p:nvSpPr>
          <p:spPr>
            <a:xfrm>
              <a:off x="5105520" y="53341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ch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29400" y="53341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airch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55245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5BAB-079E-4001-8CA0-54BDD136D737}" type="slidenum">
              <a:t>55</a:t>
            </a:fld>
          </a:p>
        </p:txBody>
      </p:sp>
    </p:spTree>
  </p:cSld>
  <p:transition>
    <p:wheel spokes="1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Decomposi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mary objective (translating a sentence) is too complicated for one method to accomp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we look for natural ways to decompose the solution into pie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ng a sentence can be decomposed into the process of translating each 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 of translating a word can be separated into translating words th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with vow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with consonant blends (sh, cr, th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with single consona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F9C4-EE4F-418F-9D19-D9F399770D66}" type="slidenum">
              <a:t>56</a:t>
            </a:fld>
          </a:p>
        </p:txBody>
      </p:sp>
    </p:spTree>
  </p:cSld>
  <p:transition>
    <p:wheel spokes="1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Decomposi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PigLatin.java (page 32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PigLatinTranslator.java (page 32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UML class diagram, the visibility of a variable or method can be shown using special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members are preceded by a plus 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members are preceded by a minus 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D591-5FC2-4081-934E-2515DFF5647D}" type="slidenum">
              <a:t>57</a:t>
            </a:fld>
          </a:p>
        </p:txBody>
      </p:sp>
    </p:spTree>
  </p:cSld>
  <p:transition>
    <p:wheel spokes="1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 Diagram for Pig Lati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447920" y="1667520"/>
            <a:ext cx="7086600" cy="3666600"/>
            <a:chOff x="1447920" y="1667520"/>
            <a:chExt cx="7086600" cy="3666600"/>
          </a:xfrm>
        </p:grpSpPr>
        <p:sp>
          <p:nvSpPr>
            <p:cNvPr id="267" name=""/>
            <p:cNvSpPr/>
            <p:nvPr/>
          </p:nvSpPr>
          <p:spPr>
            <a:xfrm>
              <a:off x="1447920" y="1667520"/>
              <a:ext cx="32004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ig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47920" y="2071800"/>
              <a:ext cx="3200400" cy="30456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47920" y="2362320"/>
              <a:ext cx="3200400" cy="4712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3700440"/>
              <a:ext cx="4572000" cy="3380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62520" y="4038480"/>
              <a:ext cx="4572000" cy="12956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ranslate (sentence : String)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translateWord (word : String)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beginsWithVowel (word : String) : bool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beginsWithBlend (word : String) : bool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62520" y="3296160"/>
              <a:ext cx="45720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igLatin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" name=""/>
            <p:cNvCxnSpPr>
              <a:stCxn id="269" idx="2"/>
              <a:endCxn id="272" idx="1"/>
            </p:cNvCxnSpPr>
            <p:nvPr/>
          </p:nvCxnSpPr>
          <p:spPr>
            <a:xfrm flipH="1" rot="16200000">
              <a:off x="3174120" y="2706840"/>
              <a:ext cx="662760" cy="9151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CA5F-A690-441C-B6A6-A88711A6C886}" type="slidenum">
              <a:t>58</a:t>
            </a:fld>
          </a:p>
        </p:txBody>
      </p:sp>
    </p:spTree>
  </p:cSld>
  <p:transition>
    <p:wheel spokes="1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bjects as Paramet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important issue related to method design involves parameter pa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 in a Java method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sed by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py of the actual parameter (the value passed in) is stored into the formal parameter (in the method head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passing parameters is similar to an assignment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object is passed to a method, the actual parameter and the formal parameter become aliases of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16E1E-A400-4D37-B637-D63125E4AA0B}" type="slidenum">
              <a:t>59</a:t>
            </a:fld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ftware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 will accomplish its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a software design determin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he solution can be broken down into manageable pie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each piece will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-oriented design determines which classes  and objects are needed, and specifies how they will inte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level design details include how individual methods will accomplish their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11C6-3BDC-4E08-A6E4-FDD58B8B30F1}" type="slidenum">
              <a:t>6</a:t>
            </a:fld>
          </a:p>
        </p:txBody>
      </p:sp>
    </p:spTree>
  </p:cSld>
  <p:transition>
    <p:wheel spokes="1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assing Objects to Metho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 method does with a parameter may or may not have a permanent effect (outside the metho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ParameterTester.java (page 32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ParameterModifier.java (page 32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Num.java (page 33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difference between changing the internal state of an object versus changing which object a reference points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5BCC-0FF0-49F5-8B08-38BC25ED429E}" type="slidenum">
              <a:t>60</a:t>
            </a:fld>
          </a:p>
        </p:txBody>
      </p:sp>
    </p:spTree>
  </p:cSld>
  <p:transition>
    <p:wheel spokes="1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Overload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process of giving a single method name multiple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method is overloaded, the method name is not sufficient to determine which method is being cal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gna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each overloaded method must be un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gnature includes the number, type, and order of th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69CF-136E-4F9B-BDDA-3320E506621C}" type="slidenum">
              <a:t>61</a:t>
            </a:fld>
          </a:p>
        </p:txBody>
      </p:sp>
    </p:spTree>
  </p:cSld>
  <p:transition>
    <p:wheel spokes="1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Overload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iler determines which method is being invoked by analyzing th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17680" y="2513520"/>
            <a:ext cx="307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tryMe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+ .37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41360" y="4113720"/>
            <a:ext cx="429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tryMe(int x, float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*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06960" y="2787480"/>
            <a:ext cx="3838320" cy="871200"/>
            <a:chOff x="5106960" y="2787480"/>
            <a:chExt cx="3838320" cy="871200"/>
          </a:xfrm>
        </p:grpSpPr>
        <p:sp>
          <p:nvSpPr>
            <p:cNvPr id="285" name=""/>
            <p:cNvSpPr/>
            <p:nvPr/>
          </p:nvSpPr>
          <p:spPr>
            <a:xfrm>
              <a:off x="5106960" y="3259800"/>
              <a:ext cx="3838320" cy="398880"/>
            </a:xfrm>
            <a:prstGeom prst="rect">
              <a:avLst/>
            </a:prstGeom>
            <a:solidFill>
              <a:srgbClr val="f5e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sult = tryMe(25, 4.3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87960" y="278748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Verdana"/>
                </a:rPr>
                <a:t>Inv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5" idx="2"/>
            <a:endCxn id="283" idx="3"/>
          </p:cNvCxnSpPr>
          <p:nvPr/>
        </p:nvCxnSpPr>
        <p:spPr>
          <a:xfrm rot="5400000">
            <a:off x="5775480" y="3519720"/>
            <a:ext cx="1113120" cy="1388160"/>
          </a:xfrm>
          <a:prstGeom prst="bentConnector2">
            <a:avLst/>
          </a:prstGeom>
          <a:ln w="57240">
            <a:solidFill>
              <a:srgbClr val="de2c28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A5DC-1988-4D50-BFE5-6B51699F5851}" type="slidenum">
              <a:t>62</a:t>
            </a:fld>
          </a:p>
        </p:txBody>
      </p:sp>
    </p:spTree>
  </p:cSld>
  <p:transition>
    <p:wheel spokes="1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Overload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ntl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is overload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ln (String 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ln (int 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ln (double 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o on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lines invoke different versions of th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ntl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The total is:"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total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8AB5-83DD-4CF3-8426-FA77AE59E530}" type="slidenum">
              <a:t>63</a:t>
            </a:fld>
          </a:p>
        </p:txBody>
      </p:sp>
    </p:spTree>
  </p:cSld>
  <p:transition>
    <p:wheel spokes="1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verloading Metho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turn type of the method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t of the sign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overloaded methods cannot differ only by their return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ors can be overloa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aded constructors provide multiple ways to initialize a new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63C4-5D96-45FC-89F8-6EFF52D2603E}" type="slidenum">
              <a:t>64</a:t>
            </a:fld>
          </a:p>
        </p:txBody>
      </p:sp>
    </p:spTree>
  </p:cSld>
  <p:transition>
    <p:wheel spokes="1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67960" y="114300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5029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31C2-8333-4530-8CFF-C2DD646BD98D}" type="slidenum">
              <a:t>65</a:t>
            </a:fld>
          </a:p>
        </p:txBody>
      </p:sp>
    </p:spTree>
  </p:cSld>
  <p:transition>
    <p:wheel spokes="1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est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 can mean many different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ertainly includes running a completed program with various inpu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so includes any evaluation performed by human or computer to assess 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evaluations should occur before coding even beg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arlier we find an problem, the easier and cheaper it is to f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C1A1-9876-4208-ADB4-AD6E728616AE}" type="slidenum">
              <a:t>66</a:t>
            </a:fld>
          </a:p>
        </p:txBody>
      </p:sp>
    </p:spTree>
  </p:cSld>
  <p:transition>
    <p:wheel spokes="1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est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of testing is to find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 find and fix errors, we raise our confidence that a program will perform as int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never really be sure that all errors have been elimin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en do we stop tes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ptual answer:  Ne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ide answer:  When we run out of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answer:  When we are willing to risk that an undiscovered error still ex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B977-E63B-402B-B3EC-E523AD53BEBA}" type="slidenum">
              <a:t>67</a:t>
            </a:fld>
          </a:p>
        </p:txBody>
      </p:sp>
    </p:spTree>
  </p:cSld>
  <p:transition>
    <p:wheel spokes="1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view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meeting in which several people examine a design document or section of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common and effective form of human-based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ing a design or code to oth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s us think more carefully about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an outside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s are sometime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pe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lkthroug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1A6B-4284-4171-873F-C79D7C9E3B37}" type="slidenum">
              <a:t>68</a:t>
            </a:fld>
          </a:p>
        </p:txBody>
      </p:sp>
    </p:spTree>
  </p:cSld>
  <p:transition>
    <p:wheel spokes="1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est Ca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st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et of input and user actions, coupled with the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test cases are organized formally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st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are stored and reused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edium and large systems, testing must be a carefully managed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organizations have a separate Quality Assurance (QA) department to lead testing eff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7019-6EF6-468D-A160-38C4AFAB99AA}" type="slidenum">
              <a:t>69</a:t>
            </a:fld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process of translating a design into sourc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ice programmers often think that writing code is the heart of software development, but actually it should be the least creative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most all important decisions are made during requirements and design s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should focus on coding details, including style guidelines and 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BC8B-2A8B-4A71-87B7-A55931882DB5}" type="slidenum">
              <a:t>7</a:t>
            </a:fld>
          </a:p>
        </p:txBody>
      </p:sp>
    </p:spTree>
  </p:cSld>
  <p:transition>
    <p:wheel spokes="1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fect and Regression Test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ect te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execution of test cases to uncover erro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t of fixing an error may introduce new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fixing a set of errors we should perfor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ression te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running previous test suites to ensure new errors haven't been introdu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create test cases for all possible input and user 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we should design tests to maximize their ability to find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9F8C-D6AD-4533-82B8-1B3D5DBF84E1}" type="slidenum">
              <a:t>70</a:t>
            </a:fld>
          </a:p>
        </p:txBody>
      </p:sp>
    </p:spTree>
  </p:cSld>
  <p:transition>
    <p:wheel spokes="1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lack-Box Test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ack-box te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est cases are developed without considering the internal log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based on the input and expected out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can be organized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quivalence categ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input values in the same equivalence category would produce similar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a good test suite will cover all equivalence categories and focus on the boundaries between categ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B689-9B2A-4F8F-BCBA-F3B15CCC3CF8}" type="slidenum">
              <a:t>71</a:t>
            </a:fld>
          </a:p>
        </p:txBody>
      </p:sp>
    </p:spTree>
  </p:cSld>
  <p:transition>
    <p:wheel spokes="1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White-Box Test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ite-box te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cuses on the internal structure of th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ensure that every path through the code is te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 through the code are governed by any conditional or looping statements in a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ood testing effort will include both black-box and white-box t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4C135-E2F2-4FA7-A8B7-8CB86EB2A204}" type="slidenum">
              <a:t>72</a:t>
            </a:fld>
          </a:p>
        </p:txBody>
      </p:sp>
    </p:spTree>
  </p:cSld>
  <p:transition>
    <p:wheel spokes="1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67960" y="114300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28800" y="5638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91E9-7B43-477E-B17C-9BABA6A7B6A7}" type="slidenum">
              <a:t>73</a:t>
            </a:fld>
          </a:p>
        </p:txBody>
      </p:sp>
    </p:spTree>
  </p:cSld>
  <p:transition>
    <p:wheel spokes="1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Desig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ust remember that the goal of software is to help the user solve the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at end, the GUI designer shoul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 the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 user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e user 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consis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discuss each of these in more det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B7A7-EE98-41FA-83ED-FC5BF98FB371}" type="slidenum">
              <a:t>74</a:t>
            </a:fld>
          </a:p>
        </p:txBody>
      </p:sp>
    </p:spTree>
  </p:cSld>
  <p:transition>
    <p:wheel spokes="1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Know the Use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ing the user implies an understanding o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r's true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r's common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r's level of expertise in the problem domain and in computer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also realize these issues may differ for different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 to the user, the interfac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3D68-8C70-46CD-8DFA-FDDC6D910E3D}" type="slidenum">
              <a:t>75</a:t>
            </a:fld>
          </a:p>
        </p:txBody>
      </p:sp>
    </p:spTree>
  </p:cSld>
  <p:transition>
    <p:wheel spokes="1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revent User Err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possible, we should design user interfaces that minimize possible user mistak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choose the best GUI components for each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n a situation where there are only a few valid options, using a menu or radio buttons would be better than an open text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messages should guide the user appropr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2CFB-59D4-45B3-B580-A4B974D8BD7C}" type="slidenum">
              <a:t>76</a:t>
            </a:fld>
          </a:p>
        </p:txBody>
      </p:sp>
    </p:spTree>
  </p:cSld>
  <p:transition>
    <p:wheel spokes="1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ptimize User Abiliti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ll users are alike – some may be more familiar with the system than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able users are sometime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wer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provide multiple ways to accomplish a task whenever reason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wizards" to walk a user through a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cuts for power 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 facilities should be available but not intru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7CF9-B804-4C8C-92ED-E286958EDAF2}" type="slidenum">
              <a:t>77</a:t>
            </a:fld>
          </a:p>
        </p:txBody>
      </p:sp>
    </p:spTree>
  </p:cSld>
  <p:transition>
    <p:wheel spokes="1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e Consist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cy is important – users get used to things appearing and working in certain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s should be used consistently to indicate similar types of information or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een layout should be consistent from one part of a system to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error messages should appear in consistent 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3AF0-BA99-440B-8C1D-B49EE965292C}" type="slidenum">
              <a:t>78</a:t>
            </a:fld>
          </a:p>
        </p:txBody>
      </p:sp>
    </p:spTree>
  </p:cSld>
  <p:transition>
    <p:wheel spokes="1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ayout Manag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yout mana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bject that determines the way that components are arranged in a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everal predefined layout managers defined in the Java standard class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465800" y="3352680"/>
            <a:ext cx="3418200" cy="1600200"/>
            <a:chOff x="4465800" y="3352680"/>
            <a:chExt cx="3418200" cy="1600200"/>
          </a:xfrm>
        </p:grpSpPr>
        <p:sp>
          <p:nvSpPr>
            <p:cNvPr id="325" name=""/>
            <p:cNvSpPr/>
            <p:nvPr/>
          </p:nvSpPr>
          <p:spPr>
            <a:xfrm>
              <a:off x="4465800" y="3352680"/>
              <a:ext cx="533160" cy="160020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67880" y="3860640"/>
              <a:ext cx="26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Defined in the AW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465800" y="5105520"/>
            <a:ext cx="3097440" cy="685800"/>
            <a:chOff x="4465800" y="5105520"/>
            <a:chExt cx="3097440" cy="685800"/>
          </a:xfrm>
        </p:grpSpPr>
        <p:sp>
          <p:nvSpPr>
            <p:cNvPr id="328" name=""/>
            <p:cNvSpPr/>
            <p:nvPr/>
          </p:nvSpPr>
          <p:spPr>
            <a:xfrm>
              <a:off x="4465800" y="5105520"/>
              <a:ext cx="533160" cy="68580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44480" y="518328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Defined in Sw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301840" y="3246480"/>
            <a:ext cx="205740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Flow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Border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ard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Grid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GridBag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67640" y="5105520"/>
            <a:ext cx="211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Box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Overlay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DD84-C55F-4328-B2AC-C5CE98EC683A}" type="slidenum">
              <a:t>79</a:t>
            </a:fld>
          </a:p>
        </p:txBody>
      </p:sp>
    </p:spTree>
  </p:cSld>
  <p:transition>
    <p:wheel spokes="1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est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tempts to ensure that the program will solve the intended problem under all the constraints specified in the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 should be thoroughly tested with the goal of finding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process of determining the cause of a problem and fixing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revisit the details of the testing process later in this chap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8ADF-45E1-4B28-9F6A-FF33B7C9CB79}" type="slidenum">
              <a:t>8</a:t>
            </a:fld>
          </a:p>
        </p:txBody>
      </p:sp>
    </p:spTree>
  </p:cSld>
  <p:transition>
    <p:wheel spokes="1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ayout Manag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container has a default layout manager, but we can explicitly set the layout manager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ayout manager has its own particular rules governing how the components will be arran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layout managers pay attention to a component's preferred size or alignment, while others do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yout manager attempts to adjust the layout as components are added and as containers are res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9D78-6D67-4058-B5BF-DCA35A896A20}" type="slidenum">
              <a:t>80</a:t>
            </a:fld>
          </a:p>
        </p:txBody>
      </p:sp>
    </p:spTree>
  </p:cSld>
  <p:transition>
    <p:wheel spokes="1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ayout Manag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u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a container to change its layout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Layout(new BorderLayout(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us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bed pa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container which permits one of several panes to be sel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LayoutDemo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0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Intro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BB5D-C472-45AC-B95E-CF5F3177A299}" type="slidenum">
              <a:t>81</a:t>
            </a:fld>
          </a:p>
        </p:txBody>
      </p:sp>
    </p:spTree>
  </p:cSld>
  <p:transition>
    <p:wheel spokes="1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low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ow 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uts as many components as possible on a row, then moves to the next r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s are created as needed to accommodate all of the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re displayed in the order they are added to the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ow of components is centered horizontally in the window by default, but could also be aligned left or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the horizontal and vertical gaps between the components can be explicitly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low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284F-A816-424A-8B22-BFD563E15A84}" type="slidenum">
              <a:t>82</a:t>
            </a:fld>
          </a:p>
        </p:txBody>
      </p:sp>
    </p:spTree>
  </p:cSld>
  <p:transition>
    <p:wheel spokes="1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rder 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fines five areas into which components can be ad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362320" y="2590920"/>
            <a:ext cx="4724280" cy="2514600"/>
            <a:chOff x="2362320" y="2590920"/>
            <a:chExt cx="4724280" cy="2514600"/>
          </a:xfrm>
        </p:grpSpPr>
        <p:sp>
          <p:nvSpPr>
            <p:cNvPr id="341" name=""/>
            <p:cNvSpPr/>
            <p:nvPr/>
          </p:nvSpPr>
          <p:spPr>
            <a:xfrm>
              <a:off x="2362320" y="2590920"/>
              <a:ext cx="4724280" cy="251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22440" y="2646360"/>
              <a:ext cx="4603680" cy="44784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22440" y="4602240"/>
              <a:ext cx="4603680" cy="44748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59080" y="3149640"/>
              <a:ext cx="293076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9960" y="3149640"/>
              <a:ext cx="77616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2440" y="3149640"/>
              <a:ext cx="77652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8000-A405-4076-BBED-5CC4EB7B9BBA}" type="slidenum">
              <a:t>83</a:t>
            </a:fld>
          </a:p>
        </p:txBody>
      </p:sp>
    </p:spTree>
  </p:cSld>
  <p:transition>
    <p:wheel spokes="1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rea displays one component (which could be a container such a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of the four outer areas enlarges as needed to accommodate the component added 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hing is added to the outer areas, they take up no space and other areas expand to fill the vo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er area expands to fill spac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Border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F5E4-AE80-4CB7-96C7-ED4403145E86}" type="slidenum">
              <a:t>84</a:t>
            </a:fld>
          </a:p>
        </p:txBody>
      </p:sp>
    </p:spTree>
  </p:cSld>
  <p:transition>
    <p:wheel spokes="1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rid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id 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s a container’s components in a rectangular grid of rows and colum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omponent is placed in each cell of the grid, and all cells have the same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components are added to the container, they fill the grid from left-to-right and top-to-bottom (by defaul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each cell is determined by the overall size of the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Grid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B132-DE8A-49B6-98E0-1B07B7C2DB39}" type="slidenum">
              <a:t>85</a:t>
            </a:fld>
          </a:p>
        </p:txBody>
      </p:sp>
    </p:spTree>
  </p:cSld>
  <p:transition>
    <p:wheel spokes="1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x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x 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ganizes components horizontally (in one row) or vertically (in one colu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re placed top-to-bottom or left-to-right in the order in which they are added to the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combining multiple containers using box layout, many different configurations can be cre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containers with box layouts are often preferred to one container that uses the more complicated gridbag layout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24D4-18BC-42AB-B3EF-0C2641E4BEA1}" type="slidenum">
              <a:t>86</a:t>
            </a:fld>
          </a:p>
        </p:txBody>
      </p:sp>
    </p:spTree>
  </p:cSld>
  <p:transition>
    <p:wheel spokes="1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x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visible 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added to a box layout container to take up space between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igid are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 fixed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ecifies where excess space should 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gid area is created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RigidAre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e is created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HorizontalG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VerticalG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Box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5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175C-017E-4236-B760-5B57F78D9A42}" type="slidenum">
              <a:t>87</a:t>
            </a:fld>
          </a:p>
        </p:txBody>
      </p:sp>
    </p:spTree>
  </p:cSld>
  <p:transition>
    <p:wheel spokes="1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put around any Swing component to define how the edges of the component should be dra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ders can be used effectively to group components visu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rderFac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ontains several static methods for creating border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order is applied to a component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8159-31C3-423C-B040-5938239713CC}" type="slidenum">
              <a:t>88</a:t>
            </a:fld>
          </a:p>
        </p:txBody>
      </p:sp>
    </p:spTree>
  </p:cSld>
  <p:transition>
    <p:wheel spokes="1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pty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the space around the edge of a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wise has no visual eff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rounds the component with a simple 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ine's color and thickness can be specif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tched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the effect of an etched groove around a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colors for the highlight and sha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DB35-9542-44A6-99D9-3F1E8B816076}" type="slidenum">
              <a:t>89</a:t>
            </a:fld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7960" y="114300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752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F4D3-D7FB-41CA-AC4C-91BA2789964B}" type="slidenum">
              <a:t>9</a:t>
            </a:fld>
          </a:p>
        </p:txBody>
      </p:sp>
    </p:spTree>
  </p:cSld>
  <p:transition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vel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raised or low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colors for the outer and inner highlights and sha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tled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s a title on or around the b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tle can be oriented in many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es the sizes of the top, left, bottom, and right edges of the border separ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either a solid color or an im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0C34-2AF8-4DFB-B776-AB649090E09B}" type="slidenum">
              <a:t>90</a:t>
            </a:fld>
          </a:p>
        </p:txBody>
      </p:sp>
    </p:spTree>
  </p:cSld>
  <p:transition>
    <p:wheel spokes="1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und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ombination of two bor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or both of the borders can be a compound b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rderDemo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5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8492-1590-44F8-98BB-7383FA0F9739}" type="slidenum">
              <a:t>91</a:t>
            </a:fld>
          </a:p>
        </p:txBody>
      </p:sp>
    </p:spTree>
  </p:cSld>
  <p:transition>
    <p:wheel spokes="1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 has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ing the classes and objects that are needed for a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lationships that can exist among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tic mod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sign of enumerated type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design and method overloa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 design and layout manag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F572-F725-4E75-A43F-D48C50171B63}" type="slidenum">
              <a:t>92</a:t>
            </a:fld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Trial User</cp:lastModifiedBy>
  <dcterms:modified xsi:type="dcterms:W3CDTF">2004-08-01T10:48:14Z</dcterms:modified>
  <cp:revision>35</cp:revision>
  <dc:subject/>
  <dc:title>PowerPoint Presentation</dc:title>
</cp:coreProperties>
</file>