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2C03-DDE3-4A7E-8703-88E9FB020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64CBA-C443-4987-A0E2-A03646A9D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7C70-F9F0-4187-85AB-1A4B8E0CD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7B9F7-DDDB-4CA6-A9AD-B594EEB0C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15511-F35A-4DA8-92AE-FF811D326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17BF9-5A3C-4041-A8C7-2ECF2FE56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911D6-844B-4EBD-97D4-F3726B31E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C9B3-F9A7-44C5-BD41-901D659B9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1EA4-4558-47AF-B107-68033A47F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5AF0-7395-4DC9-AE17-07A0D69DB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AFED-8747-41A0-BF91-1D81FFECC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AF33-C83A-413E-AC54-F2297D710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324120"/>
            <a:ext cx="3504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  <a:ea typeface="Arial"/>
              </a:rPr>
              <a:t>© 2004 Pearson Addison-Wesley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</a:rPr>
              <a:t>12-</a:t>
            </a:r>
            <a:fld id="{1C45214A-BE1A-4F3D-98DB-7377F493CF75}" type="slidenum">
              <a:rPr b="0" lang="en-US" sz="1000" spc="-1" strike="noStrike">
                <a:solidFill>
                  <a:srgbClr val="ff4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hapter 12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a1f"/>
                </a:solidFill>
                <a:latin typeface="Arial"/>
              </a:rPr>
              <a:t>Coll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llect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is an object that helps us organize and manage other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12 focuses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cept of a col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ng the interface from the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B6AE-0279-4CBC-8D9D-44D5BB21959D}" type="slidenum">
              <a:t>2</a:t>
            </a:fld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1143000"/>
            <a:ext cx="4267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es and S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es and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Collections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12207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DA627-2C74-4891-AE0C-18F0C2E332AD}" type="slidenum">
              <a:t>3</a:t>
            </a:fld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12 has focus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declaration and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ing arrays and array elements as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ing elements in an arr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button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FB82-765F-48A3-8BCB-9822E074F9AA}" type="slidenum">
              <a:t>4</a:t>
            </a:fld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dc:language>en-US</dc:language>
  <cp:lastModifiedBy>Trial User</cp:lastModifiedBy>
  <dcterms:modified xsi:type="dcterms:W3CDTF">2004-08-18T13:55:42Z</dcterms:modified>
  <cp:revision>23</cp:revision>
  <dc:subject/>
  <dc:title>PowerPoint Presentation</dc:title>
</cp:coreProperties>
</file>