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B3E68-4991-46BE-91A8-5C571E3AD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07F17-7999-490A-A539-D03EC4063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FEC84-9CF7-4720-92D6-5B9AEE7A0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72EB3-8208-4C76-B6AB-981FEA0EF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A3828-0519-4746-9F31-E5263C710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C419A-C102-4054-8059-975C130A9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61CEC-14CA-4DB3-BAF0-5E48A2F64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AA5A3-1713-4AC7-A7B2-1061BEAE0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8973D-7E12-4347-8751-7FCC520F4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DDA67-3D68-4617-9600-02627524D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E186-F7FD-4C5A-8A15-0A0655D16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172B-946D-48E4-B76F-E64DBE5E0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324120"/>
            <a:ext cx="3504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  <a:ea typeface="Arial"/>
              </a:rPr>
              <a:t>© 2004 Pearson Addison-Wesley.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80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</a:rPr>
              <a:t>11-</a:t>
            </a:r>
            <a:fld id="{E4C8071B-8270-4556-B9CE-F401884F9E77}" type="slidenum">
              <a:rPr b="0" lang="en-US" sz="1000" spc="-1" strike="noStrike">
                <a:solidFill>
                  <a:srgbClr val="ff4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11/MazeSearch.java" TargetMode="External"/><Relationship Id="rId3" Type="http://schemas.openxmlformats.org/officeDocument/2006/relationships/hyperlink" Target="file:///../examples/chap11/MazeSearch.java" TargetMode="External"/><Relationship Id="rId4" Type="http://schemas.openxmlformats.org/officeDocument/2006/relationships/hyperlink" Target="file:///../examples/chap11/Maze.java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11/SolveTowers.java" TargetMode="External"/><Relationship Id="rId3" Type="http://schemas.openxmlformats.org/officeDocument/2006/relationships/hyperlink" Target="file:///../examples/chap11/SolveTowers.java" TargetMode="External"/><Relationship Id="rId4" Type="http://schemas.openxmlformats.org/officeDocument/2006/relationships/hyperlink" Target="file:///../examples/chap11/TowersOfHanoi.java" TargetMode="External"/><Relationship Id="rId5" Type="http://schemas.openxmlformats.org/officeDocument/2006/relationships/hyperlink" Target="file:///../examples/chap11/TowersOfHanoi.java" TargetMode="Externa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11/TiledPictures.html" TargetMode="External"/><Relationship Id="rId3" Type="http://schemas.openxmlformats.org/officeDocument/2006/relationships/hyperlink" Target="file:///../examples/chap11/TiledPictures.html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11/KochSnowflake.java" TargetMode="External"/><Relationship Id="rId3" Type="http://schemas.openxmlformats.org/officeDocument/2006/relationships/hyperlink" Target="file:///../examples/chap11/KochSnowflake.java" TargetMode="External"/><Relationship Id="rId4" Type="http://schemas.openxmlformats.org/officeDocument/2006/relationships/hyperlink" Target="file:///../examples/chap11/KochPanel.java" TargetMode="External"/><Relationship Id="rId5" Type="http://schemas.openxmlformats.org/officeDocument/2006/relationships/hyperlink" Target="file:///../examples/chap11/KochPanel.java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hapter 11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a1f"/>
                </a:solidFill>
                <a:latin typeface="Arial"/>
              </a:rPr>
              <a:t>Recu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9760" y="1143000"/>
            <a:ext cx="3702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 Th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on in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1752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F211C-5038-4040-BA44-6622B137F3B4}" type="slidenum">
              <a:t>10</a:t>
            </a:fld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cursive Programm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thod in Java can invoke itself;  if set up that way, it is called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cursive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de of a recursive method must be structured to handle both the base case and the recursive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all to the method sets up a new execution environment, with new parameters and local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ith any method call, when the method completes, control returns to the method that invoked it (which may be an earlier invocation of itsel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741A-2F2E-4B25-A561-A99393794787}" type="slidenum">
              <a:t>11</a:t>
            </a:fld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cursive Programm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problem of computing the sum of all the numbers between 1 and any positive integer 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roblem can be recursively defined 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76520" y="3124080"/>
                <a:ext cx="6497640" cy="222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i</m:t>
                              </m:r>
                            </m:e>
                          </m:nary>
                        </m:e>
                        <m:e/>
                        <m:e>
                          <m:r>
                            <m:t xml:space="preserve">N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  <m:e>
                              <m:r>
                                <m:t xml:space="preserve">i</m:t>
                              </m:r>
                            </m:e>
                          </m:nary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sup>
                            <m:e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/>
                        <m:e>
                          <m:r>
                            <m:t xml:space="preserve">N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  <m:e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r>
                            <m:t xml:space="preserve"> </m:t>
                          </m:r>
                          <m:r>
                            <m:t xml:space="preserve">⋮</m:t>
                          </m:r>
                        </m:e>
                        <m:e/>
                      </m:mr>
                    </m:m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9CFA0-A4F9-4225-8140-E20FC224B2C2}" type="slidenum">
              <a:t>12</a:t>
            </a:fld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cursive Programm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160" y="129492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Courier New"/>
                <a:ea typeface="Courier New"/>
              </a:rPr>
              <a:t>// This method returns the sum of 1 to n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Courier New"/>
              </a:rPr>
              <a:t>su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int nu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ul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um ==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num +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  <a:ea typeface="Courier New"/>
              </a:rPr>
              <a:t>su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n-1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93326-F3DB-42A7-8A3B-9178B8329C62}" type="slidenum">
              <a:t>13</a:t>
            </a:fld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cursive Programm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752480" y="1371600"/>
            <a:ext cx="5983200" cy="4468680"/>
            <a:chOff x="1752480" y="1371600"/>
            <a:chExt cx="5983200" cy="4468680"/>
          </a:xfrm>
        </p:grpSpPr>
        <p:sp>
          <p:nvSpPr>
            <p:cNvPr id="118" name=""/>
            <p:cNvSpPr/>
            <p:nvPr/>
          </p:nvSpPr>
          <p:spPr>
            <a:xfrm>
              <a:off x="1752480" y="1542960"/>
              <a:ext cx="1134000" cy="48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41720" y="2800440"/>
              <a:ext cx="1134000" cy="48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04480" y="205740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04480" y="2403360"/>
              <a:ext cx="149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00640" y="2424240"/>
              <a:ext cx="0" cy="34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56600" y="4076640"/>
              <a:ext cx="1135800" cy="48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21160" y="3333960"/>
              <a:ext cx="0" cy="3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21160" y="3679920"/>
              <a:ext cx="149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15880" y="3700440"/>
              <a:ext cx="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94160" y="5354640"/>
              <a:ext cx="1134000" cy="48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56920" y="461160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56920" y="4957920"/>
              <a:ext cx="149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440" y="4978440"/>
              <a:ext cx="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1680" y="2087640"/>
              <a:ext cx="916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um(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35560" y="4665600"/>
              <a:ext cx="916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um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43720" y="3389400"/>
              <a:ext cx="916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um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984000" y="4330800"/>
              <a:ext cx="0" cy="101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815800" y="4330800"/>
              <a:ext cx="1167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31320" y="3970440"/>
              <a:ext cx="1404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sult =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512680" y="3052440"/>
              <a:ext cx="0" cy="101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344840" y="3052800"/>
              <a:ext cx="1167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0360" y="2692440"/>
              <a:ext cx="1404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sult =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126320" y="1731600"/>
              <a:ext cx="0" cy="101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958120" y="1731960"/>
              <a:ext cx="1167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73640" y="1371600"/>
              <a:ext cx="1404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sult =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23468-E178-4A1D-8D56-CF0C51F3EEE4}" type="slidenum">
              <a:t>14</a:t>
            </a:fld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cursive Programm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just because we can use recursion to solve a problem, doesn't mean we shou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stance, we usually would not use recursion to solve the sum of 1 to N problem, because the iterative version is easier to underst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for some problems, recursion provides an elegant solution, often cleaner than an iterative ve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must carefully decide whether recursion is the correct technique for any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96373-2C04-48FE-B429-776C5A4D8F1B}" type="slidenum">
              <a:t>15</a:t>
            </a:fld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direct Recurs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thod invoking itself is considered to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 recu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thod could invoke another method, which invokes another, etc., until eventually the original method is invoked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metho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uld invo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invok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in turn invok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irect recur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requires all the same care as direct recu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often more difficult to trace and debu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D54CA-9988-4006-A38F-1373F4B4EE10}" type="slidenum">
              <a:t>16</a:t>
            </a:fld>
          </a:p>
        </p:txBody>
      </p:sp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direct Recurs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523880" y="1600200"/>
            <a:ext cx="7003800" cy="3565440"/>
            <a:chOff x="1523880" y="1600200"/>
            <a:chExt cx="7003800" cy="3565440"/>
          </a:xfrm>
        </p:grpSpPr>
        <p:grpSp>
          <p:nvGrpSpPr>
            <p:cNvPr id="149" name=""/>
            <p:cNvGrpSpPr/>
            <p:nvPr/>
          </p:nvGrpSpPr>
          <p:grpSpPr>
            <a:xfrm>
              <a:off x="1523880" y="1600200"/>
              <a:ext cx="4751280" cy="550800"/>
              <a:chOff x="1523880" y="1600200"/>
              <a:chExt cx="4751280" cy="5508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523880" y="1600200"/>
                <a:ext cx="4751280" cy="550800"/>
                <a:chOff x="1523880" y="1600200"/>
                <a:chExt cx="4751280" cy="5508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523880" y="160020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</a:rPr>
                    <a:t>m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342960" y="160020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</a:rPr>
                    <a:t>m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162400" y="160020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</a:rPr>
                    <a:t>m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2642760" y="1766880"/>
                <a:ext cx="671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462200" y="1765440"/>
                <a:ext cx="671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4505040" y="2027160"/>
                <a:ext cx="62856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687400" y="2027160"/>
                <a:ext cx="62856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669760" y="3095640"/>
              <a:ext cx="4751640" cy="550800"/>
              <a:chOff x="2669760" y="3095640"/>
              <a:chExt cx="4751640" cy="55080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2669760" y="3095640"/>
                <a:ext cx="4751640" cy="550800"/>
                <a:chOff x="2669760" y="3095640"/>
                <a:chExt cx="4751640" cy="5508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669760" y="3095640"/>
                  <a:ext cx="1113120" cy="5508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</a:rPr>
                    <a:t>m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489200" y="309564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</a:rPr>
                    <a:t>m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308280" y="3095640"/>
                  <a:ext cx="1113120" cy="5508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</a:rPr>
                    <a:t>m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3789000" y="3262320"/>
                <a:ext cx="671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08440" y="3260880"/>
                <a:ext cx="671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5651280" y="3522600"/>
                <a:ext cx="62856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3833640" y="3522600"/>
                <a:ext cx="62856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3776400" y="4614840"/>
              <a:ext cx="4751280" cy="550800"/>
              <a:chOff x="3776400" y="4614840"/>
              <a:chExt cx="4751280" cy="5508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3776400" y="4614840"/>
                <a:ext cx="4751280" cy="550800"/>
                <a:chOff x="3776400" y="4614840"/>
                <a:chExt cx="4751280" cy="5508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776400" y="461484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</a:rPr>
                    <a:t>m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595840" y="461484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</a:rPr>
                    <a:t>m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414920" y="461484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</a:rPr>
                    <a:t>m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4895640" y="4781520"/>
                <a:ext cx="671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14720" y="4780080"/>
                <a:ext cx="671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6757200" y="5041800"/>
                <a:ext cx="62892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4939560" y="5041800"/>
                <a:ext cx="62892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 flipH="1">
              <a:off x="2966760" y="2179800"/>
              <a:ext cx="253368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71600" y="3695760"/>
              <a:ext cx="2533680" cy="88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443040" y="2179440"/>
              <a:ext cx="2533680" cy="887400"/>
            </a:xfrm>
            <a:prstGeom prst="line">
              <a:avLst/>
            </a:prstGeom>
            <a:ln w="12600">
              <a:solidFill>
                <a:srgbClr val="009999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635360" y="3695400"/>
              <a:ext cx="2531880" cy="887400"/>
            </a:xfrm>
            <a:prstGeom prst="line">
              <a:avLst/>
            </a:prstGeom>
            <a:ln w="12600">
              <a:solidFill>
                <a:srgbClr val="009999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1509-E614-4319-9A64-59FDE716C48B}" type="slidenum">
              <a:t>17</a:t>
            </a:fld>
          </a:p>
        </p:txBody>
      </p:sp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9760" y="1143000"/>
            <a:ext cx="3702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 Th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on in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2286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5329-F1D7-4090-96AA-DC765D7A4C1E}" type="slidenum">
              <a:t>18</a:t>
            </a:fld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aze Traversal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use recursion to find a path through a ma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ach location, we can search in each dir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on keeps track of the path through the ma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ase case is an invalid move or reaching the final dest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MazeSearch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3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ge 58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4"/>
              </a:rPr>
              <a:t>Maze.jav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ge 58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2C57F-E56A-413A-84AE-7C02B8AFB78B}" type="slidenum">
              <a:t>19</a:t>
            </a:fld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curs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on is a fundamental programming technique that can provide an elegant solution certain kinds of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11 focuses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nking in a recursive m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ing in a recursive m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rrect use of recu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ursion exam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18981-945D-46E4-9C8C-0C621B8179D9}" type="slidenum">
              <a:t>2</a:t>
            </a:fld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owers of Hanoi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wers of Hano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puzzle made up of three vertical pegs and several disks that slide on the pe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sks are of varying size, initially placed on one peg with the largest disk on the bottom with increasingly smaller ones on t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move all of the disks from one peg to another under the following ru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can move only one disk at a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cannot move a larger disk on top of a smaller 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560F4-F341-4EED-9F11-6F47C1356B68}" type="slidenum">
              <a:t>20</a:t>
            </a:fld>
          </a:p>
        </p:txBody>
      </p:sp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owers of Hanoi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049400" y="1447920"/>
            <a:ext cx="3446280" cy="1754640"/>
            <a:chOff x="1049400" y="1447920"/>
            <a:chExt cx="3446280" cy="1754640"/>
          </a:xfrm>
        </p:grpSpPr>
        <p:sp>
          <p:nvSpPr>
            <p:cNvPr id="189" name=""/>
            <p:cNvSpPr/>
            <p:nvPr/>
          </p:nvSpPr>
          <p:spPr>
            <a:xfrm>
              <a:off x="1049400" y="2514600"/>
              <a:ext cx="3446280" cy="76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38000" y="1447920"/>
              <a:ext cx="687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89800" y="2286000"/>
              <a:ext cx="914400" cy="15228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18680" y="2057400"/>
              <a:ext cx="657720" cy="15228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44680" y="1828800"/>
              <a:ext cx="404280" cy="15228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38520" y="1447920"/>
              <a:ext cx="687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92240" y="1447920"/>
              <a:ext cx="687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11280" y="2803680"/>
              <a:ext cx="25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iginal Configu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994280" y="1447920"/>
            <a:ext cx="3446280" cy="1754640"/>
            <a:chOff x="4994280" y="1447920"/>
            <a:chExt cx="3446280" cy="1754640"/>
          </a:xfrm>
        </p:grpSpPr>
        <p:sp>
          <p:nvSpPr>
            <p:cNvPr id="198" name=""/>
            <p:cNvSpPr/>
            <p:nvPr/>
          </p:nvSpPr>
          <p:spPr>
            <a:xfrm>
              <a:off x="4994280" y="2514600"/>
              <a:ext cx="3446280" cy="76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83240" y="1447920"/>
              <a:ext cx="687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35040" y="2286000"/>
              <a:ext cx="914040" cy="15228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63920" y="2057400"/>
              <a:ext cx="657720" cy="15228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3760" y="1447920"/>
              <a:ext cx="687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37120" y="1447920"/>
              <a:ext cx="687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35200" y="2803680"/>
              <a:ext cx="9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v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56760" y="2252520"/>
              <a:ext cx="404280" cy="15264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994280" y="4114800"/>
            <a:ext cx="3446280" cy="1754640"/>
            <a:chOff x="4994280" y="4114800"/>
            <a:chExt cx="3446280" cy="1754640"/>
          </a:xfrm>
        </p:grpSpPr>
        <p:sp>
          <p:nvSpPr>
            <p:cNvPr id="207" name=""/>
            <p:cNvSpPr/>
            <p:nvPr/>
          </p:nvSpPr>
          <p:spPr>
            <a:xfrm>
              <a:off x="6683760" y="4114800"/>
              <a:ext cx="687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94280" y="5181480"/>
              <a:ext cx="3446280" cy="76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83240" y="4114800"/>
              <a:ext cx="687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35040" y="4952880"/>
              <a:ext cx="914040" cy="15264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87480" y="4952880"/>
              <a:ext cx="657720" cy="15264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37120" y="4114800"/>
              <a:ext cx="687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35200" y="5470560"/>
              <a:ext cx="9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ve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15280" y="4724280"/>
              <a:ext cx="404280" cy="15264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66680" y="4114800"/>
            <a:ext cx="3446640" cy="1754640"/>
            <a:chOff x="1066680" y="4114800"/>
            <a:chExt cx="3446640" cy="1754640"/>
          </a:xfrm>
        </p:grpSpPr>
        <p:sp>
          <p:nvSpPr>
            <p:cNvPr id="216" name=""/>
            <p:cNvSpPr/>
            <p:nvPr/>
          </p:nvSpPr>
          <p:spPr>
            <a:xfrm>
              <a:off x="1066680" y="5181480"/>
              <a:ext cx="3446640" cy="76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55280" y="4114800"/>
              <a:ext cx="6912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07080" y="4952880"/>
              <a:ext cx="914400" cy="15264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6160" y="4114800"/>
              <a:ext cx="687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4114800"/>
              <a:ext cx="687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07600" y="5470560"/>
              <a:ext cx="9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ve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42840" y="4952880"/>
              <a:ext cx="404280" cy="15264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55560" y="4952880"/>
              <a:ext cx="657720" cy="15264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2B2B1-798C-4F2E-87B0-DF2F2C4C66A4}" type="slidenum">
              <a:t>21</a:t>
            </a:fld>
          </a:p>
        </p:txBody>
      </p:sp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owers of Hanoi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25360" y="1447920"/>
            <a:ext cx="3446280" cy="1754640"/>
            <a:chOff x="1125360" y="1447920"/>
            <a:chExt cx="3446280" cy="1754640"/>
          </a:xfrm>
        </p:grpSpPr>
        <p:sp>
          <p:nvSpPr>
            <p:cNvPr id="226" name=""/>
            <p:cNvSpPr/>
            <p:nvPr/>
          </p:nvSpPr>
          <p:spPr>
            <a:xfrm>
              <a:off x="3868560" y="1447920"/>
              <a:ext cx="6804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14120" y="1447920"/>
              <a:ext cx="6984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25360" y="2514600"/>
              <a:ext cx="3446280" cy="76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14320" y="1447920"/>
              <a:ext cx="6984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46280" y="2286000"/>
              <a:ext cx="914400" cy="15228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07760" y="2286000"/>
              <a:ext cx="657360" cy="15228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33400" y="2057400"/>
              <a:ext cx="404640" cy="15228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66640" y="2803680"/>
              <a:ext cx="9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ve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994280" y="1447920"/>
            <a:ext cx="3446280" cy="1754640"/>
            <a:chOff x="4994280" y="1447920"/>
            <a:chExt cx="3446280" cy="1754640"/>
          </a:xfrm>
        </p:grpSpPr>
        <p:sp>
          <p:nvSpPr>
            <p:cNvPr id="235" name=""/>
            <p:cNvSpPr/>
            <p:nvPr/>
          </p:nvSpPr>
          <p:spPr>
            <a:xfrm>
              <a:off x="4994280" y="2514600"/>
              <a:ext cx="3446280" cy="76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83240" y="1447920"/>
              <a:ext cx="687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83760" y="1447920"/>
              <a:ext cx="687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37120" y="1447920"/>
              <a:ext cx="687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35200" y="2803680"/>
              <a:ext cx="9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ve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03240" y="2286000"/>
              <a:ext cx="404280" cy="15228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01880" y="2286000"/>
              <a:ext cx="914040" cy="15228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7480" y="2286000"/>
              <a:ext cx="657720" cy="15228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125360" y="4114800"/>
            <a:ext cx="3446640" cy="1754640"/>
            <a:chOff x="1125360" y="4114800"/>
            <a:chExt cx="3446640" cy="1754640"/>
          </a:xfrm>
        </p:grpSpPr>
        <p:sp>
          <p:nvSpPr>
            <p:cNvPr id="244" name=""/>
            <p:cNvSpPr/>
            <p:nvPr/>
          </p:nvSpPr>
          <p:spPr>
            <a:xfrm>
              <a:off x="1125360" y="5181480"/>
              <a:ext cx="3446640" cy="76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13960" y="4114800"/>
              <a:ext cx="6912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4840" y="4114800"/>
              <a:ext cx="687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68560" y="4114800"/>
              <a:ext cx="687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6280" y="5470560"/>
              <a:ext cx="9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ve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47280" y="4952880"/>
              <a:ext cx="404280" cy="15264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62200" y="4724280"/>
              <a:ext cx="657720" cy="15264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41960" y="4952880"/>
              <a:ext cx="914400" cy="15264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994280" y="4114800"/>
            <a:ext cx="3446280" cy="1754640"/>
            <a:chOff x="4994280" y="4114800"/>
            <a:chExt cx="3446280" cy="1754640"/>
          </a:xfrm>
        </p:grpSpPr>
        <p:sp>
          <p:nvSpPr>
            <p:cNvPr id="253" name=""/>
            <p:cNvSpPr/>
            <p:nvPr/>
          </p:nvSpPr>
          <p:spPr>
            <a:xfrm>
              <a:off x="6683760" y="4114800"/>
              <a:ext cx="687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94280" y="5181480"/>
              <a:ext cx="3446280" cy="76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83240" y="4114800"/>
              <a:ext cx="687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37120" y="4114800"/>
              <a:ext cx="68760" cy="1143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70160" y="5470560"/>
              <a:ext cx="169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ve 7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do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01880" y="4952880"/>
              <a:ext cx="914040" cy="15264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31120" y="4724280"/>
              <a:ext cx="657720" cy="15264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58200" y="4495680"/>
              <a:ext cx="404280" cy="15264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D49C2-F8EA-4BEF-8551-FF7EBA21BCCE}" type="slidenum">
              <a:t>22</a:t>
            </a:fld>
          </a:p>
        </p:txBody>
      </p:sp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owers of Hanoi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terative solution to the Towers of Hanoi is quite compl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cursive solution is much shorter and more eleg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SolveTowers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3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ge 590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4"/>
              </a:rPr>
              <a:t>TowersOfHanoi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5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ge 59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0A7FE-6C52-455F-BC0E-B434D182DABD}" type="slidenum">
              <a:t>23</a:t>
            </a:fld>
          </a:p>
        </p:txBody>
      </p:sp>
    </p:spTree>
  </p:cSld>
  <p:transition spd="med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69760" y="1143000"/>
            <a:ext cx="3702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 Th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on in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28800" y="2819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FA666-9D4E-4668-BD64-6F0F0F894BA9}" type="slidenum">
              <a:t>24</a:t>
            </a:fld>
          </a:p>
        </p:txBody>
      </p:sp>
    </p:spTree>
  </p:cSld>
  <p:transition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iled Pictur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task of repeatedly displaying a set of images in a mosa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quadrants contain individual im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per-left quadrant repeats patt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ase case is reached when the area for the images shrinks to a certain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TiledPictures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3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ge 59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9ACD-7B4B-45D8-9051-50F9BE770FE5}" type="slidenum">
              <a:t>25</a:t>
            </a:fld>
          </a:p>
        </p:txBody>
      </p:sp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iled Pictur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4075200" cy="522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226D-1FAD-4684-850C-EF431A24642A}" type="slidenum">
              <a:t>26</a:t>
            </a:fld>
          </a:p>
        </p:txBody>
      </p:sp>
    </p:spTree>
  </p:cSld>
  <p:transition spd="med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Fractal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c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geometric shape made up of the same pattern repeated in different sizes and ori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och Snowflak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particular fractal that begins with an equilateral triang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get a higher order of the fractal, the sides of the triangle are replaced with angled line seg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KochSnowflake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3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ge 59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4"/>
              </a:rPr>
              <a:t>KochPanel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5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ge 60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7141-C010-4798-A914-B355BDF45279}" type="slidenum">
              <a:t>27</a:t>
            </a:fld>
          </a:p>
        </p:txBody>
      </p:sp>
    </p:spTree>
  </p:cSld>
  <p:transition spd="med"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Koch Snowflak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90200" y="1295280"/>
            <a:ext cx="1235880" cy="4853520"/>
            <a:chOff x="1690200" y="1295280"/>
            <a:chExt cx="1235880" cy="4853520"/>
          </a:xfrm>
        </p:grpSpPr>
        <p:sp>
          <p:nvSpPr>
            <p:cNvPr id="274" name=""/>
            <p:cNvSpPr/>
            <p:nvPr/>
          </p:nvSpPr>
          <p:spPr>
            <a:xfrm>
              <a:off x="2849040" y="1523880"/>
              <a:ext cx="0" cy="43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90200" y="1295280"/>
              <a:ext cx="123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90200" y="5638680"/>
              <a:ext cx="123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498840" y="3124080"/>
            <a:ext cx="1758960" cy="990720"/>
          </a:xfrm>
          <a:prstGeom prst="rightArrow">
            <a:avLst>
              <a:gd name="adj1" fmla="val 50000"/>
              <a:gd name="adj2" fmla="val 4438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566680" y="1295280"/>
            <a:ext cx="2953440" cy="4853520"/>
            <a:chOff x="5566680" y="1295280"/>
            <a:chExt cx="2953440" cy="4853520"/>
          </a:xfrm>
        </p:grpSpPr>
        <p:grpSp>
          <p:nvGrpSpPr>
            <p:cNvPr id="279" name=""/>
            <p:cNvGrpSpPr/>
            <p:nvPr/>
          </p:nvGrpSpPr>
          <p:grpSpPr>
            <a:xfrm>
              <a:off x="6725520" y="1523880"/>
              <a:ext cx="632880" cy="4357800"/>
              <a:chOff x="6725520" y="1523880"/>
              <a:chExt cx="632880" cy="4357800"/>
            </a:xfrm>
          </p:grpSpPr>
          <p:sp>
            <p:nvSpPr>
              <p:cNvPr id="280" name=""/>
              <p:cNvSpPr/>
              <p:nvPr/>
            </p:nvSpPr>
            <p:spPr>
              <a:xfrm>
                <a:off x="6725520" y="4419360"/>
                <a:ext cx="0" cy="146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725520" y="1523880"/>
                <a:ext cx="0" cy="146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25520" y="2971800"/>
                <a:ext cx="63288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725520" y="3657600"/>
                <a:ext cx="63288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5566680" y="1295280"/>
              <a:ext cx="123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66680" y="5638680"/>
              <a:ext cx="123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66680" y="2743200"/>
              <a:ext cx="123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66680" y="4190760"/>
              <a:ext cx="123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84240" y="3429000"/>
              <a:ext cx="123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CAB9-B4D4-4040-89A1-CC73A51C0601}" type="slidenum">
              <a:t>28</a:t>
            </a:fld>
          </a:p>
        </p:txBody>
      </p:sp>
    </p:spTree>
  </p:cSld>
  <p:transition spd="med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Koch Snowflak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3422880" cy="4896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5029200" y="1143000"/>
            <a:ext cx="3422520" cy="489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1756B-04E7-413F-B2D7-7466B30A6958}" type="slidenum">
              <a:t>29</a:t>
            </a:fld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9760" y="1143000"/>
            <a:ext cx="3702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 Th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on in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12207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8F223-0B13-4A5B-9432-DEF7F3D45414}" type="slidenum">
              <a:t>3</a:t>
            </a:fld>
          </a:p>
        </p:txBody>
      </p:sp>
    </p:spTree>
  </p:cSld>
  <p:transition>
    <p:wheel spokes="1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Koch Snowflak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3422520" cy="4905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5029200" y="1143000"/>
            <a:ext cx="3422520" cy="489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0975-A55F-4474-B61F-712497281C3D}" type="slidenum">
              <a:t>30</a:t>
            </a:fld>
          </a:p>
        </p:txBody>
      </p:sp>
    </p:spTree>
  </p:cSld>
  <p:transition spd="med"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11 has focused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nking in a recursive m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ing in a recursive m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rrect use of recu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ursion exam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42E0-99BA-4684-8BDB-4660AD664E8F}" type="slidenum">
              <a:t>31</a:t>
            </a:fld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cursive Think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cursive 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one which uses the word or concept being defined in the definition itsel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efining an English word, a recursive definition is often not helpfu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in other situations, a recursive definition can be an appropriate way to express a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applying recursion to programming, it is best to practice thinking recursiv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D4D22-0876-4586-9129-69FCBFA524E6}" type="slidenum">
              <a:t>4</a:t>
            </a:fld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cursive Definiti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following list of numb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4, 88, 40, 3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h a list can be defined as follow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LIST is a: 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 a:  number  comma 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, a LIST is defined to be a single number, or a number followed by a comma followed by a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cept of a LIST is used to define itsel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E743D-0634-4A3A-866D-8038B08EDAAE}" type="slidenum">
              <a:t>5</a:t>
            </a:fld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cursive Definiti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cursive part of the LIST definition is used several times, terminating with the non-recursive par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 comma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4     ,   88, 40, 3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 comma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8     ,   40, 3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 comma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0     ,   3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7B7C0-5590-4EFE-824B-DE59E5311FDC}" type="slidenum">
              <a:t>6</a:t>
            </a:fld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finite Recurs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recursive definitions have to have a non-recursive pa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y didn't, there would be no way to terminate the recursive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h a definition would ca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inite recu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roblem is similar to an infinite loop, but the non-terminating "loop" is part of the definition itsel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on-recursive part is often called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AE873-BC10-420D-9D9B-5B36C0CFEE96}" type="slidenum">
              <a:t>7</a:t>
            </a:fld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cursive Definiti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!, for any positive integer N, is defined to be the product of all integers between 1 and N inclu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definition can be expressed recursively 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!  = 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!  =  N * (N-1)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actorial is defined in terms of another factor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ually, the base case of 1! is reach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651E-32C1-413A-9D6A-130BA37F3558}" type="slidenum">
              <a:t>8</a:t>
            </a:fld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cursive Definiti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 * 4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 * 3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* 2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* 1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411640" y="1854360"/>
            <a:ext cx="4213800" cy="2336400"/>
            <a:chOff x="2411640" y="1854360"/>
            <a:chExt cx="4213800" cy="2336400"/>
          </a:xfrm>
        </p:grpSpPr>
        <p:sp>
          <p:nvSpPr>
            <p:cNvPr id="98" name=""/>
            <p:cNvSpPr/>
            <p:nvPr/>
          </p:nvSpPr>
          <p:spPr>
            <a:xfrm>
              <a:off x="4626360" y="3657600"/>
              <a:ext cx="15152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56" y="19"/>
                  </a:moveTo>
                  <a:arcTo wR="10800" hR="10800" stAng="-5605207" swAng="11005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56" y="19"/>
                  </a:moveTo>
                  <a:arcTo wR="10800" hR="10800" stAng="-5605207" swAng="110052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0880" y="2971800"/>
              <a:ext cx="151740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2" y="1"/>
                  </a:moveTo>
                  <a:arcTo wR="10800" hR="10800" stAng="-5450446" swAng="108504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2" y="1"/>
                  </a:moveTo>
                  <a:arcTo wR="10800" hR="10800" stAng="-5450446" swAng="108504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9640" y="2438640"/>
              <a:ext cx="1513800" cy="50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2" y="1"/>
                  </a:moveTo>
                  <a:arcTo wR="10800" hR="10800" stAng="-5450446" swAng="108504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2" y="1"/>
                  </a:moveTo>
                  <a:arcTo wR="10800" hR="10800" stAng="-5450446" swAng="108504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11640" y="1854360"/>
              <a:ext cx="1513800" cy="58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2" y="1"/>
                  </a:moveTo>
                  <a:arcTo wR="10800" hR="10800" stAng="-5450446" swAng="108504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2" y="1"/>
                  </a:moveTo>
                  <a:arcTo wR="10800" hR="10800" stAng="-5450446" swAng="108504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03240" y="3687840"/>
              <a:ext cx="322200" cy="36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3560" y="3052800"/>
              <a:ext cx="322200" cy="36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48480" y="2443320"/>
              <a:ext cx="459360" cy="36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79880" y="1905120"/>
              <a:ext cx="596520" cy="36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B965C-CC2E-438B-B3A2-0D42A06DA5D9}" type="slidenum">
              <a:t>9</a:t>
            </a:fld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dc:language>en-US</dc:language>
  <cp:lastModifiedBy>Trial User</cp:lastModifiedBy>
  <dcterms:modified xsi:type="dcterms:W3CDTF">2004-08-17T14:57:55Z</dcterms:modified>
  <cp:revision>25</cp:revision>
  <dc:subject/>
  <dc:title>PowerPoint Presentation</dc:title>
</cp:coreProperties>
</file>